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1AE-0903-4602-8C63-FACBC1EE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A0A-452C-41D0-8020-ACA782F8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E19-655E-4805-B229-07807C33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46F-3885-48FC-91D2-0CA1D487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371D-AD57-4493-9A52-3660E3AF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8F0-D604-4B65-B986-1FB8A226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BCB9-CB1B-402E-B3FA-80BF99C2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A0D2-1BB8-4F96-8A6D-4ED4CCE8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94E4-468D-443F-81F2-6137F10C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EB6A-263B-4A0C-AC0E-7C9B209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88CE-03D6-4879-85E1-2D33B20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DAB-684F-4A17-B33F-85B1CA99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1943-36E1-4A2E-A9B2-3ADAB669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C78C-1B63-4435-8F27-29911A51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C06B-982A-4FF2-AE46-5141C86F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CE72-8E21-4D9E-A315-FA0FB482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837E-6255-4AD4-BB38-EC52E493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A355-5D4B-4972-B866-3734F7DF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C38B-A5FB-469D-B5AE-B81C5140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89DF-F7E5-4BA7-85AE-0493B89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17AA-0007-4B6D-A2B5-C271C9A8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3CEE-900E-4BD1-95C2-D4986F71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A8E-D64F-4101-B2DB-6B5F2C6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73AA-FC07-40BF-8EAD-D079E012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18E5-D110-4485-B313-4FD9706D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C681F-6991-4230-980A-75E03691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01AE5-FFDF-4822-9E2D-8DC33D02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81B13-D4C6-4F71-A0BD-89852D0D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E710-BCED-4060-9212-8B3CBAD0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20F9-BBAD-4826-80CD-A02F9711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93BB-141C-424A-A2A0-401F3BAA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0967E-5F76-40A1-802B-E5DE5F9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9735D-00C7-463E-B99D-7F10A4FC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54F2-DF6B-44BC-BFF5-A8E704F3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D9C62-3A89-4653-A5C5-D67C20B2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5F35-F036-46F6-BC7D-7FAF92C0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0E9C-624B-4DC2-A6FC-7B6CF006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E86A-B3D1-4400-9233-0EE05F8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BC36-13D0-4D79-B96F-16B2C72F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DA55-E487-438E-89EB-1117E754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477D-ABB5-4026-9DB4-10D5B122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2544-5E4C-4FD8-A1B8-2395E2ED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60BC-1062-4FAD-BAA3-09D4E3C7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85171-F7E5-42DC-8EAF-6F6C5AC8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7EB-291E-413A-9A27-DF0C9E9A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5877D-7E7C-4DAC-B710-5C3E5258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4BA8E-E27E-4DB9-B8C4-AD3F72A9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5C2E-D711-4D53-8E46-971F2509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4A3D-22C9-4E14-8EAE-2CAAB151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7EC13-1D98-4670-833D-FD2B5442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9001-C309-4308-BBC8-C46F2D4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E50D-2F27-4BFA-AB52-8880765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C0CD7-CE95-46E4-BD2D-02DC7B79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A30CD-FF00-4D1D-8DC1-7D959832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2CD5A-6CCB-4C65-B1FF-D33FA09A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570-D723-4987-93C6-A0E6D5D1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E50B-10C6-4470-B837-E99D025D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A8B7-2FD6-43C7-A188-D6AD79D4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729B-A20F-4AF4-9A2B-C27549FA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F978F-C3E2-4421-89E8-58E4E2AC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3130A-F4CC-437C-8A54-29B898F9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C3E3-C460-4494-976A-DD8671B2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C4BF2-D15A-4265-B8E8-9801BE9B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12727-0C5D-4216-ACAF-13074C3D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6A6EF-D0DE-4B20-A1AD-EEB02FDD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A62BA-E1AA-49BB-BEC4-DC0337D9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667-B77E-48C5-A506-742F7C5A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029F8-A751-46BE-84DE-CAA27B56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599D-F0B4-4CD7-BBA9-F612FF1D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69A00-D71B-4904-94F5-B6E4AACD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C7547-A480-48A0-99B4-8CE9B9B1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F832E-AC8F-4D54-B596-2A4803C7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2BE1-BA8F-4AC0-9CB9-F738220B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2A715-7654-4DE0-97FD-36B910B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DBAEF-B1FC-4C1F-A4B1-4FBD885E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D1EB7-1A70-4F47-BBF5-6BB75C83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12AEF-2327-4646-8244-1062CFB5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065-2642-4AE1-B604-F710187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3636-9B70-45AA-B890-C896FE5B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6A89-663C-45A1-8D9C-493FFC56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6D048-65D7-4ADC-B57A-8A1CAF37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5941-D24E-48B8-ACE2-83C50097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C8619-093A-42F6-B333-956DAF0C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BE92-2A3F-457C-9E10-8BDD2E29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ACD28-62C3-4AEE-9903-47561E7A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D23A5-E3B8-4AA7-A409-782A2BB1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312F8-58AC-4705-A995-5837EDE6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8C5C2-5DDC-48DF-9A37-26BEF090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F65-E453-487E-98D5-7ADF09AF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3A9EC-2400-4AB8-8D5C-56C58ED5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0139B-EB46-4FF5-BD74-6698FB9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68F99-9076-4FBE-BE66-631F347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CE090-E2A5-4E7F-9E03-A2DEA9B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A93E4-9B56-4DAB-A96C-A79494C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B3871-5A71-40FF-8080-BC12EC36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460E3-73AD-4F24-80B9-EA161ECA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868D-1470-401E-97FF-CF3F005D4D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A085-7B86-4C5E-A28B-256A1BFA280B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8490-936B-414B-998A-A518EFF5B6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EC0F-6948-4E8D-804E-FFABC370FD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9E8-4DB6-451A-9A47-9136F66E21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684D-ED74-4E48-A1C3-AFFF8D5044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FC33-4967-4EE2-A4B7-CD003F50DE0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6506-E16B-40CE-AD1E-C6F1500D6C64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070840" cy="225612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23800" y="2170080"/>
            <a:ext cx="8150400" cy="4406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26748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хема развития цепной реакци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1" name="Рисунок 3" descr="D:\Physics7-11\content2\chapter5\section\paragraph5\images\0500503.gif"/>
          <p:cNvPicPr/>
          <p:nvPr/>
        </p:nvPicPr>
        <p:blipFill>
          <a:blip r:embed="rId1"/>
          <a:stretch/>
        </p:blipFill>
        <p:spPr>
          <a:xfrm>
            <a:off x="1357200" y="428760"/>
            <a:ext cx="7072560" cy="5786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26748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Заряженные частицы регистрируются различными приборами: сцинтилляционными счетчиками, счетчиками Гейгера, камерами Вильсона и т. п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диоактивные превращения ядер разделяют на два основных типа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-Альфа-распад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При альфа-распаде ядро испускает одну α-частицу, и из одного химического элемента образуется другой, расположенный на две клетки левее в периодической системе Менделеева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-Бета-распад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При бета-распаде испускается один электрон, и из одного химического элемента образуется другой, расположенный на клетку правее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При бета-распаде из ядра вылетает еще одна частица, называемая электронным антинейтрино. Эта частица обозначается символом 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4" name="Рисунок 3" descr="D:\Physics7-11\content\javagifs\63166822058427-2.gif"/>
          <p:cNvPicPr/>
          <p:nvPr/>
        </p:nvPicPr>
        <p:blipFill>
          <a:blip r:embed="rId1"/>
          <a:stretch/>
        </p:blipFill>
        <p:spPr>
          <a:xfrm>
            <a:off x="2901960" y="2389320"/>
            <a:ext cx="2030400" cy="7444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D:\Physics7-11\content\javagifs\63166822058442-3.gif"/>
          <p:cNvPicPr/>
          <p:nvPr/>
        </p:nvPicPr>
        <p:blipFill>
          <a:blip r:embed="rId2"/>
          <a:stretch/>
        </p:blipFill>
        <p:spPr>
          <a:xfrm>
            <a:off x="2901960" y="4175280"/>
            <a:ext cx="2455920" cy="7444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5" descr="D:\Physics7-11\content\javagifs\63166822058458-4.gif"/>
          <p:cNvPicPr/>
          <p:nvPr/>
        </p:nvPicPr>
        <p:blipFill>
          <a:blip r:embed="rId3"/>
          <a:stretch/>
        </p:blipFill>
        <p:spPr>
          <a:xfrm>
            <a:off x="4048200" y="5675400"/>
            <a:ext cx="669960" cy="86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-290880"/>
            <a:ext cx="762012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9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Явление самопроизвольного превращения неустойчивых ядер атомов в ядра других атомов с испусканием частиц и излучением энергии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естественной радиоактивностью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Почти 90 % известных ядер нестабильны. Радиоактивные ядра могут испускать частицы трех видов: положительно заряженные (α-частицы – ядра гелия), отрицательно заряженные (β-частицы – электроны) и нейтральные (γ-частицы – кван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коротковолнового электромагнит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оги излучения). Магнитное пол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зволяет разделить эти частиц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хема опыта по обнаружению различ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идов радиоактивного излучения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Ф – фотопластинка, – магнитное пол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9" name="Рисунок 3" descr="D:\Physics7-11\content2\chapter5\section\paragraph5\images\0500501.gif"/>
          <p:cNvPicPr/>
          <p:nvPr/>
        </p:nvPicPr>
        <p:blipFill>
          <a:blip r:embed="rId1"/>
          <a:stretch/>
        </p:blipFill>
        <p:spPr>
          <a:xfrm>
            <a:off x="4500720" y="2643120"/>
            <a:ext cx="435744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26748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 При испускании ядрами атомов нейтральных γ-квантов ядерных превращений не происходит. Испущенный γ-квант уносит избыточную энергию возбужденного ядра; числа протонов и нейтронов в нем остаются неизменными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асса любого ядра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M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я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всегда меньше суммы масс входящих в его состав протонов и нейтронов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M</a:t>
            </a:r>
            <a:r>
              <a:rPr b="0" lang="ru-RU" sz="2000" spc="-1" strike="noStrike" baseline="-25000">
                <a:solidFill>
                  <a:srgbClr val="e90062"/>
                </a:solidFill>
                <a:latin typeface="Century Gothic"/>
              </a:rPr>
              <a:t>я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&lt;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Zm</a:t>
            </a:r>
            <a:r>
              <a:rPr b="0" i="1" lang="ru-RU" sz="2000" spc="-1" strike="noStrike" baseline="-25000">
                <a:solidFill>
                  <a:srgbClr val="e90062"/>
                </a:solidFill>
                <a:latin typeface="Century Gothic"/>
              </a:rPr>
              <a:t>p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+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Nm</a:t>
            </a:r>
            <a:r>
              <a:rPr b="0" i="1" lang="ru-RU" sz="2000" spc="-1" strike="noStrike" baseline="-25000">
                <a:solidFill>
                  <a:srgbClr val="e90062"/>
                </a:solidFill>
                <a:latin typeface="Century Gothic"/>
              </a:rPr>
              <a:t>n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ность этих масс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дефектом массы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Δ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M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=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Zm</a:t>
            </a:r>
            <a:r>
              <a:rPr b="0" i="1" lang="ru-RU" sz="2000" spc="-1" strike="noStrike" baseline="-25000">
                <a:solidFill>
                  <a:srgbClr val="e90062"/>
                </a:solidFill>
                <a:latin typeface="Century Gothic"/>
              </a:rPr>
              <a:t>p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+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Nm</a:t>
            </a:r>
            <a:r>
              <a:rPr b="0" i="1" lang="ru-RU" sz="2000" spc="-1" strike="noStrike" baseline="-25000">
                <a:solidFill>
                  <a:srgbClr val="e90062"/>
                </a:solidFill>
                <a:latin typeface="Century Gothic"/>
              </a:rPr>
              <a:t>n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–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M</a:t>
            </a:r>
            <a:r>
              <a:rPr b="0" lang="ru-RU" sz="2000" spc="-1" strike="noStrike" baseline="-25000">
                <a:solidFill>
                  <a:srgbClr val="e90062"/>
                </a:solidFill>
                <a:latin typeface="Century Gothic"/>
              </a:rPr>
              <a:t>я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Энергия, которая необходима для полного расщепления ядра на отдельные нуклоны,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энергией связ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Энергию связи можно определить по дефекту массы по формуле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0062"/>
                </a:solidFill>
                <a:latin typeface="Century Gothic"/>
              </a:rPr>
              <a:t>E</a:t>
            </a:r>
            <a:r>
              <a:rPr b="0" lang="ru-RU" sz="2400" spc="-1" strike="noStrike" baseline="-25000">
                <a:solidFill>
                  <a:srgbClr val="e90062"/>
                </a:solidFill>
                <a:latin typeface="Century Gothic"/>
              </a:rPr>
              <a:t>св</a:t>
            </a:r>
            <a:r>
              <a:rPr b="0" lang="ru-RU" sz="2400" spc="-1" strike="noStrike">
                <a:solidFill>
                  <a:srgbClr val="e90062"/>
                </a:solidFill>
                <a:latin typeface="Century Gothic"/>
              </a:rPr>
              <a:t> = Δ</a:t>
            </a:r>
            <a:r>
              <a:rPr b="0" i="1" lang="ru-RU" sz="2400" spc="-1" strike="noStrike">
                <a:solidFill>
                  <a:srgbClr val="e90062"/>
                </a:solidFill>
                <a:latin typeface="Century Gothic"/>
              </a:rPr>
              <a:t>M</a:t>
            </a:r>
            <a:r>
              <a:rPr b="0" lang="ru-RU" sz="2400" spc="-1" strike="noStrike">
                <a:solidFill>
                  <a:srgbClr val="e90062"/>
                </a:solidFill>
                <a:latin typeface="Century Gothic"/>
              </a:rPr>
              <a:t>·</a:t>
            </a:r>
            <a:r>
              <a:rPr b="0" i="1" lang="ru-RU" sz="2400" spc="-1" strike="noStrike">
                <a:solidFill>
                  <a:srgbClr val="e90062"/>
                </a:solidFill>
                <a:latin typeface="Century Gothic"/>
              </a:rPr>
              <a:t>c</a:t>
            </a:r>
            <a:r>
              <a:rPr b="0" lang="ru-RU" sz="2400" spc="-1" strike="noStrike" baseline="30000">
                <a:solidFill>
                  <a:srgbClr val="e90062"/>
                </a:solidFill>
                <a:latin typeface="Century Gothic"/>
              </a:rPr>
              <a:t>2</a:t>
            </a:r>
            <a:r>
              <a:rPr b="0" lang="ru-RU" sz="24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Энергия связи, приходящаяся на один нуклон в ядре, называется </a:t>
            </a:r>
            <a:r>
              <a:rPr b="1" i="1" lang="ru-RU" sz="2400" spc="-1" strike="noStrike">
                <a:solidFill>
                  <a:srgbClr val="e90062"/>
                </a:solidFill>
                <a:latin typeface="Century Gothic"/>
              </a:rPr>
              <a:t>удельной энергией связи</a:t>
            </a:r>
            <a:r>
              <a:rPr b="0" lang="ru-RU" sz="24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на максимальна у атомных ядер элементов в средней части таблицы Менделеева с массовыми числами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приблизительно от 40 до 100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5840" y="-26748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Удельная энергия связи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уществует два способа освобождения энергии ядра – синтез легких ядер и деление тяжелых ядер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Century Gothic"/>
              </a:rPr>
              <a:t>Удельная энергия связи. </a:t>
            </a: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Рисунок 3" descr="D:\Physics7-11\content2\chapter5\section\paragraph5\images\0500502.gif"/>
          <p:cNvPicPr/>
          <p:nvPr/>
        </p:nvPicPr>
        <p:blipFill>
          <a:blip r:embed="rId1"/>
          <a:stretch/>
        </p:blipFill>
        <p:spPr>
          <a:xfrm>
            <a:off x="1500120" y="214200"/>
            <a:ext cx="692964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-182520" y="-182520"/>
            <a:ext cx="7431120" cy="9018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Ядерный реактор - это устройство, предназначенное для превращения энергии атомного ядра в электрическую энергию. В ядре реактора находится радиоактивное вещество (обычно, уран или плутоний). Энергия, выделяемая за счет α-распада этих атомов, нагревает воду. Получающийся водяной пар устремляется в паровую турбину; за счет ее вращения в электрогенераторе вырабатывается электрический ток. Теплая вода после соответствующей очистки выливается в расположенный рядом водоем; оттуда же в реактор поступает холодная вода. Специальный герметичный кожух защищает окружающую среду от смертоносного излучения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97" name="Object 9"/>
          <p:cNvGraphicFramePr/>
          <p:nvPr/>
        </p:nvGraphicFramePr>
        <p:xfrm>
          <a:off x="642960" y="4143240"/>
          <a:ext cx="47628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4143240"/>
                    <a:ext cx="476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7400880" cy="798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ww.pmedia.ru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учающая программа по физике «Физикон»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lyceum.edu.ru/links/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belti.msk.ru/vt/sch172/rus/schinet.ht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212760" y="-42840"/>
            <a:ext cx="7461360" cy="8478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елала эту презентацию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ускница 11А класса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еонтьева Алла, узнавша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ного нового и интересно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о о ядерных реакциях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3" name="Рисунок 4" descr="Изображение 061.jpg"/>
          <p:cNvPicPr/>
          <p:nvPr/>
        </p:nvPicPr>
        <p:blipFill>
          <a:blip r:embed="rId2"/>
          <a:stretch/>
        </p:blipFill>
        <p:spPr>
          <a:xfrm>
            <a:off x="3786120" y="0"/>
            <a:ext cx="5143680" cy="671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76304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оздание учебного пособия для учащихся 11 классов по теме « Атом. Ядро. Ядерные реакции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Как можно более интересно преподать эту информацию в течение у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Расширить собственные знания по этой тем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98440" y="237960"/>
            <a:ext cx="7388280" cy="1633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0" y="200016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 Gothic"/>
              </a:rPr>
              <a:t>Атомное ядро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заряжено положительно. Его диа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метр не превышает 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14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–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15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м, а заряд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равен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оизведению заряда электрона на порядковый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омер атома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в таблице Менделеева: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 = 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·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 настоящее время доказано, что атомное ядр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состоит из протонов и нейтронов, удерживаемы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ядерными силами. Протоны и нейтроны носят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щее название </a:t>
            </a:r>
            <a:r>
              <a:rPr b="1" i="1" lang="ru-RU" sz="1600" spc="-1" strike="noStrike">
                <a:solidFill>
                  <a:srgbClr val="ffffff"/>
                </a:solidFill>
                <a:latin typeface="Century Gothic"/>
              </a:rPr>
              <a:t>нуклонов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.  </a:t>
            </a:r>
            <a:r>
              <a:rPr b="1" i="1" lang="ru-RU" sz="1600" spc="-1" strike="noStrike">
                <a:solidFill>
                  <a:srgbClr val="ffffff"/>
                </a:solidFill>
                <a:latin typeface="Century Gothic"/>
              </a:rPr>
              <a:t>Протон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– это части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ца, заряд  которой положителен и равен по моду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Лю заряду электрона: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= +1,6·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19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Кл, а масс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m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= 1,6726·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27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кг. </a:t>
            </a:r>
            <a:r>
              <a:rPr b="1" i="1" lang="ru-RU" sz="1600" spc="-1" strike="noStrike">
                <a:solidFill>
                  <a:srgbClr val="ffffff"/>
                </a:solidFill>
                <a:latin typeface="Century Gothic"/>
              </a:rPr>
              <a:t>Нейтрон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– это нейтральна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астица, масса которой равна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m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= 1,6749·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27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кг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Свободный нейтрон – нестабильная элементар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ая частица, которая распадается на три частицы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отон, электрон и антинейтрино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ланетарная модель атома Резерфорд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 algn="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Century Gothic"/>
              </a:rPr>
              <a:t>Планетарная модель атома Резерфорда</a:t>
            </a: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Рисунок 3" descr="D:\Physics7-11\content1\chapter5\section\paragraph1\images\0500101.gif"/>
          <p:cNvPicPr/>
          <p:nvPr/>
        </p:nvPicPr>
        <p:blipFill>
          <a:blip r:embed="rId2"/>
          <a:stretch/>
        </p:blipFill>
        <p:spPr>
          <a:xfrm>
            <a:off x="5500800" y="1643040"/>
            <a:ext cx="3286080" cy="421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857240" y="6372360"/>
          <a:ext cx="90504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6372360"/>
                    <a:ext cx="9050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191520"/>
            <a:ext cx="9144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Изотопы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– это атомы, ядра которых содержат одинаковое число протонов, но разное число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йтронов (т. е. атомы одного химического эле-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ента с разным числом нейтронов в ядрах). Хи-мический элемент обозначается следующим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ом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где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– заряд ядра, а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– его массовое число, например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Рисунок 3" descr="D:\Physics7-11\content2\chapter5\section\paragraph4\images\0500401.gif"/>
          <p:cNvPicPr/>
          <p:nvPr/>
        </p:nvPicPr>
        <p:blipFill>
          <a:blip r:embed="rId1"/>
          <a:stretch/>
        </p:blipFill>
        <p:spPr>
          <a:xfrm>
            <a:off x="2857680" y="3857760"/>
            <a:ext cx="6072120" cy="27144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D:\Physics7-11\content\javagifs\63166822057051-1.gif"/>
          <p:cNvPicPr/>
          <p:nvPr/>
        </p:nvPicPr>
        <p:blipFill>
          <a:blip r:embed="rId2"/>
          <a:stretch/>
        </p:blipFill>
        <p:spPr>
          <a:xfrm>
            <a:off x="2262240" y="2103480"/>
            <a:ext cx="1023840" cy="11034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D:\Physics7-11\content\javagifs\63166822057098-2.gif"/>
          <p:cNvPicPr/>
          <p:nvPr/>
        </p:nvPicPr>
        <p:blipFill>
          <a:blip r:embed="rId3"/>
          <a:stretch/>
        </p:blipFill>
        <p:spPr>
          <a:xfrm>
            <a:off x="1401840" y="3822840"/>
            <a:ext cx="957240" cy="10969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6"/>
          <p:cNvSpPr/>
          <p:nvPr/>
        </p:nvSpPr>
        <p:spPr>
          <a:xfrm>
            <a:off x="4016880" y="648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Различные изотопы кислород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714240" y="5286240"/>
          <a:ext cx="695520" cy="4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4240" y="5286240"/>
                    <a:ext cx="6955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6760" y="-31356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начале XX века было экспериментально доказано, что атом состоит из ядра и электронов. Резерфордом в результате опы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 рассеянию α-частиц на тонкой фольге (золото, серебро, медь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 др.) была предложена планетарная модель строения атома. Согласно этой модели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атом имеет положительно заряженное ядро, размеры которого малы по сравнению с размерами самого атома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в ядре сконцентрирована почти вся масса атома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электроны вращаются вокруг ядра по орбитам (почти как планеты вокруг Солнца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Рисунок 3" descr="D:\Physics7-11\content2\chapter5\section\paragraph3\images\0500301.gif"/>
          <p:cNvPicPr/>
          <p:nvPr/>
        </p:nvPicPr>
        <p:blipFill>
          <a:blip r:embed="rId1"/>
          <a:stretch/>
        </p:blipFill>
        <p:spPr>
          <a:xfrm>
            <a:off x="2286000" y="3143160"/>
            <a:ext cx="6286680" cy="328608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2000160" y="6488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хема опыта Резерфорда по рассеянию α-частиц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396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ланетарная модель, однако, противоречит классической физике. Электрон, вращаясь с центростремительным ускорением, излучает электромагнитные волны, и это должно сопровождаться потерей энергии. В результате согласно классическим представлениям атом Резерфорда оказывается неустойчивы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Законы классической механики оказались неприменимы к атому. Н. Бор предпринял попытку спасти планетарную модель атома Резерфорда. Он сформулировал три положения , получивших название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квантовых постулатов Бора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 Атомная система может находиться только в особых стационарных (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квантовых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) состояниях, каждому из которых соответствует определенная энергия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В стационарных состояниях атом не излучает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 переходе из стационарного состояния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в стационарное состояние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m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излучается (поглощается) квант, энергия которого равна разности энергий стационарных состояний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 Третий постулат Бора предлагает правило нахождения стационарных орбит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Рисунок 3" descr="D:\Physics7-11\content\javagifs\63166822055489-1.gif"/>
          <p:cNvPicPr/>
          <p:nvPr/>
        </p:nvPicPr>
        <p:blipFill>
          <a:blip r:embed="rId1"/>
          <a:stretch/>
        </p:blipFill>
        <p:spPr>
          <a:xfrm>
            <a:off x="3402000" y="5035680"/>
            <a:ext cx="181620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-26748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огласно второму постулату Бора, возможные частоты излучения атома водорода определяются формулой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 = 3,29·1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Century Gothic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 Гц –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постоянная Ридберга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Теория Бора объяснила возникновение линейчатых спектров и смысл целых чисел, входящих в формулы для спектральных линий водорода. Для других атомов эту теорию построить не удалось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стулат Бора о существован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тационарных орбит электрон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атоме находится в согласии с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ипотезой деБройля. На каждо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акой орбите укладывается це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ое число волн де Бройля. В это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учае на стационарных орби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ах  образуются стоячие волны д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ройля. Атом Резерфорда, под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чиняющийся квантовым постула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ам Бора, получил названи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атома Резерфорда–Бор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ование спектральных серий в атоме водород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 algn="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Century Gothic"/>
              </a:rPr>
              <a:t>Образование спектральных серий в атоме водорода. </a:t>
            </a: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Рисунок 3" descr="D:\Physics7-11\content\javagifs\63166822055551-3.gif"/>
          <p:cNvPicPr/>
          <p:nvPr/>
        </p:nvPicPr>
        <p:blipFill>
          <a:blip r:embed="rId1"/>
          <a:stretch/>
        </p:blipFill>
        <p:spPr>
          <a:xfrm>
            <a:off x="3260880" y="530280"/>
            <a:ext cx="2743200" cy="8906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D:\Physics7-11\content2\chapter5\section\paragraph3\images\0500303.gif"/>
          <p:cNvPicPr/>
          <p:nvPr/>
        </p:nvPicPr>
        <p:blipFill>
          <a:blip r:embed="rId2"/>
          <a:stretch/>
        </p:blipFill>
        <p:spPr>
          <a:xfrm>
            <a:off x="4500720" y="2857680"/>
            <a:ext cx="450036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74680" y="-212760"/>
            <a:ext cx="7400880" cy="9320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Настоящая модель демонстрирует различные типы ядерных превращений. Ядерные превращения возникают как вследствие процессов радиоактивного распада ядер, так и вследствие ядерных реакций, сопровождающихся делением или синтезом яде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зменения, происходящие в ядрах, можно разбить на три группы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)  изменение одного из нуклонов в ядре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)  перестройка внутренней структуры ядра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)  перегруппировка нуклонов из одних ядер в други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75" name="Object 5"/>
          <p:cNvGraphicFramePr/>
          <p:nvPr/>
        </p:nvGraphicFramePr>
        <p:xfrm>
          <a:off x="857160" y="4071960"/>
          <a:ext cx="6858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071960"/>
                    <a:ext cx="685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-212760" y="-122400"/>
            <a:ext cx="7461360" cy="768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Ядерной реакцией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называется процесс изменения состава и структуры атомного ядра в результате его взаимодействия с другим ядром или частицей или в результате каких-либо внутренних процесс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ияние легких ядер при очень высокой температуре, сопровождающееся выделением энергии,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термоядерной реакцией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реакцией термоядерного синтеза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). Термоядерные реакции являются основным источником энергии звезд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Деление атомного ядра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– это явление распада ядер на несколько более легких атомных ядер. На основе деления тяжелых элементов (урана и плутония) работают атомные электростанци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еление тяжелых ядер может происходить посредством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цепной реакци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, когда при распаде ядра выделяется частицы (нейтроны), способные вызвать реакцию деления других ядер. Цепные реакции возможны, если масса ядерного топлива превышает минимальную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критическую массу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3:03:40Z</dcterms:created>
  <dc:creator>Леонтьева</dc:creator>
  <dc:description/>
  <dc:language>en-US</dc:language>
  <cp:lastModifiedBy>Кафедра информатики</cp:lastModifiedBy>
  <dcterms:modified xsi:type="dcterms:W3CDTF">2008-06-10T02:45:15Z</dcterms:modified>
  <cp:revision>61</cp:revision>
  <dc:subject>ядерная физика</dc:subject>
  <dc:title>Атом_ядро_реакции</dc:title>
</cp:coreProperties>
</file>