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wmf" ContentType="image/x-wmf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F9E-4C5F-48B9-9B11-550EDAD4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F0E2-3B33-4FF0-B562-D0BA200B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4BC9-42A6-4A0E-BF0B-72E0885D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AE8-A350-4F41-A556-3601C6EE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9D68-76EF-46BF-BB8D-91C3F635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00C9-AA5B-4D0B-95B5-C348D17C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4080-1686-42E0-9DC0-937BE6CE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1D2E-C50D-484C-B34E-DCEE66AF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4999-DAB7-4269-92EB-2BAB9424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7A48-090D-4FD7-A374-FDC847CB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9A16-4E25-4438-A98E-80053BCF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1A19-9CA9-4866-87D6-9FF1E145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5E18-BB09-42A2-BDC3-AD54C4FF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2BB5-9BFD-43E1-B5B8-6425068B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0E89-E86C-4356-A213-329F8999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31D9-FDBE-4D24-8AFB-4D3FF281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F87E-D0D4-4951-98B9-078B0492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6DEE8-2E23-47C5-B996-B93B1721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18F76-F51B-4ABB-9052-9B1B7F36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D6403-2586-4585-A83C-DD5CD272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C3D5E-2E60-4D6B-8C2A-32287621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4879C-F907-42BE-9A9A-C8018627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E1E-3F10-4970-B336-DD774F5D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84FF1-AE3C-4B18-9974-5C759956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25E30-3BF0-445B-B911-906A2183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4E8E8-FDC3-48E1-9052-4EBF9FD7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55E28-3306-4410-B542-D41BC70A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EBA87-A1F3-4E58-B093-D3960C48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9ED77-9863-431D-B14A-7CC453D9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AF3E5-D056-4CBA-85B3-394B7DBE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03C26-EB8F-4B65-9DEB-A04CA9CB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A9780-D6BB-4858-ADE5-B0FEA0A7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C35A7-55F1-4745-B052-6C7544B8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765D-3F58-4072-93C7-1BE0B216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D50D6-A3BC-4CC3-B81C-BC52E209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8CC36-BC48-401E-9307-69059BA4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347FC-EF36-4B26-ABCE-57161827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DA2C5-181F-4BF2-899F-954BABCD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B8A28-F35A-4F09-99CA-95BB0367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26CEC-999C-4808-947F-08620A94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2A296-6321-481B-9845-ECD586A2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02990-E920-48DA-A955-C0B8D05B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4339E-5F2D-4297-BA98-9D344CD7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E4C92-CB8C-4A58-A777-122C6899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47A-F0CC-4D82-AB56-A2CD971E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EA106-4CDE-46E9-89A4-0FAD6D82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5E7D0-26AE-4069-A712-134103BD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AF291-07FD-42CA-ACE3-E7FF5DC1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D0B8B-75DB-4903-B812-04C821FA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986A0-9DBD-4E95-AB2F-3185490A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0FBB5-C6BF-4B17-8555-D19A0905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CF4E6-3638-4562-BE50-4BB4D9BD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8DB6D-947C-4689-8D95-84C0464D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CB32F-02C6-4160-BED5-BE80CFB0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A086F-FE61-4620-8A64-9EDBC959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3CE-071F-4107-88CA-7CC7538E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61A9C-AA0A-42A2-8C6C-BD06E213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F25A7-90C0-408F-849C-D2029455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C0429-F2A7-47A1-861F-13602E40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318DB-BC87-4397-B18F-3453B5DF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4B1D6-E825-4B1F-98BB-B3CF276E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66BC1-2A23-4335-A710-F2DC6972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21EBC-1A98-4EA9-B1AF-E9613AE6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FB057-E1DC-4B42-9B20-3B4B436B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8220F-FC04-4520-9EE8-2AA044B9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D99F5-7D0B-4CFF-B7C1-A4BC2D98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E788-2371-4505-B505-F2EB8264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E6783-31D3-4B54-9B35-C9EF1550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97129-90E0-4AA6-9DF2-77864D1B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9760B-B1C8-412E-977C-CBF11548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8D29A-5AF9-4ABF-88FE-694AA3FE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C9F68-288F-4A63-8310-395E6784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4F2A2-0F03-4685-88B5-671CAD9D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DAB3B-95EE-4E2C-A91E-D2FA9053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FCB34-3FC3-4E90-BD75-DB2AF0A6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CACAA-C63A-4916-8483-7A0BF962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26091-F1FE-4D61-BBCD-FFCC7F3E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179-A815-4C51-868F-9E672CE3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F61D8-C348-45D7-A885-67C5EEB8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455CB-A49E-4C71-A1AA-0B8D018C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D7701-0162-45E6-80A5-2FDB83EB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561C4-4F98-4817-9DC2-3DB702BF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83134-CB9C-42A4-8D26-0A571646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1F314-56DA-41F3-9F20-3EEE0793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59172-1CB4-4B7D-A6E2-57572AC1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641BA-F25E-43C2-BBE7-029E27F4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11789-5B7A-4370-87FF-33637047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0C2FA-71A6-484A-BCA5-771C5DC9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16F-8129-475D-9F34-332C9C06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F371D-A163-476D-8799-774C7597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5F7D8-D7D4-4EAD-AF4E-04D82261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35D10-91B0-4563-BB19-218A88D8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0FAB8-C660-4884-B629-64B0F0AC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6C476-AC04-4728-877B-BDAE1A7C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31394-AAE8-448F-A350-B58B9DEF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A4418-3668-49B4-9D83-C4F7ED2A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A382-3773-4EF0-8427-323A359C43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EAFC-7EEF-45C4-9A29-99E02CBAD0AA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2FE1-27C6-4D8D-8628-07DE7EFB97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9834-A367-4C04-996C-FA74F6D6B64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3D26-1BCC-4601-9036-3A44E06239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30E2-0A5A-42E1-A775-5122A953CD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0DE0-508F-40D8-A316-AD52FFD15822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341B-47EA-4ED2-A1D4-879EE638D5DE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66640" y="-6480"/>
            <a:ext cx="8070840" cy="225612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523800" y="2170080"/>
            <a:ext cx="8150400" cy="4406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-26748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хема развития цепной реакци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1" name="Рисунок 3" descr="D:\Physics7-11\content2\chapter5\section\paragraph5\images\0500503.gif"/>
          <p:cNvPicPr/>
          <p:nvPr/>
        </p:nvPicPr>
        <p:blipFill>
          <a:blip r:embed="rId1"/>
          <a:stretch/>
        </p:blipFill>
        <p:spPr>
          <a:xfrm>
            <a:off x="1357200" y="428760"/>
            <a:ext cx="7072560" cy="5786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26748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Заряженные частицы регистрируются различными приборами: сцинтилляционными счетчиками, счетчиками Гейгера, камерами Вильсона и т. п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адиоактивные превращения ядер разделяют на два основных типа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-Альфа-распад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 При альфа-распаде ядро испускает одну α-частицу, и из одного химического элемента образуется другой, расположенный на две клетки левее в периодической системе Менделеева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-Бета-распад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 При бета-распаде испускается один электрон, и из одного химического элемента образуется другой, расположенный на клетку правее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-При бета-распаде из ядра вылетает еще одна частица, называемая электронным антинейтрино. Эта частица обозначается символом 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4" name="Рисунок 3" descr="D:\Physics7-11\content\javagifs\63166822058427-2.gif"/>
          <p:cNvPicPr/>
          <p:nvPr/>
        </p:nvPicPr>
        <p:blipFill>
          <a:blip r:embed="rId1"/>
          <a:stretch/>
        </p:blipFill>
        <p:spPr>
          <a:xfrm>
            <a:off x="2901960" y="2389320"/>
            <a:ext cx="2030400" cy="74448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4" descr="D:\Physics7-11\content\javagifs\63166822058442-3.gif"/>
          <p:cNvPicPr/>
          <p:nvPr/>
        </p:nvPicPr>
        <p:blipFill>
          <a:blip r:embed="rId2"/>
          <a:stretch/>
        </p:blipFill>
        <p:spPr>
          <a:xfrm>
            <a:off x="2901960" y="4175280"/>
            <a:ext cx="2455920" cy="74448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5" descr="D:\Physics7-11\content\javagifs\63166822058458-4.gif"/>
          <p:cNvPicPr/>
          <p:nvPr/>
        </p:nvPicPr>
        <p:blipFill>
          <a:blip r:embed="rId3"/>
          <a:stretch/>
        </p:blipFill>
        <p:spPr>
          <a:xfrm>
            <a:off x="4048200" y="5675400"/>
            <a:ext cx="669960" cy="865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-290880"/>
            <a:ext cx="762012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9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Явление самопроизвольного превращения неустойчивых ядер атомов в ядра других атомов с испусканием частиц и излучением энергии называется 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естественной радиоактивностью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 Почти 90 % известных ядер нестабильны. Радиоактивные ядра могут испускать частицы трех видов: положительно заряженные (α-частицы – ядра гелия), отрицательно заряженные (β-частицы – электроны) и нейтральные (γ-частицы – кванты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коротковолнового электромагнит-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ноги излучения). Магнитное поле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озволяет разделить эти частицы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хема опыта по обнаружению различны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идов радиоактивного излучения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Ф – фотопластинка, – магнитное поле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9" name="Рисунок 3" descr="D:\Physics7-11\content2\chapter5\section\paragraph5\images\0500501.gif"/>
          <p:cNvPicPr/>
          <p:nvPr/>
        </p:nvPicPr>
        <p:blipFill>
          <a:blip r:embed="rId1"/>
          <a:stretch/>
        </p:blipFill>
        <p:spPr>
          <a:xfrm>
            <a:off x="4500720" y="2643120"/>
            <a:ext cx="4357440" cy="4214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26748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- При испускании ядрами атомов нейтральных γ-квантов ядерных превращений не происходит. Испущенный γ-квант уносит избыточную энергию возбужденного ядра; числа протонов и нейтронов в нем остаются неизменными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Масса любого ядра </a:t>
            </a: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M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entury Gothic"/>
              </a:rPr>
              <a:t>я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всегда меньше суммы масс входящих в его состав протонов и нейтронов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90062"/>
                </a:solidFill>
                <a:latin typeface="Century Gothic"/>
              </a:rPr>
              <a:t>M</a:t>
            </a:r>
            <a:r>
              <a:rPr b="0" lang="ru-RU" sz="2000" spc="-1" strike="noStrike" baseline="-25000">
                <a:solidFill>
                  <a:srgbClr val="e90062"/>
                </a:solidFill>
                <a:latin typeface="Century Gothic"/>
              </a:rPr>
              <a:t>я</a:t>
            </a:r>
            <a:r>
              <a:rPr b="0" lang="ru-RU" sz="2000" spc="-1" strike="noStrike">
                <a:solidFill>
                  <a:srgbClr val="e90062"/>
                </a:solidFill>
                <a:latin typeface="Century Gothic"/>
              </a:rPr>
              <a:t> &lt; </a:t>
            </a:r>
            <a:r>
              <a:rPr b="0" i="1" lang="ru-RU" sz="2000" spc="-1" strike="noStrike">
                <a:solidFill>
                  <a:srgbClr val="e90062"/>
                </a:solidFill>
                <a:latin typeface="Century Gothic"/>
              </a:rPr>
              <a:t>Zm</a:t>
            </a:r>
            <a:r>
              <a:rPr b="0" i="1" lang="ru-RU" sz="2000" spc="-1" strike="noStrike" baseline="-25000">
                <a:solidFill>
                  <a:srgbClr val="e90062"/>
                </a:solidFill>
                <a:latin typeface="Century Gothic"/>
              </a:rPr>
              <a:t>p</a:t>
            </a:r>
            <a:r>
              <a:rPr b="0" lang="ru-RU" sz="2000" spc="-1" strike="noStrike">
                <a:solidFill>
                  <a:srgbClr val="e90062"/>
                </a:solidFill>
                <a:latin typeface="Century Gothic"/>
              </a:rPr>
              <a:t> + </a:t>
            </a:r>
            <a:r>
              <a:rPr b="0" i="1" lang="ru-RU" sz="2000" spc="-1" strike="noStrike">
                <a:solidFill>
                  <a:srgbClr val="e90062"/>
                </a:solidFill>
                <a:latin typeface="Century Gothic"/>
              </a:rPr>
              <a:t>Nm</a:t>
            </a:r>
            <a:r>
              <a:rPr b="0" i="1" lang="ru-RU" sz="2000" spc="-1" strike="noStrike" baseline="-25000">
                <a:solidFill>
                  <a:srgbClr val="e90062"/>
                </a:solidFill>
                <a:latin typeface="Century Gothic"/>
              </a:rPr>
              <a:t>n</a:t>
            </a:r>
            <a:r>
              <a:rPr b="0" lang="ru-RU" sz="2000" spc="-1" strike="noStrike">
                <a:solidFill>
                  <a:srgbClr val="e90062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азность этих масс называется 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дефектом массы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0062"/>
                </a:solidFill>
                <a:latin typeface="Century Gothic"/>
              </a:rPr>
              <a:t>Δ</a:t>
            </a:r>
            <a:r>
              <a:rPr b="0" i="1" lang="ru-RU" sz="2000" spc="-1" strike="noStrike">
                <a:solidFill>
                  <a:srgbClr val="e90062"/>
                </a:solidFill>
                <a:latin typeface="Century Gothic"/>
              </a:rPr>
              <a:t>M</a:t>
            </a:r>
            <a:r>
              <a:rPr b="0" lang="ru-RU" sz="2000" spc="-1" strike="noStrike">
                <a:solidFill>
                  <a:srgbClr val="e90062"/>
                </a:solidFill>
                <a:latin typeface="Century Gothic"/>
              </a:rPr>
              <a:t> = </a:t>
            </a:r>
            <a:r>
              <a:rPr b="0" i="1" lang="ru-RU" sz="2000" spc="-1" strike="noStrike">
                <a:solidFill>
                  <a:srgbClr val="e90062"/>
                </a:solidFill>
                <a:latin typeface="Century Gothic"/>
              </a:rPr>
              <a:t>Zm</a:t>
            </a:r>
            <a:r>
              <a:rPr b="0" i="1" lang="ru-RU" sz="2000" spc="-1" strike="noStrike" baseline="-25000">
                <a:solidFill>
                  <a:srgbClr val="e90062"/>
                </a:solidFill>
                <a:latin typeface="Century Gothic"/>
              </a:rPr>
              <a:t>p</a:t>
            </a:r>
            <a:r>
              <a:rPr b="0" lang="ru-RU" sz="2000" spc="-1" strike="noStrike">
                <a:solidFill>
                  <a:srgbClr val="e90062"/>
                </a:solidFill>
                <a:latin typeface="Century Gothic"/>
              </a:rPr>
              <a:t> + </a:t>
            </a:r>
            <a:r>
              <a:rPr b="0" i="1" lang="ru-RU" sz="2000" spc="-1" strike="noStrike">
                <a:solidFill>
                  <a:srgbClr val="e90062"/>
                </a:solidFill>
                <a:latin typeface="Century Gothic"/>
              </a:rPr>
              <a:t>Nm</a:t>
            </a:r>
            <a:r>
              <a:rPr b="0" i="1" lang="ru-RU" sz="2000" spc="-1" strike="noStrike" baseline="-25000">
                <a:solidFill>
                  <a:srgbClr val="e90062"/>
                </a:solidFill>
                <a:latin typeface="Century Gothic"/>
              </a:rPr>
              <a:t>n</a:t>
            </a:r>
            <a:r>
              <a:rPr b="0" lang="ru-RU" sz="2000" spc="-1" strike="noStrike">
                <a:solidFill>
                  <a:srgbClr val="e90062"/>
                </a:solidFill>
                <a:latin typeface="Century Gothic"/>
              </a:rPr>
              <a:t> – </a:t>
            </a:r>
            <a:r>
              <a:rPr b="0" i="1" lang="ru-RU" sz="2000" spc="-1" strike="noStrike">
                <a:solidFill>
                  <a:srgbClr val="e90062"/>
                </a:solidFill>
                <a:latin typeface="Century Gothic"/>
              </a:rPr>
              <a:t>M</a:t>
            </a:r>
            <a:r>
              <a:rPr b="0" lang="ru-RU" sz="2000" spc="-1" strike="noStrike" baseline="-25000">
                <a:solidFill>
                  <a:srgbClr val="e90062"/>
                </a:solidFill>
                <a:latin typeface="Century Gothic"/>
              </a:rPr>
              <a:t>я</a:t>
            </a:r>
            <a:r>
              <a:rPr b="0" lang="ru-RU" sz="2000" spc="-1" strike="noStrike">
                <a:solidFill>
                  <a:srgbClr val="e90062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Энергия, которая необходима для полного расщепления ядра на отдельные нуклоны, называется 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энергией связи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 Энергию связи можно определить по дефекту массы по формуле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90062"/>
                </a:solidFill>
                <a:latin typeface="Century Gothic"/>
              </a:rPr>
              <a:t>E</a:t>
            </a:r>
            <a:r>
              <a:rPr b="0" lang="ru-RU" sz="2400" spc="-1" strike="noStrike" baseline="-25000">
                <a:solidFill>
                  <a:srgbClr val="e90062"/>
                </a:solidFill>
                <a:latin typeface="Century Gothic"/>
              </a:rPr>
              <a:t>св</a:t>
            </a:r>
            <a:r>
              <a:rPr b="0" lang="ru-RU" sz="2400" spc="-1" strike="noStrike">
                <a:solidFill>
                  <a:srgbClr val="e90062"/>
                </a:solidFill>
                <a:latin typeface="Century Gothic"/>
              </a:rPr>
              <a:t> = Δ</a:t>
            </a:r>
            <a:r>
              <a:rPr b="0" i="1" lang="ru-RU" sz="2400" spc="-1" strike="noStrike">
                <a:solidFill>
                  <a:srgbClr val="e90062"/>
                </a:solidFill>
                <a:latin typeface="Century Gothic"/>
              </a:rPr>
              <a:t>M</a:t>
            </a:r>
            <a:r>
              <a:rPr b="0" lang="ru-RU" sz="2400" spc="-1" strike="noStrike">
                <a:solidFill>
                  <a:srgbClr val="e90062"/>
                </a:solidFill>
                <a:latin typeface="Century Gothic"/>
              </a:rPr>
              <a:t>·</a:t>
            </a:r>
            <a:r>
              <a:rPr b="0" i="1" lang="ru-RU" sz="2400" spc="-1" strike="noStrike">
                <a:solidFill>
                  <a:srgbClr val="e90062"/>
                </a:solidFill>
                <a:latin typeface="Century Gothic"/>
              </a:rPr>
              <a:t>c</a:t>
            </a:r>
            <a:r>
              <a:rPr b="0" lang="ru-RU" sz="2400" spc="-1" strike="noStrike" baseline="30000">
                <a:solidFill>
                  <a:srgbClr val="e90062"/>
                </a:solidFill>
                <a:latin typeface="Century Gothic"/>
              </a:rPr>
              <a:t>2</a:t>
            </a:r>
            <a:r>
              <a:rPr b="0" lang="ru-RU" sz="2400" spc="-1" strike="noStrike">
                <a:solidFill>
                  <a:srgbClr val="e90062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Энергия связи, приходящаяся на один нуклон в ядре, называется </a:t>
            </a:r>
            <a:r>
              <a:rPr b="1" i="1" lang="ru-RU" sz="2400" spc="-1" strike="noStrike">
                <a:solidFill>
                  <a:srgbClr val="e90062"/>
                </a:solidFill>
                <a:latin typeface="Century Gothic"/>
              </a:rPr>
              <a:t>удельной энергией связи</a:t>
            </a:r>
            <a:r>
              <a:rPr b="0" lang="ru-RU" sz="2400" spc="-1" strike="noStrike">
                <a:solidFill>
                  <a:srgbClr val="e90062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на максимальна у атомных ядер элементов в средней части таблицы Менделеева с массовыми числами </a:t>
            </a: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приблизительно от 40 до 100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5840" y="-267480"/>
            <a:ext cx="7238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Удельная энергия связи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уществует два способа освобождения энергии ядра – синтез легких ядер и деление тяжелых ядер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marL="4248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Century Gothic"/>
              </a:rPr>
              <a:t>Удельная энергия связи. </a:t>
            </a: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4" name="Рисунок 3" descr="D:\Physics7-11\content2\chapter5\section\paragraph5\images\0500502.gif"/>
          <p:cNvPicPr/>
          <p:nvPr/>
        </p:nvPicPr>
        <p:blipFill>
          <a:blip r:embed="rId1"/>
          <a:stretch/>
        </p:blipFill>
        <p:spPr>
          <a:xfrm>
            <a:off x="1500120" y="214200"/>
            <a:ext cx="692964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-182520" y="-182520"/>
            <a:ext cx="7431120" cy="9018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0" y="50004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Ядерный реактор - это устройство, предназначенное для превращения энергии атомного ядра в электрическую энергию. В ядре реактора находится радиоактивное вещество (обычно, уран или плутоний). Энергия, выделяемая за счет α-распада этих атомов, нагревает воду. Получающийся водяной пар устремляется в паровую турбину; за счет ее вращения в электрогенераторе вырабатывается электрический ток. Теплая вода после соответствующей очистки выливается в расположенный рядом водоем; оттуда же в реактор поступает холодная вода. Специальный герметичный кожух защищает окружающую среду от смертоносного излучения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97" name="Object 9"/>
          <p:cNvGraphicFramePr/>
          <p:nvPr/>
        </p:nvGraphicFramePr>
        <p:xfrm>
          <a:off x="642960" y="4143240"/>
          <a:ext cx="476280" cy="4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960" y="4143240"/>
                    <a:ext cx="4762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-152280" y="-6480"/>
            <a:ext cx="7400880" cy="7984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ww.pmedia.ru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учающая программа по физике «Физикон»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ttp://www.lyceum.edu.ru/links/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ttp://www.belti.msk.ru/vt/sch172/rus/schinet.ht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-212760" y="-42840"/>
            <a:ext cx="7461360" cy="8478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Делала эту презентацию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ыпускница 11А класса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Леонтьева Алла, узнавшая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Много нового и интересно-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го о ядерных реакциях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3" name="Рисунок 4" descr="Изображение 061.jpg"/>
          <p:cNvPicPr/>
          <p:nvPr/>
        </p:nvPicPr>
        <p:blipFill>
          <a:blip r:embed="rId2"/>
          <a:stretch/>
        </p:blipFill>
        <p:spPr>
          <a:xfrm>
            <a:off x="3786120" y="0"/>
            <a:ext cx="5143680" cy="6715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380880" y="1633320"/>
            <a:ext cx="776304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оздание учебного пособия для учащихся 11 классов по теме « Атом. Ядро. Ядерные реакции»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Как можно более интересно преподать эту информацию в течение у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Расширить собственные знания по этой теме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298440" y="237960"/>
            <a:ext cx="7388280" cy="16336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0" y="2000160"/>
            <a:ext cx="8786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entury Gothic"/>
              </a:rPr>
              <a:t>Атомное ядро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заряжено положительно. Его диа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метр не превышает 10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entury Gothic"/>
              </a:rPr>
              <a:t>–14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–10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entury Gothic"/>
              </a:rPr>
              <a:t>–15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 м, а заряд </a:t>
            </a:r>
            <a:r>
              <a:rPr b="0" i="1" lang="ru-RU" sz="1600" spc="-1" strike="noStrike">
                <a:solidFill>
                  <a:srgbClr val="ffffff"/>
                </a:solidFill>
                <a:latin typeface="Century Gothic"/>
              </a:rPr>
              <a:t>q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равен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оизведению заряда электрона на порядковый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омер атома </a:t>
            </a:r>
            <a:r>
              <a:rPr b="0" i="1" lang="ru-RU" sz="1600" spc="-1" strike="noStrike">
                <a:solidFill>
                  <a:srgbClr val="ffffff"/>
                </a:solidFill>
                <a:latin typeface="Century Gothic"/>
              </a:rPr>
              <a:t>Z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в таблице Менделеева: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entury Gothic"/>
              </a:rPr>
              <a:t>q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 = </a:t>
            </a:r>
            <a:r>
              <a:rPr b="0" i="1" lang="ru-RU" sz="2800" spc="-1" strike="noStrike">
                <a:solidFill>
                  <a:srgbClr val="ffffff"/>
                </a:solidFill>
                <a:latin typeface="Century Gothic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·</a:t>
            </a:r>
            <a:r>
              <a:rPr b="0" i="1" lang="ru-RU" sz="2800" spc="-1" strike="noStrike">
                <a:solidFill>
                  <a:srgbClr val="ffffff"/>
                </a:solidFill>
                <a:latin typeface="Century Gothic"/>
              </a:rPr>
              <a:t>e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 настоящее время доказано, что атомное ядро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состоит из протонов и нейтронов, удерживаемых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ядерными силами. Протоны и нейтроны носят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бщее название </a:t>
            </a:r>
            <a:r>
              <a:rPr b="1" i="1" lang="ru-RU" sz="1600" spc="-1" strike="noStrike">
                <a:solidFill>
                  <a:srgbClr val="ffffff"/>
                </a:solidFill>
                <a:latin typeface="Century Gothic"/>
              </a:rPr>
              <a:t>нуклонов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.  </a:t>
            </a:r>
            <a:r>
              <a:rPr b="1" i="1" lang="ru-RU" sz="1600" spc="-1" strike="noStrike">
                <a:solidFill>
                  <a:srgbClr val="ffffff"/>
                </a:solidFill>
                <a:latin typeface="Century Gothic"/>
              </a:rPr>
              <a:t>Протон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– это части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ца, заряд  которой положителен и равен по моду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Лю заряду электрона: </a:t>
            </a:r>
            <a:r>
              <a:rPr b="0" i="1" lang="ru-RU" sz="1600" spc="-1" strike="noStrike">
                <a:solidFill>
                  <a:srgbClr val="ffffff"/>
                </a:solidFill>
                <a:latin typeface="Century Gothic"/>
              </a:rPr>
              <a:t>q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 = +1,6·10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entury Gothic"/>
              </a:rPr>
              <a:t>–19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 Кл, а масс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entury Gothic"/>
              </a:rPr>
              <a:t>m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 = 1,6726·10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entury Gothic"/>
              </a:rPr>
              <a:t>–27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 кг. </a:t>
            </a:r>
            <a:r>
              <a:rPr b="1" i="1" lang="ru-RU" sz="1600" spc="-1" strike="noStrike">
                <a:solidFill>
                  <a:srgbClr val="ffffff"/>
                </a:solidFill>
                <a:latin typeface="Century Gothic"/>
              </a:rPr>
              <a:t>Нейтрон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– это нейтральная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астица, масса которой равна </a:t>
            </a:r>
            <a:r>
              <a:rPr b="0" i="1" lang="ru-RU" sz="1600" spc="-1" strike="noStrike">
                <a:solidFill>
                  <a:srgbClr val="ffffff"/>
                </a:solidFill>
                <a:latin typeface="Century Gothic"/>
              </a:rPr>
              <a:t>m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 = 1,6749·10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entury Gothic"/>
              </a:rPr>
              <a:t>–27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кг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Свободный нейтрон – нестабильная элементар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ая частица, которая распадается на три частицы: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отон, электрон и антинейтрино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ланетарная модель атома Резерфорд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 algn="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Century Gothic"/>
              </a:rPr>
              <a:t>Планетарная модель атома Резерфорда</a:t>
            </a: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1" name="Рисунок 3" descr="D:\Physics7-11\content1\chapter5\section\paragraph1\images\0500101.gif"/>
          <p:cNvPicPr/>
          <p:nvPr/>
        </p:nvPicPr>
        <p:blipFill>
          <a:blip r:embed="rId2"/>
          <a:stretch/>
        </p:blipFill>
        <p:spPr>
          <a:xfrm>
            <a:off x="5500800" y="1643040"/>
            <a:ext cx="3286080" cy="421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Object 4"/>
          <p:cNvGraphicFramePr/>
          <p:nvPr/>
        </p:nvGraphicFramePr>
        <p:xfrm>
          <a:off x="1857240" y="6372360"/>
          <a:ext cx="90504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6372360"/>
                    <a:ext cx="9050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191520"/>
            <a:ext cx="9144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Изотопы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– это атомы, ядра которых содержат одинаковое число протонов, но разное число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ейтронов (т. е. атомы одного химического эле-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мента с разным числом нейтронов в ядрах). Хи-мический элемент обозначается следующим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бразом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где </a:t>
            </a:r>
            <a:r>
              <a:rPr b="0" i="1" lang="ru-RU" sz="2400" spc="-1" strike="noStrike">
                <a:solidFill>
                  <a:srgbClr val="ffffff"/>
                </a:solidFill>
                <a:latin typeface="Century Gothic"/>
              </a:rPr>
              <a:t>Z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– заряд ядра, а </a:t>
            </a:r>
            <a:r>
              <a:rPr b="0" i="1" lang="ru-RU" sz="24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– его массовое число, например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Рисунок 3" descr="D:\Physics7-11\content2\chapter5\section\paragraph4\images\0500401.gif"/>
          <p:cNvPicPr/>
          <p:nvPr/>
        </p:nvPicPr>
        <p:blipFill>
          <a:blip r:embed="rId1"/>
          <a:stretch/>
        </p:blipFill>
        <p:spPr>
          <a:xfrm>
            <a:off x="2857680" y="3857760"/>
            <a:ext cx="6072120" cy="27144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4" descr="D:\Physics7-11\content\javagifs\63166822057051-1.gif"/>
          <p:cNvPicPr/>
          <p:nvPr/>
        </p:nvPicPr>
        <p:blipFill>
          <a:blip r:embed="rId2"/>
          <a:stretch/>
        </p:blipFill>
        <p:spPr>
          <a:xfrm>
            <a:off x="2262240" y="2103480"/>
            <a:ext cx="1023840" cy="110340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5" descr="D:\Physics7-11\content\javagifs\63166822057098-2.gif"/>
          <p:cNvPicPr/>
          <p:nvPr/>
        </p:nvPicPr>
        <p:blipFill>
          <a:blip r:embed="rId3"/>
          <a:stretch/>
        </p:blipFill>
        <p:spPr>
          <a:xfrm>
            <a:off x="1401840" y="3822840"/>
            <a:ext cx="957240" cy="109692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6"/>
          <p:cNvSpPr/>
          <p:nvPr/>
        </p:nvSpPr>
        <p:spPr>
          <a:xfrm>
            <a:off x="4016880" y="648828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Различные изотопы кислород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60" name="Object 4"/>
          <p:cNvGraphicFramePr/>
          <p:nvPr/>
        </p:nvGraphicFramePr>
        <p:xfrm>
          <a:off x="714240" y="5286240"/>
          <a:ext cx="695520" cy="4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1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4240" y="5286240"/>
                    <a:ext cx="69552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56760" y="-31356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 начале XX века было экспериментально доказано, что атом состоит из ядра и электронов. Резерфордом в результате опыт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о рассеянию α-частиц на тонкой фольге (золото, серебро, медь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и др.) была предложена планетарная модель строения атома. Согласно этой модели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-атом имеет положительно заряженное ядро, размеры которого малы по сравнению с размерами самого атома;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-в ядре сконцентрирована почти вся масса атома;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-электроны вращаются вокруг ядра по орбитам (почти как планеты вокруг Солнца)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4" name="Рисунок 3" descr="D:\Physics7-11\content2\chapter5\section\paragraph3\images\0500301.gif"/>
          <p:cNvPicPr/>
          <p:nvPr/>
        </p:nvPicPr>
        <p:blipFill>
          <a:blip r:embed="rId1"/>
          <a:stretch/>
        </p:blipFill>
        <p:spPr>
          <a:xfrm>
            <a:off x="2286000" y="3143160"/>
            <a:ext cx="6286680" cy="328608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4"/>
          <p:cNvSpPr/>
          <p:nvPr/>
        </p:nvSpPr>
        <p:spPr>
          <a:xfrm>
            <a:off x="2000160" y="648828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хема опыта Резерфорда по рассеянию α-частиц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520" y="396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ланетарная модель, однако, противоречит классической физике. Электрон, вращаясь с центростремительным ускорением, излучает электромагнитные волны, и это должно сопровождаться потерей энергии. В результате согласно классическим представлениям атом Резерфорда оказывается неустойчивым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Законы классической механики оказались неприменимы к атому. Н. Бор предпринял попытку спасти планетарную модель атома Резерфорда. Он сформулировал три положения , получивших название 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квантовых постулатов Бора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- Атомная система может находиться только в особых стационарных (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квантовых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) состояниях, каждому из которых соответствует определенная энергия </a:t>
            </a: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E</a:t>
            </a:r>
            <a:r>
              <a:rPr b="0" i="1" lang="ru-RU" sz="2000" spc="-1" strike="noStrike" baseline="-25000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 В стационарных состояниях атом не излучает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и переходе из стационарного состояния </a:t>
            </a: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в стационарное состояние </a:t>
            </a: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m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излучается (поглощается) квант, энергия которого равна разности энергий стационарных состояний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- Третий постулат Бора предлагает правило нахождения стационарных орбит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8" name="Рисунок 3" descr="D:\Physics7-11\content\javagifs\63166822055489-1.gif"/>
          <p:cNvPicPr/>
          <p:nvPr/>
        </p:nvPicPr>
        <p:blipFill>
          <a:blip r:embed="rId1"/>
          <a:stretch/>
        </p:blipFill>
        <p:spPr>
          <a:xfrm>
            <a:off x="3402000" y="5035680"/>
            <a:ext cx="181620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-26748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огласно второму постулату Бора, возможные частоты излучения атома водорода определяются формулой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где </a:t>
            </a: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R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 = 3,29·10</a:t>
            </a:r>
            <a:r>
              <a:rPr b="0" lang="ru-RU" sz="2000" spc="-1" strike="noStrike" baseline="30000">
                <a:solidFill>
                  <a:srgbClr val="ffffff"/>
                </a:solidFill>
                <a:latin typeface="Century Gothic"/>
              </a:rPr>
              <a:t>15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 Гц – 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постоянная Ридберга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 Теория Бора объяснила возникновение линейчатых спектров и смысл целых чисел, входящих в формулы для спектральных линий водорода. Для других атомов эту теорию построить не удалось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остулат Бора о существовани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тационарных орбит электрон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атоме находится в согласии с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гипотезой деБройля. На каждой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такой орбите укладывается це-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лое число волн де Бройля. В этом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лучае на стационарных орби-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тах  образуются стоячие волны де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Бройля. Атом Резерфорда, под-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чиняющийся квантовым постула-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там Бора, получил название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атома Резерфорда–Бор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бразование спектральных серий в атоме водород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  <a:p>
            <a:pPr marL="44280" indent="0" algn="r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Century Gothic"/>
              </a:rPr>
              <a:t>Образование спектральных серий в атоме водорода. </a:t>
            </a:r>
            <a:endParaRPr b="0" lang="en-US" sz="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Рисунок 3" descr="D:\Physics7-11\content\javagifs\63166822055551-3.gif"/>
          <p:cNvPicPr/>
          <p:nvPr/>
        </p:nvPicPr>
        <p:blipFill>
          <a:blip r:embed="rId1"/>
          <a:stretch/>
        </p:blipFill>
        <p:spPr>
          <a:xfrm>
            <a:off x="3260880" y="530280"/>
            <a:ext cx="2743200" cy="89064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4" descr="D:\Physics7-11\content2\chapter5\section\paragraph3\images\0500303.gif"/>
          <p:cNvPicPr/>
          <p:nvPr/>
        </p:nvPicPr>
        <p:blipFill>
          <a:blip r:embed="rId2"/>
          <a:stretch/>
        </p:blipFill>
        <p:spPr>
          <a:xfrm>
            <a:off x="4500720" y="2857680"/>
            <a:ext cx="450036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274680" y="-212760"/>
            <a:ext cx="7400880" cy="93204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Настоящая модель демонстрирует различные типы ядерных превращений. Ядерные превращения возникают как вследствие процессов радиоактивного распада ядер, так и вследствие ядерных реакций, сопровождающихся делением или синтезом ядер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Изменения, происходящие в ядрах, можно разбить на три группы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    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)  изменение одного из нуклонов в ядре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    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2)  перестройка внутренней структуры ядра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    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3)  перегруппировка нуклонов из одних ядер в другие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75" name="Object 5"/>
          <p:cNvGraphicFramePr/>
          <p:nvPr/>
        </p:nvGraphicFramePr>
        <p:xfrm>
          <a:off x="857160" y="4071960"/>
          <a:ext cx="6858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4071960"/>
                    <a:ext cx="685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-212760" y="-122400"/>
            <a:ext cx="7461360" cy="7686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Ядерной реакцией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называется процесс изменения состава и структуры атомного ядра в результате его взаимодействия с другим ядром или частицей или в результате каких-либо внутренних процессов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лияние легких ядер при очень высокой температуре, сопровождающееся выделением энергии, называется 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термоядерной реакцией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реакцией термоядерного синтеза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). Термоядерные реакции являются основным источником энергии звезд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Деление атомного ядра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– это явление распада ядер на несколько более легких атомных ядер. На основе деления тяжелых элементов (урана и плутония) работают атомные электростанци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Деление тяжелых ядер может происходить посредством 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цепной реакции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, когда при распаде ядра выделяется частицы (нейтроны), способные вызвать реакцию деления других ядер. Цепные реакции возможны, если масса ядерного топлива превышает минимальную 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критическую массу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03:03:40Z</dcterms:created>
  <dc:creator>Леонтьева</dc:creator>
  <dc:description/>
  <dc:language>en-US</dc:language>
  <cp:lastModifiedBy>Кафедра информатики</cp:lastModifiedBy>
  <dcterms:modified xsi:type="dcterms:W3CDTF">2008-06-10T02:45:15Z</dcterms:modified>
  <cp:revision>61</cp:revision>
  <dc:subject>ядерная физика</dc:subject>
  <dc:title>Атом_ядро_реакции</dc:title>
</cp:coreProperties>
</file>