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AF7-E008-4189-A968-C87F90BE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CAB-6AA1-4B9D-B8AB-8D5C9EC6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9B2-39F7-4D41-AC0E-F9C2482A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D429-BE4E-4FA0-B9A0-F454E213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BAB3-8ED1-44E3-B5BE-EB392B7B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F4F-208F-4B87-A725-11891A74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0E0-16A3-41EF-8490-1B98C2AF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187-B582-4D56-B8B3-A1CAC610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1256-F417-4FAC-948D-E8C59072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085-69E0-4F55-8C15-DDE322CF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324E-2D54-4B9B-87D0-1D9C5AE1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0BC7-696F-4F9C-AB76-4DA04F62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31CC-48AA-4499-A67B-4DB98E1607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30120"/>
            <a:ext cx="8208720" cy="25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Детство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М. Ю. Лермонтов.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lermontov_18"/>
          <p:cNvPicPr/>
          <p:nvPr/>
        </p:nvPicPr>
        <p:blipFill>
          <a:blip r:embed="rId1"/>
          <a:stretch/>
        </p:blipFill>
        <p:spPr>
          <a:xfrm>
            <a:off x="2843280" y="2544840"/>
            <a:ext cx="3351240" cy="39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836280"/>
            <a:ext cx="4259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В 1831 году, в год смерти отца, Лермонтов писал с горечью и муко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Ужасная судьба отца и сы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Жить розно и в разлуке умереть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lermontov_u_p"/>
          <p:cNvPicPr/>
          <p:nvPr/>
        </p:nvPicPr>
        <p:blipFill>
          <a:blip r:embed="rId1"/>
          <a:stretch/>
        </p:blipFill>
        <p:spPr>
          <a:xfrm>
            <a:off x="5076720" y="907920"/>
            <a:ext cx="339912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Учёба в Москв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5122800" cy="20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1828 год- принят в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IV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класс Московского университетского благородного панс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1830 год- поступил в Московский университет на нравственно-политическое от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6"/>
          <p:cNvPicPr/>
          <p:nvPr/>
        </p:nvPicPr>
        <p:blipFill>
          <a:blip r:embed="rId1"/>
          <a:stretch/>
        </p:blipFill>
        <p:spPr>
          <a:xfrm>
            <a:off x="5940360" y="1484280"/>
            <a:ext cx="2906640" cy="4033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468360" y="4653000"/>
            <a:ext cx="518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ереезд в Петербург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Школа подпрапорщиков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4220640"/>
            <a:ext cx="4753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Лермонтов ломает себя. Подгоняет к своей невоенной внешности мундир, старается стать настоящим бесшабашным гусаро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3"/>
          <p:cNvPicPr/>
          <p:nvPr/>
        </p:nvPicPr>
        <p:blipFill>
          <a:blip r:embed="rId1"/>
          <a:stretch/>
        </p:blipFill>
        <p:spPr>
          <a:xfrm>
            <a:off x="5245200" y="1700280"/>
            <a:ext cx="3595680" cy="4392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4"/>
          <p:cNvSpPr/>
          <p:nvPr/>
        </p:nvSpPr>
        <p:spPr>
          <a:xfrm>
            <a:off x="395280" y="1844640"/>
            <a:ext cx="46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1832 год - М. Ю. Лермонтов поступил в Школу гвардейских подпрапорщиков и кавалерийских юнк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а всю Россию прогремел злодейский выстрел: 27 января в Петербурге, за Черной речкой, был смертельно ранен Александр Пушкин. Зимой 1837 г., откликаясь на смерть А.С. Пушкина, М. Ю. Лермонтов написал стихотворение «Смерть поэта», мгновенно облетевшее весь Петербур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Россия внимательно прислушалась к голосу своего певца. Имя Лермонтова у всех на устах, его приглашают в аристократические салоны, он в центре всеобщего внимания. Внешне он доволен происходящим, внутренне…Нет, он не был счастли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Рисунок1"/>
          <p:cNvPicPr/>
          <p:nvPr/>
        </p:nvPicPr>
        <p:blipFill>
          <a:blip r:embed="rId1"/>
          <a:stretch/>
        </p:blipFill>
        <p:spPr>
          <a:xfrm>
            <a:off x="611280" y="4913280"/>
            <a:ext cx="8066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Дет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08000" y="0"/>
            <a:ext cx="5435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Род Лермонтовых восходит к средним векам и легендарен в своих  истоках,- он начинается с шотландского поэта Томаса Лермонта</a:t>
            </a:r>
            <a:r>
              <a:rPr b="1" lang="en-US" sz="3200" spc="-1" strike="noStrike">
                <a:solidFill>
                  <a:srgbClr val="0066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, прозванного рифмачом или стихотворц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Родился в Москве 3 (15) октября 1814 г. В возрасте «полугоду» родители привезли его в Тарх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Детство провел в имении бабушки Е. А. Арсеньевой в Пензенской губер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2"/>
          <p:cNvPicPr/>
          <p:nvPr/>
        </p:nvPicPr>
        <p:blipFill>
          <a:blip r:embed="rId1"/>
          <a:stretch/>
        </p:blipFill>
        <p:spPr>
          <a:xfrm>
            <a:off x="-42840" y="1268280"/>
            <a:ext cx="38228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емья Лермонтов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352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Monotype Corsiva"/>
              </a:rPr>
              <a:t>От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Monotype Corsiva"/>
              </a:rPr>
              <a:t>Юр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Monotype Corsiva"/>
              </a:rPr>
              <a:t>Пет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606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9960" y="2852640"/>
            <a:ext cx="2494080" cy="3456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059280" y="1268280"/>
            <a:ext cx="2728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Monotype Corsiva"/>
              </a:rPr>
              <a:t>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Monotype Corsiva"/>
              </a:rPr>
              <a:t>Мар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Monotype Corsiva"/>
              </a:rPr>
              <a:t>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659640" y="1125360"/>
            <a:ext cx="173988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Monotype Corsiva"/>
              </a:rPr>
              <a:t>Баб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Monotype Corsiva"/>
              </a:rPr>
              <a:t>Елизав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Monotype Corsiva"/>
              </a:rPr>
              <a:t>Алексе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Monotype Corsiva"/>
              </a:rPr>
              <a:t>Арсень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~MAP0000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276720" y="2924280"/>
            <a:ext cx="2508120" cy="331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607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6227640" y="2924280"/>
            <a:ext cx="2514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евеселым было детство этого мальчика. Его мать, Марья Михайловна, урожденная Арсеньева, принадлежала к богатой и знатной семье. Отец Лермонтова был небогат и незнатен. Брак был, по тогдашним понятиям, неравным. Бабушка Лермонтова по материнской линии Елизавета Арсеньева нежно полюбила внука, но терпеть не могла отца его. На этой почве начались семейные расп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lermontov_01"/>
          <p:cNvPicPr/>
          <p:nvPr/>
        </p:nvPicPr>
        <p:blipFill>
          <a:blip r:embed="rId1"/>
          <a:stretch/>
        </p:blipFill>
        <p:spPr>
          <a:xfrm>
            <a:off x="4932360" y="1268280"/>
            <a:ext cx="3944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4724280"/>
            <a:ext cx="9144000" cy="18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Здесь он познал неброскую красоту среднерусской природы, приобщился к поэзии деревенского быта. Услышал и полюбил народные песни и предания о волжских разбойниках, а также о Стеньке Разине и Пугаче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house"/>
          <p:cNvPicPr/>
          <p:nvPr/>
        </p:nvPicPr>
        <p:blipFill>
          <a:blip r:embed="rId1"/>
          <a:stretch/>
        </p:blipFill>
        <p:spPr>
          <a:xfrm>
            <a:off x="1403280" y="333360"/>
            <a:ext cx="622620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6438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В доме постоянно жили мальчики - сверстники, дети родственников и соседей. Они вместе с деревенскими ребятами играли, строили и брали штурмом снежные крепости, скакали верхом. В летнее время рыли окопы и устраивали потешные бои на манер Петра I. Часами пропадали в лесу и на речке. Во всех играх Лермонтов - командир, неистощимый на выдумки. Его любят за прямоту, настойчивость, верность в дружб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io_1"/>
          <p:cNvPicPr/>
          <p:nvPr/>
        </p:nvPicPr>
        <p:blipFill>
          <a:blip r:embed="rId1"/>
          <a:stretch/>
        </p:blipFill>
        <p:spPr>
          <a:xfrm>
            <a:off x="3132000" y="3573360"/>
            <a:ext cx="43927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Как было принято в дворянских семьях, мальчик учился дома. С детства Лермонтов владел французским и немецким языками так же свободно, как и русским, изучал историю, географию, математику, словесность, выучился играть на скрипке и фортепьяно. Он много читал, рисовал акварелью, особенно любил лепить из крашеного вос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Лермонтов был довольно болезненным мальчиком и бабушка трижды возила его на Кавказ к Горячим вод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На Горячих водах (так до 1830 года назывался Пятигорск) он наблюдал нравы кавказских жителей, их мужество и ловк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icture_08_w250"/>
          <p:cNvPicPr/>
          <p:nvPr/>
        </p:nvPicPr>
        <p:blipFill>
          <a:blip r:embed="rId1"/>
          <a:stretch/>
        </p:blipFill>
        <p:spPr>
          <a:xfrm>
            <a:off x="2484360" y="1557360"/>
            <a:ext cx="39625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24000" y="475920"/>
            <a:ext cx="4762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В 1817 году умерла мать Лермонтова. Смутно помнил Лермонтов ласковые руки и слабый голосок матери, напевавшей ему грустную песню. Семейные отношения с ее смертью еще более обострились. Отец должен был отказаться от сына, чтобы сохранить ему наследство: таково было требование бабушки. Лермонтов любил и бабушку и отца. Оставшись на попечении бабушки, благодарный ей за ее любовь к нему, он не мог, однако, не думать об от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lermontova_m_m"/>
          <p:cNvPicPr/>
          <p:nvPr/>
        </p:nvPicPr>
        <p:blipFill>
          <a:blip r:embed="rId1"/>
          <a:stretch/>
        </p:blipFill>
        <p:spPr>
          <a:xfrm>
            <a:off x="241200" y="1197000"/>
            <a:ext cx="3824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8:24:53Z</dcterms:created>
  <dc:creator>_</dc:creator>
  <dc:description/>
  <dc:language>en-US</dc:language>
  <cp:lastModifiedBy>user</cp:lastModifiedBy>
  <dcterms:modified xsi:type="dcterms:W3CDTF">2013-04-03T04:24:44Z</dcterms:modified>
  <cp:revision>104</cp:revision>
  <dc:subject/>
  <dc:title>М. Ю. Лермонтов</dc:title>
</cp:coreProperties>
</file>