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7D6-6239-4B61-B5E7-681C47AF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A50-8449-4C11-A8A4-25A776DD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FBD-7EBD-4214-A818-162B2CEA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1E4-AE6D-43C8-830F-5F455239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7D3-AF88-4042-B637-F302FDB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0E2-32CB-4C33-9D9F-B42B9942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A2C5-E2A2-43A5-89EA-6D65151F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72B-5500-4DFE-9EA0-EB67845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896-0683-426D-886F-C1E577BA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ADA-3079-4F2F-B8DB-D172675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34B-6FC6-48D5-9421-27516C00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AD4-9BA6-41FD-A01F-73BC788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52A-2846-4605-830F-3BE4C0204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30120"/>
            <a:ext cx="8208720" cy="25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Детство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. Ю. Лермонтов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lermontov_18"/>
          <p:cNvPicPr/>
          <p:nvPr/>
        </p:nvPicPr>
        <p:blipFill>
          <a:blip r:embed="rId1"/>
          <a:stretch/>
        </p:blipFill>
        <p:spPr>
          <a:xfrm>
            <a:off x="2843280" y="2544840"/>
            <a:ext cx="33512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4259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1831 году, в год смерти отца, Лермонтов писал с горечью и мук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Ужасная судьба отца и сы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Жить розно и в разлуке умереть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lermontov_u_p"/>
          <p:cNvPicPr/>
          <p:nvPr/>
        </p:nvPicPr>
        <p:blipFill>
          <a:blip r:embed="rId1"/>
          <a:stretch/>
        </p:blipFill>
        <p:spPr>
          <a:xfrm>
            <a:off x="5076720" y="907920"/>
            <a:ext cx="3399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Учёба в Москв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12280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28 год- принят в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IV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класс Московского университетского благородного панс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30 год- поступил в Московский университет на нравственно-политическое от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6"/>
          <p:cNvPicPr/>
          <p:nvPr/>
        </p:nvPicPr>
        <p:blipFill>
          <a:blip r:embed="rId1"/>
          <a:stretch/>
        </p:blipFill>
        <p:spPr>
          <a:xfrm>
            <a:off x="5940360" y="1484280"/>
            <a:ext cx="2906640" cy="4033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468360" y="465300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ереезд в Петербург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Школа подпрапорщиков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220640"/>
            <a:ext cx="4753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Лермонтов ломает себя. Подгоняет к своей невоенной внешности мундир, старается стать настоящим бесшабашным гусар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5245200" y="1700280"/>
            <a:ext cx="359568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"/>
          <p:cNvSpPr/>
          <p:nvPr/>
        </p:nvSpPr>
        <p:spPr>
          <a:xfrm>
            <a:off x="395280" y="1844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1832 год - М. Ю. Лермонтов поступил в Школу гвардейских подпрапорщиков и кавалерийских юнк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а всю Россию прогремел злодейский выстрел: 27 января в Петербурге, за Черной речкой, был смертельно ранен Александр Пушкин. Зимой 1837 г., откликаясь на смерть А.С. Пушкина, М. Ю. Лермонтов написал стихотворение «Смерть поэта», мгновенно облетевшее весь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Россия внимательно прислушалась к голосу своего певца. Имя Лермонтова у всех на устах, его приглашают в аристократические салоны, он в центре всеобщего внимания. Внешне он доволен происходящим, внутренне…Нет, он не был счастли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Рисунок1"/>
          <p:cNvPicPr/>
          <p:nvPr/>
        </p:nvPicPr>
        <p:blipFill>
          <a:blip r:embed="rId1"/>
          <a:stretch/>
        </p:blipFill>
        <p:spPr>
          <a:xfrm>
            <a:off x="611280" y="4913280"/>
            <a:ext cx="8066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Дет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08000" y="0"/>
            <a:ext cx="5435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Род Лермонтовых восходит к средним векам и легендарен в своих  истоках,- он начинается с шотландского поэта Томаса Лермонта</a:t>
            </a:r>
            <a:r>
              <a:rPr b="1" lang="en-US" sz="32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, прозванного рифмачом или стихотвор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Родился в Москве 3 (15) октября 1814 г. В возрасте «полугоду» родители привезли его в Тарх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Детство провел в имении бабушки Е. А. Арсеньевой в Пензенской губер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2"/>
          <p:cNvPicPr/>
          <p:nvPr/>
        </p:nvPicPr>
        <p:blipFill>
          <a:blip r:embed="rId1"/>
          <a:stretch/>
        </p:blipFill>
        <p:spPr>
          <a:xfrm>
            <a:off x="-42840" y="1268280"/>
            <a:ext cx="382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емья Лермонтов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35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О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Ю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6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960" y="2852640"/>
            <a:ext cx="2494080" cy="3456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059280" y="1268280"/>
            <a:ext cx="2728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Мар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659640" y="1125360"/>
            <a:ext cx="17398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Monotype Corsiva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Елиза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Алексе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Monotype Corsiva"/>
              </a:rPr>
              <a:t>Арсен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~MAP0000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276720" y="2924280"/>
            <a:ext cx="2508120" cy="33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607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6227640" y="2924280"/>
            <a:ext cx="2514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веселым было детство этого мальчика. Его мать, Марья Михайловна, урожденная Арсеньева, принадлежала к богатой и знатной семье. Отец Лермонтова был небогат и незнатен. Брак был, по тогдашним понятиям, неравным. Бабушка Лермонтова по материнской линии Елизавета Арсеньева нежно полюбила внука, но терпеть не могла отца его. На этой почве начались семейные расп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ermontov_01"/>
          <p:cNvPicPr/>
          <p:nvPr/>
        </p:nvPicPr>
        <p:blipFill>
          <a:blip r:embed="rId1"/>
          <a:stretch/>
        </p:blipFill>
        <p:spPr>
          <a:xfrm>
            <a:off x="4932360" y="1268280"/>
            <a:ext cx="3944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4724280"/>
            <a:ext cx="9144000" cy="18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десь он познал неброскую красоту среднерусской природы, приобщился к поэзии деревенского быта. Услышал и полюбил народные песни и предания о волжских разбойниках, а также о Стеньке Разине и Пугаче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ouse"/>
          <p:cNvPicPr/>
          <p:nvPr/>
        </p:nvPicPr>
        <p:blipFill>
          <a:blip r:embed="rId1"/>
          <a:stretch/>
        </p:blipFill>
        <p:spPr>
          <a:xfrm>
            <a:off x="1403280" y="333360"/>
            <a:ext cx="6226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6438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 доме постоянно жили мальчики - сверстники, дети родственников и соседей. Они вместе с деревенскими ребятами играли, строили и брали штурмом снежные крепости, скакали верхом. В летнее время рыли окопы и устраивали потешные бои на манер Петра I. Часами пропадали в лесу и на речке. Во всех играх Лермонтов - командир, неистощимый на выдумки. Его любят за прямоту, настойчивость, верность в друж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io_1"/>
          <p:cNvPicPr/>
          <p:nvPr/>
        </p:nvPicPr>
        <p:blipFill>
          <a:blip r:embed="rId1"/>
          <a:stretch/>
        </p:blipFill>
        <p:spPr>
          <a:xfrm>
            <a:off x="3132000" y="3573360"/>
            <a:ext cx="4392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ак было принято в дворянских семьях, мальчик учился дома. С детства Лермонтов владел французским и немецким языками так же свободно, как и русским, изучал историю, географию, математику, словесность, выучился играть на скрипке и фортепьяно. Он много читал, рисовал акварелью, особенно любил лепить из крашеного во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Лермонтов был довольно болезненным мальчиком и бабушка трижды возила его на Кавказ к Горячим в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а Горячих водах (так до 1830 года назывался Пятигорск) он наблюдал нравы кавказских жителей, их мужество и лов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cture_08_w250"/>
          <p:cNvPicPr/>
          <p:nvPr/>
        </p:nvPicPr>
        <p:blipFill>
          <a:blip r:embed="rId1"/>
          <a:stretch/>
        </p:blipFill>
        <p:spPr>
          <a:xfrm>
            <a:off x="2484360" y="1557360"/>
            <a:ext cx="39625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762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 1817 году умерла мать Лермонтова. Смутно помнил Лермонтов ласковые руки и слабый голосок матери, напевавшей ему грустную песню. Семейные отношения с ее смертью еще более обострились. Отец должен был отказаться от сына, чтобы сохранить ему наследство: таково было требование бабушки. Лермонтов любил и бабушку и отца. Оставшись на попечении бабушки, благодарный ей за ее любовь к нему, он не мог, однако, не думать об от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lermontova_m_m"/>
          <p:cNvPicPr/>
          <p:nvPr/>
        </p:nvPicPr>
        <p:blipFill>
          <a:blip r:embed="rId1"/>
          <a:stretch/>
        </p:blipFill>
        <p:spPr>
          <a:xfrm>
            <a:off x="241200" y="1197000"/>
            <a:ext cx="382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8:24:53Z</dcterms:created>
  <dc:creator>_</dc:creator>
  <dc:description/>
  <dc:language>en-US</dc:language>
  <cp:lastModifiedBy>user</cp:lastModifiedBy>
  <dcterms:modified xsi:type="dcterms:W3CDTF">2013-04-03T04:24:44Z</dcterms:modified>
  <cp:revision>104</cp:revision>
  <dc:subject/>
  <dc:title>М. Ю. Лермонтов</dc:title>
</cp:coreProperties>
</file>