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A83E-1629-475E-B5D8-AEAE5E59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4A08-99FE-4083-8893-899B567E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D2AF-20FE-4716-B379-30D58ECB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0E05-B209-4875-9D0E-99BAA197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B18A-538D-49F2-9868-C590151D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59B2-CC57-4D0B-92EE-5A13D7CA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2B0-B5CE-4B09-AA40-2C21DEC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A293-B256-43C7-A96F-51CA5F7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327A-C70A-453D-9EFE-55D55CC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6D13-225C-4D1C-9865-3CEF790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AC3-7AB9-4510-AE1F-2BB0E3E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D9FF-B5B5-49C5-9B56-6ABE8146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08A6-D244-4342-916B-7A64533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B564-E539-4189-940C-DA729FB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25C-3FEE-40EF-8D40-2B2304AD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2907-50D9-481F-BFB2-58F9F46B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8A56-197F-423E-A245-0579DC44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242E-5966-4910-9AA8-6948278B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9BE0-B5A1-40B4-835B-8176255B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F91C-C15A-4E68-B593-C7F2F89B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ECD9-4C4F-4D2C-844E-2DB5180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29EC-2352-4021-84C8-F81546D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3A1B-061E-42B8-B221-84E714C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544C-3C55-4B59-8582-3BD9A95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7371-4FCD-474D-B7E8-8EEEC158C2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56D6-DF61-4DA5-8965-5C77B9E657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Домашняя библиоте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ы 2 «Г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шевой Ал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511488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У нас дома собрана очень большая библиотека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4030560" cy="3024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4786200" y="17146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е собирала моя бабушка. Она была филологом и очень любила кни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4786200" y="2928960"/>
            <a:ext cx="40356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188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нас также есть многотомные собрания сочинени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929040" cy="29480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4572000" y="1785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статуэтка великого русского писателя Александра Сергеевича Пушк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5715000" y="2928960"/>
            <a:ext cx="24829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460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8289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нашей библиотеке есть древняя книга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376440" cy="45021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4929120" y="57168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й больше 10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143680" y="1071720"/>
            <a:ext cx="3054240" cy="22906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4929120" y="3571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й три тысячи страни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715000" y="4357800"/>
            <a:ext cx="171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 это мои книг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826920" y="4019400"/>
            <a:ext cx="3102120" cy="232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4643280" y="1214280"/>
            <a:ext cx="3784680" cy="50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3:00:15Z</dcterms:created>
  <dc:creator>Admin</dc:creator>
  <dc:description/>
  <dc:language>en-US</dc:language>
  <cp:lastModifiedBy>Админ</cp:lastModifiedBy>
  <dcterms:modified xsi:type="dcterms:W3CDTF">2013-04-03T07:31:23Z</dcterms:modified>
  <cp:revision>13</cp:revision>
  <dc:subject/>
  <dc:title>Домашняя библиотека</dc:title>
</cp:coreProperties>
</file>