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AEAD-3494-48FD-8D68-0200D828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5A54-A2E0-4813-BC24-4B100AB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4EA8-DDB0-4F3F-951A-688CFE4E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5D63-DF7C-45D1-8425-43DCE195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C2DA-82CC-41C5-A4B7-3A97D539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7781-37CA-4E09-A4CE-8B2E656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1858-B847-4530-9F1E-A46D935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B7C1-107A-4EFE-9998-2EE5945D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644C-9145-4D43-86DB-A71F0EF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F15-316C-4E7D-B3C0-25948406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4B2F-B589-403F-AE35-74F00D21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4BDB-F8B0-46C3-9FBF-F125B7E6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6053-EDB6-4E13-9759-3B1AAE3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F3B4-70E6-494D-9ECA-65D8106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1C85-E5F1-4D40-8EAF-9EBA0D3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327-EA5A-4DB5-ACDB-19C90351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EE92-3D19-4134-9A79-0755EB12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BD3E-2FD8-4D0A-A2D7-CD86D6D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14FB5-A13C-4E02-BE5B-CD0BBE5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A2C6-DE08-46E0-8605-C3208D8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F18A-292B-4F04-A5C2-C1F87F55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053E-C227-41F7-8D3A-113C7ED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B05B-1D3B-4CB6-8DB6-C608F343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8F71-0B6F-4115-B84F-42ABFAC1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B26D-3B3C-45BF-93F6-BDD7A5406D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6AA6-4002-4B16-B1E3-4C2F4B5388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Домашняя библиоте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ы 2 «Г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БОУ СОШ №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шевой Ал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511488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У нас дома собрана очень большая библиотека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4030560" cy="3024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4786200" y="17146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е собирала моя бабушка. Она была филологом и очень любила кни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4786200" y="2928960"/>
            <a:ext cx="40356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7188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нас также есть многотомные собрания сочинений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929040" cy="29480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5"/>
          <p:cNvSpPr/>
          <p:nvPr/>
        </p:nvSpPr>
        <p:spPr>
          <a:xfrm>
            <a:off x="4572000" y="1785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статуэтка великого русского писателя Александра Сергеевича Пушк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5715000" y="2928960"/>
            <a:ext cx="24829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460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8289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 нашей библиотеке есть древняя книга.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376440" cy="45021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5"/>
          <p:cNvSpPr/>
          <p:nvPr/>
        </p:nvSpPr>
        <p:spPr>
          <a:xfrm>
            <a:off x="4929120" y="57168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й больше 10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5143680" y="1071720"/>
            <a:ext cx="3054240" cy="22906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4929120" y="3571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ей три тысячи страни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5715000" y="4357800"/>
            <a:ext cx="171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 это мои книг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826920" y="4019400"/>
            <a:ext cx="3102120" cy="2327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4643280" y="1214280"/>
            <a:ext cx="3784680" cy="50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8T13:00:15Z</dcterms:created>
  <dc:creator>Admin</dc:creator>
  <dc:description/>
  <dc:language>en-US</dc:language>
  <cp:lastModifiedBy>Админ</cp:lastModifiedBy>
  <dcterms:modified xsi:type="dcterms:W3CDTF">2013-04-03T07:31:23Z</dcterms:modified>
  <cp:revision>13</cp:revision>
  <dc:subject/>
  <dc:title>Домашняя библиотека</dc:title>
</cp:coreProperties>
</file>