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F51A-0F29-4645-AF6D-E7021F13C3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0818-21D4-4E90-A233-DA0AEA3534DC}" type="slidenum"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61B-78AD-40C6-AC80-6788730C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0A5-0F00-462D-BCB0-94163A67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475-3DB4-4104-8F9F-CFB8818D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FC1C-B9C6-4988-9F1E-92D49CB7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BD32-0A79-4B66-98E4-E876D48A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BD22-60C7-4192-A84D-A02D809D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EE10-50E3-4D1B-86E4-C96E3C81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2775-92A6-45AF-ACBC-855CAD95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18C9-D2B2-4D27-968A-98D469B1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8E7C-2D8D-44C7-B4A3-66A48968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98C9-E770-4949-88C1-2F8219C2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1A5-ED8F-4070-9414-0B0F24EC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2027-3AD8-47AA-8E11-5D6B9667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0FDA-6B65-439D-913E-4ED9FC79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5724-C068-445F-9010-177CFFBB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A726-8D58-4470-865F-8FA656C3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BB01-6AC8-4828-92F9-A7BE4CB8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2C13F-FCF5-4086-8FFD-79492062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E520F-72AF-4B05-B89A-921D3B08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44083-2FF9-4F53-A7F4-395B7821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3DBA6-3DF3-4919-A7C0-A1476BC1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AB45A-44C2-409E-BD2A-6E5AA9E2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244-3D91-4D9E-9A7D-33FB6A68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74196-B6CF-4E5A-8F55-05F07F96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5525C-4547-4CB7-9E70-8CA57E89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A5B0A-2134-43A9-984E-F53BE2E0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D3983-38CA-4EB6-8BBB-80121A7F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CF1C9-2292-4CAF-885C-B6F5B0AC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48EF2-C2C1-4929-B6A2-F606BF66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22A8F-A95F-4B49-AC61-0B1BBD6F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4BE22-EF97-4F26-B5D8-E9A6FFC2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E8468-790C-4BCC-BF09-CE88933B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E0B7B-5639-4545-9356-262237BF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7AA7-5673-4319-91AD-9854B46B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AC0EB-DAD3-437B-9122-6CFC76FB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4B19D-6DAC-4EA7-9473-7BD5DA4B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E908-7F0A-46E3-BBE1-8C4409E0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FC021-4A6A-44B5-B255-B3A7E795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04717-22B7-40FA-9B09-498B0517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06694-F1B6-4A25-8383-1A137D04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571D3-4A78-4501-A7BF-DFE1F8A3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6D94C-1EB0-40B5-A0A7-48F78300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A3384-39CC-49C1-AEEC-8B5EC4F8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6E7E3-42A7-4047-B3C1-335F6426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E825-59E9-484F-868C-445821FB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B0EFC-7339-49FA-A22F-C5985A4A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A31F8-8981-49E7-A190-1615C5F8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AA88B-33D9-4ED5-9926-714FAF0D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31DD9-DFA1-4F4E-90A8-5B685084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E6DCC-DA8F-4D4C-BDBC-A99DC158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6FDF6-DED4-4621-9399-20317AC7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02E59-D265-4F06-BE73-153D0754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B1CAB-2F44-45B5-B76C-6A3E3BF2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B4510-8006-44D7-8568-C473A430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10803-6B0A-4FAA-94CF-64F0D8E4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55F1-E22E-43DA-993B-D9B9C719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D916C-6913-421D-9582-94242A12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D85EC-3259-40BE-B71A-0B705719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70E03-B653-446B-A168-84088106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BDC44-5A50-444F-805C-0FDB3C2D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AF023-0E08-40BD-95A4-43064812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621FE-A9CA-41B0-BF83-3BAC4CA4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AC4AD-0C6D-4EF9-A965-655102F9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D9A98-17E5-4DD5-A5A4-02521A9E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DCFCC-EE8D-4570-AA05-0E2209DB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F43CA-E39B-4F80-ACC6-EF8AC6DE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1516-D88F-492E-B880-06B96640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8AF84-DD13-404A-9AE2-3A3820D1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0AA10-3152-4B14-B6B2-28584038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E2433-908E-4134-AF1F-B1477D71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D3A-2C0C-4089-8885-A0C7BA0F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C58D-663A-44A8-A767-CA7F0AB5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88E2-F3AD-4C79-9678-DE4764F8B51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6298-4FE3-4219-85D8-067CED17245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grpSp>
        <p:nvGrpSpPr>
          <p:cNvPr id="8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8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8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8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8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8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8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9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9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grpSp>
          <p:nvGrpSpPr>
            <p:cNvPr id="9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9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9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</p:grpSp>
          <p:sp>
            <p:nvSpPr>
              <p:cNvPr id="9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sp>
            <p:nvSpPr>
              <p:cNvPr id="9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sp>
            <p:nvSpPr>
              <p:cNvPr id="9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grpSp>
            <p:nvGrpSpPr>
              <p:cNvPr id="10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0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0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0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0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0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0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0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</p:grpSp>
        </p:grpSp>
      </p:grpSp>
      <p:grpSp>
        <p:nvGrpSpPr>
          <p:cNvPr id="10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1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</p:grpSp>
      <p:grpSp>
        <p:nvGrpSpPr>
          <p:cNvPr id="11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1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1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grpSp>
            <p:nvGrpSpPr>
              <p:cNvPr id="11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1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17" name="Freeform 45"/>
                <p:cNvSpPr/>
                <p:nvPr/>
              </p:nvSpPr>
              <p:spPr>
                <a:xfrm rot="18427200">
                  <a:off x="8031240" y="514800"/>
                  <a:ext cx="4312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18" name="Freeform 46"/>
                <p:cNvSpPr/>
                <p:nvPr/>
              </p:nvSpPr>
              <p:spPr>
                <a:xfrm rot="18427200">
                  <a:off x="7727760" y="2772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1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20" name="Freeform 48"/>
                <p:cNvSpPr/>
                <p:nvPr/>
              </p:nvSpPr>
              <p:spPr>
                <a:xfrm rot="18427200">
                  <a:off x="8427600" y="141804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21" name="Freeform 49"/>
                <p:cNvSpPr/>
                <p:nvPr/>
              </p:nvSpPr>
              <p:spPr>
                <a:xfrm rot="18427200">
                  <a:off x="8338320" y="127260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2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23" name="Freeform 51"/>
                <p:cNvSpPr/>
                <p:nvPr/>
              </p:nvSpPr>
              <p:spPr>
                <a:xfrm rot="18427200">
                  <a:off x="7871400" y="207360"/>
                  <a:ext cx="28692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</p:grpSp>
        </p:grpSp>
        <p:sp>
          <p:nvSpPr>
            <p:cNvPr id="12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62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63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6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6870-F6C4-467A-80B5-0CAAC2F5F88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grpSp>
        <p:nvGrpSpPr>
          <p:cNvPr id="20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0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0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1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1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1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1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1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2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2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3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3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3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3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3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3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3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3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3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</p:grpSp>
      <p:sp>
        <p:nvSpPr>
          <p:cNvPr id="23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BC95-B179-4367-8D31-D7EF8CB7ED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grpSp>
        <p:nvGrpSpPr>
          <p:cNvPr id="28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8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8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8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grpSp>
          <p:nvGrpSpPr>
            <p:cNvPr id="28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8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sp>
            <p:nvSpPr>
              <p:cNvPr id="28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sp>
            <p:nvSpPr>
              <p:cNvPr id="28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sp>
            <p:nvSpPr>
              <p:cNvPr id="29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sp>
            <p:nvSpPr>
              <p:cNvPr id="29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</p:grpSp>
      </p:grpSp>
      <p:grpSp>
        <p:nvGrpSpPr>
          <p:cNvPr id="292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93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94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95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grpSp>
          <p:nvGrpSpPr>
            <p:cNvPr id="296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97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sp>
            <p:nvSpPr>
              <p:cNvPr id="298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sp>
            <p:nvSpPr>
              <p:cNvPr id="299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sp>
            <p:nvSpPr>
              <p:cNvPr id="300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sp>
            <p:nvSpPr>
              <p:cNvPr id="301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</p:grpSp>
      </p:grpSp>
      <p:sp>
        <p:nvSpPr>
          <p:cNvPr id="30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5553-48DF-4739-A599-06FD2E268E4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3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3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C6C3-A4DE-4A13-B32D-A09EEC79DDC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55640" y="249192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ЕЗЕНТАЦИЯ К ОТКРЫТОМУ УРОКУ 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ПО МАТЕМАТИКЕ 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 6 КЛАССЕ ПО ТЕМЕ: «Нахождение дроби от числа и числа по его дроби».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205092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читель: Чижов Г. Ф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Сведения госавтоинспек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33"/>
                </a:solidFill>
                <a:latin typeface="Arial"/>
              </a:rPr>
              <a:t>За 11 месяцев по Московской области произошло </a:t>
            </a:r>
            <a:r>
              <a:rPr b="1" lang="ru-RU" sz="3000" spc="-1" strike="noStrike">
                <a:solidFill>
                  <a:srgbClr val="00cc00"/>
                </a:solidFill>
                <a:latin typeface="Arial"/>
              </a:rPr>
              <a:t>12827 ДТ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33"/>
                </a:solidFill>
                <a:latin typeface="Arial"/>
              </a:rPr>
              <a:t>Погибло – 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2742 </a:t>
            </a:r>
            <a:r>
              <a:rPr b="1" lang="ru-RU" sz="3000" spc="-1" strike="noStrike">
                <a:solidFill>
                  <a:srgbClr val="996633"/>
                </a:solidFill>
                <a:latin typeface="Arial"/>
              </a:rPr>
              <a:t> человек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1" lang="ru-RU" sz="3000" spc="-1" strike="noStrike">
                <a:solidFill>
                  <a:srgbClr val="996633"/>
                </a:solidFill>
                <a:latin typeface="Arial"/>
              </a:rPr>
              <a:t>из них – </a:t>
            </a:r>
            <a:r>
              <a:rPr b="1" lang="ru-RU" sz="3000" spc="-1" strike="noStrike" u="sng">
                <a:solidFill>
                  <a:srgbClr val="0000ff"/>
                </a:solidFill>
                <a:uFillTx/>
                <a:latin typeface="Arial"/>
              </a:rPr>
              <a:t>75 детей</a:t>
            </a:r>
            <a:r>
              <a:rPr b="1" lang="ru-RU" sz="3000" spc="-1" strike="noStrike">
                <a:solidFill>
                  <a:srgbClr val="996633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33"/>
                </a:solidFill>
                <a:latin typeface="Arial"/>
              </a:rPr>
              <a:t>Ранено </a:t>
            </a: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15349 </a:t>
            </a:r>
            <a:r>
              <a:rPr b="1" lang="ru-RU" sz="3000" spc="-1" strike="noStrike">
                <a:solidFill>
                  <a:srgbClr val="996633"/>
                </a:solidFill>
                <a:latin typeface="Arial"/>
              </a:rPr>
              <a:t>человек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1" lang="ru-RU" sz="3000" spc="-1" strike="noStrike">
                <a:solidFill>
                  <a:srgbClr val="996633"/>
                </a:solidFill>
                <a:latin typeface="Arial"/>
              </a:rPr>
              <a:t>из них – </a:t>
            </a:r>
            <a:r>
              <a:rPr b="1" lang="ru-RU" sz="3000" spc="-1" strike="noStrike" u="sng">
                <a:solidFill>
                  <a:srgbClr val="ff3300"/>
                </a:solidFill>
                <a:uFillTx/>
                <a:latin typeface="Arial"/>
              </a:rPr>
              <a:t>1285 детей</a:t>
            </a: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796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1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1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5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5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325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497664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погибло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49240" y="3049560"/>
            <a:ext cx="4586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Arial"/>
              </a:rPr>
              <a:t>75 детей</a:t>
            </a:r>
            <a:r>
              <a:rPr b="0" lang="ru-RU" sz="5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30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4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" dur="5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e9ce8"/>
                </a:solidFill>
                <a:latin typeface="Arial"/>
              </a:rPr>
              <a:t>Задача №1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Из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опрошенных школьников не выполня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правила дорожного движения           учащихся 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не  всегда  соблюдают           всех учащихс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Сколько детей выполняют ПДД, если он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составляют остальную часть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5"/>
              <p:cNvSpPr txBox="1"/>
              <p:nvPr/>
            </p:nvSpPr>
            <p:spPr>
              <a:xfrm>
                <a:off x="5724360" y="2565360"/>
                <a:ext cx="630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6"/>
              <p:cNvSpPr txBox="1"/>
              <p:nvPr/>
            </p:nvSpPr>
            <p:spPr>
              <a:xfrm>
                <a:off x="4643280" y="3429000"/>
                <a:ext cx="432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Text Box 10"/>
          <p:cNvSpPr/>
          <p:nvPr/>
        </p:nvSpPr>
        <p:spPr>
          <a:xfrm>
            <a:off x="4717080" y="6093000"/>
            <a:ext cx="36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ОСТАВИТЬ КРАТКУЮ ЗАПИСЬ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3000" fill="hold"/>
                                        <p:tgtEl>
                                          <p:spTgt spid="4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3000" fill="hold"/>
                                        <p:tgtEl>
                                          <p:spTgt spid="4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00cc00"/>
                </a:solidFill>
                <a:latin typeface="Arial"/>
              </a:rPr>
              <a:t>КРАТКАЯ ЗАПИС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11280" y="1719360"/>
            <a:ext cx="4475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Object 6"/>
          <p:cNvGraphicFramePr/>
          <p:nvPr/>
        </p:nvGraphicFramePr>
        <p:xfrm>
          <a:off x="2124000" y="2421000"/>
          <a:ext cx="410544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421000"/>
                    <a:ext cx="41054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Line 7"/>
          <p:cNvSpPr/>
          <p:nvPr/>
        </p:nvSpPr>
        <p:spPr>
          <a:xfrm>
            <a:off x="4932360" y="285264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1" name="Line 8"/>
          <p:cNvSpPr/>
          <p:nvPr/>
        </p:nvSpPr>
        <p:spPr>
          <a:xfrm>
            <a:off x="4140360" y="364500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2886480" y="6093000"/>
            <a:ext cx="37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54 ученика выполняют   ПДД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3" name="Text Box 16"/>
          <p:cNvSpPr/>
          <p:nvPr/>
        </p:nvSpPr>
        <p:spPr>
          <a:xfrm>
            <a:off x="2322360" y="566100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 способ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4" name="Text Box 17"/>
          <p:cNvSpPr/>
          <p:nvPr/>
        </p:nvSpPr>
        <p:spPr>
          <a:xfrm>
            <a:off x="5706720" y="566100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2 способ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5" name="Text Box 18"/>
          <p:cNvSpPr/>
          <p:nvPr/>
        </p:nvSpPr>
        <p:spPr>
          <a:xfrm>
            <a:off x="1985040" y="508464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ешите задачу №1 двумя способами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3300"/>
                </a:solidFill>
                <a:latin typeface="Arial"/>
              </a:rPr>
              <a:t>Задача № 2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Из 120 опрошенных школьников не выполня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правила дорожного движения           учащихся 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не  всегда  соблюдают           оставших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учащихс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008000"/>
                </a:solidFill>
                <a:latin typeface="Arial"/>
              </a:rPr>
              <a:t>Сколько детей выполняют ПДД, если он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008000"/>
                </a:solidFill>
                <a:latin typeface="Arial"/>
              </a:rPr>
              <a:t>составляют остальную часть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5"/>
              <p:cNvSpPr txBox="1"/>
              <p:nvPr/>
            </p:nvSpPr>
            <p:spPr>
              <a:xfrm>
                <a:off x="5724360" y="2565360"/>
                <a:ext cx="630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6"/>
              <p:cNvSpPr txBox="1"/>
              <p:nvPr/>
            </p:nvSpPr>
            <p:spPr>
              <a:xfrm>
                <a:off x="4643280" y="3213000"/>
                <a:ext cx="4320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e9ce8"/>
                </a:solidFill>
                <a:latin typeface="Arial"/>
              </a:rPr>
              <a:t>Задача №1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Из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опрошенных школьников не выполня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правила дорожного движения           учащихся 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не  всегда  соблюда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Сколько детей выполняют ПДД, если он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составляют остальную часть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5"/>
              <p:cNvSpPr txBox="1"/>
              <p:nvPr/>
            </p:nvSpPr>
            <p:spPr>
              <a:xfrm>
                <a:off x="5724360" y="2492280"/>
                <a:ext cx="6303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6"/>
              <p:cNvSpPr txBox="1"/>
              <p:nvPr/>
            </p:nvSpPr>
            <p:spPr>
              <a:xfrm>
                <a:off x="4643280" y="3429000"/>
                <a:ext cx="432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Text Box 8"/>
          <p:cNvSpPr/>
          <p:nvPr/>
        </p:nvSpPr>
        <p:spPr>
          <a:xfrm>
            <a:off x="500364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57" name="Text Box 9"/>
          <p:cNvSpPr/>
          <p:nvPr/>
        </p:nvSpPr>
        <p:spPr>
          <a:xfrm>
            <a:off x="5292720" y="357336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cc00"/>
                </a:solidFill>
                <a:uFillTx/>
                <a:latin typeface="Microsoft Sans Serif"/>
              </a:rPr>
              <a:t>всех    учащихся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58" name="Text Box 10"/>
          <p:cNvSpPr/>
          <p:nvPr/>
        </p:nvSpPr>
        <p:spPr>
          <a:xfrm>
            <a:off x="5134320" y="357336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cc00"/>
                </a:solidFill>
                <a:uFillTx/>
                <a:latin typeface="Microsoft Sans Serif"/>
              </a:rPr>
              <a:t>оставшихся учащихся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59" name="Rectangle 11"/>
          <p:cNvSpPr/>
          <p:nvPr/>
        </p:nvSpPr>
        <p:spPr>
          <a:xfrm>
            <a:off x="673200" y="338040"/>
            <a:ext cx="754380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3300"/>
                </a:solidFill>
                <a:latin typeface="Arial"/>
              </a:rPr>
              <a:t>Задача № 2.</a:t>
            </a:r>
            <a:endParaRPr b="0" lang="en-US" sz="39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60" name="Text Box 12"/>
          <p:cNvSpPr/>
          <p:nvPr/>
        </p:nvSpPr>
        <p:spPr>
          <a:xfrm>
            <a:off x="4645440" y="6021360"/>
            <a:ext cx="36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ОСТАВИТЬ КРАТКУЮ ЗАПИСЬ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4" dur="30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30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126e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00cc00"/>
                </a:solidFill>
                <a:latin typeface="Arial"/>
              </a:rPr>
              <a:t>КРАТКАЯ ЗАПИС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211280" y="1719360"/>
            <a:ext cx="4475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ча №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4" name="Object 20"/>
          <p:cNvGraphicFramePr/>
          <p:nvPr/>
        </p:nvGraphicFramePr>
        <p:xfrm>
          <a:off x="324000" y="2727360"/>
          <a:ext cx="410508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27360"/>
                    <a:ext cx="41050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Line 26"/>
          <p:cNvSpPr/>
          <p:nvPr/>
        </p:nvSpPr>
        <p:spPr>
          <a:xfrm>
            <a:off x="3132000" y="314172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67" name="Line 27"/>
          <p:cNvSpPr/>
          <p:nvPr/>
        </p:nvSpPr>
        <p:spPr>
          <a:xfrm>
            <a:off x="2268360" y="4005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graphicFrame>
        <p:nvGraphicFramePr>
          <p:cNvPr id="468" name="Object 33"/>
          <p:cNvGraphicFramePr/>
          <p:nvPr/>
        </p:nvGraphicFramePr>
        <p:xfrm>
          <a:off x="4500720" y="2797200"/>
          <a:ext cx="4176720" cy="21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797200"/>
                    <a:ext cx="417672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Line 36"/>
          <p:cNvSpPr/>
          <p:nvPr/>
        </p:nvSpPr>
        <p:spPr>
          <a:xfrm>
            <a:off x="7380360" y="314172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1" name="Line 37"/>
          <p:cNvSpPr/>
          <p:nvPr/>
        </p:nvSpPr>
        <p:spPr>
          <a:xfrm>
            <a:off x="6443640" y="4005360"/>
            <a:ext cx="792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2" name="Line 40"/>
          <p:cNvSpPr/>
          <p:nvPr/>
        </p:nvSpPr>
        <p:spPr>
          <a:xfrm>
            <a:off x="4427640" y="1484280"/>
            <a:ext cx="0" cy="537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3" name="Text Box 41"/>
          <p:cNvSpPr/>
          <p:nvPr/>
        </p:nvSpPr>
        <p:spPr>
          <a:xfrm>
            <a:off x="295560" y="5661000"/>
            <a:ext cx="37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54 ученика выполняют   ПДД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4" name="Text Box 42"/>
          <p:cNvSpPr/>
          <p:nvPr/>
        </p:nvSpPr>
        <p:spPr>
          <a:xfrm>
            <a:off x="4468320" y="5661000"/>
            <a:ext cx="37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63 ученика выполняют   ПДД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5" name="AutoShape 47"/>
          <p:cNvSpPr/>
          <p:nvPr/>
        </p:nvSpPr>
        <p:spPr>
          <a:xfrm>
            <a:off x="8244000" y="5950080"/>
            <a:ext cx="663480" cy="626760"/>
          </a:xfrm>
          <a:custGeom>
            <a:avLst/>
            <a:gdLst>
              <a:gd name="textAreaLeft" fmla="*/ 273240 w 663480"/>
              <a:gd name="textAreaRight" fmla="*/ 390240 w 663480"/>
              <a:gd name="textAreaTop" fmla="*/ 258120 h 626760"/>
              <a:gd name="textAreaBottom" fmla="*/ 368640 h 626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6" name="Text Box 48"/>
          <p:cNvSpPr/>
          <p:nvPr/>
        </p:nvSpPr>
        <p:spPr>
          <a:xfrm>
            <a:off x="6012720" y="524664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7" name="Text Box 50"/>
          <p:cNvSpPr/>
          <p:nvPr/>
        </p:nvSpPr>
        <p:spPr>
          <a:xfrm>
            <a:off x="522000" y="6308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 способ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8" name="Text Box 51"/>
          <p:cNvSpPr/>
          <p:nvPr/>
        </p:nvSpPr>
        <p:spPr>
          <a:xfrm>
            <a:off x="2538360" y="6308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2 способ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9" dur="2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1763640" y="206064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Домашнее  задание: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755640" y="3213000"/>
            <a:ext cx="741672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Georgia"/>
              </a:rPr>
              <a:t>Решить  задачу  №</a:t>
            </a:r>
            <a:r>
              <a:rPr b="1" i="1" lang="ru-RU" sz="5400" spc="-1" strike="noStrike">
                <a:solidFill>
                  <a:srgbClr val="cc0000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Microsoft Sans Serif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Georgia"/>
              </a:rPr>
              <a:t>другим способом  </a:t>
            </a:r>
            <a:endParaRPr b="0" lang="en-US" sz="40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6872400" cy="14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ff"/>
                </a:solidFill>
                <a:latin typeface="Arial"/>
              </a:rPr>
              <a:t>Нарушения, которые чаще всего допускают дет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4387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Переход улицы перед близко движущимся транспортом – 27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90752"/>
                </a:solidFill>
                <a:latin typeface="Arial"/>
              </a:rPr>
              <a:t>Переход улицы на красный сигнал светофора – 27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6633"/>
                </a:solidFill>
                <a:latin typeface="Arial"/>
              </a:rPr>
              <a:t>Невнимательность при переходе улицы – 17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Неожиданный выход из-за транспортных средств - 9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7777"/>
                </a:solidFill>
                <a:latin typeface="Arial"/>
              </a:rPr>
              <a:t>Игры на проезжей части-2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Object 6"/>
          <p:cNvGraphicFramePr/>
          <p:nvPr/>
        </p:nvGraphicFramePr>
        <p:xfrm>
          <a:off x="4170240" y="1557360"/>
          <a:ext cx="499284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0240" y="1557360"/>
                    <a:ext cx="49928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49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444" nodeType="afterEffect" fill="hold" presetClass="entr" presetID="49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451" nodeType="afterEffect" fill="hold" presetClass="entr" presetID="49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458" nodeType="afterEffect" fill="hold" presetClass="entr" presetID="49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65" nodeType="afterEffect" fill="hold" presetClass="entr" presetID="49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3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7543800" cy="352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Arial"/>
              </a:rPr>
              <a:t>РЕШЕНИЕ ЗАДАЧ</a:t>
            </a:r>
            <a:br>
              <a:rPr sz="4000"/>
            </a:br>
            <a:br>
              <a:rPr sz="4300"/>
            </a:br>
            <a:r>
              <a:rPr b="1" i="1" lang="ru-RU" sz="4300" spc="-1" strike="noStrike">
                <a:solidFill>
                  <a:srgbClr val="ff3300"/>
                </a:solidFill>
                <a:latin typeface="Arial"/>
              </a:rPr>
              <a:t>НАХОЖДЕНИЕ</a:t>
            </a:r>
            <a:br>
              <a:rPr sz="4300"/>
            </a:br>
            <a:r>
              <a:rPr b="1" i="1" lang="ru-RU" sz="4300" spc="-1" strike="noStrike">
                <a:solidFill>
                  <a:srgbClr val="ff3300"/>
                </a:solidFill>
                <a:latin typeface="Arial"/>
              </a:rPr>
              <a:t> ДРОБИ ОТ ЧИСЛА </a:t>
            </a:r>
            <a:br>
              <a:rPr sz="4300"/>
            </a:br>
            <a:r>
              <a:rPr b="1" i="1" lang="ru-RU" sz="4300" spc="-1" strike="noStrike">
                <a:solidFill>
                  <a:srgbClr val="ff3300"/>
                </a:solidFill>
                <a:latin typeface="Arial"/>
              </a:rPr>
              <a:t>И ЧИСЛА ПО ЕГО ДРОБИ.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0920" y="3068280"/>
            <a:ext cx="754380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i="1" lang="ru-RU" sz="4800" spc="-1" strike="noStrike">
                <a:solidFill>
                  <a:srgbClr val="cc0066"/>
                </a:solidFill>
                <a:latin typeface="Comic Sans MS"/>
              </a:rPr>
              <a:t>«</a:t>
            </a:r>
            <a:r>
              <a:rPr b="1" i="1" lang="ru-RU" sz="4800" spc="-1" strike="noStrike">
                <a:solidFill>
                  <a:srgbClr val="cc0066"/>
                </a:solidFill>
                <a:latin typeface="Comic Sans MS"/>
              </a:rPr>
              <a:t>НАХОЖДЕНИЕ</a:t>
            </a:r>
            <a:br>
              <a:rPr sz="4800"/>
            </a:br>
            <a:r>
              <a:rPr b="0" i="1" lang="ru-RU" sz="4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i="1" lang="ru-RU" sz="4800" spc="-1" strike="noStrike">
                <a:solidFill>
                  <a:srgbClr val="cc0066"/>
                </a:solidFill>
                <a:latin typeface="Comic Sans MS"/>
              </a:rPr>
              <a:t>ДРОБИ ОТ ЧИСЛА </a:t>
            </a:r>
            <a:br>
              <a:rPr sz="4800"/>
            </a:br>
            <a:r>
              <a:rPr b="1" i="1" lang="ru-RU" sz="4800" spc="-1" strike="noStrike">
                <a:solidFill>
                  <a:srgbClr val="cc0066"/>
                </a:solidFill>
                <a:latin typeface="Comic Sans MS"/>
              </a:rPr>
              <a:t>И ЧИСЛА ПО ЕГО ДРОБИ</a:t>
            </a:r>
            <a:r>
              <a:rPr b="0" i="1" lang="ru-RU" sz="4800" spc="-1" strike="noStrike">
                <a:solidFill>
                  <a:srgbClr val="cc0066"/>
                </a:solidFill>
                <a:latin typeface="Comic Sans MS"/>
              </a:rPr>
              <a:t>»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WordArt 5"/>
          <p:cNvSpPr txBox="1"/>
          <p:nvPr/>
        </p:nvSpPr>
        <p:spPr>
          <a:xfrm>
            <a:off x="928800" y="714240"/>
            <a:ext cx="5762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шение  зада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e9ce8"/>
                </a:solidFill>
                <a:latin typeface="Arial"/>
              </a:rPr>
              <a:t>Задача №1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Из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опрошенных школьников не выполня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правила дорожного движения           учащихся 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не  всегда  соблюдают           всех учащихс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Сколько детей выполняют ПДД, если он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составляют остальную часть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5"/>
              <p:cNvSpPr txBox="1"/>
              <p:nvPr/>
            </p:nvSpPr>
            <p:spPr>
              <a:xfrm>
                <a:off x="5724360" y="2565360"/>
                <a:ext cx="630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6"/>
              <p:cNvSpPr txBox="1"/>
              <p:nvPr/>
            </p:nvSpPr>
            <p:spPr>
              <a:xfrm>
                <a:off x="4643280" y="3429000"/>
                <a:ext cx="432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1" name="Text Box 8"/>
          <p:cNvSpPr/>
          <p:nvPr/>
        </p:nvSpPr>
        <p:spPr>
          <a:xfrm>
            <a:off x="817560" y="5589720"/>
            <a:ext cx="49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</a:rPr>
              <a:t>Ответ</a:t>
            </a:r>
            <a:r>
              <a:rPr b="1" lang="ru-RU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</a:rPr>
              <a:t>54 ученика выполняют   ПДД</a:t>
            </a:r>
            <a:r>
              <a:rPr b="0" lang="ru-RU" sz="24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652680" y="206280"/>
            <a:ext cx="47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оставить к задаче №1 обратную задачу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e9ce8"/>
                </a:solidFill>
                <a:latin typeface="Arial"/>
              </a:rPr>
              <a:t>Задача №1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Из 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        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опрошенных школьников не выполня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правила дорожного движения           учащихся 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не  всегда  соблюдают           всех учащихс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Сколько детей выполняют ПДД, если он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составляют остальную часть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5"/>
              <p:cNvSpPr txBox="1"/>
              <p:nvPr/>
            </p:nvSpPr>
            <p:spPr>
              <a:xfrm>
                <a:off x="5724360" y="2565360"/>
                <a:ext cx="630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6"/>
              <p:cNvSpPr txBox="1"/>
              <p:nvPr/>
            </p:nvSpPr>
            <p:spPr>
              <a:xfrm>
                <a:off x="4643280" y="3429000"/>
                <a:ext cx="432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8" name="Text Box 8"/>
          <p:cNvSpPr/>
          <p:nvPr/>
        </p:nvSpPr>
        <p:spPr>
          <a:xfrm>
            <a:off x="890640" y="5589720"/>
            <a:ext cx="49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</a:rPr>
              <a:t>Ответ</a:t>
            </a:r>
            <a:r>
              <a:rPr b="1" lang="ru-RU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</a:rPr>
              <a:t>54 ученика выполняют   ПДД</a:t>
            </a:r>
            <a:r>
              <a:rPr b="0" lang="ru-RU" sz="24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99" name="Text Box 9"/>
          <p:cNvSpPr/>
          <p:nvPr/>
        </p:nvSpPr>
        <p:spPr>
          <a:xfrm>
            <a:off x="890640" y="5661000"/>
            <a:ext cx="4900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</a:rPr>
              <a:t>54 ученика выполняют   ПДД</a:t>
            </a:r>
            <a:r>
              <a:rPr b="0" lang="ru-RU" sz="24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755640" y="5300640"/>
            <a:ext cx="51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Сколько детей было опрошено?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01" name="Rectangle 13"/>
          <p:cNvSpPr/>
          <p:nvPr/>
        </p:nvSpPr>
        <p:spPr>
          <a:xfrm>
            <a:off x="61128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e9ce8"/>
                </a:solidFill>
                <a:latin typeface="Arial"/>
              </a:rPr>
              <a:t>Обратная  задача</a:t>
            </a:r>
            <a:endParaRPr b="0" lang="en-US" sz="39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02" name="Text Box 14"/>
          <p:cNvSpPr/>
          <p:nvPr/>
        </p:nvSpPr>
        <p:spPr>
          <a:xfrm>
            <a:off x="2321280" y="6254640"/>
            <a:ext cx="36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ОСТАВИТЬ КРАТКУЮ ЗАПИСЬ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3" dur="5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6" dur="5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77 -0.02406 L -0.02275 -0.22346 E">
                                      <p:cBhvr>
                                        <p:cTn id="506" dur="20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2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6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1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00cc00"/>
                </a:solidFill>
                <a:latin typeface="Arial"/>
              </a:rPr>
              <a:t>КРАТКАЯ ЗАПИС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211280" y="1719360"/>
            <a:ext cx="4475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ратная 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Object 6"/>
          <p:cNvGraphicFramePr/>
          <p:nvPr/>
        </p:nvGraphicFramePr>
        <p:xfrm>
          <a:off x="324000" y="2749680"/>
          <a:ext cx="410508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49680"/>
                    <a:ext cx="410508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Line 7"/>
          <p:cNvSpPr/>
          <p:nvPr/>
        </p:nvSpPr>
        <p:spPr>
          <a:xfrm>
            <a:off x="3132000" y="314172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2268360" y="4005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graphicFrame>
        <p:nvGraphicFramePr>
          <p:cNvPr id="510" name="Object 9"/>
          <p:cNvGraphicFramePr/>
          <p:nvPr/>
        </p:nvGraphicFramePr>
        <p:xfrm>
          <a:off x="4716360" y="2687760"/>
          <a:ext cx="3413160" cy="23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687760"/>
                    <a:ext cx="3413160" cy="23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Line 10"/>
          <p:cNvSpPr/>
          <p:nvPr/>
        </p:nvSpPr>
        <p:spPr>
          <a:xfrm>
            <a:off x="7380360" y="314172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13" name="Line 11"/>
          <p:cNvSpPr/>
          <p:nvPr/>
        </p:nvSpPr>
        <p:spPr>
          <a:xfrm>
            <a:off x="6443640" y="3789360"/>
            <a:ext cx="1152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14" name="Line 12"/>
          <p:cNvSpPr/>
          <p:nvPr/>
        </p:nvSpPr>
        <p:spPr>
          <a:xfrm>
            <a:off x="4427640" y="1484280"/>
            <a:ext cx="0" cy="537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15" name="Text Box 13"/>
          <p:cNvSpPr/>
          <p:nvPr/>
        </p:nvSpPr>
        <p:spPr>
          <a:xfrm>
            <a:off x="295560" y="5661000"/>
            <a:ext cx="37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54 ученика выполняют   ПДД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16" name="Text Box 19"/>
          <p:cNvSpPr/>
          <p:nvPr/>
        </p:nvSpPr>
        <p:spPr>
          <a:xfrm>
            <a:off x="4477320" y="5734080"/>
            <a:ext cx="31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120 учеников опрошено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7246440" y="5084640"/>
            <a:ext cx="159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1d06"/>
                </a:solidFill>
                <a:latin typeface="Microsoft Sans Serif"/>
              </a:rPr>
              <a:t>КАК МОЖНО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1d06"/>
                </a:solidFill>
                <a:latin typeface="Microsoft Sans Serif"/>
              </a:rPr>
              <a:t>РЕШИТЬ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1d06"/>
                </a:solidFill>
                <a:latin typeface="Microsoft Sans Serif"/>
              </a:rPr>
              <a:t>ЗАДАЧУ?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5" dur="2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3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Object 7"/>
          <p:cNvGraphicFramePr/>
          <p:nvPr/>
        </p:nvGraphicFramePr>
        <p:xfrm>
          <a:off x="3564000" y="3573360"/>
          <a:ext cx="1668240" cy="7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3573360"/>
                    <a:ext cx="166824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6560" y="2133360"/>
            <a:ext cx="7975800" cy="33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Придумайте  задачу заданного типа, используя данные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и решите ее любым способом.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1" name="WordArt 3"/>
          <p:cNvSpPr txBox="1"/>
          <p:nvPr/>
        </p:nvSpPr>
        <p:spPr>
          <a:xfrm>
            <a:off x="2124000" y="549360"/>
            <a:ext cx="45338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ние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2" name="AutoShape 4"/>
          <p:cNvSpPr/>
          <p:nvPr/>
        </p:nvSpPr>
        <p:spPr>
          <a:xfrm>
            <a:off x="8675640" y="5950080"/>
            <a:ext cx="468360" cy="57600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000"/>
              <a:gd name="textAreaBottom" fmla="*/ 545760 h 576000"/>
            </a:gdLst>
            <a:ahLst/>
            <a:rect l="textAreaLeft" t="textAreaTop" r="textAreaRight" b="textAreaBottom"/>
            <a:pathLst>
              <a:path w="21600" h="26560">
                <a:moveTo>
                  <a:pt x="0" y="0"/>
                </a:moveTo>
                <a:lnTo>
                  <a:pt x="21600" y="0"/>
                </a:lnTo>
                <a:lnTo>
                  <a:pt x="21600" y="26560"/>
                </a:lnTo>
                <a:lnTo>
                  <a:pt x="0" y="26560"/>
                </a:lnTo>
                <a:close/>
              </a:path>
              <a:path fill="lightenLess" w="21600" h="265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60">
                <a:moveTo>
                  <a:pt x="21600" y="0"/>
                </a:moveTo>
                <a:lnTo>
                  <a:pt x="21600" y="26560"/>
                </a:lnTo>
                <a:lnTo>
                  <a:pt x="20200" y="25160"/>
                </a:lnTo>
                <a:lnTo>
                  <a:pt x="20200" y="1400"/>
                </a:lnTo>
                <a:close/>
              </a:path>
              <a:path fill="darkenLess" w="21600" h="26560">
                <a:moveTo>
                  <a:pt x="21600" y="26560"/>
                </a:moveTo>
                <a:lnTo>
                  <a:pt x="0" y="26560"/>
                </a:lnTo>
                <a:lnTo>
                  <a:pt x="1400" y="25160"/>
                </a:lnTo>
                <a:lnTo>
                  <a:pt x="20200" y="25160"/>
                </a:lnTo>
                <a:close/>
              </a:path>
              <a:path fill="lighten" w="21600" h="26560">
                <a:moveTo>
                  <a:pt x="0" y="265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60"/>
                </a:lnTo>
                <a:close/>
              </a:path>
              <a:path fill="darken" w="21600" h="26560">
                <a:moveTo>
                  <a:pt x="14299" y="13280"/>
                </a:moveTo>
                <a:lnTo>
                  <a:pt x="3794" y="20287"/>
                </a:lnTo>
                <a:lnTo>
                  <a:pt x="3794" y="6274"/>
                </a:lnTo>
                <a:close/>
              </a:path>
              <a:path fill="darken" w="21600" h="26560">
                <a:moveTo>
                  <a:pt x="16144" y="6274"/>
                </a:moveTo>
                <a:lnTo>
                  <a:pt x="16144" y="20287"/>
                </a:lnTo>
                <a:lnTo>
                  <a:pt x="17806" y="20287"/>
                </a:lnTo>
                <a:lnTo>
                  <a:pt x="17806" y="6274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6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68000" y="765000"/>
            <a:ext cx="4027320" cy="27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a1d06"/>
                </a:solidFill>
                <a:latin typeface="Arial"/>
              </a:rPr>
              <a:t>Задача№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Ответ:1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995640" y="764640"/>
            <a:ext cx="4686480" cy="27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cc00"/>
                </a:solidFill>
                <a:latin typeface="Arial"/>
              </a:rPr>
              <a:t>Задача №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Ответ:2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556000" y="3789360"/>
            <a:ext cx="4038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Задача №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Ответ:400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Object 29"/>
          <p:cNvGraphicFramePr/>
          <p:nvPr/>
        </p:nvGraphicFramePr>
        <p:xfrm>
          <a:off x="5237280" y="1595520"/>
          <a:ext cx="2401920" cy="15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7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7280" y="1595520"/>
                    <a:ext cx="2401920" cy="15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30"/>
          <p:cNvGraphicFramePr/>
          <p:nvPr/>
        </p:nvGraphicFramePr>
        <p:xfrm>
          <a:off x="3059280" y="4292640"/>
          <a:ext cx="23666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9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4292640"/>
                    <a:ext cx="2366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Line 31"/>
          <p:cNvSpPr/>
          <p:nvPr/>
        </p:nvSpPr>
        <p:spPr>
          <a:xfrm>
            <a:off x="2268360" y="1773360"/>
            <a:ext cx="358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31" name="Line 32"/>
          <p:cNvSpPr/>
          <p:nvPr/>
        </p:nvSpPr>
        <p:spPr>
          <a:xfrm>
            <a:off x="2124000" y="2349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32" name="Line 33"/>
          <p:cNvSpPr/>
          <p:nvPr/>
        </p:nvSpPr>
        <p:spPr>
          <a:xfrm>
            <a:off x="6588000" y="191628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33" name="Line 34"/>
          <p:cNvSpPr/>
          <p:nvPr/>
        </p:nvSpPr>
        <p:spPr>
          <a:xfrm>
            <a:off x="6588000" y="2565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34" name="Line 35"/>
          <p:cNvSpPr/>
          <p:nvPr/>
        </p:nvSpPr>
        <p:spPr>
          <a:xfrm>
            <a:off x="4643280" y="4581360"/>
            <a:ext cx="433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35" name="Line 36"/>
          <p:cNvSpPr/>
          <p:nvPr/>
        </p:nvSpPr>
        <p:spPr>
          <a:xfrm>
            <a:off x="4500720" y="5157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graphicFrame>
        <p:nvGraphicFramePr>
          <p:cNvPr id="536" name="Object 40"/>
          <p:cNvGraphicFramePr/>
          <p:nvPr/>
        </p:nvGraphicFramePr>
        <p:xfrm>
          <a:off x="7348680" y="4002120"/>
          <a:ext cx="1315800" cy="23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7" name="Object 4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48680" y="4002120"/>
                    <a:ext cx="131580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41"/>
          <p:cNvGraphicFramePr/>
          <p:nvPr/>
        </p:nvGraphicFramePr>
        <p:xfrm>
          <a:off x="685800" y="1413000"/>
          <a:ext cx="2508120" cy="198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Object 4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1413000"/>
                    <a:ext cx="250812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AutoShape 42"/>
          <p:cNvSpPr/>
          <p:nvPr/>
        </p:nvSpPr>
        <p:spPr>
          <a:xfrm>
            <a:off x="250920" y="5877000"/>
            <a:ext cx="865080" cy="576360"/>
          </a:xfrm>
          <a:custGeom>
            <a:avLst/>
            <a:gdLst>
              <a:gd name="textAreaLeft" fmla="*/ 197280 w 865080"/>
              <a:gd name="textAreaRight" fmla="*/ 667800 w 86508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Бонус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7" dur="2000"/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1" dur="2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2000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9" dur="2000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4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07640" y="1557000"/>
            <a:ext cx="622764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1.Главная автомагистра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2.Штрихи на дороге, обозначающие пешеходный пере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3.Дорога для пешехо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4.Край дор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5.Пересечение двух ул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6.Сотрудник милиции, работающий на доро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7.Место ожидания тран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8.Наказание за нарушение ПД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940000" y="1557360"/>
            <a:ext cx="2746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1.Шо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2.Зеб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3.Троту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4.Обоч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5.Перекрес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6.Регулировщ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7.Останов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8.Штра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WordArt 7"/>
          <p:cNvSpPr txBox="1"/>
          <p:nvPr/>
        </p:nvSpPr>
        <p:spPr>
          <a:xfrm>
            <a:off x="2340000" y="549360"/>
            <a:ext cx="3519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КТОРИ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4" name="AutoShape 8"/>
          <p:cNvSpPr/>
          <p:nvPr/>
        </p:nvSpPr>
        <p:spPr>
          <a:xfrm>
            <a:off x="8388360" y="6165720"/>
            <a:ext cx="755640" cy="567000"/>
          </a:xfrm>
          <a:custGeom>
            <a:avLst/>
            <a:gdLst>
              <a:gd name="textAreaLeft" fmla="*/ 36720 w 755640"/>
              <a:gd name="textAreaRight" fmla="*/ 718920 w 755640"/>
              <a:gd name="textAreaTop" fmla="*/ 36720 h 567000"/>
              <a:gd name="textAreaBottom" fmla="*/ 530280 h 567000"/>
            </a:gdLst>
            <a:ahLst/>
            <a:rect l="textAreaLeft" t="textAreaTop" r="textAreaRight" b="textAreaBottom"/>
            <a:pathLst>
              <a:path w="28782" h="21600">
                <a:moveTo>
                  <a:pt x="0" y="0"/>
                </a:moveTo>
                <a:lnTo>
                  <a:pt x="28782" y="0"/>
                </a:lnTo>
                <a:lnTo>
                  <a:pt x="28782" y="21600"/>
                </a:lnTo>
                <a:lnTo>
                  <a:pt x="0" y="21600"/>
                </a:lnTo>
                <a:close/>
              </a:path>
              <a:path fill="lightenLess" w="28782" h="21600">
                <a:moveTo>
                  <a:pt x="0" y="0"/>
                </a:moveTo>
                <a:lnTo>
                  <a:pt x="28782" y="0"/>
                </a:lnTo>
                <a:lnTo>
                  <a:pt x="27382" y="1400"/>
                </a:lnTo>
                <a:lnTo>
                  <a:pt x="1400" y="1400"/>
                </a:lnTo>
                <a:close/>
              </a:path>
              <a:path fill="darken" w="28782" h="21600">
                <a:moveTo>
                  <a:pt x="28782" y="0"/>
                </a:moveTo>
                <a:lnTo>
                  <a:pt x="28782" y="21600"/>
                </a:lnTo>
                <a:lnTo>
                  <a:pt x="27382" y="20200"/>
                </a:lnTo>
                <a:lnTo>
                  <a:pt x="27382" y="1400"/>
                </a:lnTo>
                <a:close/>
              </a:path>
              <a:path fill="darkenLess" w="28782" h="21600">
                <a:moveTo>
                  <a:pt x="28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2" y="20200"/>
                </a:lnTo>
                <a:close/>
              </a:path>
              <a:path fill="lighten" w="28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2" h="21600">
                <a:moveTo>
                  <a:pt x="17890" y="10800"/>
                </a:moveTo>
                <a:lnTo>
                  <a:pt x="7384" y="17806"/>
                </a:lnTo>
                <a:lnTo>
                  <a:pt x="7384" y="3794"/>
                </a:lnTo>
                <a:close/>
              </a:path>
              <a:path fill="darken" w="28782" h="21600">
                <a:moveTo>
                  <a:pt x="19735" y="3794"/>
                </a:moveTo>
                <a:lnTo>
                  <a:pt x="19735" y="17806"/>
                </a:lnTo>
                <a:lnTo>
                  <a:pt x="21397" y="17806"/>
                </a:lnTo>
                <a:lnTo>
                  <a:pt x="21397" y="3794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8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80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WordArt 2"/>
          <p:cNvSpPr txBox="1"/>
          <p:nvPr/>
        </p:nvSpPr>
        <p:spPr>
          <a:xfrm>
            <a:off x="755640" y="1628640"/>
            <a:ext cx="799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 за  урок!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539640" y="4437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0066"/>
                </a:solidFill>
                <a:latin typeface="Arial"/>
              </a:rPr>
              <a:t>Решение задачи №1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(1 способ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548" name="Object 3"/>
          <p:cNvGraphicFramePr/>
          <p:nvPr/>
        </p:nvGraphicFramePr>
        <p:xfrm>
          <a:off x="566640" y="2948040"/>
          <a:ext cx="6958080" cy="8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2948040"/>
                    <a:ext cx="695808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Object 4"/>
          <p:cNvGraphicFramePr/>
          <p:nvPr/>
        </p:nvGraphicFramePr>
        <p:xfrm>
          <a:off x="671400" y="1924200"/>
          <a:ext cx="600084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400" y="1924200"/>
                    <a:ext cx="600084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Object 6"/>
          <p:cNvGraphicFramePr/>
          <p:nvPr/>
        </p:nvGraphicFramePr>
        <p:xfrm>
          <a:off x="611280" y="4005360"/>
          <a:ext cx="684036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4005360"/>
                    <a:ext cx="6840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Text Box 7"/>
          <p:cNvSpPr/>
          <p:nvPr/>
        </p:nvSpPr>
        <p:spPr>
          <a:xfrm>
            <a:off x="684360" y="515772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</a:rPr>
              <a:t>Ответ: 54 человека выполняют ПДД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55" name="AutoShape 8">
            <a:hlinkClick r:id="" action="ppaction://hlinkshowjump?jump=previousslide"/>
          </p:cNvPr>
          <p:cNvSpPr/>
          <p:nvPr/>
        </p:nvSpPr>
        <p:spPr>
          <a:xfrm>
            <a:off x="8820000" y="6308640"/>
            <a:ext cx="324000" cy="360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21">
                <a:moveTo>
                  <a:pt x="0" y="0"/>
                </a:moveTo>
                <a:lnTo>
                  <a:pt x="21600" y="0"/>
                </a:lnTo>
                <a:lnTo>
                  <a:pt x="21600" y="24021"/>
                </a:lnTo>
                <a:lnTo>
                  <a:pt x="0" y="24021"/>
                </a:lnTo>
                <a:close/>
              </a:path>
              <a:path fill="lightenLess" w="21600" h="24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21">
                <a:moveTo>
                  <a:pt x="21600" y="0"/>
                </a:moveTo>
                <a:lnTo>
                  <a:pt x="21600" y="24021"/>
                </a:lnTo>
                <a:lnTo>
                  <a:pt x="20200" y="22621"/>
                </a:lnTo>
                <a:lnTo>
                  <a:pt x="20200" y="1400"/>
                </a:lnTo>
                <a:close/>
              </a:path>
              <a:path fill="darkenLess" w="21600" h="24021">
                <a:moveTo>
                  <a:pt x="21600" y="24021"/>
                </a:moveTo>
                <a:lnTo>
                  <a:pt x="0" y="24021"/>
                </a:lnTo>
                <a:lnTo>
                  <a:pt x="1400" y="22621"/>
                </a:lnTo>
                <a:lnTo>
                  <a:pt x="20200" y="22621"/>
                </a:lnTo>
                <a:close/>
              </a:path>
              <a:path fill="lighten" w="21600" h="24021">
                <a:moveTo>
                  <a:pt x="0" y="24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21"/>
                </a:lnTo>
                <a:close/>
              </a:path>
              <a:path fill="darken" w="21600" h="24021">
                <a:moveTo>
                  <a:pt x="3794" y="8703"/>
                </a:moveTo>
                <a:lnTo>
                  <a:pt x="7301" y="8703"/>
                </a:lnTo>
                <a:lnTo>
                  <a:pt x="7301" y="14039"/>
                </a:lnTo>
                <a:cubicBezTo>
                  <a:pt x="7301" y="14961"/>
                  <a:pt x="8102" y="15692"/>
                  <a:pt x="9138" y="15692"/>
                </a:cubicBezTo>
                <a:lnTo>
                  <a:pt x="10800" y="15692"/>
                </a:lnTo>
                <a:cubicBezTo>
                  <a:pt x="11836" y="15692"/>
                  <a:pt x="12636" y="14961"/>
                  <a:pt x="12636" y="14039"/>
                </a:cubicBezTo>
                <a:lnTo>
                  <a:pt x="12636" y="8703"/>
                </a:lnTo>
                <a:lnTo>
                  <a:pt x="10800" y="8703"/>
                </a:lnTo>
                <a:lnTo>
                  <a:pt x="14308" y="5196"/>
                </a:lnTo>
                <a:lnTo>
                  <a:pt x="17981" y="8703"/>
                </a:lnTo>
                <a:lnTo>
                  <a:pt x="16144" y="8703"/>
                </a:lnTo>
                <a:lnTo>
                  <a:pt x="16144" y="14039"/>
                </a:lnTo>
                <a:cubicBezTo>
                  <a:pt x="16144" y="16806"/>
                  <a:pt x="13568" y="19365"/>
                  <a:pt x="10800" y="19365"/>
                </a:cubicBezTo>
                <a:lnTo>
                  <a:pt x="9138" y="19365"/>
                </a:lnTo>
                <a:cubicBezTo>
                  <a:pt x="6370" y="19365"/>
                  <a:pt x="3794" y="16806"/>
                  <a:pt x="3794" y="14039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0066"/>
                </a:solidFill>
                <a:latin typeface="Arial"/>
              </a:rPr>
              <a:t>Решение задачи №1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(2 способ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557" name="Object 3"/>
          <p:cNvGraphicFramePr/>
          <p:nvPr/>
        </p:nvGraphicFramePr>
        <p:xfrm>
          <a:off x="539640" y="3357720"/>
          <a:ext cx="6480360" cy="8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357720"/>
                    <a:ext cx="648036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9" name="Object 4"/>
          <p:cNvGraphicFramePr/>
          <p:nvPr/>
        </p:nvGraphicFramePr>
        <p:xfrm>
          <a:off x="539640" y="2108160"/>
          <a:ext cx="8280360" cy="9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108160"/>
                    <a:ext cx="82803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Text Box 6"/>
          <p:cNvSpPr/>
          <p:nvPr/>
        </p:nvSpPr>
        <p:spPr>
          <a:xfrm>
            <a:off x="684360" y="515772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</a:rPr>
              <a:t>Ответ: 54 человека выполняют ПДД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62" name="AutoShape 7">
            <a:hlinkClick r:id="" action="ppaction://hlinkshowjump?jump=previousslide"/>
          </p:cNvPr>
          <p:cNvSpPr/>
          <p:nvPr/>
        </p:nvSpPr>
        <p:spPr>
          <a:xfrm>
            <a:off x="8604360" y="6237360"/>
            <a:ext cx="395280" cy="431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1640"/>
              <a:gd name="textAreaBottom" fmla="*/ 406080 h 431640"/>
            </a:gdLst>
            <a:ahLst/>
            <a:rect l="textAreaLeft" t="textAreaTop" r="textAreaRight" b="textAreaBottom"/>
            <a:pathLst>
              <a:path w="21600" h="23585">
                <a:moveTo>
                  <a:pt x="0" y="0"/>
                </a:moveTo>
                <a:lnTo>
                  <a:pt x="21600" y="0"/>
                </a:lnTo>
                <a:lnTo>
                  <a:pt x="21600" y="23585"/>
                </a:lnTo>
                <a:lnTo>
                  <a:pt x="0" y="23585"/>
                </a:lnTo>
                <a:close/>
              </a:path>
              <a:path fill="lightenLess" w="21600" h="23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85">
                <a:moveTo>
                  <a:pt x="21600" y="0"/>
                </a:moveTo>
                <a:lnTo>
                  <a:pt x="21600" y="23585"/>
                </a:lnTo>
                <a:lnTo>
                  <a:pt x="20200" y="22185"/>
                </a:lnTo>
                <a:lnTo>
                  <a:pt x="20200" y="1400"/>
                </a:lnTo>
                <a:close/>
              </a:path>
              <a:path fill="darkenLess" w="21600" h="23585">
                <a:moveTo>
                  <a:pt x="21600" y="23585"/>
                </a:moveTo>
                <a:lnTo>
                  <a:pt x="0" y="23585"/>
                </a:lnTo>
                <a:lnTo>
                  <a:pt x="1400" y="22185"/>
                </a:lnTo>
                <a:lnTo>
                  <a:pt x="20200" y="22185"/>
                </a:lnTo>
                <a:close/>
              </a:path>
              <a:path fill="lighten" w="21600" h="23585">
                <a:moveTo>
                  <a:pt x="0" y="23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85"/>
                </a:lnTo>
                <a:close/>
              </a:path>
              <a:path fill="darken" w="21600" h="23585">
                <a:moveTo>
                  <a:pt x="3794" y="8485"/>
                </a:moveTo>
                <a:lnTo>
                  <a:pt x="7301" y="8485"/>
                </a:lnTo>
                <a:lnTo>
                  <a:pt x="7301" y="13821"/>
                </a:lnTo>
                <a:cubicBezTo>
                  <a:pt x="7301" y="14743"/>
                  <a:pt x="8102" y="15474"/>
                  <a:pt x="9138" y="15474"/>
                </a:cubicBezTo>
                <a:lnTo>
                  <a:pt x="10800" y="15474"/>
                </a:lnTo>
                <a:cubicBezTo>
                  <a:pt x="11836" y="15474"/>
                  <a:pt x="12636" y="14743"/>
                  <a:pt x="12636" y="13821"/>
                </a:cubicBezTo>
                <a:lnTo>
                  <a:pt x="12636" y="8485"/>
                </a:lnTo>
                <a:lnTo>
                  <a:pt x="10800" y="8485"/>
                </a:lnTo>
                <a:lnTo>
                  <a:pt x="14308" y="4978"/>
                </a:lnTo>
                <a:lnTo>
                  <a:pt x="17981" y="8485"/>
                </a:lnTo>
                <a:lnTo>
                  <a:pt x="16144" y="8485"/>
                </a:lnTo>
                <a:lnTo>
                  <a:pt x="16144" y="13821"/>
                </a:lnTo>
                <a:cubicBezTo>
                  <a:pt x="16144" y="16588"/>
                  <a:pt x="13568" y="19147"/>
                  <a:pt x="10800" y="19147"/>
                </a:cubicBezTo>
                <a:lnTo>
                  <a:pt x="9138" y="19147"/>
                </a:lnTo>
                <a:cubicBezTo>
                  <a:pt x="6370" y="19147"/>
                  <a:pt x="3794" y="16588"/>
                  <a:pt x="3794" y="13821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3300"/>
                </a:solidFill>
                <a:latin typeface="Arial"/>
              </a:rPr>
              <a:t>Решение задачи №2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564" name="Object 5"/>
          <p:cNvGraphicFramePr/>
          <p:nvPr/>
        </p:nvGraphicFramePr>
        <p:xfrm>
          <a:off x="684360" y="2276640"/>
          <a:ext cx="770544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76640"/>
                    <a:ext cx="770544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Object 6"/>
          <p:cNvGraphicFramePr/>
          <p:nvPr/>
        </p:nvGraphicFramePr>
        <p:xfrm>
          <a:off x="714240" y="3786120"/>
          <a:ext cx="548820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3786120"/>
                    <a:ext cx="54882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Text Box 7"/>
          <p:cNvSpPr/>
          <p:nvPr/>
        </p:nvSpPr>
        <p:spPr>
          <a:xfrm>
            <a:off x="468360" y="566100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</a:rPr>
              <a:t>Ответ:63 человека выполняют ПДД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8604360" y="6093000"/>
            <a:ext cx="539640" cy="566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66640"/>
              <a:gd name="textAreaBottom" fmla="*/ 531720 h 566640"/>
            </a:gdLst>
            <a:ahLst/>
            <a:rect l="textAreaLeft" t="textAreaTop" r="textAreaRight" b="textAreaBottom"/>
            <a:pathLst>
              <a:path w="21600" h="22680">
                <a:moveTo>
                  <a:pt x="0" y="0"/>
                </a:moveTo>
                <a:lnTo>
                  <a:pt x="21600" y="0"/>
                </a:lnTo>
                <a:lnTo>
                  <a:pt x="21600" y="22680"/>
                </a:lnTo>
                <a:lnTo>
                  <a:pt x="0" y="22680"/>
                </a:lnTo>
                <a:close/>
              </a:path>
              <a:path fill="lightenLess" w="21600" h="226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0">
                <a:moveTo>
                  <a:pt x="21600" y="0"/>
                </a:moveTo>
                <a:lnTo>
                  <a:pt x="21600" y="22680"/>
                </a:lnTo>
                <a:lnTo>
                  <a:pt x="20200" y="21280"/>
                </a:lnTo>
                <a:lnTo>
                  <a:pt x="20200" y="1400"/>
                </a:lnTo>
                <a:close/>
              </a:path>
              <a:path fill="darkenLess" w="21600" h="22680">
                <a:moveTo>
                  <a:pt x="21600" y="22680"/>
                </a:moveTo>
                <a:lnTo>
                  <a:pt x="0" y="22680"/>
                </a:lnTo>
                <a:lnTo>
                  <a:pt x="1400" y="21280"/>
                </a:lnTo>
                <a:lnTo>
                  <a:pt x="20200" y="21280"/>
                </a:lnTo>
                <a:close/>
              </a:path>
              <a:path fill="lighten" w="21600" h="22680">
                <a:moveTo>
                  <a:pt x="0" y="226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0"/>
                </a:lnTo>
                <a:close/>
              </a:path>
              <a:path fill="darken" w="21600" h="22680">
                <a:moveTo>
                  <a:pt x="3794" y="8033"/>
                </a:moveTo>
                <a:lnTo>
                  <a:pt x="7301" y="8033"/>
                </a:lnTo>
                <a:lnTo>
                  <a:pt x="7301" y="13368"/>
                </a:lnTo>
                <a:cubicBezTo>
                  <a:pt x="7301" y="14291"/>
                  <a:pt x="8102" y="15022"/>
                  <a:pt x="9138" y="15022"/>
                </a:cubicBezTo>
                <a:lnTo>
                  <a:pt x="10800" y="15022"/>
                </a:lnTo>
                <a:cubicBezTo>
                  <a:pt x="11836" y="15022"/>
                  <a:pt x="12636" y="14291"/>
                  <a:pt x="12636" y="13368"/>
                </a:cubicBezTo>
                <a:lnTo>
                  <a:pt x="12636" y="8033"/>
                </a:lnTo>
                <a:lnTo>
                  <a:pt x="10800" y="8033"/>
                </a:lnTo>
                <a:lnTo>
                  <a:pt x="14308" y="4525"/>
                </a:lnTo>
                <a:lnTo>
                  <a:pt x="17981" y="8033"/>
                </a:lnTo>
                <a:lnTo>
                  <a:pt x="16144" y="8033"/>
                </a:lnTo>
                <a:lnTo>
                  <a:pt x="16144" y="13368"/>
                </a:lnTo>
                <a:cubicBezTo>
                  <a:pt x="16144" y="16136"/>
                  <a:pt x="13568" y="18695"/>
                  <a:pt x="10800" y="18695"/>
                </a:cubicBezTo>
                <a:lnTo>
                  <a:pt x="9138" y="18695"/>
                </a:lnTo>
                <a:cubicBezTo>
                  <a:pt x="6370" y="18695"/>
                  <a:pt x="3794" y="16136"/>
                  <a:pt x="3794" y="1336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70" name="TextBox 19"/>
          <p:cNvSpPr/>
          <p:nvPr/>
        </p:nvSpPr>
        <p:spPr>
          <a:xfrm>
            <a:off x="642960" y="1500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Microsoft Sans Serif"/>
              </a:rPr>
              <a:t>120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 ∙ 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21"/>
              <p:cNvSpPr txBox="1"/>
              <p:nvPr/>
            </p:nvSpPr>
            <p:spPr>
              <a:xfrm>
                <a:off x="1571760" y="1285920"/>
                <a:ext cx="4284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2" name="TextBox 25"/>
          <p:cNvSpPr/>
          <p:nvPr/>
        </p:nvSpPr>
        <p:spPr>
          <a:xfrm>
            <a:off x="2071800" y="1500120"/>
            <a:ext cx="53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icrosoft Sans Serif"/>
              </a:rPr>
              <a:t>= 36(человек) – не выполняют ПДД 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73" name="TextBox 28"/>
          <p:cNvSpPr/>
          <p:nvPr/>
        </p:nvSpPr>
        <p:spPr>
          <a:xfrm>
            <a:off x="642960" y="3000240"/>
            <a:ext cx="10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3) </a:t>
            </a:r>
            <a:r>
              <a:rPr b="0" lang="ru-RU" sz="2000" spc="-1" strike="noStrike">
                <a:solidFill>
                  <a:srgbClr val="000000"/>
                </a:solidFill>
                <a:latin typeface="Microsoft Sans Serif"/>
              </a:rPr>
              <a:t>84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 ∙ 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23"/>
              <p:cNvSpPr txBox="1"/>
              <p:nvPr/>
            </p:nvSpPr>
            <p:spPr>
              <a:xfrm>
                <a:off x="1428840" y="2786040"/>
                <a:ext cx="357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5" name="TextBox 30"/>
          <p:cNvSpPr/>
          <p:nvPr/>
        </p:nvSpPr>
        <p:spPr>
          <a:xfrm>
            <a:off x="1857240" y="3000240"/>
            <a:ext cx="600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icrosoft Sans Serif"/>
              </a:rPr>
              <a:t>= 21(человек) – не всегда выполняют ПДД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бы най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33cc"/>
                </a:solidFill>
                <a:latin typeface="Arial"/>
              </a:rPr>
              <a:t>дробь от числ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ужно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умножи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числ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эту дроб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бы най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cc00"/>
                </a:solidFill>
                <a:latin typeface="Arial"/>
              </a:rPr>
              <a:t>Число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о данном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значению его дроб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до это значе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разделить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дроб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3"/>
          <p:cNvSpPr txBox="1"/>
          <p:nvPr/>
        </p:nvSpPr>
        <p:spPr>
          <a:xfrm>
            <a:off x="1332000" y="260280"/>
            <a:ext cx="547344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c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cc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46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180"/>
                            </p:stCondLst>
                            <p:childTnLst>
                              <p:par>
                                <p:cTn id="78" nodeType="after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180"/>
                            </p:stCondLst>
                            <p:childTnLst>
                              <p:par>
                                <p:cTn id="81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0066"/>
                </a:solidFill>
                <a:latin typeface="Arial"/>
              </a:rPr>
              <a:t>Решение обратной задачи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577" name="Object 4"/>
          <p:cNvGraphicFramePr/>
          <p:nvPr/>
        </p:nvGraphicFramePr>
        <p:xfrm>
          <a:off x="539640" y="2108160"/>
          <a:ext cx="828036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08160"/>
                    <a:ext cx="82803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Text Box 6"/>
          <p:cNvSpPr/>
          <p:nvPr/>
        </p:nvSpPr>
        <p:spPr>
          <a:xfrm>
            <a:off x="684360" y="515772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</a:rPr>
              <a:t>Ответ: 120 учеников опрошено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80" name="AutoShape 7">
            <a:hlinkClick r:id="" action="ppaction://hlinkshowjump?jump=previousslide"/>
          </p:cNvPr>
          <p:cNvSpPr/>
          <p:nvPr/>
        </p:nvSpPr>
        <p:spPr>
          <a:xfrm>
            <a:off x="8604360" y="6237360"/>
            <a:ext cx="395280" cy="431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1640"/>
              <a:gd name="textAreaBottom" fmla="*/ 406080 h 431640"/>
            </a:gdLst>
            <a:ahLst/>
            <a:rect l="textAreaLeft" t="textAreaTop" r="textAreaRight" b="textAreaBottom"/>
            <a:pathLst>
              <a:path w="21600" h="23585">
                <a:moveTo>
                  <a:pt x="0" y="0"/>
                </a:moveTo>
                <a:lnTo>
                  <a:pt x="21600" y="0"/>
                </a:lnTo>
                <a:lnTo>
                  <a:pt x="21600" y="23585"/>
                </a:lnTo>
                <a:lnTo>
                  <a:pt x="0" y="23585"/>
                </a:lnTo>
                <a:close/>
              </a:path>
              <a:path fill="lightenLess" w="21600" h="23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85">
                <a:moveTo>
                  <a:pt x="21600" y="0"/>
                </a:moveTo>
                <a:lnTo>
                  <a:pt x="21600" y="23585"/>
                </a:lnTo>
                <a:lnTo>
                  <a:pt x="20200" y="22185"/>
                </a:lnTo>
                <a:lnTo>
                  <a:pt x="20200" y="1400"/>
                </a:lnTo>
                <a:close/>
              </a:path>
              <a:path fill="darkenLess" w="21600" h="23585">
                <a:moveTo>
                  <a:pt x="21600" y="23585"/>
                </a:moveTo>
                <a:lnTo>
                  <a:pt x="0" y="23585"/>
                </a:lnTo>
                <a:lnTo>
                  <a:pt x="1400" y="22185"/>
                </a:lnTo>
                <a:lnTo>
                  <a:pt x="20200" y="22185"/>
                </a:lnTo>
                <a:close/>
              </a:path>
              <a:path fill="lighten" w="21600" h="23585">
                <a:moveTo>
                  <a:pt x="0" y="23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85"/>
                </a:lnTo>
                <a:close/>
              </a:path>
              <a:path fill="darken" w="21600" h="23585">
                <a:moveTo>
                  <a:pt x="3794" y="8485"/>
                </a:moveTo>
                <a:lnTo>
                  <a:pt x="7301" y="8485"/>
                </a:lnTo>
                <a:lnTo>
                  <a:pt x="7301" y="13821"/>
                </a:lnTo>
                <a:cubicBezTo>
                  <a:pt x="7301" y="14743"/>
                  <a:pt x="8102" y="15474"/>
                  <a:pt x="9138" y="15474"/>
                </a:cubicBezTo>
                <a:lnTo>
                  <a:pt x="10800" y="15474"/>
                </a:lnTo>
                <a:cubicBezTo>
                  <a:pt x="11836" y="15474"/>
                  <a:pt x="12636" y="14743"/>
                  <a:pt x="12636" y="13821"/>
                </a:cubicBezTo>
                <a:lnTo>
                  <a:pt x="12636" y="8485"/>
                </a:lnTo>
                <a:lnTo>
                  <a:pt x="10800" y="8485"/>
                </a:lnTo>
                <a:lnTo>
                  <a:pt x="14308" y="4978"/>
                </a:lnTo>
                <a:lnTo>
                  <a:pt x="17981" y="8485"/>
                </a:lnTo>
                <a:lnTo>
                  <a:pt x="16144" y="8485"/>
                </a:lnTo>
                <a:lnTo>
                  <a:pt x="16144" y="13821"/>
                </a:lnTo>
                <a:cubicBezTo>
                  <a:pt x="16144" y="16588"/>
                  <a:pt x="13568" y="19147"/>
                  <a:pt x="10800" y="19147"/>
                </a:cubicBezTo>
                <a:lnTo>
                  <a:pt x="9138" y="19147"/>
                </a:lnTo>
                <a:cubicBezTo>
                  <a:pt x="6370" y="19147"/>
                  <a:pt x="3794" y="16588"/>
                  <a:pt x="3794" y="13821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3"/>
              <p:cNvSpPr txBox="1"/>
              <p:nvPr/>
            </p:nvSpPr>
            <p:spPr>
              <a:xfrm>
                <a:off x="500040" y="3286080"/>
                <a:ext cx="62866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учеников  опрошено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280" y="1714680"/>
            <a:ext cx="7543800" cy="36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Прочитай задачи, определи</a:t>
            </a:r>
            <a:br>
              <a:rPr sz="3600"/>
            </a:b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к какому виду они относятся и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 предложи решение .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6" name="WordArt 5"/>
          <p:cNvSpPr txBox="1"/>
          <p:nvPr/>
        </p:nvSpPr>
        <p:spPr>
          <a:xfrm>
            <a:off x="2124000" y="549360"/>
            <a:ext cx="453384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минка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В дачном поселке </a:t>
            </a:r>
            <a:r>
              <a:rPr b="0" i="1" lang="ru-RU" sz="4000" spc="-1" strike="noStrike">
                <a:solidFill>
                  <a:srgbClr val="008000"/>
                </a:solidFill>
                <a:latin typeface="Arial"/>
              </a:rPr>
              <a:t>30 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дом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от всех домов -двухэтажны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Сколько двухэтажных домов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5"/>
              <p:cNvSpPr txBox="1"/>
              <p:nvPr/>
            </p:nvSpPr>
            <p:spPr>
              <a:xfrm>
                <a:off x="1042920" y="1413000"/>
                <a:ext cx="5302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1455840" y="531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17"/>
              <p:cNvSpPr txBox="1"/>
              <p:nvPr/>
            </p:nvSpPr>
            <p:spPr>
              <a:xfrm>
                <a:off x="684360" y="3789360"/>
                <a:ext cx="8064360" cy="22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домов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двухэтажных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дом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923760" y="620640"/>
            <a:ext cx="82202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В конюшне стоят лошад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0,2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всех лошадей - воро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Сколько лошадей  в конюшне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если вороных в ней 14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395280" y="3429000"/>
            <a:ext cx="8424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4</a:t>
            </a:r>
            <a:r>
              <a:rPr b="0" lang="ru-RU" sz="3200" spc="-1" strike="noStrike">
                <a:solidFill>
                  <a:srgbClr val="000000"/>
                </a:solidFill>
                <a:latin typeface="Microsoft Sans Serif"/>
              </a:rPr>
              <a:t>:0,2=140:2=70 (лошадей)-в конюшне.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crosoft Sans Serif"/>
              </a:rPr>
              <a:t>Ответ: 70 лошадей.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В 6 классе </a:t>
            </a:r>
            <a:r>
              <a:rPr b="0" i="1" lang="ru-RU" sz="4000" spc="-1" strike="noStrike">
                <a:solidFill>
                  <a:srgbClr val="0000ff"/>
                </a:solidFill>
                <a:latin typeface="Arial"/>
              </a:rPr>
              <a:t>25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учащихся. Девочки составляют  0,8 всех учащихс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Сколько в классе мальчик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1384200" y="524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9"/>
              <p:cNvSpPr txBox="1"/>
              <p:nvPr/>
            </p:nvSpPr>
            <p:spPr>
              <a:xfrm>
                <a:off x="571680" y="4429080"/>
                <a:ext cx="790560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0,2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мальчиков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ласс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альчик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8" name="TextBox 5"/>
          <p:cNvSpPr/>
          <p:nvPr/>
        </p:nvSpPr>
        <p:spPr>
          <a:xfrm>
            <a:off x="571680" y="3714840"/>
            <a:ext cx="814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crosoft Sans Serif"/>
              </a:rPr>
              <a:t>1) 1 – 0,8 = 0,2</a:t>
            </a:r>
            <a:r>
              <a:rPr b="0" i="1" lang="ru-RU" sz="4000" spc="-1" strike="noStrike">
                <a:solidFill>
                  <a:srgbClr val="000000"/>
                </a:solidFill>
                <a:latin typeface="Cambria"/>
              </a:rPr>
              <a:t> мальчиков</a:t>
            </a:r>
            <a:endParaRPr b="0" lang="en-US" sz="4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755640" y="475920"/>
            <a:ext cx="82202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От трубы отрезали 6 метров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что составляет           длины вс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труб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Найдите длину труб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5"/>
              <p:cNvSpPr txBox="1"/>
              <p:nvPr/>
            </p:nvSpPr>
            <p:spPr>
              <a:xfrm>
                <a:off x="4572000" y="1052640"/>
                <a:ext cx="755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22" name="Object 7"/>
          <p:cNvGraphicFramePr/>
          <p:nvPr/>
        </p:nvGraphicFramePr>
        <p:xfrm>
          <a:off x="395280" y="3645000"/>
          <a:ext cx="8569440" cy="20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645000"/>
                    <a:ext cx="856944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7543800" cy="352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Arial"/>
              </a:rPr>
              <a:t>РЕШЕНИЕ ЗАДАЧ</a:t>
            </a:r>
            <a:br>
              <a:rPr sz="4000"/>
            </a:br>
            <a:br>
              <a:rPr sz="4300"/>
            </a:br>
            <a:r>
              <a:rPr b="1" i="1" lang="ru-RU" sz="4300" spc="-1" strike="noStrike">
                <a:solidFill>
                  <a:srgbClr val="ff3300"/>
                </a:solidFill>
                <a:latin typeface="Arial"/>
              </a:rPr>
              <a:t>НАХОЖДЕНИЕ</a:t>
            </a:r>
            <a:br>
              <a:rPr sz="4300"/>
            </a:br>
            <a:r>
              <a:rPr b="1" i="1" lang="ru-RU" sz="4300" spc="-1" strike="noStrike">
                <a:solidFill>
                  <a:srgbClr val="ff3300"/>
                </a:solidFill>
                <a:latin typeface="Arial"/>
              </a:rPr>
              <a:t> ДРОБИ ОТ ЧИСЛА </a:t>
            </a:r>
            <a:br>
              <a:rPr sz="4300"/>
            </a:br>
            <a:r>
              <a:rPr b="1" i="1" lang="ru-RU" sz="4300" spc="-1" strike="noStrike">
                <a:solidFill>
                  <a:srgbClr val="ff3300"/>
                </a:solidFill>
                <a:latin typeface="Arial"/>
              </a:rPr>
              <a:t>И ЧИСЛА ПО ЕГО ДРОБИ.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1:37:03Z</dcterms:created>
  <dc:creator>ksucha</dc:creator>
  <dc:description/>
  <dc:language>en-US</dc:language>
  <cp:lastModifiedBy>Чижова</cp:lastModifiedBy>
  <dcterms:modified xsi:type="dcterms:W3CDTF">2013-04-03T19:48:59Z</dcterms:modified>
  <cp:revision>59</cp:revision>
  <dc:subject/>
  <dc:title>Слайд 1</dc:title>
</cp:coreProperties>
</file>