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235B3-C298-4392-874F-7C66AE63B52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6F65B-A2E5-4220-ACBD-697ADD657EDC}" type="slidenum">
              <a:rPr b="0" lang="ru-RU" sz="1200" spc="-1" strike="noStrike">
                <a:solidFill>
                  <a:srgbClr val="000000"/>
                </a:solidFill>
                <a:latin typeface="Microsoft Sans Serif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CC62-A1E0-43A8-B4D0-90F473010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01F4-7F56-47D4-B339-2E2CB18C6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BB9B-24B5-4F12-BD31-1EBE2DDA4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2D53-1D58-4464-9DF8-829DE2913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8E66B-D890-4BDC-8D0E-1C4A0E817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4C171-701E-45B6-A0A1-09C405042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2DFA5-7C8F-46CA-ACC3-CCA42A307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88BCD-200F-4333-B08A-BECD9AFF3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B3987-3CEA-4EE7-8C3F-0E9CDBD47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9EA28-3CCB-4794-8439-D9FFF9B1D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242BC-E7C1-4DFE-8AF9-1EFC26F8E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9C39-C181-43A6-9AD4-721B7B293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85163-10EC-4AFE-A4A7-B3542C21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97745-4A9D-4E72-BF1D-0158445E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761A9-2ABA-4BB1-8967-E8302CCEB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54A31-1DC0-4822-AE8C-138BAC4C5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2174A-A720-4F1D-8F4D-92B3DC794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C7752-6628-4D3E-9DD4-DBCC27BBC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A3BCA-F2B1-4CC4-825B-06D208897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C32DB-264C-4E32-8A74-F3F8E148C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1849F-A86C-45CE-8487-E70735384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5C690-1335-46DC-9DC6-BBE558051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3B62-D3AD-40D1-8861-7EADCABED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EFFC9-FF3C-4613-9424-6CD9D9290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62B15-5FAB-4A22-B231-BB0CE4C0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F2A53-B6CB-4ADC-BCDD-7A278F471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CD06A-802B-486B-AF7B-A2FFF5C9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8E8A8-E3DD-4CDC-A17A-841C23311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11294-43B3-4B01-AA24-4E7AB9BDF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57B80-91D5-464C-BB1C-F9D88A9DA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19227-75E3-404F-951F-3CAAF6388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697E9-3AA1-4035-8514-DF20EBF60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86BF5-5591-4150-A9CC-4B2708E52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BABB-423C-4D75-9CED-2FF88320D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14175-1BD4-4DB8-9F42-C0C8B664E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E8F6A-3622-4CC3-92F0-6A134F1AD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73C30-95EC-4877-AD43-A8CFF674B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8780A-D9EC-45F0-89AF-47DF598E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BA3C7-3E76-4392-9512-DF44F614F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78287-9AD7-48CD-8086-40A056B7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8744F-EB67-479E-BEB3-08417F28C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C2600-9D4F-427E-956C-6F6097FE7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46900-47B5-471F-8A10-3C017AB37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224AF-BB71-4922-B829-9EDB3D6C8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1EA2-27CE-482F-9499-DFD0249BB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78329-004C-44FC-9FD0-ADFB83728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F0AC8-EA49-4042-B532-2AF9CB6EE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D019D-3BF3-4C37-8057-3993026AC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C3AB1-3C7B-4855-9C71-F5963DF6E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9DD08-C327-42B0-B1B8-C291B55B9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840A1A-157C-414D-BD1A-47EADC76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2C7389-A438-43C5-B423-A42F5827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A985C3-E757-4076-A449-3B0E4526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CCA92-6DD5-42F7-9E62-337677204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18ACED-13A1-4F0C-AE53-4CF8E747B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2FCC-71E2-4335-AA25-234983B38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1CD297-21A4-4ED9-8F23-6B45FEBF2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691EB7-140E-4C66-BAB5-DD3148B7A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7B3FAB-6F6F-446E-8AB0-F1E8ED181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FBD211-4072-49E2-A27F-CC4016981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FC8D27-9F55-4C12-AEFC-4AE43F745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D7551A-6AA4-4B71-9ADB-7C64F5D10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9089C4-3A7D-48CC-B25E-D6047C2AC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933522-51AC-4993-9E4D-A3967DDF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A31E9E-F1F7-4C5B-B6E9-F0DDBBAA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3711F9-184B-4D6F-8AC0-E37D6552B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6B90-3C3E-4011-8D70-2E5127F4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879A5F-0A4E-4DF5-A9D4-6109E98E7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B5E93D-BE5A-4887-87DC-3CD0ADD5D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E26DC9-7E84-41AD-89FA-001667504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17CF-19FE-402C-8EA7-F8CF26E31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2964-AEC2-4314-9208-4A9A2AFE9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D071D-8773-47F2-9157-0C0101B00B9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DF1D5-21A4-4F3C-A2C2-B96B6D6243FA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8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p:grpSp>
        <p:nvGrpSpPr>
          <p:cNvPr id="8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8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8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8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8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8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8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8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9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9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grpSp>
          <p:nvGrpSpPr>
            <p:cNvPr id="9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9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9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Microsoft Sans Serif"/>
                  </a:endParaRPr>
                </a:p>
              </p:txBody>
            </p:sp>
            <p:sp>
              <p:nvSpPr>
                <p:cNvPr id="9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Microsoft Sans Serif"/>
                  </a:endParaRPr>
                </a:p>
              </p:txBody>
            </p:sp>
            <p:sp>
              <p:nvSpPr>
                <p:cNvPr id="9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Microsoft Sans Serif"/>
                  </a:endParaRPr>
                </a:p>
              </p:txBody>
            </p:sp>
          </p:grpSp>
          <p:sp>
            <p:nvSpPr>
              <p:cNvPr id="9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icrosoft Sans Serif"/>
                </a:endParaRPr>
              </a:p>
            </p:txBody>
          </p:sp>
          <p:sp>
            <p:nvSpPr>
              <p:cNvPr id="9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icrosoft Sans Serif"/>
                </a:endParaRPr>
              </a:p>
            </p:txBody>
          </p:sp>
          <p:sp>
            <p:nvSpPr>
              <p:cNvPr id="9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icrosoft Sans Serif"/>
                </a:endParaRPr>
              </a:p>
            </p:txBody>
          </p:sp>
          <p:grpSp>
            <p:nvGrpSpPr>
              <p:cNvPr id="10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Microsoft Sans Serif"/>
                  </a:endParaRPr>
                </a:p>
              </p:txBody>
            </p:sp>
            <p:sp>
              <p:nvSpPr>
                <p:cNvPr id="10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Microsoft Sans Serif"/>
                  </a:endParaRPr>
                </a:p>
              </p:txBody>
            </p:sp>
            <p:sp>
              <p:nvSpPr>
                <p:cNvPr id="10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Microsoft Sans Serif"/>
                  </a:endParaRPr>
                </a:p>
              </p:txBody>
            </p:sp>
            <p:sp>
              <p:nvSpPr>
                <p:cNvPr id="10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Microsoft Sans Serif"/>
                  </a:endParaRPr>
                </a:p>
              </p:txBody>
            </p:sp>
            <p:sp>
              <p:nvSpPr>
                <p:cNvPr id="10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Microsoft Sans Serif"/>
                  </a:endParaRPr>
                </a:p>
              </p:txBody>
            </p:sp>
            <p:sp>
              <p:nvSpPr>
                <p:cNvPr id="10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Microsoft Sans Serif"/>
                  </a:endParaRPr>
                </a:p>
              </p:txBody>
            </p:sp>
            <p:sp>
              <p:nvSpPr>
                <p:cNvPr id="10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Microsoft Sans Serif"/>
                  </a:endParaRPr>
                </a:p>
              </p:txBody>
            </p:sp>
            <p:sp>
              <p:nvSpPr>
                <p:cNvPr id="10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Microsoft Sans Serif"/>
                  </a:endParaRPr>
                </a:p>
              </p:txBody>
            </p:sp>
          </p:grpSp>
        </p:grpSp>
      </p:grpSp>
      <p:grpSp>
        <p:nvGrpSpPr>
          <p:cNvPr id="10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1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11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</p:grpSp>
      <p:grpSp>
        <p:nvGrpSpPr>
          <p:cNvPr id="112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113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11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icrosoft Sans Serif"/>
                </a:endParaRPr>
              </a:p>
            </p:txBody>
          </p:sp>
          <p:grpSp>
            <p:nvGrpSpPr>
              <p:cNvPr id="115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116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Microsoft Sans Serif"/>
                  </a:endParaRPr>
                </a:p>
              </p:txBody>
            </p:sp>
            <p:sp>
              <p:nvSpPr>
                <p:cNvPr id="117" name="Freeform 45"/>
                <p:cNvSpPr/>
                <p:nvPr/>
              </p:nvSpPr>
              <p:spPr>
                <a:xfrm rot="18427200">
                  <a:off x="8031240" y="514800"/>
                  <a:ext cx="4312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Microsoft Sans Serif"/>
                  </a:endParaRPr>
                </a:p>
              </p:txBody>
            </p:sp>
            <p:sp>
              <p:nvSpPr>
                <p:cNvPr id="118" name="Freeform 46"/>
                <p:cNvSpPr/>
                <p:nvPr/>
              </p:nvSpPr>
              <p:spPr>
                <a:xfrm rot="18427200">
                  <a:off x="7727760" y="2772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Microsoft Sans Serif"/>
                  </a:endParaRPr>
                </a:p>
              </p:txBody>
            </p:sp>
            <p:sp>
              <p:nvSpPr>
                <p:cNvPr id="119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Microsoft Sans Serif"/>
                  </a:endParaRPr>
                </a:p>
              </p:txBody>
            </p:sp>
            <p:sp>
              <p:nvSpPr>
                <p:cNvPr id="120" name="Freeform 48"/>
                <p:cNvSpPr/>
                <p:nvPr/>
              </p:nvSpPr>
              <p:spPr>
                <a:xfrm rot="18427200">
                  <a:off x="8427600" y="1418040"/>
                  <a:ext cx="27072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Microsoft Sans Serif"/>
                  </a:endParaRPr>
                </a:p>
              </p:txBody>
            </p:sp>
            <p:sp>
              <p:nvSpPr>
                <p:cNvPr id="121" name="Freeform 49"/>
                <p:cNvSpPr/>
                <p:nvPr/>
              </p:nvSpPr>
              <p:spPr>
                <a:xfrm rot="18427200">
                  <a:off x="8338320" y="127260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Microsoft Sans Serif"/>
                  </a:endParaRPr>
                </a:p>
              </p:txBody>
            </p:sp>
            <p:sp>
              <p:nvSpPr>
                <p:cNvPr id="122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Microsoft Sans Serif"/>
                  </a:endParaRPr>
                </a:p>
              </p:txBody>
            </p:sp>
            <p:sp>
              <p:nvSpPr>
                <p:cNvPr id="123" name="Freeform 51"/>
                <p:cNvSpPr/>
                <p:nvPr/>
              </p:nvSpPr>
              <p:spPr>
                <a:xfrm rot="18427200">
                  <a:off x="7871400" y="207360"/>
                  <a:ext cx="28692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Microsoft Sans Serif"/>
                  </a:endParaRPr>
                </a:p>
              </p:txBody>
            </p:sp>
          </p:grpSp>
        </p:grpSp>
        <p:sp>
          <p:nvSpPr>
            <p:cNvPr id="12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62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163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164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2D7B3-355A-48BF-9BF7-F5D7F2FF4A1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p:grpSp>
        <p:nvGrpSpPr>
          <p:cNvPr id="207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208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209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210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213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214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215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216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228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229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230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231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232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233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234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235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236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237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238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</p:grpSp>
      <p:sp>
        <p:nvSpPr>
          <p:cNvPr id="239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6AD6A-146E-4419-8870-E3B70E8A76A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p:grpSp>
        <p:nvGrpSpPr>
          <p:cNvPr id="282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83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284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285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grpSp>
          <p:nvGrpSpPr>
            <p:cNvPr id="286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87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icrosoft Sans Serif"/>
                </a:endParaRPr>
              </a:p>
            </p:txBody>
          </p:sp>
          <p:sp>
            <p:nvSpPr>
              <p:cNvPr id="288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icrosoft Sans Serif"/>
                </a:endParaRPr>
              </a:p>
            </p:txBody>
          </p:sp>
          <p:sp>
            <p:nvSpPr>
              <p:cNvPr id="289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icrosoft Sans Serif"/>
                </a:endParaRPr>
              </a:p>
            </p:txBody>
          </p:sp>
          <p:sp>
            <p:nvSpPr>
              <p:cNvPr id="290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icrosoft Sans Serif"/>
                </a:endParaRPr>
              </a:p>
            </p:txBody>
          </p:sp>
          <p:sp>
            <p:nvSpPr>
              <p:cNvPr id="291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icrosoft Sans Serif"/>
                </a:endParaRPr>
              </a:p>
            </p:txBody>
          </p:sp>
        </p:grpSp>
      </p:grpSp>
      <p:grpSp>
        <p:nvGrpSpPr>
          <p:cNvPr id="292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293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294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295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grpSp>
          <p:nvGrpSpPr>
            <p:cNvPr id="296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297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icrosoft Sans Serif"/>
                </a:endParaRPr>
              </a:p>
            </p:txBody>
          </p:sp>
          <p:sp>
            <p:nvSpPr>
              <p:cNvPr id="298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icrosoft Sans Serif"/>
                </a:endParaRPr>
              </a:p>
            </p:txBody>
          </p:sp>
          <p:sp>
            <p:nvSpPr>
              <p:cNvPr id="299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icrosoft Sans Serif"/>
                </a:endParaRPr>
              </a:p>
            </p:txBody>
          </p:sp>
          <p:sp>
            <p:nvSpPr>
              <p:cNvPr id="300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icrosoft Sans Serif"/>
                </a:endParaRPr>
              </a:p>
            </p:txBody>
          </p:sp>
          <p:sp>
            <p:nvSpPr>
              <p:cNvPr id="301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Microsoft Sans Serif"/>
                </a:endParaRPr>
              </a:p>
            </p:txBody>
          </p:sp>
        </p:grpSp>
      </p:grpSp>
      <p:sp>
        <p:nvSpPr>
          <p:cNvPr id="302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03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6461A-91C9-443A-A5E4-611E981D86ED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3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3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  <p:sp>
          <p:nvSpPr>
            <p:cNvPr id="3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icrosoft Sans Serif"/>
              </a:endParaRPr>
            </a:p>
          </p:txBody>
        </p:sp>
      </p:grp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8355A-AB38-4C82-BE59-9A63C67BFC0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55640" y="249192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ПРЕЗЕНТАЦИЯ К ОТКРЫТОМУ УРОКУ </a:t>
            </a:r>
            <a:br>
              <a:rPr sz="3600"/>
            </a:b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 ПО МАТЕМАТИКЕ </a:t>
            </a:r>
            <a:br>
              <a:rPr sz="3600"/>
            </a:b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В 6 КЛАССЕ ПО ТЕМЕ: «Нахождение дроби от числа и числа по его дроби».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205092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Учитель: Чижов Г. Ф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 u="sng">
                <a:solidFill>
                  <a:srgbClr val="330066"/>
                </a:solidFill>
                <a:uFillTx/>
                <a:latin typeface="Arial"/>
              </a:rPr>
              <a:t>Сведения госавтоинспекци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6633"/>
                </a:solidFill>
                <a:latin typeface="Arial"/>
              </a:rPr>
              <a:t>За 11 месяцев по Московской области произошло </a:t>
            </a:r>
            <a:r>
              <a:rPr b="1" lang="ru-RU" sz="3000" spc="-1" strike="noStrike">
                <a:solidFill>
                  <a:srgbClr val="00cc00"/>
                </a:solidFill>
                <a:latin typeface="Arial"/>
              </a:rPr>
              <a:t>12827 ДТП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6633"/>
                </a:solidFill>
                <a:latin typeface="Arial"/>
              </a:rPr>
              <a:t>Погибло – </a:t>
            </a:r>
            <a:r>
              <a:rPr b="1" lang="ru-RU" sz="3000" spc="-1" strike="noStrike">
                <a:solidFill>
                  <a:srgbClr val="0000ff"/>
                </a:solidFill>
                <a:latin typeface="Arial"/>
              </a:rPr>
              <a:t>2742 </a:t>
            </a:r>
            <a:r>
              <a:rPr b="1" lang="ru-RU" sz="3000" spc="-1" strike="noStrike">
                <a:solidFill>
                  <a:srgbClr val="996633"/>
                </a:solidFill>
                <a:latin typeface="Arial"/>
              </a:rPr>
              <a:t> человека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6633"/>
                </a:solidFill>
                <a:latin typeface="Arial"/>
              </a:rPr>
              <a:t>  </a:t>
            </a:r>
            <a:r>
              <a:rPr b="1" lang="ru-RU" sz="3000" spc="-1" strike="noStrike">
                <a:solidFill>
                  <a:srgbClr val="996633"/>
                </a:solidFill>
                <a:latin typeface="Arial"/>
              </a:rPr>
              <a:t>из них – </a:t>
            </a:r>
            <a:r>
              <a:rPr b="1" lang="ru-RU" sz="3000" spc="-1" strike="noStrike" u="sng">
                <a:solidFill>
                  <a:srgbClr val="0000ff"/>
                </a:solidFill>
                <a:uFillTx/>
                <a:latin typeface="Arial"/>
              </a:rPr>
              <a:t>75 детей</a:t>
            </a:r>
            <a:r>
              <a:rPr b="1" lang="ru-RU" sz="3000" spc="-1" strike="noStrike">
                <a:solidFill>
                  <a:srgbClr val="996633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6633"/>
                </a:solidFill>
                <a:latin typeface="Arial"/>
              </a:rPr>
              <a:t>Ранено </a:t>
            </a:r>
            <a:r>
              <a:rPr b="1" lang="ru-RU" sz="3000" spc="-1" strike="noStrike">
                <a:solidFill>
                  <a:srgbClr val="ff3300"/>
                </a:solidFill>
                <a:latin typeface="Arial"/>
              </a:rPr>
              <a:t>15349 </a:t>
            </a:r>
            <a:r>
              <a:rPr b="1" lang="ru-RU" sz="3000" spc="-1" strike="noStrike">
                <a:solidFill>
                  <a:srgbClr val="996633"/>
                </a:solidFill>
                <a:latin typeface="Arial"/>
              </a:rPr>
              <a:t>человек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6633"/>
                </a:solidFill>
                <a:latin typeface="Arial"/>
              </a:rPr>
              <a:t>  </a:t>
            </a:r>
            <a:r>
              <a:rPr b="1" lang="ru-RU" sz="3000" spc="-1" strike="noStrike">
                <a:solidFill>
                  <a:srgbClr val="996633"/>
                </a:solidFill>
                <a:latin typeface="Arial"/>
              </a:rPr>
              <a:t>из них – </a:t>
            </a:r>
            <a:r>
              <a:rPr b="1" lang="ru-RU" sz="3000" spc="-1" strike="noStrike" u="sng">
                <a:solidFill>
                  <a:srgbClr val="ff3300"/>
                </a:solidFill>
                <a:uFillTx/>
                <a:latin typeface="Arial"/>
              </a:rPr>
              <a:t>1285 детей</a:t>
            </a:r>
            <a:r>
              <a:rPr b="1" lang="ru-RU" sz="30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50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50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50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796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6250"/>
                            </p:stCondLst>
                            <p:childTnLst>
                              <p:par>
                                <p:cTn id="14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6" dur="20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8250"/>
                            </p:stCondLst>
                            <p:childTnLst>
                              <p:par>
                                <p:cTn id="14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0" dur="5000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3" dur="5000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3250"/>
                            </p:stCondLst>
                            <p:childTnLst>
                              <p:par>
                                <p:cTn id="1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0" fill="hold"/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0" fill="hold"/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0" fill="hold"/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0" fill="hold"/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497664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3300"/>
                </a:solidFill>
                <a:latin typeface="Arial"/>
              </a:rPr>
              <a:t>погибло</a:t>
            </a:r>
            <a:endParaRPr b="1" lang="en-US" sz="6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849240" y="3049560"/>
            <a:ext cx="4586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3300"/>
                </a:solidFill>
                <a:latin typeface="Arial"/>
              </a:rPr>
              <a:t>75 детей</a:t>
            </a:r>
            <a:r>
              <a:rPr b="0" lang="ru-RU" sz="54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3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3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3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3000" fill="hold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000" fill="hold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3000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0" dur="2000" fill="hold"/>
                                        <p:tgtEl>
                                          <p:spTgt spid="4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8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3" dur="2000" fill="hold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5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6" dur="5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9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0" dur="5000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0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7e9ce8"/>
                </a:solidFill>
                <a:latin typeface="Arial"/>
              </a:rPr>
              <a:t>Задача №1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91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cc00"/>
                </a:solidFill>
                <a:latin typeface="Arial"/>
              </a:rPr>
              <a:t>Из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ru-RU" sz="2600" spc="-1" strike="noStrike">
                <a:solidFill>
                  <a:srgbClr val="00cc00"/>
                </a:solidFill>
                <a:latin typeface="Arial"/>
              </a:rPr>
              <a:t> опрошенных школьников не выполняю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cc00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00cc00"/>
                </a:solidFill>
                <a:latin typeface="Arial"/>
              </a:rPr>
              <a:t>правила дорожного движения           учащихся  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cc00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00cc00"/>
                </a:solidFill>
                <a:latin typeface="Arial"/>
              </a:rPr>
              <a:t>не  всегда  соблюдают           всех учащихся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cc00"/>
                </a:solidFill>
                <a:latin typeface="Arial"/>
              </a:rPr>
              <a:t>    </a:t>
            </a:r>
            <a:r>
              <a:rPr b="1" i="1" lang="ru-RU" sz="2600" spc="-1" strike="noStrike">
                <a:solidFill>
                  <a:srgbClr val="ff3300"/>
                </a:solidFill>
                <a:latin typeface="Arial"/>
              </a:rPr>
              <a:t>Сколько детей выполняют ПДД, если он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i="1" lang="ru-RU" sz="2600" spc="-1" strike="noStrike">
                <a:solidFill>
                  <a:srgbClr val="ff3300"/>
                </a:solidFill>
                <a:latin typeface="Arial"/>
              </a:rPr>
              <a:t>составляют остальную часть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2" name="Object 5"/>
              <p:cNvSpPr txBox="1"/>
              <p:nvPr/>
            </p:nvSpPr>
            <p:spPr>
              <a:xfrm>
                <a:off x="5724360" y="2565360"/>
                <a:ext cx="63036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Object 6"/>
              <p:cNvSpPr txBox="1"/>
              <p:nvPr/>
            </p:nvSpPr>
            <p:spPr>
              <a:xfrm>
                <a:off x="4643280" y="3429000"/>
                <a:ext cx="43200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4" name="Text Box 10"/>
          <p:cNvSpPr/>
          <p:nvPr/>
        </p:nvSpPr>
        <p:spPr>
          <a:xfrm>
            <a:off x="4717080" y="6093000"/>
            <a:ext cx="363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СОСТАВИТЬ КРАТКУЮ ЗАПИСЬ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20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2000" fill="hold"/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4" dur="3000" fill="hold"/>
                                        <p:tgtEl>
                                          <p:spTgt spid="4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6" dur="3000" fill="hold"/>
                                        <p:tgtEl>
                                          <p:spTgt spid="43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2000" fill="hold"/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2000" fill="hold"/>
                                        <p:tgtEl>
                                          <p:spTgt spid="4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2000" fill="hold"/>
                                        <p:tgtEl>
                                          <p:spTgt spid="4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00cc00"/>
                </a:solidFill>
                <a:latin typeface="Arial"/>
              </a:rPr>
              <a:t>КРАТКАЯ ЗАПИСЬ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979640" y="1628280"/>
            <a:ext cx="40384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ча №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211280" y="1719360"/>
            <a:ext cx="447516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8" name="Object 6"/>
          <p:cNvGraphicFramePr/>
          <p:nvPr/>
        </p:nvGraphicFramePr>
        <p:xfrm>
          <a:off x="2124000" y="2421000"/>
          <a:ext cx="4105440" cy="24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421000"/>
                    <a:ext cx="410544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0" name="Line 7"/>
          <p:cNvSpPr/>
          <p:nvPr/>
        </p:nvSpPr>
        <p:spPr>
          <a:xfrm>
            <a:off x="4932360" y="2852640"/>
            <a:ext cx="289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41" name="Line 8"/>
          <p:cNvSpPr/>
          <p:nvPr/>
        </p:nvSpPr>
        <p:spPr>
          <a:xfrm>
            <a:off x="4140360" y="3645000"/>
            <a:ext cx="86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42" name="Text Box 13"/>
          <p:cNvSpPr/>
          <p:nvPr/>
        </p:nvSpPr>
        <p:spPr>
          <a:xfrm>
            <a:off x="2886480" y="6093000"/>
            <a:ext cx="372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icrosoft Sans Serif"/>
              </a:rPr>
              <a:t>Ответ: 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icrosoft Sans Serif"/>
              </a:rPr>
              <a:t>54 ученика выполняют   ПДД</a:t>
            </a: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43" name="Text Box 16"/>
          <p:cNvSpPr/>
          <p:nvPr/>
        </p:nvSpPr>
        <p:spPr>
          <a:xfrm>
            <a:off x="2322360" y="5661000"/>
            <a:ext cx="11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1 способ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44" name="Text Box 17"/>
          <p:cNvSpPr/>
          <p:nvPr/>
        </p:nvSpPr>
        <p:spPr>
          <a:xfrm>
            <a:off x="5706720" y="5661000"/>
            <a:ext cx="11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2 способ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45" name="Text Box 18"/>
          <p:cNvSpPr/>
          <p:nvPr/>
        </p:nvSpPr>
        <p:spPr>
          <a:xfrm>
            <a:off x="1985040" y="5084640"/>
            <a:ext cx="440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Решите задачу №1 двумя способами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7" dur="10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2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6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9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0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5" dur="200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cc3300"/>
                </a:solidFill>
                <a:latin typeface="Arial"/>
              </a:rPr>
              <a:t>Задача № 2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91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cc"/>
                </a:solidFill>
                <a:latin typeface="Arial"/>
              </a:rPr>
              <a:t>Из 120 опрошенных школьников не выполняю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0033cc"/>
                </a:solidFill>
                <a:latin typeface="Arial"/>
              </a:rPr>
              <a:t>правила дорожного движения           учащихся  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0033cc"/>
                </a:solidFill>
                <a:latin typeface="Arial"/>
              </a:rPr>
              <a:t>не  всегда  соблюдают           оставшихс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0033cc"/>
                </a:solidFill>
                <a:latin typeface="Arial"/>
              </a:rPr>
              <a:t>учащихся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cc00"/>
                </a:solidFill>
                <a:latin typeface="Arial"/>
              </a:rPr>
              <a:t>    </a:t>
            </a:r>
            <a:r>
              <a:rPr b="1" i="1" lang="ru-RU" sz="2600" spc="-1" strike="noStrike">
                <a:solidFill>
                  <a:srgbClr val="008000"/>
                </a:solidFill>
                <a:latin typeface="Arial"/>
              </a:rPr>
              <a:t>Сколько детей выполняют ПДД, если он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1" i="1" lang="ru-RU" sz="2600" spc="-1" strike="noStrike">
                <a:solidFill>
                  <a:srgbClr val="008000"/>
                </a:solidFill>
                <a:latin typeface="Arial"/>
              </a:rPr>
              <a:t>составляют остальную часть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9" name="Object 5"/>
              <p:cNvSpPr txBox="1"/>
              <p:nvPr/>
            </p:nvSpPr>
            <p:spPr>
              <a:xfrm>
                <a:off x="5724360" y="2565360"/>
                <a:ext cx="63036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Object 6"/>
              <p:cNvSpPr txBox="1"/>
              <p:nvPr/>
            </p:nvSpPr>
            <p:spPr>
              <a:xfrm>
                <a:off x="4643280" y="3213000"/>
                <a:ext cx="43200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2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1000" fill="hold"/>
                                        <p:tgtEl>
                                          <p:spTgt spid="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1000" fill="hold"/>
                                        <p:tgtEl>
                                          <p:spTgt spid="4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1000" fill="hold"/>
                                        <p:tgtEl>
                                          <p:spTgt spid="4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4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1000" fill="hold"/>
                                        <p:tgtEl>
                                          <p:spTgt spid="4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1000" fill="hold"/>
                                        <p:tgtEl>
                                          <p:spTgt spid="4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4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7e9ce8"/>
                </a:solidFill>
                <a:latin typeface="Arial"/>
              </a:rPr>
              <a:t>Задача №1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91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cc00"/>
                </a:solidFill>
                <a:latin typeface="Arial"/>
              </a:rPr>
              <a:t>Из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ru-RU" sz="2600" spc="-1" strike="noStrike">
                <a:solidFill>
                  <a:srgbClr val="00cc00"/>
                </a:solidFill>
                <a:latin typeface="Arial"/>
              </a:rPr>
              <a:t> опрошенных школьников не выполняю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cc00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00cc00"/>
                </a:solidFill>
                <a:latin typeface="Arial"/>
              </a:rPr>
              <a:t>правила дорожного движения           учащихся  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cc00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00cc00"/>
                </a:solidFill>
                <a:latin typeface="Arial"/>
              </a:rPr>
              <a:t>не  всегда  соблюдаю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cc00"/>
                </a:solidFill>
                <a:latin typeface="Arial"/>
              </a:rPr>
              <a:t>    </a:t>
            </a:r>
            <a:r>
              <a:rPr b="1" i="1" lang="ru-RU" sz="2600" spc="-1" strike="noStrike">
                <a:solidFill>
                  <a:srgbClr val="ff3300"/>
                </a:solidFill>
                <a:latin typeface="Arial"/>
              </a:rPr>
              <a:t>Сколько детей выполняют ПДД, если он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i="1" lang="ru-RU" sz="2600" spc="-1" strike="noStrike">
                <a:solidFill>
                  <a:srgbClr val="ff3300"/>
                </a:solidFill>
                <a:latin typeface="Arial"/>
              </a:rPr>
              <a:t>составляют остальную часть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Object 5"/>
              <p:cNvSpPr txBox="1"/>
              <p:nvPr/>
            </p:nvSpPr>
            <p:spPr>
              <a:xfrm>
                <a:off x="5724360" y="2492280"/>
                <a:ext cx="63036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Object 6"/>
              <p:cNvSpPr txBox="1"/>
              <p:nvPr/>
            </p:nvSpPr>
            <p:spPr>
              <a:xfrm>
                <a:off x="4643280" y="3429000"/>
                <a:ext cx="43200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6" name="Text Box 8"/>
          <p:cNvSpPr/>
          <p:nvPr/>
        </p:nvSpPr>
        <p:spPr>
          <a:xfrm>
            <a:off x="5003640" y="4221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57" name="Text Box 9"/>
          <p:cNvSpPr/>
          <p:nvPr/>
        </p:nvSpPr>
        <p:spPr>
          <a:xfrm>
            <a:off x="5292720" y="3573360"/>
            <a:ext cx="26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cc00"/>
                </a:solidFill>
                <a:uFillTx/>
                <a:latin typeface="Microsoft Sans Serif"/>
              </a:rPr>
              <a:t>всех    учащихся.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58" name="Text Box 10"/>
          <p:cNvSpPr/>
          <p:nvPr/>
        </p:nvSpPr>
        <p:spPr>
          <a:xfrm>
            <a:off x="5134320" y="3573360"/>
            <a:ext cx="38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cc00"/>
                </a:solidFill>
                <a:uFillTx/>
                <a:latin typeface="Microsoft Sans Serif"/>
              </a:rPr>
              <a:t>оставшихся учащихся.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59" name="Rectangle 11"/>
          <p:cNvSpPr/>
          <p:nvPr/>
        </p:nvSpPr>
        <p:spPr>
          <a:xfrm>
            <a:off x="673200" y="338040"/>
            <a:ext cx="7543800" cy="10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cc3300"/>
                </a:solidFill>
                <a:latin typeface="Arial"/>
              </a:rPr>
              <a:t>Задача № 2.</a:t>
            </a:r>
            <a:endParaRPr b="0" lang="en-US" sz="39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60" name="Text Box 12"/>
          <p:cNvSpPr/>
          <p:nvPr/>
        </p:nvSpPr>
        <p:spPr>
          <a:xfrm>
            <a:off x="4645440" y="6021360"/>
            <a:ext cx="363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СОСТАВИТЬ КРАТКУЮ ЗАПИСЬ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4" dur="3000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3000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8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9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4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3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3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2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2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5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3" dur="2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126e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5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56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00cc00"/>
                </a:solidFill>
                <a:latin typeface="Arial"/>
              </a:rPr>
              <a:t>КРАТКАЯ ЗАПИСЬ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ча №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211280" y="1719360"/>
            <a:ext cx="447516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Задача №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4" name="Object 20"/>
          <p:cNvGraphicFramePr/>
          <p:nvPr/>
        </p:nvGraphicFramePr>
        <p:xfrm>
          <a:off x="324000" y="2727360"/>
          <a:ext cx="4105080" cy="24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5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727360"/>
                    <a:ext cx="410508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6" name="Line 26"/>
          <p:cNvSpPr/>
          <p:nvPr/>
        </p:nvSpPr>
        <p:spPr>
          <a:xfrm>
            <a:off x="3132000" y="3141720"/>
            <a:ext cx="289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67" name="Line 27"/>
          <p:cNvSpPr/>
          <p:nvPr/>
        </p:nvSpPr>
        <p:spPr>
          <a:xfrm>
            <a:off x="2268360" y="4005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p:graphicFrame>
        <p:nvGraphicFramePr>
          <p:cNvPr id="468" name="Object 33"/>
          <p:cNvGraphicFramePr/>
          <p:nvPr/>
        </p:nvGraphicFramePr>
        <p:xfrm>
          <a:off x="4500720" y="2797200"/>
          <a:ext cx="4176720" cy="217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9" name="Object 3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00720" y="2797200"/>
                    <a:ext cx="4176720" cy="21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0" name="Line 36"/>
          <p:cNvSpPr/>
          <p:nvPr/>
        </p:nvSpPr>
        <p:spPr>
          <a:xfrm>
            <a:off x="7380360" y="3141720"/>
            <a:ext cx="4316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71" name="Line 37"/>
          <p:cNvSpPr/>
          <p:nvPr/>
        </p:nvSpPr>
        <p:spPr>
          <a:xfrm>
            <a:off x="6443640" y="4005360"/>
            <a:ext cx="79236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72" name="Line 40"/>
          <p:cNvSpPr/>
          <p:nvPr/>
        </p:nvSpPr>
        <p:spPr>
          <a:xfrm>
            <a:off x="4427640" y="1484280"/>
            <a:ext cx="0" cy="537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73" name="Text Box 41"/>
          <p:cNvSpPr/>
          <p:nvPr/>
        </p:nvSpPr>
        <p:spPr>
          <a:xfrm>
            <a:off x="295560" y="5661000"/>
            <a:ext cx="372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icrosoft Sans Serif"/>
              </a:rPr>
              <a:t>Ответ: 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icrosoft Sans Serif"/>
              </a:rPr>
              <a:t>54 ученика выполняют   ПДД</a:t>
            </a: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74" name="Text Box 42"/>
          <p:cNvSpPr/>
          <p:nvPr/>
        </p:nvSpPr>
        <p:spPr>
          <a:xfrm>
            <a:off x="4468320" y="5661000"/>
            <a:ext cx="372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icrosoft Sans Serif"/>
              </a:rPr>
              <a:t>Ответ: 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icrosoft Sans Serif"/>
              </a:rPr>
              <a:t>63 ученика выполняют   ПДД.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75" name="AutoShape 47"/>
          <p:cNvSpPr/>
          <p:nvPr/>
        </p:nvSpPr>
        <p:spPr>
          <a:xfrm>
            <a:off x="8244000" y="5950080"/>
            <a:ext cx="663480" cy="626760"/>
          </a:xfrm>
          <a:custGeom>
            <a:avLst/>
            <a:gdLst>
              <a:gd name="textAreaLeft" fmla="*/ 273240 w 663480"/>
              <a:gd name="textAreaRight" fmla="*/ 390240 w 663480"/>
              <a:gd name="textAreaTop" fmla="*/ 258120 h 626760"/>
              <a:gd name="textAreaBottom" fmla="*/ 368640 h 626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76" name="Text Box 48"/>
          <p:cNvSpPr/>
          <p:nvPr/>
        </p:nvSpPr>
        <p:spPr>
          <a:xfrm>
            <a:off x="6012720" y="5246640"/>
            <a:ext cx="12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РЕШЕНИЕ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77" name="Text Box 50"/>
          <p:cNvSpPr/>
          <p:nvPr/>
        </p:nvSpPr>
        <p:spPr>
          <a:xfrm>
            <a:off x="522000" y="6308640"/>
            <a:ext cx="11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1 способ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78" name="Text Box 51"/>
          <p:cNvSpPr/>
          <p:nvPr/>
        </p:nvSpPr>
        <p:spPr>
          <a:xfrm>
            <a:off x="2538360" y="6308640"/>
            <a:ext cx="11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2 способ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9" dur="2000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4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8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2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2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3"/>
          <p:cNvSpPr/>
          <p:nvPr/>
        </p:nvSpPr>
        <p:spPr>
          <a:xfrm>
            <a:off x="1763640" y="2060640"/>
            <a:ext cx="48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Домашнее  задание: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80" name="Text Box 4"/>
          <p:cNvSpPr/>
          <p:nvPr/>
        </p:nvSpPr>
        <p:spPr>
          <a:xfrm>
            <a:off x="755640" y="3213000"/>
            <a:ext cx="7416720" cy="21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Georgia"/>
              </a:rPr>
              <a:t>Решить  задачу  №</a:t>
            </a:r>
            <a:r>
              <a:rPr b="1" i="1" lang="ru-RU" sz="5400" spc="-1" strike="noStrike">
                <a:solidFill>
                  <a:srgbClr val="cc0000"/>
                </a:solidFill>
                <a:latin typeface="Georgia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Microsoft Sans Serif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Georgia"/>
              </a:rPr>
              <a:t>другим способом  </a:t>
            </a:r>
            <a:endParaRPr b="0" lang="en-US" sz="4000" spc="-1" strike="noStrike">
              <a:solidFill>
                <a:srgbClr val="000000"/>
              </a:solidFill>
              <a:latin typeface="Microsoft Sans Serif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Georg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8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5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6872400" cy="14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00ff"/>
                </a:solidFill>
                <a:latin typeface="Arial"/>
              </a:rPr>
              <a:t>Нарушения, которые чаще всего допускают дети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08000" y="1341000"/>
            <a:ext cx="43876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cc00"/>
                </a:solidFill>
                <a:latin typeface="Arial"/>
              </a:rPr>
              <a:t>Переход улицы перед близко движущимся транспортом – 27%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90752"/>
                </a:solidFill>
                <a:latin typeface="Arial"/>
              </a:rPr>
              <a:t>Переход улицы на красный сигнал светофора – 27%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96633"/>
                </a:solidFill>
                <a:latin typeface="Arial"/>
              </a:rPr>
              <a:t>Невнимательность при переходе улицы – 17%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Arial"/>
              </a:rPr>
              <a:t>Неожиданный выход из-за транспортных средств - 9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77777"/>
                </a:solidFill>
                <a:latin typeface="Arial"/>
              </a:rPr>
              <a:t>Игры на проезжей части-20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3" name="Object 6"/>
          <p:cNvGraphicFramePr/>
          <p:nvPr/>
        </p:nvGraphicFramePr>
        <p:xfrm>
          <a:off x="4170240" y="1557360"/>
          <a:ext cx="499284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0240" y="1557360"/>
                    <a:ext cx="499284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0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7" nodeType="afterEffect" fill="hold" presetClass="entr" presetID="49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6900"/>
                            </p:stCondLst>
                            <p:childTnLst>
                              <p:par>
                                <p:cTn id="444" nodeType="afterEffect" fill="hold" presetClass="entr" presetID="49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1400"/>
                            </p:stCondLst>
                            <p:childTnLst>
                              <p:par>
                                <p:cTn id="451" nodeType="afterEffect" fill="hold" presetClass="entr" presetID="49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15700"/>
                            </p:stCondLst>
                            <p:childTnLst>
                              <p:par>
                                <p:cTn id="458" nodeType="afterEffect" fill="hold" presetClass="entr" presetID="49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20300"/>
                            </p:stCondLst>
                            <p:childTnLst>
                              <p:par>
                                <p:cTn id="465" nodeType="afterEffect" fill="hold" presetClass="entr" presetID="49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5" dur="3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4000" y="620280"/>
            <a:ext cx="7543800" cy="352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cc00"/>
                </a:solidFill>
                <a:latin typeface="Arial"/>
              </a:rPr>
              <a:t>РЕШЕНИЕ ЗАДАЧ</a:t>
            </a:r>
            <a:br>
              <a:rPr sz="4000"/>
            </a:br>
            <a:br>
              <a:rPr sz="4300"/>
            </a:br>
            <a:r>
              <a:rPr b="1" i="1" lang="ru-RU" sz="4300" spc="-1" strike="noStrike">
                <a:solidFill>
                  <a:srgbClr val="ff3300"/>
                </a:solidFill>
                <a:latin typeface="Arial"/>
              </a:rPr>
              <a:t>НАХОЖДЕНИЕ</a:t>
            </a:r>
            <a:br>
              <a:rPr sz="4300"/>
            </a:br>
            <a:r>
              <a:rPr b="1" i="1" lang="ru-RU" sz="4300" spc="-1" strike="noStrike">
                <a:solidFill>
                  <a:srgbClr val="ff3300"/>
                </a:solidFill>
                <a:latin typeface="Arial"/>
              </a:rPr>
              <a:t> ДРОБИ ОТ ЧИСЛА </a:t>
            </a:r>
            <a:br>
              <a:rPr sz="4300"/>
            </a:br>
            <a:r>
              <a:rPr b="1" i="1" lang="ru-RU" sz="4300" spc="-1" strike="noStrike">
                <a:solidFill>
                  <a:srgbClr val="ff3300"/>
                </a:solidFill>
                <a:latin typeface="Arial"/>
              </a:rPr>
              <a:t>И ЧИСЛА ПО ЕГО ДРОБИ.</a:t>
            </a: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10920" y="3068280"/>
            <a:ext cx="7543800" cy="208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i="1" lang="ru-RU" sz="4800" spc="-1" strike="noStrike">
                <a:solidFill>
                  <a:srgbClr val="cc0066"/>
                </a:solidFill>
                <a:latin typeface="Comic Sans MS"/>
              </a:rPr>
              <a:t>«</a:t>
            </a:r>
            <a:r>
              <a:rPr b="1" i="1" lang="ru-RU" sz="4800" spc="-1" strike="noStrike">
                <a:solidFill>
                  <a:srgbClr val="cc0066"/>
                </a:solidFill>
                <a:latin typeface="Comic Sans MS"/>
              </a:rPr>
              <a:t>НАХОЖДЕНИЕ</a:t>
            </a:r>
            <a:br>
              <a:rPr sz="4800"/>
            </a:br>
            <a:r>
              <a:rPr b="0" i="1" lang="ru-RU" sz="4800" spc="-1" strike="noStrike">
                <a:solidFill>
                  <a:srgbClr val="cc0066"/>
                </a:solidFill>
                <a:latin typeface="Comic Sans MS"/>
              </a:rPr>
              <a:t> </a:t>
            </a:r>
            <a:r>
              <a:rPr b="1" i="1" lang="ru-RU" sz="4800" spc="-1" strike="noStrike">
                <a:solidFill>
                  <a:srgbClr val="cc0066"/>
                </a:solidFill>
                <a:latin typeface="Comic Sans MS"/>
              </a:rPr>
              <a:t>ДРОБИ ОТ ЧИСЛА </a:t>
            </a:r>
            <a:br>
              <a:rPr sz="4800"/>
            </a:br>
            <a:r>
              <a:rPr b="1" i="1" lang="ru-RU" sz="4800" spc="-1" strike="noStrike">
                <a:solidFill>
                  <a:srgbClr val="cc0066"/>
                </a:solidFill>
                <a:latin typeface="Comic Sans MS"/>
              </a:rPr>
              <a:t>И ЧИСЛА ПО ЕГО ДРОБИ</a:t>
            </a:r>
            <a:r>
              <a:rPr b="0" i="1" lang="ru-RU" sz="4800" spc="-1" strike="noStrike">
                <a:solidFill>
                  <a:srgbClr val="cc0066"/>
                </a:solidFill>
                <a:latin typeface="Comic Sans MS"/>
              </a:rPr>
              <a:t>»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WordArt 5"/>
          <p:cNvSpPr txBox="1"/>
          <p:nvPr/>
        </p:nvSpPr>
        <p:spPr>
          <a:xfrm>
            <a:off x="928800" y="714240"/>
            <a:ext cx="57625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cc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ешение  задач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00cc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1092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7e9ce8"/>
                </a:solidFill>
                <a:latin typeface="Arial"/>
              </a:rPr>
              <a:t>Задача №1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91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cc00"/>
                </a:solidFill>
                <a:latin typeface="Arial"/>
              </a:rPr>
              <a:t>Из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ru-RU" sz="2600" spc="-1" strike="noStrike">
                <a:solidFill>
                  <a:srgbClr val="00cc00"/>
                </a:solidFill>
                <a:latin typeface="Arial"/>
              </a:rPr>
              <a:t> опрошенных школьников не выполняю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cc00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00cc00"/>
                </a:solidFill>
                <a:latin typeface="Arial"/>
              </a:rPr>
              <a:t>правила дорожного движения           учащихся  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cc00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00cc00"/>
                </a:solidFill>
                <a:latin typeface="Arial"/>
              </a:rPr>
              <a:t>не  всегда  соблюдают           всех учащихся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cc00"/>
                </a:solidFill>
                <a:latin typeface="Arial"/>
              </a:rPr>
              <a:t>    </a:t>
            </a:r>
            <a:r>
              <a:rPr b="1" i="1" lang="ru-RU" sz="2600" spc="-1" strike="noStrike">
                <a:solidFill>
                  <a:srgbClr val="ff3300"/>
                </a:solidFill>
                <a:latin typeface="Arial"/>
              </a:rPr>
              <a:t>Сколько детей выполняют ПДД, если он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i="1" lang="ru-RU" sz="2600" spc="-1" strike="noStrike">
                <a:solidFill>
                  <a:srgbClr val="ff3300"/>
                </a:solidFill>
                <a:latin typeface="Arial"/>
              </a:rPr>
              <a:t>составляют остальную часть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9" name="Object 5"/>
              <p:cNvSpPr txBox="1"/>
              <p:nvPr/>
            </p:nvSpPr>
            <p:spPr>
              <a:xfrm>
                <a:off x="5724360" y="2565360"/>
                <a:ext cx="63036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Object 6"/>
              <p:cNvSpPr txBox="1"/>
              <p:nvPr/>
            </p:nvSpPr>
            <p:spPr>
              <a:xfrm>
                <a:off x="4643280" y="3429000"/>
                <a:ext cx="43200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91" name="Text Box 8"/>
          <p:cNvSpPr/>
          <p:nvPr/>
        </p:nvSpPr>
        <p:spPr>
          <a:xfrm>
            <a:off x="817560" y="5589720"/>
            <a:ext cx="490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</a:rPr>
              <a:t>Ответ</a:t>
            </a:r>
            <a:r>
              <a:rPr b="1" lang="ru-RU" sz="20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</a:rPr>
              <a:t>54 ученика выполняют   ПДД</a:t>
            </a:r>
            <a:r>
              <a:rPr b="0" lang="ru-RU" sz="2400" spc="-1" strike="noStrike">
                <a:solidFill>
                  <a:srgbClr val="000000"/>
                </a:solidFill>
                <a:latin typeface="Microsoft Sans Serif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92" name="Text Box 9"/>
          <p:cNvSpPr/>
          <p:nvPr/>
        </p:nvSpPr>
        <p:spPr>
          <a:xfrm>
            <a:off x="652680" y="206280"/>
            <a:ext cx="474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Составить к задаче №1 обратную задачу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6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7e9ce8"/>
                </a:solidFill>
                <a:latin typeface="Arial"/>
              </a:rPr>
              <a:t>Задача №1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91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cc00"/>
                </a:solidFill>
                <a:latin typeface="Arial"/>
              </a:rPr>
              <a:t>Из </a:t>
            </a:r>
            <a:r>
              <a:rPr b="0" lang="en-US" sz="2600" spc="-1" strike="noStrike">
                <a:solidFill>
                  <a:srgbClr val="00cc00"/>
                </a:solidFill>
                <a:latin typeface="Arial"/>
              </a:rPr>
              <a:t>        </a:t>
            </a:r>
            <a:r>
              <a:rPr b="0" lang="ru-RU" sz="2600" spc="-1" strike="noStrike">
                <a:solidFill>
                  <a:srgbClr val="00cc00"/>
                </a:solidFill>
                <a:latin typeface="Arial"/>
              </a:rPr>
              <a:t>опрошенных школьников не выполняю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cc00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00cc00"/>
                </a:solidFill>
                <a:latin typeface="Arial"/>
              </a:rPr>
              <a:t>правила дорожного движения           учащихся  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cc00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00cc00"/>
                </a:solidFill>
                <a:latin typeface="Arial"/>
              </a:rPr>
              <a:t>не  всегда  соблюдают           всех учащихся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cc00"/>
                </a:solidFill>
                <a:latin typeface="Arial"/>
              </a:rPr>
              <a:t>    </a:t>
            </a:r>
            <a:r>
              <a:rPr b="1" i="1" lang="ru-RU" sz="2600" spc="-1" strike="noStrike">
                <a:solidFill>
                  <a:srgbClr val="ff3300"/>
                </a:solidFill>
                <a:latin typeface="Arial"/>
              </a:rPr>
              <a:t>Сколько детей выполняют ПДД, если он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i="1" lang="ru-RU" sz="2600" spc="-1" strike="noStrike">
                <a:solidFill>
                  <a:srgbClr val="ff3300"/>
                </a:solidFill>
                <a:latin typeface="Arial"/>
              </a:rPr>
              <a:t>составляют остальную часть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6" name="Object 5"/>
              <p:cNvSpPr txBox="1"/>
              <p:nvPr/>
            </p:nvSpPr>
            <p:spPr>
              <a:xfrm>
                <a:off x="5724360" y="2565360"/>
                <a:ext cx="63036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7" name="Object 6"/>
              <p:cNvSpPr txBox="1"/>
              <p:nvPr/>
            </p:nvSpPr>
            <p:spPr>
              <a:xfrm>
                <a:off x="4643280" y="3429000"/>
                <a:ext cx="43200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98" name="Text Box 8"/>
          <p:cNvSpPr/>
          <p:nvPr/>
        </p:nvSpPr>
        <p:spPr>
          <a:xfrm>
            <a:off x="890640" y="5589720"/>
            <a:ext cx="490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</a:rPr>
              <a:t>Ответ</a:t>
            </a:r>
            <a:r>
              <a:rPr b="1" lang="ru-RU" sz="20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</a:rPr>
              <a:t>54 ученика выполняют   ПДД</a:t>
            </a:r>
            <a:r>
              <a:rPr b="0" lang="ru-RU" sz="2400" spc="-1" strike="noStrike">
                <a:solidFill>
                  <a:srgbClr val="000000"/>
                </a:solidFill>
                <a:latin typeface="Microsoft Sans Serif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99" name="Text Box 9"/>
          <p:cNvSpPr/>
          <p:nvPr/>
        </p:nvSpPr>
        <p:spPr>
          <a:xfrm>
            <a:off x="890640" y="5661000"/>
            <a:ext cx="49006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</a:rPr>
              <a:t>54 ученика выполняют   ПДД</a:t>
            </a:r>
            <a:r>
              <a:rPr b="0" lang="ru-RU" sz="2400" spc="-1" strike="noStrike">
                <a:solidFill>
                  <a:srgbClr val="000000"/>
                </a:solidFill>
                <a:latin typeface="Microsoft Sans Serif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00" name="Text Box 12"/>
          <p:cNvSpPr/>
          <p:nvPr/>
        </p:nvSpPr>
        <p:spPr>
          <a:xfrm>
            <a:off x="755640" y="5300640"/>
            <a:ext cx="51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Сколько детей было опрошено?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01" name="Rectangle 13"/>
          <p:cNvSpPr/>
          <p:nvPr/>
        </p:nvSpPr>
        <p:spPr>
          <a:xfrm>
            <a:off x="611280" y="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7e9ce8"/>
                </a:solidFill>
                <a:latin typeface="Arial"/>
              </a:rPr>
              <a:t>Обратная  задача</a:t>
            </a:r>
            <a:endParaRPr b="0" lang="en-US" sz="39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02" name="Text Box 14"/>
          <p:cNvSpPr/>
          <p:nvPr/>
        </p:nvSpPr>
        <p:spPr>
          <a:xfrm>
            <a:off x="2321280" y="6254640"/>
            <a:ext cx="363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СОСТАВИТЬ КРАТКУЮ ЗАПИСЬ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xit" presetID="5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93" dur="500"/>
                                        <p:tgtEl>
                                          <p:spTgt spid="4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xit" presetID="5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96" dur="500"/>
                                        <p:tgtEl>
                                          <p:spTgt spid="4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577 -0.02406 L -0.02275 -0.22346 E">
                                      <p:cBhvr>
                                        <p:cTn id="506" dur="2000" fill="hold"/>
                                        <p:tgtEl>
                                          <p:spTgt spid="4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7" nodeType="withEffect" fill="hold" presetClass="exit" presetID="4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0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1" nodeType="after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2" dur="2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xit" presetID="4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16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9" nodeType="after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1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6" dur="8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7" dur="8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8" dur="8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00cc00"/>
                </a:solidFill>
                <a:latin typeface="Arial"/>
              </a:rPr>
              <a:t>КРАТКАЯ ЗАПИСЬ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ча №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211280" y="1719360"/>
            <a:ext cx="447516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братная задач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6" name="Object 6"/>
          <p:cNvGraphicFramePr/>
          <p:nvPr/>
        </p:nvGraphicFramePr>
        <p:xfrm>
          <a:off x="324000" y="2749680"/>
          <a:ext cx="4105080" cy="23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749680"/>
                    <a:ext cx="4105080" cy="23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8" name="Line 7"/>
          <p:cNvSpPr/>
          <p:nvPr/>
        </p:nvSpPr>
        <p:spPr>
          <a:xfrm>
            <a:off x="3132000" y="3141720"/>
            <a:ext cx="289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09" name="Line 8"/>
          <p:cNvSpPr/>
          <p:nvPr/>
        </p:nvSpPr>
        <p:spPr>
          <a:xfrm>
            <a:off x="2268360" y="4005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p:graphicFrame>
        <p:nvGraphicFramePr>
          <p:cNvPr id="510" name="Object 9"/>
          <p:cNvGraphicFramePr/>
          <p:nvPr/>
        </p:nvGraphicFramePr>
        <p:xfrm>
          <a:off x="4716360" y="2687760"/>
          <a:ext cx="3413160" cy="230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2687760"/>
                    <a:ext cx="3413160" cy="23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2" name="Line 10"/>
          <p:cNvSpPr/>
          <p:nvPr/>
        </p:nvSpPr>
        <p:spPr>
          <a:xfrm>
            <a:off x="7380360" y="3141720"/>
            <a:ext cx="4316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13" name="Line 11"/>
          <p:cNvSpPr/>
          <p:nvPr/>
        </p:nvSpPr>
        <p:spPr>
          <a:xfrm>
            <a:off x="6443640" y="3789360"/>
            <a:ext cx="11527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14" name="Line 12"/>
          <p:cNvSpPr/>
          <p:nvPr/>
        </p:nvSpPr>
        <p:spPr>
          <a:xfrm>
            <a:off x="4427640" y="1484280"/>
            <a:ext cx="0" cy="537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15" name="Text Box 13"/>
          <p:cNvSpPr/>
          <p:nvPr/>
        </p:nvSpPr>
        <p:spPr>
          <a:xfrm>
            <a:off x="295560" y="5661000"/>
            <a:ext cx="372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icrosoft Sans Serif"/>
              </a:rPr>
              <a:t>Ответ: 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icrosoft Sans Serif"/>
              </a:rPr>
              <a:t>54 ученика выполняют   ПДД</a:t>
            </a: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16" name="Text Box 19"/>
          <p:cNvSpPr/>
          <p:nvPr/>
        </p:nvSpPr>
        <p:spPr>
          <a:xfrm>
            <a:off x="4477320" y="5734080"/>
            <a:ext cx="313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icrosoft Sans Serif"/>
              </a:rPr>
              <a:t>Ответ: 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icrosoft Sans Serif"/>
              </a:rPr>
              <a:t>120 учеников опрошено</a:t>
            </a: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17" name="Text Box 21"/>
          <p:cNvSpPr/>
          <p:nvPr/>
        </p:nvSpPr>
        <p:spPr>
          <a:xfrm>
            <a:off x="7246440" y="5084640"/>
            <a:ext cx="1598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a1d06"/>
                </a:solidFill>
                <a:latin typeface="Microsoft Sans Serif"/>
              </a:rPr>
              <a:t>КАК МОЖНО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a1d06"/>
                </a:solidFill>
                <a:latin typeface="Microsoft Sans Serif"/>
              </a:rPr>
              <a:t>РЕШИТЬ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a1d06"/>
                </a:solidFill>
                <a:latin typeface="Microsoft Sans Serif"/>
              </a:rPr>
              <a:t>ЗАДАЧУ?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5" dur="20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0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3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6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6" dur="8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7" dur="8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8" dur="8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8" name="Object 7"/>
          <p:cNvGraphicFramePr/>
          <p:nvPr/>
        </p:nvGraphicFramePr>
        <p:xfrm>
          <a:off x="3564000" y="3573360"/>
          <a:ext cx="1668240" cy="74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4000" y="3573360"/>
                    <a:ext cx="1668240" cy="7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26560" y="2133360"/>
            <a:ext cx="7975800" cy="33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cc0066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cc0066"/>
                </a:solidFill>
                <a:latin typeface="Arial"/>
              </a:rPr>
              <a:t>Придумайте  задачу заданного типа, используя данные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cc0066"/>
                </a:solidFill>
                <a:latin typeface="Arial"/>
              </a:rPr>
              <a:t>и решите ее любым способом.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1" name="WordArt 3"/>
          <p:cNvSpPr txBox="1"/>
          <p:nvPr/>
        </p:nvSpPr>
        <p:spPr>
          <a:xfrm>
            <a:off x="2124000" y="549360"/>
            <a:ext cx="45338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дание</a:t>
            </a:r>
            <a:endParaRPr b="1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22" name="AutoShape 4"/>
          <p:cNvSpPr/>
          <p:nvPr/>
        </p:nvSpPr>
        <p:spPr>
          <a:xfrm>
            <a:off x="8675640" y="5950080"/>
            <a:ext cx="468360" cy="57600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76000"/>
              <a:gd name="textAreaBottom" fmla="*/ 545760 h 576000"/>
            </a:gdLst>
            <a:ahLst/>
            <a:rect l="textAreaLeft" t="textAreaTop" r="textAreaRight" b="textAreaBottom"/>
            <a:pathLst>
              <a:path w="21600" h="26560">
                <a:moveTo>
                  <a:pt x="0" y="0"/>
                </a:moveTo>
                <a:lnTo>
                  <a:pt x="21600" y="0"/>
                </a:lnTo>
                <a:lnTo>
                  <a:pt x="21600" y="26560"/>
                </a:lnTo>
                <a:lnTo>
                  <a:pt x="0" y="26560"/>
                </a:lnTo>
                <a:close/>
              </a:path>
              <a:path fill="lightenLess" w="21600" h="2656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560">
                <a:moveTo>
                  <a:pt x="21600" y="0"/>
                </a:moveTo>
                <a:lnTo>
                  <a:pt x="21600" y="26560"/>
                </a:lnTo>
                <a:lnTo>
                  <a:pt x="20200" y="25160"/>
                </a:lnTo>
                <a:lnTo>
                  <a:pt x="20200" y="1400"/>
                </a:lnTo>
                <a:close/>
              </a:path>
              <a:path fill="darkenLess" w="21600" h="26560">
                <a:moveTo>
                  <a:pt x="21600" y="26560"/>
                </a:moveTo>
                <a:lnTo>
                  <a:pt x="0" y="26560"/>
                </a:lnTo>
                <a:lnTo>
                  <a:pt x="1400" y="25160"/>
                </a:lnTo>
                <a:lnTo>
                  <a:pt x="20200" y="25160"/>
                </a:lnTo>
                <a:close/>
              </a:path>
              <a:path fill="lighten" w="21600" h="26560">
                <a:moveTo>
                  <a:pt x="0" y="2656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160"/>
                </a:lnTo>
                <a:close/>
              </a:path>
              <a:path fill="darken" w="21600" h="26560">
                <a:moveTo>
                  <a:pt x="14299" y="13280"/>
                </a:moveTo>
                <a:lnTo>
                  <a:pt x="3794" y="20287"/>
                </a:lnTo>
                <a:lnTo>
                  <a:pt x="3794" y="6274"/>
                </a:lnTo>
                <a:close/>
              </a:path>
              <a:path fill="darken" w="21600" h="26560">
                <a:moveTo>
                  <a:pt x="16144" y="6274"/>
                </a:moveTo>
                <a:lnTo>
                  <a:pt x="16144" y="20287"/>
                </a:lnTo>
                <a:lnTo>
                  <a:pt x="17806" y="20287"/>
                </a:lnTo>
                <a:lnTo>
                  <a:pt x="17806" y="6274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5" dur="8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6" dur="8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7" dur="8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6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0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468000" y="765000"/>
            <a:ext cx="4027320" cy="27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a1d06"/>
                </a:solidFill>
                <a:latin typeface="Arial"/>
              </a:rPr>
              <a:t>Задача№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Ответ:16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3995640" y="764640"/>
            <a:ext cx="4686480" cy="27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cccc00"/>
                </a:solidFill>
                <a:latin typeface="Arial"/>
              </a:rPr>
              <a:t>Задача №2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Ответ:28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2556000" y="3789360"/>
            <a:ext cx="4038480" cy="24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8000"/>
                </a:solidFill>
                <a:latin typeface="Arial"/>
              </a:rPr>
              <a:t>Задача №3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Ответ:400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6" name="Object 29"/>
          <p:cNvGraphicFramePr/>
          <p:nvPr/>
        </p:nvGraphicFramePr>
        <p:xfrm>
          <a:off x="5237280" y="1595520"/>
          <a:ext cx="2401920" cy="152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7" name="Object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7280" y="1595520"/>
                    <a:ext cx="2401920" cy="15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8" name="Object 30"/>
          <p:cNvGraphicFramePr/>
          <p:nvPr/>
        </p:nvGraphicFramePr>
        <p:xfrm>
          <a:off x="3059280" y="4292640"/>
          <a:ext cx="2366640" cy="198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9" name="Object 3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59280" y="4292640"/>
                    <a:ext cx="236664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0" name="Line 31"/>
          <p:cNvSpPr/>
          <p:nvPr/>
        </p:nvSpPr>
        <p:spPr>
          <a:xfrm>
            <a:off x="2268360" y="1773360"/>
            <a:ext cx="358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31" name="Line 32"/>
          <p:cNvSpPr/>
          <p:nvPr/>
        </p:nvSpPr>
        <p:spPr>
          <a:xfrm>
            <a:off x="2124000" y="23493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32" name="Line 33"/>
          <p:cNvSpPr/>
          <p:nvPr/>
        </p:nvSpPr>
        <p:spPr>
          <a:xfrm>
            <a:off x="6588000" y="1916280"/>
            <a:ext cx="503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33" name="Line 34"/>
          <p:cNvSpPr/>
          <p:nvPr/>
        </p:nvSpPr>
        <p:spPr>
          <a:xfrm>
            <a:off x="6588000" y="2565360"/>
            <a:ext cx="2890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34" name="Line 35"/>
          <p:cNvSpPr/>
          <p:nvPr/>
        </p:nvSpPr>
        <p:spPr>
          <a:xfrm>
            <a:off x="4643280" y="4581360"/>
            <a:ext cx="4334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35" name="Line 36"/>
          <p:cNvSpPr/>
          <p:nvPr/>
        </p:nvSpPr>
        <p:spPr>
          <a:xfrm>
            <a:off x="4500720" y="515772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p:graphicFrame>
        <p:nvGraphicFramePr>
          <p:cNvPr id="536" name="Object 40"/>
          <p:cNvGraphicFramePr/>
          <p:nvPr/>
        </p:nvGraphicFramePr>
        <p:xfrm>
          <a:off x="7348680" y="4002120"/>
          <a:ext cx="1315800" cy="235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37" name="Object 4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48680" y="4002120"/>
                    <a:ext cx="1315800" cy="2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8" name="Object 41"/>
          <p:cNvGraphicFramePr/>
          <p:nvPr/>
        </p:nvGraphicFramePr>
        <p:xfrm>
          <a:off x="685800" y="1413000"/>
          <a:ext cx="2508120" cy="1987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9" name="Object 4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5800" y="1413000"/>
                    <a:ext cx="250812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0" name="AutoShape 42"/>
          <p:cNvSpPr/>
          <p:nvPr/>
        </p:nvSpPr>
        <p:spPr>
          <a:xfrm>
            <a:off x="250920" y="5877000"/>
            <a:ext cx="865080" cy="576360"/>
          </a:xfrm>
          <a:custGeom>
            <a:avLst/>
            <a:gdLst>
              <a:gd name="textAreaLeft" fmla="*/ 197280 w 865080"/>
              <a:gd name="textAreaRight" fmla="*/ 667800 w 865080"/>
              <a:gd name="textAreaTop" fmla="*/ 131400 h 576360"/>
              <a:gd name="textAreaBottom" fmla="*/ 444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Бонус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7" dur="2000"/>
                                        <p:tgtEl>
                                          <p:spTgt spid="5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1" dur="20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8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5" dur="2000"/>
                                        <p:tgtEl>
                                          <p:spTgt spid="5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8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9" dur="2000"/>
                                        <p:tgtEl>
                                          <p:spTgt spid="5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4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107640" y="1557000"/>
            <a:ext cx="6227640" cy="46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1.Главная автомагистра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2.Штрихи на дороге, обозначающие пешеходный перех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3.Дорога для пешеход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4.Край дорог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5.Пересечение двух ули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6.Сотрудник милиции, работающий на дорог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7.Место ожидания транспор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8.Наказание за нарушение ПД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940000" y="1557360"/>
            <a:ext cx="27464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66"/>
                </a:solidFill>
                <a:latin typeface="Arial"/>
              </a:rPr>
              <a:t>1.Шос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66"/>
                </a:solidFill>
                <a:latin typeface="Arial"/>
              </a:rPr>
              <a:t>2.Зеб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66"/>
                </a:solidFill>
                <a:latin typeface="Arial"/>
              </a:rPr>
              <a:t>3.Троту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66"/>
                </a:solidFill>
                <a:latin typeface="Arial"/>
              </a:rPr>
              <a:t>4.Обоч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66"/>
                </a:solidFill>
                <a:latin typeface="Arial"/>
              </a:rPr>
              <a:t>5.Перекрест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66"/>
                </a:solidFill>
                <a:latin typeface="Arial"/>
              </a:rPr>
              <a:t>6.Регулировщ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66"/>
                </a:solidFill>
                <a:latin typeface="Arial"/>
              </a:rPr>
              <a:t>7.Останов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66"/>
                </a:solidFill>
                <a:latin typeface="Arial"/>
              </a:rPr>
              <a:t>8.Штра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WordArt 7"/>
          <p:cNvSpPr txBox="1"/>
          <p:nvPr/>
        </p:nvSpPr>
        <p:spPr>
          <a:xfrm>
            <a:off x="2340000" y="549360"/>
            <a:ext cx="3519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ИКТОРИН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44" name="AutoShape 8"/>
          <p:cNvSpPr/>
          <p:nvPr/>
        </p:nvSpPr>
        <p:spPr>
          <a:xfrm>
            <a:off x="8388360" y="6165720"/>
            <a:ext cx="755640" cy="567000"/>
          </a:xfrm>
          <a:custGeom>
            <a:avLst/>
            <a:gdLst>
              <a:gd name="textAreaLeft" fmla="*/ 36720 w 755640"/>
              <a:gd name="textAreaRight" fmla="*/ 718920 w 755640"/>
              <a:gd name="textAreaTop" fmla="*/ 36720 h 567000"/>
              <a:gd name="textAreaBottom" fmla="*/ 530280 h 567000"/>
            </a:gdLst>
            <a:ahLst/>
            <a:rect l="textAreaLeft" t="textAreaTop" r="textAreaRight" b="textAreaBottom"/>
            <a:pathLst>
              <a:path w="28782" h="21600">
                <a:moveTo>
                  <a:pt x="0" y="0"/>
                </a:moveTo>
                <a:lnTo>
                  <a:pt x="28782" y="0"/>
                </a:lnTo>
                <a:lnTo>
                  <a:pt x="28782" y="21600"/>
                </a:lnTo>
                <a:lnTo>
                  <a:pt x="0" y="21600"/>
                </a:lnTo>
                <a:close/>
              </a:path>
              <a:path fill="lightenLess" w="28782" h="21600">
                <a:moveTo>
                  <a:pt x="0" y="0"/>
                </a:moveTo>
                <a:lnTo>
                  <a:pt x="28782" y="0"/>
                </a:lnTo>
                <a:lnTo>
                  <a:pt x="27382" y="1400"/>
                </a:lnTo>
                <a:lnTo>
                  <a:pt x="1400" y="1400"/>
                </a:lnTo>
                <a:close/>
              </a:path>
              <a:path fill="darken" w="28782" h="21600">
                <a:moveTo>
                  <a:pt x="28782" y="0"/>
                </a:moveTo>
                <a:lnTo>
                  <a:pt x="28782" y="21600"/>
                </a:lnTo>
                <a:lnTo>
                  <a:pt x="27382" y="20200"/>
                </a:lnTo>
                <a:lnTo>
                  <a:pt x="27382" y="1400"/>
                </a:lnTo>
                <a:close/>
              </a:path>
              <a:path fill="darkenLess" w="28782" h="21600">
                <a:moveTo>
                  <a:pt x="287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2" y="20200"/>
                </a:lnTo>
                <a:close/>
              </a:path>
              <a:path fill="lighten" w="287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2" h="21600">
                <a:moveTo>
                  <a:pt x="17890" y="10800"/>
                </a:moveTo>
                <a:lnTo>
                  <a:pt x="7384" y="17806"/>
                </a:lnTo>
                <a:lnTo>
                  <a:pt x="7384" y="3794"/>
                </a:lnTo>
                <a:close/>
              </a:path>
              <a:path fill="darken" w="28782" h="21600">
                <a:moveTo>
                  <a:pt x="19735" y="3794"/>
                </a:moveTo>
                <a:lnTo>
                  <a:pt x="19735" y="17806"/>
                </a:lnTo>
                <a:lnTo>
                  <a:pt x="21397" y="17806"/>
                </a:lnTo>
                <a:lnTo>
                  <a:pt x="21397" y="3794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1" dur="8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2" dur="8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3" dur="8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4" dur="80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5" dur="80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6" dur="80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7" dur="80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8" dur="80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9" dur="80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0" dur="80"/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1" dur="80"/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2" dur="80"/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3" dur="80"/>
                                        <p:tgtEl>
                                          <p:spTgt spid="5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4" dur="80"/>
                                        <p:tgtEl>
                                          <p:spTgt spid="5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5" dur="80"/>
                                        <p:tgtEl>
                                          <p:spTgt spid="5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5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5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6" dur="80"/>
                                        <p:tgtEl>
                                          <p:spTgt spid="5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7" dur="80"/>
                                        <p:tgtEl>
                                          <p:spTgt spid="5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8" dur="80"/>
                                        <p:tgtEl>
                                          <p:spTgt spid="5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5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5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9" dur="80"/>
                                        <p:tgtEl>
                                          <p:spTgt spid="5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0" dur="80"/>
                                        <p:tgtEl>
                                          <p:spTgt spid="5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1" dur="80"/>
                                        <p:tgtEl>
                                          <p:spTgt spid="5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2" dur="80"/>
                                        <p:tgtEl>
                                          <p:spTgt spid="5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3" dur="80"/>
                                        <p:tgtEl>
                                          <p:spTgt spid="5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4" dur="80"/>
                                        <p:tgtEl>
                                          <p:spTgt spid="5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5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5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WordArt 2"/>
          <p:cNvSpPr txBox="1"/>
          <p:nvPr/>
        </p:nvSpPr>
        <p:spPr>
          <a:xfrm>
            <a:off x="755640" y="1628640"/>
            <a:ext cx="79930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Спасибо  за  урок!</a:t>
            </a:r>
            <a:endParaRPr b="1" i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546" name="Text Box 4"/>
          <p:cNvSpPr/>
          <p:nvPr/>
        </p:nvSpPr>
        <p:spPr>
          <a:xfrm>
            <a:off x="539640" y="443700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2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2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2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cc0066"/>
                </a:solidFill>
                <a:latin typeface="Arial"/>
              </a:rPr>
              <a:t>Решение задачи №1</a:t>
            </a:r>
            <a:br>
              <a:rPr sz="3900"/>
            </a:b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(1 способ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548" name="Object 3"/>
          <p:cNvGraphicFramePr/>
          <p:nvPr/>
        </p:nvGraphicFramePr>
        <p:xfrm>
          <a:off x="566640" y="2948040"/>
          <a:ext cx="6958080" cy="81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6640" y="2948040"/>
                    <a:ext cx="6958080" cy="8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0" name="Object 4"/>
          <p:cNvGraphicFramePr/>
          <p:nvPr/>
        </p:nvGraphicFramePr>
        <p:xfrm>
          <a:off x="671400" y="1924200"/>
          <a:ext cx="6000840" cy="815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1400" y="1924200"/>
                    <a:ext cx="6000840" cy="81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2" name="Object 6"/>
          <p:cNvGraphicFramePr/>
          <p:nvPr/>
        </p:nvGraphicFramePr>
        <p:xfrm>
          <a:off x="611280" y="4005360"/>
          <a:ext cx="6840360" cy="503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1280" y="4005360"/>
                    <a:ext cx="684036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4" name="Text Box 7"/>
          <p:cNvSpPr/>
          <p:nvPr/>
        </p:nvSpPr>
        <p:spPr>
          <a:xfrm>
            <a:off x="684360" y="5157720"/>
            <a:ext cx="619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icrosoft Sans Serif"/>
              </a:rPr>
              <a:t>Ответ: 54 человека выполняют ПДД.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55" name="AutoShape 8">
            <a:hlinkClick r:id="" action="ppaction://hlinkshowjump?jump=previousslide"/>
          </p:cNvPr>
          <p:cNvSpPr/>
          <p:nvPr/>
        </p:nvSpPr>
        <p:spPr>
          <a:xfrm>
            <a:off x="8820000" y="6308640"/>
            <a:ext cx="324000" cy="36036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60360"/>
              <a:gd name="textAreaBottom" fmla="*/ 339480 h 360360"/>
            </a:gdLst>
            <a:ahLst/>
            <a:rect l="textAreaLeft" t="textAreaTop" r="textAreaRight" b="textAreaBottom"/>
            <a:pathLst>
              <a:path w="21600" h="24021">
                <a:moveTo>
                  <a:pt x="0" y="0"/>
                </a:moveTo>
                <a:lnTo>
                  <a:pt x="21600" y="0"/>
                </a:lnTo>
                <a:lnTo>
                  <a:pt x="21600" y="24021"/>
                </a:lnTo>
                <a:lnTo>
                  <a:pt x="0" y="24021"/>
                </a:lnTo>
                <a:close/>
              </a:path>
              <a:path fill="lightenLess" w="21600" h="2402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21">
                <a:moveTo>
                  <a:pt x="21600" y="0"/>
                </a:moveTo>
                <a:lnTo>
                  <a:pt x="21600" y="24021"/>
                </a:lnTo>
                <a:lnTo>
                  <a:pt x="20200" y="22621"/>
                </a:lnTo>
                <a:lnTo>
                  <a:pt x="20200" y="1400"/>
                </a:lnTo>
                <a:close/>
              </a:path>
              <a:path fill="darkenLess" w="21600" h="24021">
                <a:moveTo>
                  <a:pt x="21600" y="24021"/>
                </a:moveTo>
                <a:lnTo>
                  <a:pt x="0" y="24021"/>
                </a:lnTo>
                <a:lnTo>
                  <a:pt x="1400" y="22621"/>
                </a:lnTo>
                <a:lnTo>
                  <a:pt x="20200" y="22621"/>
                </a:lnTo>
                <a:close/>
              </a:path>
              <a:path fill="lighten" w="21600" h="24021">
                <a:moveTo>
                  <a:pt x="0" y="2402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21"/>
                </a:lnTo>
                <a:close/>
              </a:path>
              <a:path fill="darken" w="21600" h="24021">
                <a:moveTo>
                  <a:pt x="3794" y="8703"/>
                </a:moveTo>
                <a:lnTo>
                  <a:pt x="7301" y="8703"/>
                </a:lnTo>
                <a:lnTo>
                  <a:pt x="7301" y="14039"/>
                </a:lnTo>
                <a:cubicBezTo>
                  <a:pt x="7301" y="14961"/>
                  <a:pt x="8102" y="15692"/>
                  <a:pt x="9138" y="15692"/>
                </a:cubicBezTo>
                <a:lnTo>
                  <a:pt x="10800" y="15692"/>
                </a:lnTo>
                <a:cubicBezTo>
                  <a:pt x="11836" y="15692"/>
                  <a:pt x="12636" y="14961"/>
                  <a:pt x="12636" y="14039"/>
                </a:cubicBezTo>
                <a:lnTo>
                  <a:pt x="12636" y="8703"/>
                </a:lnTo>
                <a:lnTo>
                  <a:pt x="10800" y="8703"/>
                </a:lnTo>
                <a:lnTo>
                  <a:pt x="14308" y="5196"/>
                </a:lnTo>
                <a:lnTo>
                  <a:pt x="17981" y="8703"/>
                </a:lnTo>
                <a:lnTo>
                  <a:pt x="16144" y="8703"/>
                </a:lnTo>
                <a:lnTo>
                  <a:pt x="16144" y="14039"/>
                </a:lnTo>
                <a:cubicBezTo>
                  <a:pt x="16144" y="16806"/>
                  <a:pt x="13568" y="19365"/>
                  <a:pt x="10800" y="19365"/>
                </a:cubicBezTo>
                <a:lnTo>
                  <a:pt x="9138" y="19365"/>
                </a:lnTo>
                <a:cubicBezTo>
                  <a:pt x="6370" y="19365"/>
                  <a:pt x="3794" y="16806"/>
                  <a:pt x="3794" y="14039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cc0066"/>
                </a:solidFill>
                <a:latin typeface="Arial"/>
              </a:rPr>
              <a:t>Решение задачи №1</a:t>
            </a:r>
            <a:br>
              <a:rPr sz="3900"/>
            </a:b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(2 способ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557" name="Object 3"/>
          <p:cNvGraphicFramePr/>
          <p:nvPr/>
        </p:nvGraphicFramePr>
        <p:xfrm>
          <a:off x="539640" y="3357720"/>
          <a:ext cx="6480360" cy="88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3357720"/>
                    <a:ext cx="6480360" cy="88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9" name="Object 4"/>
          <p:cNvGraphicFramePr/>
          <p:nvPr/>
        </p:nvGraphicFramePr>
        <p:xfrm>
          <a:off x="539640" y="2108160"/>
          <a:ext cx="8280360" cy="90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2108160"/>
                    <a:ext cx="82803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1" name="Text Box 6"/>
          <p:cNvSpPr/>
          <p:nvPr/>
        </p:nvSpPr>
        <p:spPr>
          <a:xfrm>
            <a:off x="684360" y="5157720"/>
            <a:ext cx="619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icrosoft Sans Serif"/>
              </a:rPr>
              <a:t>Ответ: 54 человека выполняют ПДД.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62" name="AutoShape 7">
            <a:hlinkClick r:id="" action="ppaction://hlinkshowjump?jump=previousslide"/>
          </p:cNvPr>
          <p:cNvSpPr/>
          <p:nvPr/>
        </p:nvSpPr>
        <p:spPr>
          <a:xfrm>
            <a:off x="8604360" y="6237360"/>
            <a:ext cx="395280" cy="43164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431640"/>
              <a:gd name="textAreaBottom" fmla="*/ 406080 h 431640"/>
            </a:gdLst>
            <a:ahLst/>
            <a:rect l="textAreaLeft" t="textAreaTop" r="textAreaRight" b="textAreaBottom"/>
            <a:pathLst>
              <a:path w="21600" h="23585">
                <a:moveTo>
                  <a:pt x="0" y="0"/>
                </a:moveTo>
                <a:lnTo>
                  <a:pt x="21600" y="0"/>
                </a:lnTo>
                <a:lnTo>
                  <a:pt x="21600" y="23585"/>
                </a:lnTo>
                <a:lnTo>
                  <a:pt x="0" y="23585"/>
                </a:lnTo>
                <a:close/>
              </a:path>
              <a:path fill="lightenLess" w="21600" h="2358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85">
                <a:moveTo>
                  <a:pt x="21600" y="0"/>
                </a:moveTo>
                <a:lnTo>
                  <a:pt x="21600" y="23585"/>
                </a:lnTo>
                <a:lnTo>
                  <a:pt x="20200" y="22185"/>
                </a:lnTo>
                <a:lnTo>
                  <a:pt x="20200" y="1400"/>
                </a:lnTo>
                <a:close/>
              </a:path>
              <a:path fill="darkenLess" w="21600" h="23585">
                <a:moveTo>
                  <a:pt x="21600" y="23585"/>
                </a:moveTo>
                <a:lnTo>
                  <a:pt x="0" y="23585"/>
                </a:lnTo>
                <a:lnTo>
                  <a:pt x="1400" y="22185"/>
                </a:lnTo>
                <a:lnTo>
                  <a:pt x="20200" y="22185"/>
                </a:lnTo>
                <a:close/>
              </a:path>
              <a:path fill="lighten" w="21600" h="23585">
                <a:moveTo>
                  <a:pt x="0" y="2358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85"/>
                </a:lnTo>
                <a:close/>
              </a:path>
              <a:path fill="darken" w="21600" h="23585">
                <a:moveTo>
                  <a:pt x="3794" y="8485"/>
                </a:moveTo>
                <a:lnTo>
                  <a:pt x="7301" y="8485"/>
                </a:lnTo>
                <a:lnTo>
                  <a:pt x="7301" y="13821"/>
                </a:lnTo>
                <a:cubicBezTo>
                  <a:pt x="7301" y="14743"/>
                  <a:pt x="8102" y="15474"/>
                  <a:pt x="9138" y="15474"/>
                </a:cubicBezTo>
                <a:lnTo>
                  <a:pt x="10800" y="15474"/>
                </a:lnTo>
                <a:cubicBezTo>
                  <a:pt x="11836" y="15474"/>
                  <a:pt x="12636" y="14743"/>
                  <a:pt x="12636" y="13821"/>
                </a:cubicBezTo>
                <a:lnTo>
                  <a:pt x="12636" y="8485"/>
                </a:lnTo>
                <a:lnTo>
                  <a:pt x="10800" y="8485"/>
                </a:lnTo>
                <a:lnTo>
                  <a:pt x="14308" y="4978"/>
                </a:lnTo>
                <a:lnTo>
                  <a:pt x="17981" y="8485"/>
                </a:lnTo>
                <a:lnTo>
                  <a:pt x="16144" y="8485"/>
                </a:lnTo>
                <a:lnTo>
                  <a:pt x="16144" y="13821"/>
                </a:lnTo>
                <a:cubicBezTo>
                  <a:pt x="16144" y="16588"/>
                  <a:pt x="13568" y="19147"/>
                  <a:pt x="10800" y="19147"/>
                </a:cubicBezTo>
                <a:lnTo>
                  <a:pt x="9138" y="19147"/>
                </a:lnTo>
                <a:cubicBezTo>
                  <a:pt x="6370" y="19147"/>
                  <a:pt x="3794" y="16588"/>
                  <a:pt x="3794" y="13821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cc3300"/>
                </a:solidFill>
                <a:latin typeface="Arial"/>
              </a:rPr>
              <a:t>Решение задачи №2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564" name="Object 5"/>
          <p:cNvGraphicFramePr/>
          <p:nvPr/>
        </p:nvGraphicFramePr>
        <p:xfrm>
          <a:off x="684360" y="2276640"/>
          <a:ext cx="7705440" cy="36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276640"/>
                    <a:ext cx="770544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6" name="Object 6"/>
          <p:cNvGraphicFramePr/>
          <p:nvPr/>
        </p:nvGraphicFramePr>
        <p:xfrm>
          <a:off x="714240" y="3786120"/>
          <a:ext cx="5488200" cy="36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4240" y="3786120"/>
                    <a:ext cx="54882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8" name="Text Box 7"/>
          <p:cNvSpPr/>
          <p:nvPr/>
        </p:nvSpPr>
        <p:spPr>
          <a:xfrm>
            <a:off x="468360" y="5661000"/>
            <a:ext cx="619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icrosoft Sans Serif"/>
              </a:rPr>
              <a:t>Ответ:63 человека выполняют ПДД.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69" name="AutoShape 8"/>
          <p:cNvSpPr/>
          <p:nvPr/>
        </p:nvSpPr>
        <p:spPr>
          <a:xfrm>
            <a:off x="8604360" y="6093000"/>
            <a:ext cx="539640" cy="566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66640"/>
              <a:gd name="textAreaBottom" fmla="*/ 531720 h 566640"/>
            </a:gdLst>
            <a:ahLst/>
            <a:rect l="textAreaLeft" t="textAreaTop" r="textAreaRight" b="textAreaBottom"/>
            <a:pathLst>
              <a:path w="21600" h="22680">
                <a:moveTo>
                  <a:pt x="0" y="0"/>
                </a:moveTo>
                <a:lnTo>
                  <a:pt x="21600" y="0"/>
                </a:lnTo>
                <a:lnTo>
                  <a:pt x="21600" y="22680"/>
                </a:lnTo>
                <a:lnTo>
                  <a:pt x="0" y="22680"/>
                </a:lnTo>
                <a:close/>
              </a:path>
              <a:path fill="lightenLess" w="21600" h="226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80">
                <a:moveTo>
                  <a:pt x="21600" y="0"/>
                </a:moveTo>
                <a:lnTo>
                  <a:pt x="21600" y="22680"/>
                </a:lnTo>
                <a:lnTo>
                  <a:pt x="20200" y="21280"/>
                </a:lnTo>
                <a:lnTo>
                  <a:pt x="20200" y="1400"/>
                </a:lnTo>
                <a:close/>
              </a:path>
              <a:path fill="darkenLess" w="21600" h="22680">
                <a:moveTo>
                  <a:pt x="21600" y="22680"/>
                </a:moveTo>
                <a:lnTo>
                  <a:pt x="0" y="22680"/>
                </a:lnTo>
                <a:lnTo>
                  <a:pt x="1400" y="21280"/>
                </a:lnTo>
                <a:lnTo>
                  <a:pt x="20200" y="21280"/>
                </a:lnTo>
                <a:close/>
              </a:path>
              <a:path fill="lighten" w="21600" h="22680">
                <a:moveTo>
                  <a:pt x="0" y="226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80"/>
                </a:lnTo>
                <a:close/>
              </a:path>
              <a:path fill="darken" w="21600" h="22680">
                <a:moveTo>
                  <a:pt x="3794" y="8033"/>
                </a:moveTo>
                <a:lnTo>
                  <a:pt x="7301" y="8033"/>
                </a:lnTo>
                <a:lnTo>
                  <a:pt x="7301" y="13368"/>
                </a:lnTo>
                <a:cubicBezTo>
                  <a:pt x="7301" y="14291"/>
                  <a:pt x="8102" y="15022"/>
                  <a:pt x="9138" y="15022"/>
                </a:cubicBezTo>
                <a:lnTo>
                  <a:pt x="10800" y="15022"/>
                </a:lnTo>
                <a:cubicBezTo>
                  <a:pt x="11836" y="15022"/>
                  <a:pt x="12636" y="14291"/>
                  <a:pt x="12636" y="13368"/>
                </a:cubicBezTo>
                <a:lnTo>
                  <a:pt x="12636" y="8033"/>
                </a:lnTo>
                <a:lnTo>
                  <a:pt x="10800" y="8033"/>
                </a:lnTo>
                <a:lnTo>
                  <a:pt x="14308" y="4525"/>
                </a:lnTo>
                <a:lnTo>
                  <a:pt x="17981" y="8033"/>
                </a:lnTo>
                <a:lnTo>
                  <a:pt x="16144" y="8033"/>
                </a:lnTo>
                <a:lnTo>
                  <a:pt x="16144" y="13368"/>
                </a:lnTo>
                <a:cubicBezTo>
                  <a:pt x="16144" y="16136"/>
                  <a:pt x="13568" y="18695"/>
                  <a:pt x="10800" y="18695"/>
                </a:cubicBezTo>
                <a:lnTo>
                  <a:pt x="9138" y="18695"/>
                </a:lnTo>
                <a:cubicBezTo>
                  <a:pt x="6370" y="18695"/>
                  <a:pt x="3794" y="16136"/>
                  <a:pt x="3794" y="1336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70" name="TextBox 19"/>
          <p:cNvSpPr/>
          <p:nvPr/>
        </p:nvSpPr>
        <p:spPr>
          <a:xfrm>
            <a:off x="642960" y="150012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1) </a:t>
            </a:r>
            <a:r>
              <a:rPr b="0" lang="ru-RU" sz="2000" spc="-1" strike="noStrike">
                <a:solidFill>
                  <a:srgbClr val="000000"/>
                </a:solidFill>
                <a:latin typeface="Microsoft Sans Serif"/>
              </a:rPr>
              <a:t>120</a:t>
            </a: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 ∙ 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1" name="Object 21"/>
              <p:cNvSpPr txBox="1"/>
              <p:nvPr/>
            </p:nvSpPr>
            <p:spPr>
              <a:xfrm>
                <a:off x="1571760" y="1285920"/>
                <a:ext cx="42840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2" name="TextBox 25"/>
          <p:cNvSpPr/>
          <p:nvPr/>
        </p:nvSpPr>
        <p:spPr>
          <a:xfrm>
            <a:off x="2071800" y="1500120"/>
            <a:ext cx="535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icrosoft Sans Serif"/>
              </a:rPr>
              <a:t>= 36(человек) – не выполняют ПДД 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73" name="TextBox 28"/>
          <p:cNvSpPr/>
          <p:nvPr/>
        </p:nvSpPr>
        <p:spPr>
          <a:xfrm>
            <a:off x="642960" y="3000240"/>
            <a:ext cx="106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3) </a:t>
            </a:r>
            <a:r>
              <a:rPr b="0" lang="ru-RU" sz="2000" spc="-1" strike="noStrike">
                <a:solidFill>
                  <a:srgbClr val="000000"/>
                </a:solidFill>
                <a:latin typeface="Microsoft Sans Serif"/>
              </a:rPr>
              <a:t>84</a:t>
            </a: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 ∙ 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4" name="Object 23"/>
              <p:cNvSpPr txBox="1"/>
              <p:nvPr/>
            </p:nvSpPr>
            <p:spPr>
              <a:xfrm>
                <a:off x="1428840" y="2786040"/>
                <a:ext cx="35712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5" name="TextBox 30"/>
          <p:cNvSpPr/>
          <p:nvPr/>
        </p:nvSpPr>
        <p:spPr>
          <a:xfrm>
            <a:off x="1857240" y="3000240"/>
            <a:ext cx="600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icrosoft Sans Serif"/>
              </a:rPr>
              <a:t>= 21(человек) – не всегда выполняют ПДД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тобы найт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33cc"/>
                </a:solidFill>
                <a:latin typeface="Arial"/>
              </a:rPr>
              <a:t>дробь от числ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ужно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умножить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число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 эту дроб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тобы найт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cc00"/>
                </a:solidFill>
                <a:latin typeface="Arial"/>
              </a:rPr>
              <a:t>Число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по данному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значению его дроби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до это значени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разделить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 дроб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WordArt 3"/>
          <p:cNvSpPr txBox="1"/>
          <p:nvPr/>
        </p:nvSpPr>
        <p:spPr>
          <a:xfrm>
            <a:off x="1332000" y="260280"/>
            <a:ext cx="5473440" cy="106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cc0066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авил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cc0066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10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820"/>
                            </p:stCondLst>
                            <p:childTnLst>
                              <p:par>
                                <p:cTn id="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2460"/>
                            </p:stCondLst>
                            <p:childTnLst>
                              <p:par>
                                <p:cTn id="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3180"/>
                            </p:stCondLst>
                            <p:childTnLst>
                              <p:par>
                                <p:cTn id="78" nodeType="after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9" dur="20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180"/>
                            </p:stCondLst>
                            <p:childTnLst>
                              <p:par>
                                <p:cTn id="81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82" dur="2000" fill="hold"/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cc0066"/>
                </a:solidFill>
                <a:latin typeface="Arial"/>
              </a:rPr>
              <a:t>Решение обратной задачи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577" name="Object 4"/>
          <p:cNvGraphicFramePr/>
          <p:nvPr/>
        </p:nvGraphicFramePr>
        <p:xfrm>
          <a:off x="539640" y="2108160"/>
          <a:ext cx="8280360" cy="9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108160"/>
                    <a:ext cx="82803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9" name="Text Box 6"/>
          <p:cNvSpPr/>
          <p:nvPr/>
        </p:nvSpPr>
        <p:spPr>
          <a:xfrm>
            <a:off x="684360" y="5157720"/>
            <a:ext cx="619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icrosoft Sans Serif"/>
              </a:rPr>
              <a:t>Ответ: 120 учеников опрошено.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80" name="AutoShape 7">
            <a:hlinkClick r:id="" action="ppaction://hlinkshowjump?jump=previousslide"/>
          </p:cNvPr>
          <p:cNvSpPr/>
          <p:nvPr/>
        </p:nvSpPr>
        <p:spPr>
          <a:xfrm>
            <a:off x="8604360" y="6237360"/>
            <a:ext cx="395280" cy="43164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431640"/>
              <a:gd name="textAreaBottom" fmla="*/ 406080 h 431640"/>
            </a:gdLst>
            <a:ahLst/>
            <a:rect l="textAreaLeft" t="textAreaTop" r="textAreaRight" b="textAreaBottom"/>
            <a:pathLst>
              <a:path w="21600" h="23585">
                <a:moveTo>
                  <a:pt x="0" y="0"/>
                </a:moveTo>
                <a:lnTo>
                  <a:pt x="21600" y="0"/>
                </a:lnTo>
                <a:lnTo>
                  <a:pt x="21600" y="23585"/>
                </a:lnTo>
                <a:lnTo>
                  <a:pt x="0" y="23585"/>
                </a:lnTo>
                <a:close/>
              </a:path>
              <a:path fill="lightenLess" w="21600" h="2358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85">
                <a:moveTo>
                  <a:pt x="21600" y="0"/>
                </a:moveTo>
                <a:lnTo>
                  <a:pt x="21600" y="23585"/>
                </a:lnTo>
                <a:lnTo>
                  <a:pt x="20200" y="22185"/>
                </a:lnTo>
                <a:lnTo>
                  <a:pt x="20200" y="1400"/>
                </a:lnTo>
                <a:close/>
              </a:path>
              <a:path fill="darkenLess" w="21600" h="23585">
                <a:moveTo>
                  <a:pt x="21600" y="23585"/>
                </a:moveTo>
                <a:lnTo>
                  <a:pt x="0" y="23585"/>
                </a:lnTo>
                <a:lnTo>
                  <a:pt x="1400" y="22185"/>
                </a:lnTo>
                <a:lnTo>
                  <a:pt x="20200" y="22185"/>
                </a:lnTo>
                <a:close/>
              </a:path>
              <a:path fill="lighten" w="21600" h="23585">
                <a:moveTo>
                  <a:pt x="0" y="2358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85"/>
                </a:lnTo>
                <a:close/>
              </a:path>
              <a:path fill="darken" w="21600" h="23585">
                <a:moveTo>
                  <a:pt x="3794" y="8485"/>
                </a:moveTo>
                <a:lnTo>
                  <a:pt x="7301" y="8485"/>
                </a:lnTo>
                <a:lnTo>
                  <a:pt x="7301" y="13821"/>
                </a:lnTo>
                <a:cubicBezTo>
                  <a:pt x="7301" y="14743"/>
                  <a:pt x="8102" y="15474"/>
                  <a:pt x="9138" y="15474"/>
                </a:cubicBezTo>
                <a:lnTo>
                  <a:pt x="10800" y="15474"/>
                </a:lnTo>
                <a:cubicBezTo>
                  <a:pt x="11836" y="15474"/>
                  <a:pt x="12636" y="14743"/>
                  <a:pt x="12636" y="13821"/>
                </a:cubicBezTo>
                <a:lnTo>
                  <a:pt x="12636" y="8485"/>
                </a:lnTo>
                <a:lnTo>
                  <a:pt x="10800" y="8485"/>
                </a:lnTo>
                <a:lnTo>
                  <a:pt x="14308" y="4978"/>
                </a:lnTo>
                <a:lnTo>
                  <a:pt x="17981" y="8485"/>
                </a:lnTo>
                <a:lnTo>
                  <a:pt x="16144" y="8485"/>
                </a:lnTo>
                <a:lnTo>
                  <a:pt x="16144" y="13821"/>
                </a:lnTo>
                <a:cubicBezTo>
                  <a:pt x="16144" y="16588"/>
                  <a:pt x="13568" y="19147"/>
                  <a:pt x="10800" y="19147"/>
                </a:cubicBezTo>
                <a:lnTo>
                  <a:pt x="9138" y="19147"/>
                </a:lnTo>
                <a:cubicBezTo>
                  <a:pt x="6370" y="19147"/>
                  <a:pt x="3794" y="16588"/>
                  <a:pt x="3794" y="13821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1" name="Object 3"/>
              <p:cNvSpPr txBox="1"/>
              <p:nvPr/>
            </p:nvSpPr>
            <p:spPr>
              <a:xfrm>
                <a:off x="500040" y="3286080"/>
                <a:ext cx="62866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rPr>
                        <m:lit/>
                        <m:nor/>
                      </m:rPr>
                      <m:t xml:space="preserve">учеников  опрошено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9280" y="1714680"/>
            <a:ext cx="7543800" cy="364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cc0066"/>
                </a:solidFill>
                <a:latin typeface="Arial"/>
              </a:rPr>
              <a:t>Прочитай задачи, определи</a:t>
            </a:r>
            <a:br>
              <a:rPr sz="3600"/>
            </a:br>
            <a:r>
              <a:rPr b="1" lang="ru-RU" sz="3600" spc="-1" strike="noStrike">
                <a:solidFill>
                  <a:srgbClr val="cc0066"/>
                </a:solidFill>
                <a:latin typeface="Arial"/>
              </a:rPr>
              <a:t> </a:t>
            </a:r>
            <a:br>
              <a:rPr sz="3600"/>
            </a:br>
            <a:r>
              <a:rPr b="1" lang="ru-RU" sz="3600" spc="-1" strike="noStrike">
                <a:solidFill>
                  <a:srgbClr val="cc0066"/>
                </a:solidFill>
                <a:latin typeface="Arial"/>
              </a:rPr>
              <a:t>к какому виду они относятся и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cc0066"/>
                </a:solidFill>
                <a:latin typeface="Arial"/>
              </a:rPr>
              <a:t> предложи решение .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6" name="WordArt 5"/>
          <p:cNvSpPr txBox="1"/>
          <p:nvPr/>
        </p:nvSpPr>
        <p:spPr>
          <a:xfrm>
            <a:off x="2124000" y="549360"/>
            <a:ext cx="4533840" cy="15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зминка</a:t>
            </a:r>
            <a:endParaRPr b="1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7">
                                  <p:stCondLst>
                                    <p:cond delay="3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539640" y="40428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В дачном поселке </a:t>
            </a:r>
            <a:r>
              <a:rPr b="0" i="1" lang="ru-RU" sz="4000" spc="-1" strike="noStrike">
                <a:solidFill>
                  <a:srgbClr val="008000"/>
                </a:solidFill>
                <a:latin typeface="Arial"/>
              </a:rPr>
              <a:t>30 </a:t>
            </a: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домов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       </a:t>
            </a: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от всех домов -двухэтажны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Сколько двухэтажных домов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Object 5"/>
              <p:cNvSpPr txBox="1"/>
              <p:nvPr/>
            </p:nvSpPr>
            <p:spPr>
              <a:xfrm>
                <a:off x="1042920" y="1413000"/>
                <a:ext cx="53028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10" name="Text Box 16"/>
          <p:cNvSpPr/>
          <p:nvPr/>
        </p:nvSpPr>
        <p:spPr>
          <a:xfrm>
            <a:off x="1455840" y="5319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Object 17"/>
              <p:cNvSpPr txBox="1"/>
              <p:nvPr/>
            </p:nvSpPr>
            <p:spPr>
              <a:xfrm>
                <a:off x="684360" y="3789360"/>
                <a:ext cx="8064360" cy="22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домов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двухэтажных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домов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923760" y="620640"/>
            <a:ext cx="822024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00"/>
                </a:solidFill>
                <a:latin typeface="Arial"/>
              </a:rPr>
              <a:t>В конюшне стоят лошад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0,2 </a:t>
            </a:r>
            <a:r>
              <a:rPr b="0" lang="ru-RU" sz="3600" spc="-1" strike="noStrike">
                <a:solidFill>
                  <a:srgbClr val="008000"/>
                </a:solidFill>
                <a:latin typeface="Arial"/>
              </a:rPr>
              <a:t> всех лошадей - вороны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8000"/>
                </a:solidFill>
                <a:latin typeface="Arial"/>
              </a:rPr>
              <a:t>Сколько лошадей  в конюшне,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8000"/>
                </a:solidFill>
                <a:latin typeface="Arial"/>
              </a:rPr>
              <a:t>если вороных в ней 14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8000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14" name="Text Box 10"/>
          <p:cNvSpPr/>
          <p:nvPr/>
        </p:nvSpPr>
        <p:spPr>
          <a:xfrm>
            <a:off x="395280" y="3429000"/>
            <a:ext cx="84247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14</a:t>
            </a:r>
            <a:r>
              <a:rPr b="0" lang="ru-RU" sz="3200" spc="-1" strike="noStrike">
                <a:solidFill>
                  <a:srgbClr val="000000"/>
                </a:solidFill>
                <a:latin typeface="Microsoft Sans Serif"/>
              </a:rPr>
              <a:t>:0,2=140:2=70 (лошадей)-в конюшне.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icrosoft Sans Serif"/>
              </a:rPr>
              <a:t>Ответ: 70 лошадей.</a:t>
            </a: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Sans Serif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10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1000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В 6 классе </a:t>
            </a:r>
            <a:r>
              <a:rPr b="0" i="1" lang="ru-RU" sz="4000" spc="-1" strike="noStrike">
                <a:solidFill>
                  <a:srgbClr val="0000ff"/>
                </a:solidFill>
                <a:latin typeface="Arial"/>
              </a:rPr>
              <a:t>25 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учащихся. Девочки составляют  0,8 всех учащихся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Сколько в классе мальчиков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8"/>
          <p:cNvSpPr/>
          <p:nvPr/>
        </p:nvSpPr>
        <p:spPr>
          <a:xfrm>
            <a:off x="1384200" y="5246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7" name="Object 9"/>
              <p:cNvSpPr txBox="1"/>
              <p:nvPr/>
            </p:nvSpPr>
            <p:spPr>
              <a:xfrm>
                <a:off x="571680" y="4429080"/>
                <a:ext cx="7905600" cy="15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⋅</m:t>
                        </m:r>
                        <m:r>
                          <m:t xml:space="preserve">0,2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мальчиков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в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классе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t xml:space="preserve">5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мальчиков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18" name="TextBox 5"/>
          <p:cNvSpPr/>
          <p:nvPr/>
        </p:nvSpPr>
        <p:spPr>
          <a:xfrm>
            <a:off x="571680" y="3714840"/>
            <a:ext cx="814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icrosoft Sans Serif"/>
              </a:rPr>
              <a:t>1) 1 – 0,8 = 0,2</a:t>
            </a:r>
            <a:r>
              <a:rPr b="0" i="1" lang="ru-RU" sz="4000" spc="-1" strike="noStrike">
                <a:solidFill>
                  <a:srgbClr val="000000"/>
                </a:solidFill>
                <a:latin typeface="Cambria"/>
              </a:rPr>
              <a:t> мальчиков</a:t>
            </a:r>
            <a:endParaRPr b="0" lang="en-US" sz="40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/>
          </p:nvPr>
        </p:nvSpPr>
        <p:spPr>
          <a:xfrm>
            <a:off x="755640" y="475920"/>
            <a:ext cx="822024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6633"/>
                </a:solidFill>
                <a:latin typeface="Arial"/>
              </a:rPr>
              <a:t>От трубы отрезали 6 метров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6633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996633"/>
                </a:solidFill>
                <a:latin typeface="Arial"/>
              </a:rPr>
              <a:t>что составляет           длины все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6633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996633"/>
                </a:solidFill>
                <a:latin typeface="Arial"/>
              </a:rPr>
              <a:t>трубы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6633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996633"/>
                </a:solidFill>
                <a:latin typeface="Arial"/>
              </a:rPr>
              <a:t>Найдите длину труб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1" name="Object 5"/>
              <p:cNvSpPr txBox="1"/>
              <p:nvPr/>
            </p:nvSpPr>
            <p:spPr>
              <a:xfrm>
                <a:off x="4572000" y="1052640"/>
                <a:ext cx="75564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422" name="Object 7"/>
          <p:cNvGraphicFramePr/>
          <p:nvPr/>
        </p:nvGraphicFramePr>
        <p:xfrm>
          <a:off x="395280" y="3645000"/>
          <a:ext cx="8569440" cy="20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3645000"/>
                    <a:ext cx="8569440" cy="20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4000" y="620280"/>
            <a:ext cx="7543800" cy="352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cc00"/>
                </a:solidFill>
                <a:latin typeface="Arial"/>
              </a:rPr>
              <a:t>РЕШЕНИЕ ЗАДАЧ</a:t>
            </a:r>
            <a:br>
              <a:rPr sz="4000"/>
            </a:br>
            <a:br>
              <a:rPr sz="4300"/>
            </a:br>
            <a:r>
              <a:rPr b="1" i="1" lang="ru-RU" sz="4300" spc="-1" strike="noStrike">
                <a:solidFill>
                  <a:srgbClr val="ff3300"/>
                </a:solidFill>
                <a:latin typeface="Arial"/>
              </a:rPr>
              <a:t>НАХОЖДЕНИЕ</a:t>
            </a:r>
            <a:br>
              <a:rPr sz="4300"/>
            </a:br>
            <a:r>
              <a:rPr b="1" i="1" lang="ru-RU" sz="4300" spc="-1" strike="noStrike">
                <a:solidFill>
                  <a:srgbClr val="ff3300"/>
                </a:solidFill>
                <a:latin typeface="Arial"/>
              </a:rPr>
              <a:t> ДРОБИ ОТ ЧИСЛА </a:t>
            </a:r>
            <a:br>
              <a:rPr sz="4300"/>
            </a:br>
            <a:r>
              <a:rPr b="1" i="1" lang="ru-RU" sz="4300" spc="-1" strike="noStrike">
                <a:solidFill>
                  <a:srgbClr val="ff3300"/>
                </a:solidFill>
                <a:latin typeface="Arial"/>
              </a:rPr>
              <a:t>И ЧИСЛА ПО ЕГО ДРОБИ.</a:t>
            </a: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6T11:37:03Z</dcterms:created>
  <dc:creator>ksucha</dc:creator>
  <dc:description/>
  <dc:language>en-US</dc:language>
  <cp:lastModifiedBy>Чижова</cp:lastModifiedBy>
  <dcterms:modified xsi:type="dcterms:W3CDTF">2013-04-03T19:48:59Z</dcterms:modified>
  <cp:revision>59</cp:revision>
  <dc:subject/>
  <dc:title>Слайд 1</dc:title>
</cp:coreProperties>
</file>