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FB7-E806-40FF-B83B-65A5EE88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759-41FF-46DD-8A8D-CF8C7307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879-BF44-44D2-9DD7-1EC667A1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7E2-DB28-492F-B036-AB345238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901-4CB7-4C71-BC7C-39584166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B46-DE9F-4646-8E9C-E98347D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0D6-6C72-4D5C-84E0-C21C274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05A-A6CB-4094-89D1-92782518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B48-74EC-4650-BFF5-BF9ED71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807-0105-4415-AB79-B2DCA8BD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EBD-BCBD-4A31-A2F8-94E3FC5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10C-9DE0-46AD-BAC7-8F1D63C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9ED-7BB6-4D05-AB6F-3D3B9C99F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t.wikipedia.org/wiki/&#1060;&#1072;&#1081;&#1083;:&#1044;&#1241;&#1088;&#1175;&#1080;&#1103;_&#1040;&#1087;&#1087;&#1072;&#1082;&#1086;&#1074;&#1072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63128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3735"/>
                </a:solidFill>
                <a:latin typeface="Calibri"/>
              </a:rPr>
              <a:t>Дәрҗия Сәйфулла кызы Аппак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Дәрҗия Аппако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3673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376092"/>
                </a:solidFill>
                <a:latin typeface="Calibri"/>
              </a:rPr>
              <a:t>Татар язучысы, талантлы прозаик һәм драматург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376092"/>
                </a:solidFill>
                <a:latin typeface="Calibri"/>
              </a:rPr>
              <a:t>1898 елның 2 мартында Татарстанның Түбән Кама районы Байгол авылында ярлы крест</a:t>
            </a: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ь</a:t>
            </a:r>
            <a:r>
              <a:rPr b="0" lang="tt-RU" sz="6000" spc="-1" strike="noStrike">
                <a:solidFill>
                  <a:srgbClr val="376092"/>
                </a:solidFill>
                <a:latin typeface="Calibri"/>
              </a:rPr>
              <a:t>ян гаиләсендә туа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tt-RU" sz="4000" spc="-1" strike="noStrike">
                <a:solidFill>
                  <a:srgbClr val="1f497d"/>
                </a:solidFill>
                <a:latin typeface="Calibri"/>
              </a:rPr>
              <a:t>1914 – 1919 елларда  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балалар укыта.</a:t>
            </a:r>
            <a:br>
              <a:rPr sz="4000"/>
            </a:br>
            <a:r>
              <a:rPr b="0" lang="tt-RU" sz="4000" spc="-1" strike="noStrike">
                <a:solidFill>
                  <a:srgbClr val="1f497d"/>
                </a:solidFill>
                <a:latin typeface="Calibri"/>
              </a:rPr>
              <a:t>1919 – 1925 елларда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еспондент һәм </a:t>
            </a:r>
            <a:r>
              <a:rPr b="0" lang="tt-RU" sz="4000" spc="-1" strike="noStrike">
                <a:solidFill>
                  <a:srgbClr val="000000"/>
                </a:solidFill>
                <a:latin typeface="Calibri"/>
              </a:rPr>
              <a:t> берникадәр вакыт хәрби труппада артистка, аннары комсомол өлкә комитетында инструктор булып эшли.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540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28–1943 елларда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 Урта Азиядә яш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32–1940 елларда 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хикәя, повесть, романнары басылып чыг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1f497d"/>
                </a:solidFill>
                <a:latin typeface="Calibri"/>
              </a:rPr>
              <a:t>«Кечкенә Бануның тарихы» китаб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t-RU" sz="4400" spc="-1" strike="noStrike">
                <a:solidFill>
                  <a:srgbClr val="1f497d"/>
                </a:solidFill>
                <a:latin typeface="Calibri"/>
              </a:rPr>
              <a:t>1943-1948 елларда 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Дәрҗия Аппакова төп игътибарын балалар драматургиясенә юнәлтә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«Тапкыр егет» (1943), «Шүрәле» (1944), «Бишек җыры» (</a:t>
            </a:r>
            <a:r>
              <a:rPr b="0" lang="tt-RU" sz="4400" spc="-1" strike="noStrike" u="sng">
                <a:solidFill>
                  <a:srgbClr val="4f81bd"/>
                </a:solidFill>
                <a:uFillTx/>
                <a:latin typeface="Calibri"/>
              </a:rPr>
              <a:t>1946</a:t>
            </a: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), «Илдус» (</a:t>
            </a:r>
            <a:r>
              <a:rPr b="0" lang="tt-RU" sz="4400" spc="-1" strike="noStrike" u="sng">
                <a:solidFill>
                  <a:srgbClr val="4f81bd"/>
                </a:solidFill>
                <a:uFillTx/>
                <a:latin typeface="Calibri"/>
              </a:rPr>
              <a:t>1947</a:t>
            </a:r>
            <a:r>
              <a:rPr b="0" lang="tt-RU" sz="4400" spc="-1" strike="noStrike">
                <a:solidFill>
                  <a:srgbClr val="4f81bd"/>
                </a:solidFill>
                <a:latin typeface="Calibri"/>
              </a:rPr>
              <a:t>) исемле пьесаларын</a:t>
            </a: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 иҗат итә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1935 </a:t>
            </a:r>
            <a:r>
              <a:rPr b="0" lang="ru-RU" sz="5400" spc="-1" strike="noStrike">
                <a:solidFill>
                  <a:srgbClr val="1f497d"/>
                </a:solidFill>
                <a:latin typeface="Calibri"/>
              </a:rPr>
              <a:t>елдан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ССР Язучылар берлеге 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әг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зас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1f497d"/>
                </a:solidFill>
                <a:latin typeface="Calibri"/>
              </a:rPr>
              <a:t>1948 елның 28 маенда</a:t>
            </a: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Calibri"/>
              </a:rPr>
              <a:t>50 яшендә вафат бу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8:04:15Z</dcterms:created>
  <dc:creator>Альмира</dc:creator>
  <dc:description/>
  <dc:language>en-US</dc:language>
  <cp:lastModifiedBy>Альмира</cp:lastModifiedBy>
  <dcterms:modified xsi:type="dcterms:W3CDTF">2013-04-01T06:56:51Z</dcterms:modified>
  <cp:revision>14</cp:revision>
  <dc:subject/>
  <dc:title>Дәрҗия Сәйфулла кызы Аппакова</dc:title>
</cp:coreProperties>
</file>