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CF9-9EF6-428F-A922-E8FA5602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353-5491-43BB-91B2-FE44512F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395-DF0C-4DDF-B6CF-E0F7CCB0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1D5-D423-4CCE-A054-84FCBC98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F29-0787-4EFA-83EF-41FB7D2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6B7-34FD-4CE4-AF2A-35A33BB7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A20-D25E-4FA1-A868-51B8B147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918-F042-4BF2-B6A6-EB89314A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414-E859-428E-9DFE-9B0D179F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7C9-CBB5-47D6-94E7-47D56E11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E94-B45F-41BD-A1F0-D5C6F51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CCC-185B-49C2-99DA-47460C3A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9C6E-F5AD-49D2-BBEC-D3E96683B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t.wikipedia.org/wiki/&#1060;&#1072;&#1081;&#1083;:&#1044;&#1241;&#1088;&#1175;&#1080;&#1103;_&#1040;&#1087;&#1087;&#1072;&#1082;&#1086;&#1074;&#1072;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alibri"/>
              </a:rPr>
              <a:t>Дәрҗия Сәйфулла кызы Аппак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Дәрҗия Аппако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3673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376092"/>
                </a:solidFill>
                <a:latin typeface="Calibri"/>
              </a:rPr>
              <a:t>Татар язучысы, талантлы прозаик һәм драматург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376092"/>
                </a:solidFill>
                <a:latin typeface="Calibri"/>
              </a:rPr>
              <a:t>1898 елның 2 мартында Татарстанның Түбән Кама районы Байгол авылында ярлы крест</a:t>
            </a:r>
            <a:r>
              <a:rPr b="0" lang="ru-RU" sz="6000" spc="-1" strike="noStrike">
                <a:solidFill>
                  <a:srgbClr val="376092"/>
                </a:solidFill>
                <a:latin typeface="Calibri"/>
              </a:rPr>
              <a:t>ь</a:t>
            </a:r>
            <a:r>
              <a:rPr b="0" lang="tt-RU" sz="6000" spc="-1" strike="noStrike">
                <a:solidFill>
                  <a:srgbClr val="376092"/>
                </a:solidFill>
                <a:latin typeface="Calibri"/>
              </a:rPr>
              <a:t>ян гаиләсендә туа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tt-RU" sz="4000" spc="-1" strike="noStrike">
                <a:solidFill>
                  <a:srgbClr val="1f497d"/>
                </a:solidFill>
                <a:latin typeface="Calibri"/>
              </a:rPr>
              <a:t>1914 – 1919 елларда  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балалар укыта.</a:t>
            </a:r>
            <a:br>
              <a:rPr sz="4000"/>
            </a:br>
            <a:r>
              <a:rPr b="0" lang="tt-RU" sz="4000" spc="-1" strike="noStrike">
                <a:solidFill>
                  <a:srgbClr val="1f497d"/>
                </a:solidFill>
                <a:latin typeface="Calibri"/>
              </a:rPr>
              <a:t>1919 – 1925 елларда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еспондент һәм 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 берникадәр вакыт хәрби труппада артистка, аннары комсомол өлкә комитетында инструктор булып эшли.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54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f497d"/>
                </a:solidFill>
                <a:latin typeface="Calibri"/>
              </a:rPr>
              <a:t>1928–1943 елларда 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 Урта Азиядә яш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f497d"/>
                </a:solidFill>
                <a:latin typeface="Calibri"/>
              </a:rPr>
              <a:t>1932–1940 елларда  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хикәя, повесть, романнары басылып чы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1f497d"/>
                </a:solidFill>
                <a:latin typeface="Calibri"/>
              </a:rPr>
              <a:t>«Кечкенә Бануның тарихы» китаб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t-RU" sz="4400" spc="-1" strike="noStrike">
                <a:solidFill>
                  <a:srgbClr val="1f497d"/>
                </a:solidFill>
                <a:latin typeface="Calibri"/>
              </a:rPr>
              <a:t>1943-1948 елларда 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Дәрҗия Аппакова төп игътибарын балалар драматургиясенә юнәлтә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4f81bd"/>
                </a:solidFill>
                <a:latin typeface="Calibri"/>
              </a:rPr>
              <a:t>«Тапкыр егет» (1943), «Шүрәле» (1944), «Бишек җыры» (</a:t>
            </a:r>
            <a:r>
              <a:rPr b="0" lang="tt-RU" sz="4400" spc="-1" strike="noStrike" u="sng">
                <a:solidFill>
                  <a:srgbClr val="4f81bd"/>
                </a:solidFill>
                <a:uFillTx/>
                <a:latin typeface="Calibri"/>
              </a:rPr>
              <a:t>1946</a:t>
            </a:r>
            <a:r>
              <a:rPr b="0" lang="tt-RU" sz="4400" spc="-1" strike="noStrike">
                <a:solidFill>
                  <a:srgbClr val="4f81bd"/>
                </a:solidFill>
                <a:latin typeface="Calibri"/>
              </a:rPr>
              <a:t>), «Илдус» (</a:t>
            </a:r>
            <a:r>
              <a:rPr b="0" lang="tt-RU" sz="4400" spc="-1" strike="noStrike" u="sng">
                <a:solidFill>
                  <a:srgbClr val="4f81bd"/>
                </a:solidFill>
                <a:uFillTx/>
                <a:latin typeface="Calibri"/>
              </a:rPr>
              <a:t>1947</a:t>
            </a:r>
            <a:r>
              <a:rPr b="0" lang="tt-RU" sz="4400" spc="-1" strike="noStrike">
                <a:solidFill>
                  <a:srgbClr val="4f81bd"/>
                </a:solidFill>
                <a:latin typeface="Calibri"/>
              </a:rPr>
              <a:t>) исемле пьесаларын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иҗат итә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1935 </a:t>
            </a:r>
            <a:r>
              <a:rPr b="0" lang="ru-RU" sz="5400" spc="-1" strike="noStrike">
                <a:solidFill>
                  <a:srgbClr val="1f497d"/>
                </a:solidFill>
                <a:latin typeface="Calibri"/>
              </a:rPr>
              <a:t>елдан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ССР Язучылар берлеге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әг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ъ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зас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1f497d"/>
                </a:solidFill>
                <a:latin typeface="Calibri"/>
              </a:rPr>
              <a:t>1948 елның 28 маенда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50 яшендә вафат бу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04:15Z</dcterms:created>
  <dc:creator>Альмира</dc:creator>
  <dc:description/>
  <dc:language>en-US</dc:language>
  <cp:lastModifiedBy>Альмира</cp:lastModifiedBy>
  <dcterms:modified xsi:type="dcterms:W3CDTF">2013-04-01T06:56:51Z</dcterms:modified>
  <cp:revision>14</cp:revision>
  <dc:subject/>
  <dc:title>Дәрҗия Сәйфулла кызы Аппакова</dc:title>
</cp:coreProperties>
</file>