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wmf" ContentType="image/x-wmf"/>
  <Override PartName="/ppt/media/image4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72C8-C505-4324-A5FD-FBD6C820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F14A-AEB1-48E0-A5A4-C592F18B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6D9D-9920-4515-8C91-78EF16A5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A899-E7EA-4535-BE43-B430782A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581A-23B8-461D-90B4-92B92A39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3C30-7168-42A9-AB56-0E255015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9E18-BD7A-4435-8D0D-A6AFCFD7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D5BF-9E87-4CC3-AC05-65A463A5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F890-6405-4392-A727-7E8DC366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6A81-A3C5-430B-8AB3-D9F53BC0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4878-3DBB-407C-B646-AD0A996F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472-B2BB-4FAA-90E0-E5CA25B5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D368-9235-433D-B6AD-222FABCC7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obrnadzor.gov.ru/common/img/uploaded/doc_list/Proekt_raspisaniya_EGE,_GVE_i_GIA_v_9_klassakh_v_2011_godu.doc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А 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ФОРМАЦИЯ О ГОСУДАРСТВЕННОЙ (ИТОГОВОЙ) АТТЕСТАЦИИ УЧАЩИХСЯ 9-х КЛАССОВ (ГИА-9) В 2012 г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819520" cy="20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пускникам 9 классов, прошедшим государственную (итоговую) аттестацию (ГИА), выдается документ государственного образца -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аттестат об основном общем образовани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аттестат выставляются итоговые отметки по предметам, которые изучались выпускником в классах второй ступени обще­го образования. Итоговая отметка определяется на основании годовой и экзаменационной отметки с учетом четвертных полугодовых отметок, а также фактической подготовки выпуск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пускникам 9 класса, имеющим годовые, экзаменационные и итоговые отметки "5", выдается аттестат об основном общем образовании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особого образц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чащиеся 9 классов,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не допущенные или не прошедшие ГИ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оставляются на повторное обучение или получают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правку об обучени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установленного образ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сли выпускник 9 класса не прошел ГИА, он оставляется на повторное обучение, и сможет пройти ГИА на следующий го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логом успешной сдачи экзамена является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качественное освоение школьной программ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повторение и систематизация изученных в 5-9 классах тем по предметам, развитие различных умений (читать и анализировать содержание текста, решать задачи и т.п.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пешной сдаче ГИА помогает и правильный психологический настрой, уверенность в своих силах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0" y="585360"/>
            <a:ext cx="9144000" cy="30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943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2303e"/>
                </a:solidFill>
                <a:uFillTx/>
                <a:latin typeface="Times New Roman"/>
                <a:ea typeface="Times New Roman"/>
              </a:rPr>
              <a:t>Во-первых</a:t>
            </a:r>
            <a:r>
              <a:rPr b="1" lang="en-US" sz="2400" spc="-1" strike="noStrike" u="sng">
                <a:solidFill>
                  <a:srgbClr val="02303e"/>
                </a:solidFill>
                <a:uFillTx/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лучше воздержаться от приема успокоительных средств и медикаментов — они тормозят мозговую деятельность и мешают сконцентрироваться. Лучше медикаменты заменить полноценным здоровым сном (юноши — 7–8 часов, девушки — 8–9 часов) и пешими прогулками на свежем воздух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57120" y="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ТЫ ПСИХО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Documents and Settings\teacher\Рабочий стол\собрание ГИА\5913824b_1.jpg"/>
          <p:cNvPicPr/>
          <p:nvPr/>
        </p:nvPicPr>
        <p:blipFill>
          <a:blip r:embed="rId1"/>
          <a:stretch/>
        </p:blipFill>
        <p:spPr>
          <a:xfrm>
            <a:off x="2571840" y="3286080"/>
            <a:ext cx="3708360" cy="2835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Documents and Settings\teacher\Рабочий стол\собрание ГИА\CA1C4BLD.jpg"/>
          <p:cNvPicPr/>
          <p:nvPr/>
        </p:nvPicPr>
        <p:blipFill>
          <a:blip r:embed="rId2"/>
          <a:stretch/>
        </p:blipFill>
        <p:spPr>
          <a:xfrm>
            <a:off x="2286000" y="3214800"/>
            <a:ext cx="4284720" cy="3205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Documents and Settings\teacher\Рабочий стол\собрание ГИА\CA7BPIKP.jpg"/>
          <p:cNvPicPr/>
          <p:nvPr/>
        </p:nvPicPr>
        <p:blipFill>
          <a:blip r:embed="rId3"/>
          <a:stretch/>
        </p:blipFill>
        <p:spPr>
          <a:xfrm>
            <a:off x="2143080" y="3214800"/>
            <a:ext cx="45007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0" y="142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2303e"/>
                </a:solidFill>
                <a:uFillTx/>
                <a:latin typeface="Times New Roman"/>
                <a:ea typeface="Times New Roman"/>
              </a:rPr>
              <a:t>Во-вторых, </a:t>
            </a:r>
            <a:r>
              <a:rPr b="1" lang="en-US" sz="24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полноценное питание. Пища должна быть богата белком (творог, молочные продукты)  Также следует обогатить и разнообразить пищу витаминными продуктами — овощами (капуста, морковь) и фруктами (бананы, апельсины, грейпфруты). Весьма полезным в этот период будет употребление в пищу различных каш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Documents and Settings\teacher\Рабочий стол\собрание ГИА\125072.jpg"/>
          <p:cNvPicPr/>
          <p:nvPr/>
        </p:nvPicPr>
        <p:blipFill>
          <a:blip r:embed="rId1"/>
          <a:stretch/>
        </p:blipFill>
        <p:spPr>
          <a:xfrm>
            <a:off x="1571760" y="2428920"/>
            <a:ext cx="5543280" cy="4159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Documents and Settings\teacher\Рабочий стол\собрание ГИА\fruits_and_vegetables.jpg"/>
          <p:cNvPicPr/>
          <p:nvPr/>
        </p:nvPicPr>
        <p:blipFill>
          <a:blip r:embed="rId2"/>
          <a:stretch/>
        </p:blipFill>
        <p:spPr>
          <a:xfrm>
            <a:off x="1214280" y="2428920"/>
            <a:ext cx="6659640" cy="4156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teacher\Рабочий стол\собрание ГИА\oatmeal415_3.jpg"/>
          <p:cNvPicPr/>
          <p:nvPr/>
        </p:nvPicPr>
        <p:blipFill>
          <a:blip r:embed="rId3"/>
          <a:stretch/>
        </p:blipFill>
        <p:spPr>
          <a:xfrm>
            <a:off x="1143000" y="2428920"/>
            <a:ext cx="678672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714240" y="1000080"/>
            <a:ext cx="3857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2303e"/>
                </a:solidFill>
                <a:uFillTx/>
                <a:latin typeface="Times New Roman"/>
                <a:ea typeface="Times New Roman"/>
              </a:rPr>
              <a:t>В-третьих</a:t>
            </a:r>
            <a:r>
              <a:rPr b="1" lang="en-US" sz="24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, перед самим экзаменом можно съесть пару долек шоколада — это поможет сконцентрироваться на задании. А еще шоколад является отличным антидепрессант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303e"/>
                </a:solidFill>
                <a:latin typeface="Times New Roman"/>
                <a:ea typeface="Times New Roman"/>
              </a:rPr>
              <a:t>он и вкусный, и полезный, и со стрессом помогает справи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Documents and Settings\teacher\Рабочий стол\собрание ГИА\1.jpg"/>
          <p:cNvPicPr/>
          <p:nvPr/>
        </p:nvPicPr>
        <p:blipFill>
          <a:blip r:embed="rId1"/>
          <a:stretch/>
        </p:blipFill>
        <p:spPr>
          <a:xfrm>
            <a:off x="5214960" y="1071720"/>
            <a:ext cx="3240000" cy="46209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а успе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Сосредоточьтесь! Торопитесь не спеша! Жесткие рамки времени не должны влиять на качество ответов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Начните с легкого! Начните отвечать на те вопросы, в знании которых нет сомнений. Так вы освободитесь от нервозности, и вся энергия будет направлена на более трудные вопросы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Пропускайте! Надо научиться пропускать трудные или непонятные задания: в тексте всегда найдутся такие вопросы, с которыми вы обязательно справите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Читайте задание до конца! Иначе можно совершить досадные ошибки в самых легких вопросах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Думайте только о текущем задании!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Исключайте! Многие задания можно быстрее решить, если не искать сразу правильный вариант ответа, а последовательно исключать те, которые явно не подходят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 Оставьте время для проверки своей работы, чтобы успеть пробежать глазами и заметить явные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1120" y="1554480"/>
            <a:ext cx="886176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Единые сро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оведения экзаменов в новой форме ежего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верждаются приказом Рособрнадз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должительность экзаменов по разным предме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А-2012 в новой форм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·           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 русскому языку, математик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4 часа (240 мин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·            по 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обществознани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3 часа (180 минут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·            по биологии  - 2,5 часа (150 мин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·          информатике и ИКТ - 2 часа (120 мин.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2283120" cy="2952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029200" y="914400"/>
            <a:ext cx="2543040" cy="2543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600200" y="39625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334120" y="4191120"/>
            <a:ext cx="1242720" cy="1962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3689640" cy="4038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полняйте бланки в соответствии с образц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мен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о количество заданий с выбором ответа с 3 до 7 и количество заданий с кратким ответом с 14 до 9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Изменено с 4 до 3 количество микротем исходного текста для написания сжатого изложения (С1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Изменен объем изложения и сочин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Изменено задание С2.1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Изменены системы оценивания заданий С1 и С2.1 и С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ме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ое отличие экзаменационной работы 2012 г. от модели предыдущих лет заключается в том, что в ней полностью реализовано требование действующей нормативной базы в части проведения экзамена по математике и в полной мере представлены все разделы курса математики, в частности,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задания по курсу геометр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сновной шк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ме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Обществозн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менений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540640" cy="1131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09480" y="2155680"/>
            <a:ext cx="76201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62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веты психолога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ысленные стратегии преодоления страха при подготовке к экзаме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371600"/>
          <a:ext cx="8229600" cy="5205240"/>
        </p:xfrm>
        <a:graphic>
          <a:graphicData uri="http://schemas.openxmlformats.org/drawingml/2006/table">
            <a:tbl>
              <a:tblPr/>
              <a:tblGrid>
                <a:gridCol w="3848040"/>
                <a:gridCol w="4381560"/>
              </a:tblGrid>
              <a:tr h="28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Вызывающие страх мыс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ациональные спасительные мыс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Я должен был значительно раньше начать готовиться, теперь мне просто не хватит времени д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сновательной подготов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не не помогут упреки за ошибки в прошлом. За каждый день занятий я приобретаю все больше знаний. Если я не смогу восстановить пропущенное, то я пойду на экзамен с некоторыми пробелами в знаниях. Есть люди, которые, несмотря на пробелы в знаниях, выдерживают экзамен. Я сейчас же сажусь и учу, и уже это будет полезнее для дела, чем мои пережи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Я слишком глуп, чтобы понять этот материа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Я все же на данный момент что-то знаю. Если этот материал мне и трудно дается, то это не значит, что я глуп. Просто мне нужно немного побольше времени, чтобы хорошо это понять. Если я буду внушать себе, что я глупый, то это мне прибавит еще больше трудностей. Я немедленно сяду и буду прорабатывать необходимый материал страницу за страниц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 мою голову ничего больше не может вой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ой мозг может усвоить очень много информации. Если я в данный момент ничего больше не могу усвоить, это значит, что моя голова должна отдохнуть.  Поэтому я сделаю теперь перерыв и отдохну или займусь чем-нибудь другим. Если я себе внушаю, что ничего больше не могу освоить, этим я затрудняю процесс усво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Я обязательно провалюсь на экзамен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колько людей сдавали экзамены – и мои родители, и мои учителя, и все взрослые, кого я знаю. И все прошли через это испытание благополучно. Не я первый, не я последний. Как ни упирайся, из школы тебя все равно выпустят. Неотвратимо настанет день, когда все будет позад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7120" y="542160"/>
            <a:ext cx="8427960" cy="50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МЯТКА УЧАЩИМ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КЛАССА ПРИ СДАЧЕ ЭКЗАМ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ФОРМЕ ТЕСТ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верься своей интуици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тавь время для проверки своей работы хотя бы для т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бы успеть пробеж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лазами и заметить явные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емись выполнить все задания, но помни, что на практике эт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реаль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дь тестовые задания рассчитаны на максима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ровень трудности, а для хорошей оцен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достаточно одолеть 70% зада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Harlow Solid Italic"/>
              </a:rPr>
              <a:t>УДАЧИ НА ЭКЗА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ект расписани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сударственной (итоговой) аттестации выпускников 9 - классов в новой форме в 2012 год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язательные письменные экзамены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для все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ата                       Предмет (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 новой форме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4 июня (чт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русский язык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10.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05 июня (вт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математ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1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29 мая (вт)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01 июня (пт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обществозна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9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списание  ГИА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проект от 25.01.2012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 мая (вт)               матема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1 июня (пт)             обществозна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5 июня (вт)             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144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учающиеся, 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не планирующие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тупать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офильный класс, сдают 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два экзамена по выбору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числа предметов, изучавшихся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лассе. Экзамены проводятся 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школьной экзаменационной комиссией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исание экзаменов в традиционной форме составляется в школе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е позднее 1 ма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76400"/>
            <a:ext cx="8955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участия в ГИА-2012 выпускникам 9 классов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необходим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писать соответствующее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заяв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ГИА-2012 выпускников 9-х классов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допускаютс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пускники 9-х классов ОУ РФ, имеющие годовые отметки по всем общеобразовательным предметам учебного плана за 9 класс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е ниже удовлетворительны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учающиеся,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имеющие неудовлетворительну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довую отметку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по од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мету учебного плана за 9 класс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обязательной сдачей экзамена   по этому предмет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астники ГИА-2012 обязаны сдать не менее 4 экзамен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русскому языку и математике (обязательные предметы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а экзамена по выбору выпускника из перечня  предметов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ЭК -  территориальная экзаменационная комисс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У – образовательное учрежд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ПЭ – пункт приема экзам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пускники 9 классов, получившие на государственной (итоговой) аттестации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не более 2-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неудовлетворительных отмето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допускаются к повторной ГИА по этим предмета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условиях апробации в 2012 году форма проведения ГИА повторно может быть либо новой, либо традиционной на выбор ребенк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пускник имеет право ознакомиться со своей работой, проверенной экзаменационной комисс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случае несоглас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с выставленной отметкой следует в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-дневны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ок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одать апелляци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 письменной форме в территориальную конфликтную комиссию либо руководителю того ОУ, в котором обучающийся ознакомился с официальными результатами экзамен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P GAME 2008</cp:lastModifiedBy>
  <dcterms:modified xsi:type="dcterms:W3CDTF">2012-02-17T16:18:3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