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95E-A6F6-42FF-84C6-6926CAA8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269-5781-4B29-B8D0-CE63E93C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A52-0052-4984-8D71-562345BC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77B-4B3D-4477-8FD4-D3CFE981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2D7-34E7-4BC4-BD02-25FC8DF9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4F2-7FE0-45FB-AE31-C1E553B8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B04-806D-4528-81AB-C2FEEB27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D81-A2DF-432B-A302-BEFDC6EC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5C96-5D54-47CB-8A11-2E1F459C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EE7-0CE9-4B29-83BC-052F4D3F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5C4-BCFC-452D-A0EB-CB707B5F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263-0BA3-49A4-B49E-839EAFD8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59CA-5889-40CE-9780-3602FA194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brnadzor.gov.ru/common/img/uploaded/doc_list/Proekt_raspisaniya_EGE,_GVE_i_GIA_v_9_klassakh_v_2011_godu.doc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А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ФОРМАЦИЯ О ГОСУДАРСТВЕННОЙ (ИТОГОВОЙ) АТТЕСТАЦИИ УЧАЩИХСЯ 9-х КЛАССОВ (ГИА-9) В 2012 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81952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пускникам 9 классов, прошедшим государственную (итоговую) аттестацию (ГИА), выдается документ государственного образца -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аттестат об основном общем образован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аттестат выставляются итоговые отметки по предметам, которые изучались выпускником в классах второй ступени обще­го образования. Итоговая отметка определяется на основании годовой и экзаменационной отметки с учетом четвертных полугодовых отметок, а также фактической подготовки выпуск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ускникам 9 класса, имеющим годовые, экзаменационные и итоговые отметки "5", выдается аттестат об основном общем образовании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собого образц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ащиеся 9 классов,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е допущенные или не прошедшие ГИ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оставляются на повторное обучение или получают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правку об обучен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установленного образ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сли выпускник 9 класса не прошел ГИА, он оставляется на повторное обучение, и сможет пройти ГИА на следующий г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логом успешной сдачи экзамена является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ачественное освоение школьной программ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повторение и систематизация изученных в 5-9 классах тем по предметам, развитие различных умений (читать и анализировать содержание текста, решать задачи и т.п.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пешной сдаче ГИА помогает и правильный психологический настрой, уверенность в своих силах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585360"/>
            <a:ext cx="9144000" cy="30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94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2303e"/>
                </a:solidFill>
                <a:uFillTx/>
                <a:latin typeface="Times New Roman"/>
                <a:ea typeface="Times New Roman"/>
              </a:rPr>
              <a:t>Во-первых</a:t>
            </a:r>
            <a:r>
              <a:rPr b="1" lang="en-US" sz="2400" spc="-1" strike="noStrike" u="sng">
                <a:solidFill>
                  <a:srgbClr val="02303e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лучше воздержаться от приема успокоительных средств и медикаментов — они тормозят мозговую деятельность и мешают сконцентрироваться. Лучше медикаменты заменить полноценным здоровым сном (юноши — 7–8 часов, девушки — 8–9 часов) и пешими прогулками на свежем воздух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5712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ТЫ ПСИХ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teacher\Рабочий стол\собрание ГИА\5913824b_1.jpg"/>
          <p:cNvPicPr/>
          <p:nvPr/>
        </p:nvPicPr>
        <p:blipFill>
          <a:blip r:embed="rId1"/>
          <a:stretch/>
        </p:blipFill>
        <p:spPr>
          <a:xfrm>
            <a:off x="2571840" y="3286080"/>
            <a:ext cx="3708360" cy="2835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teacher\Рабочий стол\собрание ГИА\CA1C4BLD.jpg"/>
          <p:cNvPicPr/>
          <p:nvPr/>
        </p:nvPicPr>
        <p:blipFill>
          <a:blip r:embed="rId2"/>
          <a:stretch/>
        </p:blipFill>
        <p:spPr>
          <a:xfrm>
            <a:off x="2286000" y="3214800"/>
            <a:ext cx="4284720" cy="3205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teacher\Рабочий стол\собрание ГИА\CA7BPIKP.jpg"/>
          <p:cNvPicPr/>
          <p:nvPr/>
        </p:nvPicPr>
        <p:blipFill>
          <a:blip r:embed="rId3"/>
          <a:stretch/>
        </p:blipFill>
        <p:spPr>
          <a:xfrm>
            <a:off x="2143080" y="3214800"/>
            <a:ext cx="45007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142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2303e"/>
                </a:solidFill>
                <a:uFillTx/>
                <a:latin typeface="Times New Roman"/>
                <a:ea typeface="Times New Roman"/>
              </a:rPr>
              <a:t>Во-вторых, </a:t>
            </a:r>
            <a:r>
              <a:rPr b="1" lang="en-US" sz="2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полноценное питание. Пища должна быть богата белком (творог, молочные продукты)  Также следует обогатить и разнообразить пищу витаминными продуктами — овощами (капуста, морковь) и фруктами (бананы, апельсины, грейпфруты). Весьма полезным в этот период будет употребление в пищу различных каш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Documents and Settings\teacher\Рабочий стол\собрание ГИА\125072.jpg"/>
          <p:cNvPicPr/>
          <p:nvPr/>
        </p:nvPicPr>
        <p:blipFill>
          <a:blip r:embed="rId1"/>
          <a:stretch/>
        </p:blipFill>
        <p:spPr>
          <a:xfrm>
            <a:off x="1571760" y="2428920"/>
            <a:ext cx="5543280" cy="415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teacher\Рабочий стол\собрание ГИА\fruits_and_vegetables.jpg"/>
          <p:cNvPicPr/>
          <p:nvPr/>
        </p:nvPicPr>
        <p:blipFill>
          <a:blip r:embed="rId2"/>
          <a:stretch/>
        </p:blipFill>
        <p:spPr>
          <a:xfrm>
            <a:off x="1214280" y="2428920"/>
            <a:ext cx="6659640" cy="4156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teacher\Рабочий стол\собрание ГИА\oatmeal415_3.jpg"/>
          <p:cNvPicPr/>
          <p:nvPr/>
        </p:nvPicPr>
        <p:blipFill>
          <a:blip r:embed="rId3"/>
          <a:stretch/>
        </p:blipFill>
        <p:spPr>
          <a:xfrm>
            <a:off x="1143000" y="2428920"/>
            <a:ext cx="67867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714240" y="1000080"/>
            <a:ext cx="3857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2303e"/>
                </a:solidFill>
                <a:uFillTx/>
                <a:latin typeface="Times New Roman"/>
                <a:ea typeface="Times New Roman"/>
              </a:rPr>
              <a:t>В-третьих</a:t>
            </a:r>
            <a:r>
              <a:rPr b="1" lang="en-US" sz="2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, перед самим экзаменом можно съесть пару долек шоколада — это поможет сконцентрироваться на задании. А еще шоколад является отличным антидепрессант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он и вкусный, и полезный, и со стрессом помогает справ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Documents and Settings\teacher\Рабочий стол\собрание ГИА\1.jpg"/>
          <p:cNvPicPr/>
          <p:nvPr/>
        </p:nvPicPr>
        <p:blipFill>
          <a:blip r:embed="rId1"/>
          <a:stretch/>
        </p:blipFill>
        <p:spPr>
          <a:xfrm>
            <a:off x="5214960" y="1071720"/>
            <a:ext cx="3240000" cy="4620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успе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Сосредоточьтесь! Торопитесь не спеша! Жесткие рамки времени не должны влиять на качество ответов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Начните с легкого! Начните отвечать на те вопросы, в знании которых нет сомнений. Так вы освободитесь от нервозности, и вся энергия будет направлена на более трудные вопросы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Пропускайте! Надо научиться пропускать трудные или непонятные задания: в тексте всегда найдутся такие вопросы, с которыми вы обязательно справите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Читайте задание до конца! Иначе можно совершить досадные ошибки в самых легких вопросах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Думайте только о текущем задании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Исключайте! Многие задания можно быстрее решить, если не искать сразу правильный вариант ответа, а последовательно исключать те, которые явно не подходят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Оставьте время для проверки своей работы, чтобы успеть пробежать глазами и заметить явные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1120" y="1554480"/>
            <a:ext cx="88617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Единые сро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ведения экзаменов в новой форме ежего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аются приказом Рособрнадз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ительность экзаменов по разным предм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А-2012 в новой форм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·           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 русскому языку, математик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4 часа (240 мин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·            по 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обществознани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3 часа (180 минут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·            по биологии  - 2,5 часа (150 мин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·          информатике и ИКТ - 2 часа (120 мин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2283120" cy="2952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2543040" cy="2543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600200" y="39625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334120" y="4191120"/>
            <a:ext cx="1242720" cy="1962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3689640" cy="4038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олняйте бланки в соответствии с образц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ме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о количество заданий с выбором ответа с 3 до 7 и количество заданий с кратким ответом с 14 до 9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Изменено с 4 до 3 количество микротем исходного текста для написания сжатого изложения (С1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Изменен объем изложения и сочин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Изменено задание С2.1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Изменены системы оценивания заданий С1 и С2.1 и С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ме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е отличие экзаменационной работы 2012 г. от модели предыдущих лет заключается в том, что в ней полностью реализовано требование действующей нормативной базы в части проведения экзамена по математике и в полной мере представлены все разделы курса математики, в частности,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задания по курсу геомет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сновной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ме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Общество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й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540640" cy="1131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9480" y="2155680"/>
            <a:ext cx="76201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62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еты психолог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сленные стратегии преодоления страха при подготовке к экзаме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371600"/>
          <a:ext cx="8229600" cy="5205240"/>
        </p:xfrm>
        <a:graphic>
          <a:graphicData uri="http://schemas.openxmlformats.org/drawingml/2006/table">
            <a:tbl>
              <a:tblPr/>
              <a:tblGrid>
                <a:gridCol w="3848040"/>
                <a:gridCol w="4381560"/>
              </a:tblGrid>
              <a:tr h="2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ызывающие страх мыс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ациональные спасительные мыс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Я должен был значительно раньше начать готовиться, теперь мне просто не хватит времени д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сновательной подготов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не не помогут упреки за ошибки в прошлом. За каждый день занятий я приобретаю все больше знаний. Если я не смогу восстановить пропущенное, то я пойду на экзамен с некоторыми пробелами в знаниях. Есть люди, которые, несмотря на пробелы в знаниях, выдерживают экзамен. Я сейчас же сажусь и учу, и уже это будет полезнее для дела, чем мои пережи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Я слишком глуп, чтобы понять этот материа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Я все же на данный момент что-то знаю. Если этот материал мне и трудно дается, то это не значит, что я глуп. Просто мне нужно немного побольше времени, чтобы хорошо это понять. Если я буду внушать себе, что я глупый, то это мне прибавит еще больше трудностей. Я немедленно сяду и буду прорабатывать необходимый материал страницу за страниц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 мою голову ничего больше не может вой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ой мозг может усвоить очень много информации. Если я в данный момент ничего больше не могу усвоить, это значит, что моя голова должна отдохнуть.  Поэтому я сделаю теперь перерыв и отдохну или займусь чем-нибудь другим. Если я себе внушаю, что ничего больше не могу освоить, этим я затрудняю процесс усво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Я обязательно провалюсь на экзамен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колько людей сдавали экзамены – и мои родители, и мои учителя, и все взрослые, кого я знаю. И все прошли через это испытание благополучно. Не я первый, не я последний. Как ни упирайся, из школы тебя все равно выпустят. Неотвратимо настанет день, когда все будет позад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7120" y="542160"/>
            <a:ext cx="842796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МЯТКА УЧАЩИМ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КЛАССА ПРИ СДАЧЕ ЭКЗА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ФОРМЕ ТЕС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верься своей интуици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вь время для проверки своей работы хотя бы для т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успеть пробеж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зами и заметить явны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мись выполнить все задания, но помни, что на практике э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реаль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дь тестовые задания рассчитаны на максима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ровень трудности, а для хорошей оцен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достаточно одолеть 70% зада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arlow Solid Italic"/>
              </a:rPr>
              <a:t>УДАЧИ НА ЭКЗА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ект расписани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сударственной (итоговой) аттестации выпускников 9 - классов в новой форме в 2012 год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тельные письменные экзамены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для все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та                       Предмет (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 новой форме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4 июня (чт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русский язы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10.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05 июня (вт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матема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1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29 мая (вт)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01 июня (пт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обществозна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9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писание  ГИА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проект от 25.01.2012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мая (вт)               мате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1 июня (пт)             обществозна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5 июня (вт)             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144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учающиеся,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не планирующи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упать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офильный класс, сдают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два экзамена по выбору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числа предметов, изучавшихся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лассе. Экзамены проводятся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школьной экзаменационной комиссией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исание экзаменов в традиционной форме составляется в школ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позднее 1 ма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6400"/>
            <a:ext cx="8955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участия в ГИА-2012 выпускникам 9 классов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необходим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исать соответствующее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аяв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ГИА-2012 выпускников 9-х классов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допускаютс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ускники 9-х классов ОУ РФ, имеющие годовые отметки по всем общеобразовательным предметам учебного плана за 9 класс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 ниже удовлетворительны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учающиеся,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имеющие неудовлетворительну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довую отметку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по од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у учебного плана за 9 класс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обязательной сдачей экзамена   по этому предмет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астники ГИА-2012 обязаны сдать не менее 4 экза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русскому языку и математике (обязательные предметы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а экзамена по выбору выпускника из перечня  предмето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ЭК -  территориальная экзаменационная комисс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У – образовательное учрежд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ПЭ – пункт приема экзам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пускники 9 классов, получившие на государственной (итоговой) аттестации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не более 2-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еудовлетворительных отмето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допускаются к повторной ГИА по этим предмета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условиях апробации в 2012 году форма проведения ГИА повторно может быть либо новой, либо традиционной на выбор ребенк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ускник имеет право ознакомиться со своей работой, проверенной экзаменационной комисс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лучае несоглас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 выставленной отметкой следует в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-дневны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ок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дать апелляци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письменной форме в территориальную конфликтную комиссию либо руководителю того ОУ, в котором обучающийся ознакомился с официальными результатами экзамен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8</cp:lastModifiedBy>
  <dcterms:modified xsi:type="dcterms:W3CDTF">2012-02-17T16:18:3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