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74076-3F13-477A-BE1C-0F59167D7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1B9D5-3693-48C0-89DC-6F2A496E3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27192-1102-4D23-8AA6-5B2981300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B36E2-0507-4C96-9B58-116178317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C5099-0BFD-4781-B625-52CA474A5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55BD7-7719-43FF-AE93-F19FB839D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18AE1-320E-423F-BDCB-0A347DAE1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B7598-1399-4E51-BF66-0D7D10875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1381A-2ED1-4F42-86AE-0C94976B6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F2702-DE49-49A3-907A-0B24FBBF3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AB84F-70F9-4780-8E74-BF8C00584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D56B2-5CB1-4867-BB57-A8D0942E1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32A23-0998-46C6-9BAB-6FC4DC7E7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C2E97-71CA-4598-9186-BC722AE54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D8F09-A17B-4558-AF2D-6EC711708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4E31E-1557-47F7-ABBC-F638622CF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D3D61-3AF5-4BE7-A0E2-8EE6DC0CA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A5AE5-7B3C-48A1-B2EC-E4588D6F3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80F0D-A759-4A2C-B75E-F91262CD2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5034E-61CC-4B1C-B629-6E1FE41D6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8AF46-B3F2-44B3-B629-076D1AF2A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1BC21-79CB-4883-8649-4D0884358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BFEE0-8051-4E03-9D93-DCB4C6CB2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5FEED-5D0A-4D27-97A6-6F2487DA7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ccffff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ccecff"/>
                  </a:gs>
                  <a:gs pos="100000">
                    <a:srgbClr val="cc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ccffff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ccecff"/>
                  </a:gs>
                  <a:gs pos="100000">
                    <a:srgbClr val="cc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ccffff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ccecff"/>
                  </a:gs>
                  <a:gs pos="100000">
                    <a:srgbClr val="cc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c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99"/>
                    </a:gs>
                    <a:gs pos="100000">
                      <a:srgbClr val="cc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cc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cc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cc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cc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cc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cc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cc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cc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cc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cc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cc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cc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cc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cc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cc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cc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cc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cc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cc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cc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ff99"/>
                    </a:gs>
                    <a:gs pos="100000">
                      <a:srgbClr val="ffcc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cccc"/>
                    </a:gs>
                    <a:gs pos="100000">
                      <a:srgbClr val="ffff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cc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cc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cc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cc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cc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cc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cc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cce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f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f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f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cce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f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cc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cc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cc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cce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cc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cc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66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fcccc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29C46-6D9C-4837-BCC0-8C61F13AB130}" type="slidenum">
              <a:rPr b="0" lang="en-US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ccffff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ccecff"/>
                  </a:gs>
                  <a:gs pos="100000">
                    <a:srgbClr val="cc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ccffff"/>
                      </a:gs>
                      <a:gs pos="100000">
                        <a:srgbClr val="ffffff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ccffff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ccc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ccc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ccc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ccc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ccc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ccc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ccc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ccc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ccc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ccc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ccc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ccc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ccc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ccc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ccc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ccc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ccc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ccc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ccc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ccc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cc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cc"/>
                      </a:gs>
                      <a:gs pos="100000">
                        <a:srgbClr val="ffff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ccc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ccc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ccc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ccc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ccc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ccc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cccc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ccec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fcc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ccec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fcc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ccec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ff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fcc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ff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cce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f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f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cce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cc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cc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cce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cc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cc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66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DB4FC-E85C-4A93-B50A-AFA14BDCE83D}" type="slidenum">
              <a:rPr b="0" lang="en-US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kemerovohleb.ru/fotoalbom/876b.jpg" TargetMode="External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" descr="Зерновые культуры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0" y="476280"/>
            <a:ext cx="9144000" cy="23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66"/>
                </a:solidFill>
                <a:latin typeface="Comic Sans MS"/>
              </a:rPr>
              <a:t>Хлеб</a:t>
            </a:r>
            <a:r>
              <a:rPr b="1" lang="en-US" sz="6600" spc="-1" strike="noStrike">
                <a:solidFill>
                  <a:srgbClr val="000066"/>
                </a:solidFill>
                <a:latin typeface="Comic Sans MS"/>
              </a:rPr>
              <a:t> -</a:t>
            </a:r>
            <a:r>
              <a:rPr b="1" lang="ru-RU" sz="6600" spc="-1" strike="noStrike">
                <a:solidFill>
                  <a:srgbClr val="000066"/>
                </a:solidFill>
                <a:latin typeface="Comic Sans MS"/>
              </a:rPr>
              <a:t> всему голова</a:t>
            </a:r>
            <a:endParaRPr b="0" lang="en-US" sz="6600" spc="-1" strike="noStrike">
              <a:solidFill>
                <a:srgbClr val="993366"/>
              </a:solidFill>
              <a:latin typeface="Arial Blac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539640" y="3213000"/>
            <a:ext cx="806472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Comic Sans MS"/>
              </a:rPr>
              <a:t>Работа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Comic Sans MS"/>
              </a:rPr>
              <a:t>ученика 3 класса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Comic Sans MS"/>
              </a:rPr>
              <a:t>МОУ СОШ № 20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Comic Sans MS"/>
              </a:rPr>
              <a:t>Сивкова Никиты.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Comic Sans MS"/>
              </a:rPr>
              <a:t>Руководитель Махрова М.А</a:t>
            </a: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 spd="slow" advTm="8000">
    <p:wipe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3000"/>
                            </p:stCondLst>
                            <p:childTnLst>
                              <p:par>
                                <p:cTn id="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4000"/>
                            </p:stCondLst>
                            <p:childTnLst>
                              <p:par>
                                <p:cTn id="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0"/>
                            </p:stCondLst>
                            <p:childTnLst>
                              <p:par>
                                <p:cTn id="3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pic>
        <p:nvPicPr>
          <p:cNvPr id="398" name="" descr="Зерновые культуры"/>
          <p:cNvPicPr/>
          <p:nvPr/>
        </p:nvPicPr>
        <p:blipFill>
          <a:blip r:embed="rId1"/>
          <a:stretch/>
        </p:blipFill>
        <p:spPr>
          <a:xfrm>
            <a:off x="0" y="0"/>
            <a:ext cx="9144000" cy="686736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wipe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/>
          <p:nvPr/>
        </p:nvSpPr>
        <p:spPr>
          <a:xfrm>
            <a:off x="539640" y="2276640"/>
            <a:ext cx="8136000" cy="417672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" descr="Зерновые культуры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/>
          <p:nvPr/>
        </p:nvSpPr>
        <p:spPr>
          <a:xfrm>
            <a:off x="684360" y="4325040"/>
            <a:ext cx="788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179280" y="2379600"/>
            <a:ext cx="878544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omic Sans MS"/>
              </a:rPr>
              <a:t>Характерной чертой русской традиционной пищи является то, что наряду с большим разнообразием используемых продуктов она отражает преимущественно земледельческий характер народного хозяйства. Ведущее место в ней издавна занимают хлебные, мучные и крупяные блюда.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2627280" y="260280"/>
            <a:ext cx="3745080" cy="20890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2"/>
          <a:stretch/>
        </p:blipFill>
        <p:spPr>
          <a:xfrm>
            <a:off x="2700360" y="333360"/>
            <a:ext cx="3583080" cy="19494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wipe dir="u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" descr="Зерновые культуры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60" name=""/>
          <p:cNvSpPr txBox="1"/>
          <p:nvPr/>
        </p:nvSpPr>
        <p:spPr>
          <a:xfrm>
            <a:off x="660240" y="477720"/>
            <a:ext cx="7823520" cy="375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66"/>
                </a:solidFill>
                <a:latin typeface="Arial Black"/>
              </a:rPr>
              <a:t>  </a:t>
            </a:r>
            <a:r>
              <a:rPr b="1" lang="en-US" sz="4400" spc="-1" strike="noStrike">
                <a:solidFill>
                  <a:srgbClr val="000066"/>
                </a:solidFill>
                <a:latin typeface="Comic Sans MS"/>
              </a:rPr>
              <a:t>Особенно большое значение для русских имели и имеют хлеб и хлебные изделия. </a:t>
            </a:r>
            <a:br>
              <a:rPr sz="4400"/>
            </a:b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/>
          </p:nvPr>
        </p:nvSpPr>
        <p:spPr>
          <a:xfrm>
            <a:off x="457200" y="6308640"/>
            <a:ext cx="8229600" cy="1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2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2" name=""/>
          <p:cNvSpPr/>
          <p:nvPr/>
        </p:nvSpPr>
        <p:spPr>
          <a:xfrm>
            <a:off x="2484360" y="3573360"/>
            <a:ext cx="3743280" cy="28800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2"/>
          <a:stretch/>
        </p:blipFill>
        <p:spPr>
          <a:xfrm>
            <a:off x="2556000" y="3645000"/>
            <a:ext cx="3600360" cy="275112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wipe dir="u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" descr="Зерновые культуры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65" name=""/>
          <p:cNvSpPr txBox="1"/>
          <p:nvPr/>
        </p:nvSpPr>
        <p:spPr>
          <a:xfrm>
            <a:off x="694440" y="310320"/>
            <a:ext cx="7755120" cy="1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    </a:t>
            </a:r>
            <a:r>
              <a:rPr b="0" lang="en-US" sz="3200" spc="-1" strike="noStrike">
                <a:solidFill>
                  <a:srgbClr val="000066"/>
                </a:solidFill>
                <a:latin typeface="Arial Black"/>
              </a:rPr>
              <a:t> </a:t>
            </a:r>
            <a:r>
              <a:rPr b="1" lang="en-US" sz="3600" spc="-1" strike="noStrike">
                <a:solidFill>
                  <a:srgbClr val="000066"/>
                </a:solidFill>
                <a:latin typeface="Arial Black"/>
              </a:rPr>
              <a:t> </a:t>
            </a:r>
            <a:r>
              <a:rPr b="1" lang="en-US" sz="3600" spc="-1" strike="noStrike">
                <a:solidFill>
                  <a:srgbClr val="000066"/>
                </a:solidFill>
                <a:latin typeface="Comic Sans MS"/>
              </a:rPr>
              <a:t>Приготовляли хлеб из разных сортов муки. Уже в древности, по-видимому, умели производить разный помол зерна, что определяло наличие разных сортов хлеба.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7" name=""/>
          <p:cNvSpPr/>
          <p:nvPr/>
        </p:nvSpPr>
        <p:spPr>
          <a:xfrm>
            <a:off x="3132000" y="3645000"/>
            <a:ext cx="2880000" cy="252072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3203640" y="3716280"/>
            <a:ext cx="2736720" cy="234972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wipe dir="u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" descr="Зерновые культуры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395280" y="1268280"/>
            <a:ext cx="4537080" cy="48974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444240" y="453240"/>
            <a:ext cx="8650800" cy="9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66"/>
                </a:solidFill>
                <a:latin typeface="Arial Black"/>
              </a:rPr>
              <a:t>       </a:t>
            </a:r>
            <a:r>
              <a:rPr b="0" lang="en-US" sz="4400" spc="-1" strike="noStrike">
                <a:solidFill>
                  <a:srgbClr val="000066"/>
                </a:solidFill>
                <a:latin typeface="Comic Sans MS"/>
              </a:rPr>
              <a:t>Преобладал черный хлеб</a:t>
            </a: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/>
          </p:nvPr>
        </p:nvSpPr>
        <p:spPr>
          <a:xfrm>
            <a:off x="5219280" y="1267920"/>
            <a:ext cx="3924360" cy="619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66"/>
                </a:solidFill>
                <a:latin typeface="Arial Black"/>
              </a:rPr>
              <a:t>  </a:t>
            </a:r>
            <a:r>
              <a:rPr b="0" lang="en-US" sz="4400" spc="-1" strike="noStrike">
                <a:solidFill>
                  <a:srgbClr val="000066"/>
                </a:solidFill>
                <a:latin typeface="Comic Sans MS"/>
              </a:rPr>
              <a:t>из ржаной муки, который считался основным русским хлебом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2"/>
          <a:stretch/>
        </p:blipFill>
        <p:spPr>
          <a:xfrm>
            <a:off x="468360" y="1357200"/>
            <a:ext cx="4390920" cy="47358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wipe dir="u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2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2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2000" fill="hold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2000" fill="hold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" descr="Зерновые культуры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72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3366"/>
              </a:solidFill>
              <a:latin typeface="Arial Black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24000" y="333000"/>
            <a:ext cx="822960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      </a:t>
            </a:r>
            <a:r>
              <a:rPr b="1" lang="en-US" sz="4000" spc="-1" strike="noStrike">
                <a:solidFill>
                  <a:srgbClr val="000066"/>
                </a:solidFill>
                <a:latin typeface="Comic Sans MS"/>
              </a:rPr>
              <a:t>Большие круглые хлебы делали из кислого теста и выпекали в русской печи на полу, реже пользовались металлическими,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Comic Sans MS"/>
              </a:rPr>
              <a:t>  </a:t>
            </a:r>
            <a:r>
              <a:rPr b="1" lang="en-US" sz="4000" spc="-1" strike="noStrike">
                <a:solidFill>
                  <a:srgbClr val="000066"/>
                </a:solidFill>
                <a:latin typeface="Comic Sans MS"/>
              </a:rPr>
              <a:t>а прежде – 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Comic Sans MS"/>
              </a:rPr>
              <a:t>  </a:t>
            </a:r>
            <a:r>
              <a:rPr b="1" lang="en-US" sz="4000" spc="-1" strike="noStrike">
                <a:solidFill>
                  <a:srgbClr val="000066"/>
                </a:solidFill>
                <a:latin typeface="Comic Sans MS"/>
              </a:rPr>
              <a:t>керамическими 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Comic Sans MS"/>
              </a:rPr>
              <a:t>  </a:t>
            </a:r>
            <a:r>
              <a:rPr b="1" lang="en-US" sz="4000" spc="-1" strike="noStrike">
                <a:solidFill>
                  <a:srgbClr val="000066"/>
                </a:solidFill>
                <a:latin typeface="Comic Sans MS"/>
              </a:rPr>
              <a:t>формами. 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0" y="2505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1440" y="36475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44444"/>
                </a:solidFill>
                <a:latin typeface="Arial"/>
                <a:ea typeface="Times New Roman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5580000" y="3213000"/>
            <a:ext cx="3240000" cy="316872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f0" descr="8 злаков"/>
          <p:cNvPicPr/>
          <p:nvPr/>
        </p:nvPicPr>
        <p:blipFill>
          <a:blip r:embed="rId2"/>
          <a:stretch/>
        </p:blipFill>
        <p:spPr>
          <a:xfrm>
            <a:off x="5580000" y="3284640"/>
            <a:ext cx="3168720" cy="316872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wipe dir="u"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500"/>
                            </p:stCondLst>
                            <p:childTnLst>
                              <p:par>
                                <p:cTn id="13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1000" fill="hold"/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1000" fill="hold"/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" descr="Зерновые культуры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3" name=""/>
          <p:cNvSpPr txBox="1"/>
          <p:nvPr/>
        </p:nvSpPr>
        <p:spPr>
          <a:xfrm>
            <a:off x="3148920" y="5101560"/>
            <a:ext cx="2557800" cy="3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66"/>
              </a:solidFill>
              <a:latin typeface="Arial Black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/>
          </p:nvPr>
        </p:nvSpPr>
        <p:spPr>
          <a:xfrm>
            <a:off x="324000" y="26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      </a:t>
            </a:r>
            <a:r>
              <a:rPr b="1" lang="ru-RU" sz="3600" spc="-1" strike="noStrike">
                <a:solidFill>
                  <a:srgbClr val="000066"/>
                </a:solidFill>
                <a:latin typeface="Comic Sans MS"/>
              </a:rPr>
              <a:t>Интересно отметить, что при археологических раскопках был найден игрушечных хлеб и виде круглого каравая с нарезками на корке,вот такой приблизительно.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5" name=""/>
          <p:cNvSpPr/>
          <p:nvPr/>
        </p:nvSpPr>
        <p:spPr>
          <a:xfrm>
            <a:off x="2771640" y="3429000"/>
            <a:ext cx="3240360" cy="24480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" descr="Сибирский пикантный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987640" y="3213000"/>
            <a:ext cx="2930400" cy="293076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wipe dir="u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" descr="Зерновые культуры"/>
          <p:cNvPicPr/>
          <p:nvPr/>
        </p:nvPicPr>
        <p:blipFill>
          <a:blip r:embed="rId1"/>
          <a:stretch/>
        </p:blipFill>
        <p:spPr>
          <a:xfrm>
            <a:off x="0" y="0"/>
            <a:ext cx="9144000" cy="6886440"/>
          </a:xfrm>
          <a:prstGeom prst="rect">
            <a:avLst/>
          </a:prstGeom>
          <a:ln w="0">
            <a:noFill/>
          </a:ln>
        </p:spPr>
      </p:pic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24000" y="476280"/>
            <a:ext cx="822960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Comic Sans MS"/>
              </a:rPr>
              <a:t>  </a:t>
            </a:r>
            <a:r>
              <a:rPr b="1" lang="en-US" sz="4800" spc="-1" strike="noStrike">
                <a:solidFill>
                  <a:srgbClr val="000066"/>
                </a:solidFill>
                <a:latin typeface="Comic Sans MS"/>
              </a:rPr>
              <a:t>Интересно, а каким будет хлеб в далеком будущем?</a:t>
            </a:r>
            <a:br>
              <a:rPr sz="4800"/>
            </a:br>
            <a:endParaRPr b="0" lang="en-US" sz="4800" spc="-1" strike="noStrike">
              <a:solidFill>
                <a:srgbClr val="993366"/>
              </a:solidFill>
              <a:latin typeface="Arial Black"/>
            </a:endParaRPr>
          </a:p>
        </p:txBody>
      </p:sp>
      <p:sp>
        <p:nvSpPr>
          <p:cNvPr id="389" name=""/>
          <p:cNvSpPr/>
          <p:nvPr/>
        </p:nvSpPr>
        <p:spPr>
          <a:xfrm>
            <a:off x="771840" y="3860640"/>
            <a:ext cx="2818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66"/>
                </a:solidFill>
                <a:latin typeface="Comic Sans MS"/>
              </a:rPr>
              <a:t>Таким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859280" y="3284640"/>
            <a:ext cx="2737080" cy="20890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1" name="" descr=""/>
          <p:cNvPicPr/>
          <p:nvPr/>
        </p:nvPicPr>
        <p:blipFill>
          <a:blip r:embed="rId2"/>
          <a:stretch/>
        </p:blipFill>
        <p:spPr>
          <a:xfrm>
            <a:off x="4932360" y="3357720"/>
            <a:ext cx="2598840" cy="191448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wipe dir="u"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5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6000"/>
                            </p:stCondLst>
                            <p:childTnLst>
                              <p:par>
                                <p:cTn id="18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9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9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2" name="" descr="Зерновые культуры"/>
          <p:cNvPicPr/>
          <p:nvPr/>
        </p:nvPicPr>
        <p:blipFill>
          <a:blip r:embed="rId1"/>
          <a:stretch/>
        </p:blipFill>
        <p:spPr>
          <a:xfrm>
            <a:off x="0" y="648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826920" y="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66"/>
                </a:solidFill>
                <a:latin typeface="Comic Sans MS"/>
              </a:rPr>
              <a:t>А может таким?</a:t>
            </a:r>
            <a:endParaRPr b="0" lang="en-US" sz="5400" spc="-1" strike="noStrike">
              <a:solidFill>
                <a:srgbClr val="993366"/>
              </a:solidFill>
              <a:latin typeface="Arial Black"/>
            </a:endParaRPr>
          </a:p>
        </p:txBody>
      </p:sp>
      <p:sp>
        <p:nvSpPr>
          <p:cNvPr id="394" name=""/>
          <p:cNvSpPr/>
          <p:nvPr/>
        </p:nvSpPr>
        <p:spPr>
          <a:xfrm>
            <a:off x="1258920" y="1413000"/>
            <a:ext cx="6769080" cy="216036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5" name="" descr=""/>
          <p:cNvPicPr/>
          <p:nvPr/>
        </p:nvPicPr>
        <p:blipFill>
          <a:blip r:embed="rId2"/>
          <a:stretch/>
        </p:blipFill>
        <p:spPr>
          <a:xfrm>
            <a:off x="1332000" y="1484280"/>
            <a:ext cx="6621480" cy="2016000"/>
          </a:xfrm>
          <a:prstGeom prst="rect">
            <a:avLst/>
          </a:prstGeom>
          <a:ln w="0">
            <a:noFill/>
          </a:ln>
        </p:spPr>
      </p:pic>
      <p:sp>
        <p:nvSpPr>
          <p:cNvPr id="396" name=""/>
          <p:cNvSpPr/>
          <p:nvPr/>
        </p:nvSpPr>
        <p:spPr>
          <a:xfrm>
            <a:off x="324000" y="3789360"/>
            <a:ext cx="84978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Comic Sans MS"/>
              </a:rPr>
              <a:t>  </a:t>
            </a:r>
            <a:r>
              <a:rPr b="1" lang="en-US" sz="4400" spc="-1" strike="noStrike">
                <a:solidFill>
                  <a:srgbClr val="000066"/>
                </a:solidFill>
                <a:latin typeface="Comic Sans MS"/>
              </a:rPr>
              <a:t>А может, в такой пилюле будет содержаться весь комплексный обед: борщ, жареный цыплёнок, сок …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wipe dir="u"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200"/>
                            </p:stCondLst>
                            <p:childTnLst>
                              <p:par>
                                <p:cTn id="20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4700"/>
                            </p:stCondLst>
                            <p:childTnLst>
                              <p:par>
                                <p:cTn id="21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1T15:06:18Z</dcterms:created>
  <dc:creator>MV</dc:creator>
  <dc:description/>
  <dc:language>en-US</dc:language>
  <cp:lastModifiedBy>MV</cp:lastModifiedBy>
  <dcterms:modified xsi:type="dcterms:W3CDTF">2008-02-25T16:13:09Z</dcterms:modified>
  <cp:revision>3</cp:revision>
  <dc:subject/>
  <dc:title>Хлеб всему голова</dc:title>
</cp:coreProperties>
</file>