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ECB8-E453-4533-952B-FAEB1C5A9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927A-06DC-4517-832B-41147C35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E3C7-622D-417B-86F1-35AF35672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7B40-F51C-42DF-8D76-F1E8A77A9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8377-6538-42C0-A291-3AFB5839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BA08-355C-44BB-B98E-37011D33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DA60-E5E8-434D-A8DC-347DA7F9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A4F1-BE5C-4D00-8E11-F546EA65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0990-0F47-4FE1-B848-D4542C6B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3E90-56C0-4F62-98CD-FA7EB42D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4495-DD0E-4553-A217-66BB4CB4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E21A-9828-4BA0-97E0-FD228049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BEEA-B56A-4E97-B907-633641ED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A63C-3227-4CDF-AA20-FD5B449D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5FBC-994B-4A92-B922-72076783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83D7-2856-4401-8893-5673D8848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8F3A-7F3F-4ADF-9277-72ABBB552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8323-E37B-4BFB-9CA8-C8295926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7CAA-76C4-4A52-8374-FB018CC4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F289-610C-44A7-A154-E3EAB84F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85A0-3CC1-4BD0-961A-EBBADA54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4EF4-D3A4-419A-B4D5-B7B68486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1F98-3B52-4A4B-B169-DB5178E4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3A84-E612-4954-BDB2-242112FA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c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99"/>
                    </a:gs>
                    <a:gs pos="100000">
                      <a:srgbClr val="ffcc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cc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cc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29F9-3E05-4E79-9305-354FF48BF660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cc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fcc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fcc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84A2-0A0E-437B-A877-9E4781ED259D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emerovohleb.ru/fotoalbom/876b.jpg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Зерновые культу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66"/>
                </a:solidFill>
                <a:latin typeface="Comic Sans MS"/>
              </a:rPr>
              <a:t>Хлеб</a:t>
            </a:r>
            <a:r>
              <a:rPr b="1" lang="en-US" sz="6600" spc="-1" strike="noStrike">
                <a:solidFill>
                  <a:srgbClr val="000066"/>
                </a:solidFill>
                <a:latin typeface="Comic Sans MS"/>
              </a:rPr>
              <a:t> -</a:t>
            </a:r>
            <a:r>
              <a:rPr b="1" lang="ru-RU" sz="6600" spc="-1" strike="noStrike">
                <a:solidFill>
                  <a:srgbClr val="000066"/>
                </a:solidFill>
                <a:latin typeface="Comic Sans MS"/>
              </a:rPr>
              <a:t> всему голова</a:t>
            </a:r>
            <a:endParaRPr b="0" lang="en-US" sz="66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39640" y="3213000"/>
            <a:ext cx="80647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omic Sans MS"/>
              </a:rPr>
              <a:t>Работ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omic Sans MS"/>
              </a:rPr>
              <a:t>ученика 3 класс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omic Sans MS"/>
              </a:rPr>
              <a:t>МОУ СОШ № 20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omic Sans MS"/>
              </a:rPr>
              <a:t>Сивкова Никиты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omic Sans MS"/>
              </a:rPr>
              <a:t>Руководитель Махрова М.А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 advTm="8000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pic>
        <p:nvPicPr>
          <p:cNvPr id="398" name="" descr="Зерновые культу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539640" y="2276640"/>
            <a:ext cx="8136000" cy="4176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Зерновые культу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684360" y="4325040"/>
            <a:ext cx="78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79280" y="2379600"/>
            <a:ext cx="8785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Характерной чертой русской традиционной пищи является то, что наряду с большим разнообразием используемых продуктов она отражает преимущественно земледельческий характер народного хозяйства. Ведущее место в ней издавна занимают хлебные, мучные и крупяные блюда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627280" y="260280"/>
            <a:ext cx="3745080" cy="2089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2700360" y="333360"/>
            <a:ext cx="3583080" cy="19494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u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Зерновые культу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660240" y="477720"/>
            <a:ext cx="7823520" cy="37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  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Особенно большое значение для русских имели и имеют хлеб и хлебные изделия. </a:t>
            </a:r>
            <a:br>
              <a:rPr sz="4400"/>
            </a:b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57200" y="6308640"/>
            <a:ext cx="8229600" cy="1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2" name=""/>
          <p:cNvSpPr/>
          <p:nvPr/>
        </p:nvSpPr>
        <p:spPr>
          <a:xfrm>
            <a:off x="2484360" y="3573360"/>
            <a:ext cx="3743280" cy="288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2556000" y="3645000"/>
            <a:ext cx="3600360" cy="27511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Зерновые культу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694440" y="310320"/>
            <a:ext cx="7755120" cy="1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   </a:t>
            </a: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 </a:t>
            </a:r>
            <a:r>
              <a:rPr b="1" lang="en-US" sz="3600" spc="-1" strike="noStrike">
                <a:solidFill>
                  <a:srgbClr val="000066"/>
                </a:solidFill>
                <a:latin typeface="Arial Black"/>
              </a:rPr>
              <a:t> 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Приготовляли хлеб из разных сортов муки. Уже в древности, по-видимому, умели производить разный помол зерна, что определяло наличие разных сортов хлеба.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"/>
          <p:cNvSpPr/>
          <p:nvPr/>
        </p:nvSpPr>
        <p:spPr>
          <a:xfrm>
            <a:off x="3132000" y="3645000"/>
            <a:ext cx="2880000" cy="2520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3203640" y="3716280"/>
            <a:ext cx="2736720" cy="23497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u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Зерновые культу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95280" y="1268280"/>
            <a:ext cx="4537080" cy="4897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44240" y="453240"/>
            <a:ext cx="8650800" cy="9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      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Преобладал черный хлеб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5219280" y="1267920"/>
            <a:ext cx="39243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 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из ржаной муки, который считался основным русским хлебом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468360" y="1357200"/>
            <a:ext cx="4390920" cy="47358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u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Зерновые культу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7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24000" y="33300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en-US" sz="4000" spc="-1" strike="noStrike">
                <a:solidFill>
                  <a:srgbClr val="000066"/>
                </a:solidFill>
                <a:latin typeface="Comic Sans MS"/>
              </a:rPr>
              <a:t>Большие круглые хлебы делали из кислого теста и выпекали в русской печи на полу, реже пользовались металлическими,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Comic Sans MS"/>
              </a:rPr>
              <a:t>  </a:t>
            </a:r>
            <a:r>
              <a:rPr b="1" lang="en-US" sz="4000" spc="-1" strike="noStrike">
                <a:solidFill>
                  <a:srgbClr val="000066"/>
                </a:solidFill>
                <a:latin typeface="Comic Sans MS"/>
              </a:rPr>
              <a:t>а прежде –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Comic Sans MS"/>
              </a:rPr>
              <a:t>  </a:t>
            </a:r>
            <a:r>
              <a:rPr b="1" lang="en-US" sz="4000" spc="-1" strike="noStrike">
                <a:solidFill>
                  <a:srgbClr val="000066"/>
                </a:solidFill>
                <a:latin typeface="Comic Sans MS"/>
              </a:rPr>
              <a:t>керамическими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Comic Sans MS"/>
              </a:rPr>
              <a:t>  </a:t>
            </a:r>
            <a:r>
              <a:rPr b="1" lang="en-US" sz="4000" spc="-1" strike="noStrike">
                <a:solidFill>
                  <a:srgbClr val="000066"/>
                </a:solidFill>
                <a:latin typeface="Comic Sans MS"/>
              </a:rPr>
              <a:t>формами.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440" y="364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44444"/>
                </a:solidFill>
                <a:latin typeface="Arial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580000" y="3213000"/>
            <a:ext cx="3240000" cy="3168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f0" descr="8 злаков"/>
          <p:cNvPicPr/>
          <p:nvPr/>
        </p:nvPicPr>
        <p:blipFill>
          <a:blip r:embed="rId2"/>
          <a:stretch/>
        </p:blipFill>
        <p:spPr>
          <a:xfrm>
            <a:off x="5580000" y="3284640"/>
            <a:ext cx="3168720" cy="31687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Зерновые культу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3148920" y="5101560"/>
            <a:ext cx="2557800" cy="3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ru-RU" sz="3600" spc="-1" strike="noStrike">
                <a:solidFill>
                  <a:srgbClr val="000066"/>
                </a:solidFill>
                <a:latin typeface="Comic Sans MS"/>
              </a:rPr>
              <a:t>Интересно отметить, что при археологических раскопках был найден игрушечных хлеб и виде круглого каравая с нарезками на корке,вот такой приблизительно.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5" name=""/>
          <p:cNvSpPr/>
          <p:nvPr/>
        </p:nvSpPr>
        <p:spPr>
          <a:xfrm>
            <a:off x="2771640" y="3429000"/>
            <a:ext cx="3240360" cy="2448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Сибирский пикантный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87640" y="3213000"/>
            <a:ext cx="2930400" cy="29307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u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Зерновые культу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  </a:t>
            </a:r>
            <a:r>
              <a:rPr b="1" lang="en-US" sz="4800" spc="-1" strike="noStrike">
                <a:solidFill>
                  <a:srgbClr val="000066"/>
                </a:solidFill>
                <a:latin typeface="Comic Sans MS"/>
              </a:rPr>
              <a:t>Интересно, а каким будет хлеб в далеком будущем?</a:t>
            </a:r>
            <a:br>
              <a:rPr sz="4800"/>
            </a:br>
            <a:endParaRPr b="0" lang="en-US" sz="48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89" name=""/>
          <p:cNvSpPr/>
          <p:nvPr/>
        </p:nvSpPr>
        <p:spPr>
          <a:xfrm>
            <a:off x="771840" y="3860640"/>
            <a:ext cx="281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ic Sans MS"/>
              </a:rPr>
              <a:t>Таким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859280" y="3284640"/>
            <a:ext cx="2737080" cy="2089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4932360" y="3357720"/>
            <a:ext cx="2598840" cy="19144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u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6000"/>
                            </p:stCondLst>
                            <p:childTnLst>
                              <p:par>
                                <p:cTn id="1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Зерновые культуры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ic Sans MS"/>
              </a:rPr>
              <a:t>А может таким?</a:t>
            </a:r>
            <a:endParaRPr b="0" lang="en-US" sz="5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94" name=""/>
          <p:cNvSpPr/>
          <p:nvPr/>
        </p:nvSpPr>
        <p:spPr>
          <a:xfrm>
            <a:off x="1258920" y="1413000"/>
            <a:ext cx="6769080" cy="21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1332000" y="1484280"/>
            <a:ext cx="6621480" cy="20160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24000" y="3789360"/>
            <a:ext cx="8497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 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А может, в такой пилюле будет содержаться весь комплексный обед: борщ, жареный цыплёнок, сок 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wipe dir="u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2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700"/>
                            </p:stCondLst>
                            <p:childTnLst>
                              <p:par>
                                <p:cTn id="2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5:06:18Z</dcterms:created>
  <dc:creator>MV</dc:creator>
  <dc:description/>
  <dc:language>en-US</dc:language>
  <cp:lastModifiedBy>MV</cp:lastModifiedBy>
  <dcterms:modified xsi:type="dcterms:W3CDTF">2008-02-25T16:13:09Z</dcterms:modified>
  <cp:revision>3</cp:revision>
  <dc:subject/>
  <dc:title>Хлеб всему голова</dc:title>
</cp:coreProperties>
</file>