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EC56-D851-4841-9455-48E73B537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137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1376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2960"/>
            <a:ext cx="821376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7B4D-8EC4-4FFE-85C6-64D20E32A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137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0824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447560"/>
            <a:ext cx="400824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2960"/>
            <a:ext cx="400824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882960"/>
            <a:ext cx="400824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11D7-BBB6-4500-8A52-7B409F090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137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456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447560"/>
            <a:ext cx="264456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447560"/>
            <a:ext cx="264456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2960"/>
            <a:ext cx="264456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882960"/>
            <a:ext cx="264456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882960"/>
            <a:ext cx="264456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963D-BBF3-416A-B2B0-CE55BCDF4E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137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1376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9AFE-C105-444F-BD86-F330645C50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137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1376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E21C4-05B4-494A-AB79-1954F930C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137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0824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447560"/>
            <a:ext cx="400824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94C4-40B9-400D-8C6C-FCC7785D1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137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8ECB-7CC9-4972-AD0D-28DD0F88E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18000"/>
            <a:ext cx="82137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89FD-4E91-4F05-81BA-FD61BDEC2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137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0824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447560"/>
            <a:ext cx="400824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2960"/>
            <a:ext cx="400824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9B5C-C207-4A1A-A005-7B90FEDCE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137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0824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447560"/>
            <a:ext cx="400824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882960"/>
            <a:ext cx="400824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5ACE-EF2D-4B31-B072-2DAC55B3C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137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0824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447560"/>
            <a:ext cx="400824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2960"/>
            <a:ext cx="821376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A6F2-92B2-4CF4-96AE-47157AFAF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1376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5791320" y="6203880"/>
            <a:ext cx="25891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410320" y="6181560"/>
            <a:ext cx="59364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513AF-CEB7-4A45-B3D0-D33C50914D57}" type="slidenum">
              <a:rPr b="0" lang="ru-RU" sz="18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137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9f9f9"/>
                </a:solidFill>
                <a:latin typeface="Century"/>
              </a:rPr>
              <a:t>ХРАМЫ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"/>
          <p:cNvSpPr/>
          <p:nvPr/>
        </p:nvSpPr>
        <p:spPr>
          <a:xfrm>
            <a:off x="257184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286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нян Наталья Владимировн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286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286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У «Средняя общеобразовательная школа №6»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286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 Щекинский район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140360" y="1979640"/>
            <a:ext cx="2822400" cy="200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20720" y="2700360"/>
            <a:ext cx="3009960" cy="261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"/>
          <p:cNvSpPr/>
          <p:nvPr/>
        </p:nvSpPr>
        <p:spPr>
          <a:xfrm>
            <a:off x="360360" y="217440"/>
            <a:ext cx="485928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 ним находится алтарь - главнейшая часть храма. Самое важное место в алтаре - престол – особо освященный четырехугольный стол, на котором совершается Божественная Литургия и незримо присутствует Сам Бог. Находиться в алтаре могут только посвященные (имеющие на это благословение), а прикасаться к престолу только священник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219640" y="360360"/>
            <a:ext cx="3419640" cy="3059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319640" y="3959280"/>
            <a:ext cx="431964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ентральные двери или врата в иконостасе называются царскими, потому что через них Сам Христос – Царь Славы проходит во Святых Дарах (во время причащения), дабы преподать Себя верующи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079640" y="3449520"/>
            <a:ext cx="2340000" cy="30304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2206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360360"/>
            <a:ext cx="8891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ждый православный храм посвящен какому-либо святому, Пресвятой Богородице или событию Священной истории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9280" y="1079640"/>
            <a:ext cx="2340000" cy="1979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419640" y="3959280"/>
            <a:ext cx="32400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319640" y="1260360"/>
            <a:ext cx="3240000" cy="1995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"/>
          <p:cNvSpPr/>
          <p:nvPr/>
        </p:nvSpPr>
        <p:spPr>
          <a:xfrm>
            <a:off x="4319640" y="179280"/>
            <a:ext cx="450036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Храм в д. Тросна Щекинского района Тульской области был возведен по указу Екатерины II . Впервые он упоминается в начале XVIII века как деревянный при кладбище. Во второй половине того же столетия хозяин земель, на которых находился храм, помещик Владимир Писарев начал строительство  каменного здания церкви. В 1790 году состоялось освящение главного придела в честь великомученицы Параскевы и другого – теплого, на втором этаже – в честь святителя Димитрия Ростовского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5640" y="360360"/>
            <a:ext cx="3024360" cy="234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040360" y="3959280"/>
            <a:ext cx="3022560" cy="2519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9280" y="2700360"/>
            <a:ext cx="41403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30-е годы XX века храм был закрыт, а настоятель – протоиерей Александр Успенский – репрессирован. Старожилы вспоминают, что в 1941 году немцы пытались взорвать церковь, даже подложили динамит, но у них ничего не вышло… Но от снарядов и бомб основательно пострадала верхняя часть здания.После закрытия помещение храма использовалось под зерносклад, фабрику игрушек, швейную мастерскую. В 80-е годы здесь расположилось со своим инвентарем общество пчеловодов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20720" y="1414440"/>
            <a:ext cx="3240000" cy="4165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14760" y="847800"/>
            <a:ext cx="412596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2000 году, когда храм был передан верующим, здание находилось в аварийном состояни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рам был восстановлен всего за год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ейчас в храме можно поклониться и помолиться огромному числу святых. 98 частичек мощей киево-печерских подвижников, почивающих в Киево-Печерской Лавре, покоится здесь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храме есть и такие великие святыни, как частичка от Гроба Господня, частицы мощей Иоанна Предтечи и святителя Николая и, конечно же, самой Параскевы Пятницы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120" y="4287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стоящее время всем очевидна необходимость восстановления утраченных связей современного человека с духовной культурой своего народа. Роль национальной духовной культуры огромна. Она внушает уважение к религиозным корням своей нации, гордость за лучших её сынов, веру в будущее своего народ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319480" y="3060720"/>
            <a:ext cx="4160520" cy="3060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68200" y="706320"/>
            <a:ext cx="8585280" cy="4819680"/>
            <a:chOff x="268200" y="706320"/>
            <a:chExt cx="8585280" cy="481968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268200" y="706320"/>
              <a:ext cx="8585280" cy="48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28760" y="857160"/>
              <a:ext cx="821376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57040" indent="-257040" algn="just">
                <a:spcBef>
                  <a:spcPts val="601"/>
                </a:spcBef>
                <a:buClr>
                  <a:srgbClr val="f3a447"/>
                </a:buClr>
                <a:buFont typeface="Wingdings 2" charset="2"/>
                <a:buChar char=""/>
                <a:tabLst>
                  <a:tab algn="l" pos="257040"/>
                  <a:tab algn="l" pos="704880"/>
                  <a:tab algn="l" pos="1154160"/>
                  <a:tab algn="l" pos="1603440"/>
                  <a:tab algn="l" pos="2052720"/>
                  <a:tab algn="l" pos="2502000"/>
                  <a:tab algn="l" pos="2951280"/>
                  <a:tab algn="l" pos="3400560"/>
                  <a:tab algn="l" pos="3849840"/>
                  <a:tab algn="l" pos="4299120"/>
                  <a:tab algn="l" pos="4748040"/>
                  <a:tab algn="l" pos="5197320"/>
                  <a:tab algn="l" pos="5646600"/>
                  <a:tab algn="l" pos="6095880"/>
                  <a:tab algn="l" pos="6545160"/>
                  <a:tab algn="l" pos="6994440"/>
                  <a:tab algn="l" pos="7443720"/>
                  <a:tab algn="l" pos="7893000"/>
                  <a:tab algn="l" pos="8342280"/>
                  <a:tab algn="l" pos="8791560"/>
                  <a:tab algn="l" pos="9240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ru-RU" sz="2600" spc="-1" strike="noStrike">
                  <a:solidFill>
                    <a:srgbClr val="ffffff"/>
                  </a:solidFill>
                  <a:latin typeface="Constantia"/>
                </a:rPr>
                <a:t>Российская земля богата святыми местами: церкви и монастыри, часовни и святые источники… Они являются не только украшением городов и областей, но и  предают родной земле особый колорит и самобытность. </a:t>
              </a:r>
              <a:endParaRPr b="0" lang="en-US" sz="26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57040" indent="-257040" algn="just">
                <a:spcBef>
                  <a:spcPts val="601"/>
                </a:spcBef>
                <a:buClr>
                  <a:srgbClr val="f3a447"/>
                </a:buClr>
                <a:buFont typeface="Wingdings 2" charset="2"/>
                <a:buChar char=""/>
                <a:tabLst>
                  <a:tab algn="l" pos="257040"/>
                  <a:tab algn="l" pos="704880"/>
                  <a:tab algn="l" pos="1154160"/>
                  <a:tab algn="l" pos="1603440"/>
                  <a:tab algn="l" pos="2052720"/>
                  <a:tab algn="l" pos="2502000"/>
                  <a:tab algn="l" pos="2951280"/>
                  <a:tab algn="l" pos="3400560"/>
                  <a:tab algn="l" pos="3849840"/>
                  <a:tab algn="l" pos="4299120"/>
                  <a:tab algn="l" pos="4748040"/>
                  <a:tab algn="l" pos="5197320"/>
                  <a:tab algn="l" pos="5646600"/>
                  <a:tab algn="l" pos="6095880"/>
                  <a:tab algn="l" pos="6545160"/>
                  <a:tab algn="l" pos="6994440"/>
                  <a:tab algn="l" pos="7443720"/>
                  <a:tab algn="l" pos="7893000"/>
                  <a:tab algn="l" pos="8342280"/>
                  <a:tab algn="l" pos="8791560"/>
                  <a:tab algn="l" pos="92408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Constantia"/>
                </a:rPr>
                <a:t>Эти места - та территория, которая насквозь пронизана лучами доброты и святости, где человек чувствует особую близость к Богу, где он никогда не посмеет совершить греховных поступков.</a:t>
              </a:r>
              <a:endParaRPr b="0" lang="en-US" sz="26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57040" indent="-257040">
                <a:spcBef>
                  <a:spcPts val="601"/>
                </a:spcBef>
                <a:tabLst>
                  <a:tab algn="l" pos="0"/>
                  <a:tab algn="l" pos="257040"/>
                  <a:tab algn="l" pos="704880"/>
                  <a:tab algn="l" pos="1154160"/>
                  <a:tab algn="l" pos="1603440"/>
                  <a:tab algn="l" pos="2052720"/>
                  <a:tab algn="l" pos="2502000"/>
                  <a:tab algn="l" pos="2951280"/>
                  <a:tab algn="l" pos="3400560"/>
                  <a:tab algn="l" pos="3849840"/>
                  <a:tab algn="l" pos="4299120"/>
                  <a:tab algn="l" pos="4748040"/>
                  <a:tab algn="l" pos="5197320"/>
                  <a:tab algn="l" pos="5646600"/>
                  <a:tab algn="l" pos="6095880"/>
                  <a:tab algn="l" pos="6545160"/>
                  <a:tab algn="l" pos="6994440"/>
                  <a:tab algn="l" pos="7443720"/>
                  <a:tab algn="l" pos="7893000"/>
                  <a:tab algn="l" pos="8342280"/>
                  <a:tab algn="l" pos="8791560"/>
                  <a:tab algn="l" pos="92408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0360" y="531720"/>
            <a:ext cx="822960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стория возникновения православных храмов и их устройства такова В обычном жилом доме, но в особой «горнице большой, устланной, готовой» (Мк. 14, 15; Лк. 22, 12) была приготовлена, то есть особым образом устроена, и состоялась Тайная вечерня господа Иисуса Христа со Своими учениками. Здесь Христос омыл ноги Своим ученикам. для молитвенных собраний, богообщения и совершения таинств, и всего христианского богослужения – того, что в развитых, достигших рассвета формах мы и сейчас видим в наших православных храмах. Сам совершил первую Божественную литургию – таинство претворения хлеба и вина в Свои Тело и Кровь, долго беседовал за духовной трапезой о тайнах Церкви и Царства Небесного, затем все, с пением священных песнопений, пошли на гору Елеонскую. При этом Господь заповедовал творить сие, то есть совершать то же и так же, а Его воспоминани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этом зачаток и храма христианского, как особо устроенного помещения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"/>
          <p:cNvSpPr/>
          <p:nvPr/>
        </p:nvSpPr>
        <p:spPr>
          <a:xfrm>
            <a:off x="214200" y="179280"/>
            <a:ext cx="8929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авославный храм выделяется среди прочих строений своим внешним видом, привлекая взгляды людей своими особенными и прекрасными очертаниями и формами, которые напоминают людям о небесном среди земной суеты. И поэтому каждая деталь наружного убранства и внутреннего устройства храма имеет глубокий смысл и значени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7360" y="2160720"/>
            <a:ext cx="2492280" cy="1979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4378320"/>
            <a:ext cx="431964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ад храмом возвышается купол, символизирующий небо. Купол венчается главою, на которой ставится крест, во славу главы Церкви – Господа Иисуса Христ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319640" y="2340000"/>
            <a:ext cx="2340000" cy="1979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407280" y="4152960"/>
            <a:ext cx="2052360" cy="2147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9640" y="53964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319640" y="654120"/>
            <a:ext cx="44989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ообразие форм в русском храмовом зодчестве отражается на количестве куполов, венчающих храмы. Это количество куполов — символично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а глава символизирует Единого Бога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и купола — Святую Троицу, пять куполов — Христос и четыре евангелиста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мь глав — семь таинств Церкви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вять куполов — по числу ангельских чинов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инадцать — Христос и двенадцать апостоло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исло глав может доходить до тридцати трех — по числу лет земной жизни Спасител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0360" y="179280"/>
            <a:ext cx="4119480" cy="66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ма купола также имеет символический смысл. Шлемовидная форма напоминала о воинстве, о духовной брани, которую ведет Церковь с силами зла и тьмы. Форма луковицы — символ пламени свечи, обращающий нас к словам Христа: "Вы — свет миру". Замысловатая форма и яркая раскраска куполов на храме Василия Блаженного говорит о красоте Небесного Иерусалима.Цвет купола также важен в символике храма. Золото — символ небесной славы. Золотые купола были у главных храмов и у храмов, посвященных Христу и двунадесятым праздникам. Купола синие со звездами венчают храмы, посвященные Богородице, потому что звезда напоминает о рождении Христа от Девы Марии. Троицкие храмы имели зеленые купола, потому что зеленый — цвет Святого Духа. Храмы, посвященные святым, увенчаны также зелеными или серебряными куполам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67360" y="1619280"/>
            <a:ext cx="3211560" cy="4222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4836960"/>
            <a:ext cx="882036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 каждого храма есть колокольня – это башенка, на которой висят колокола. Обычно она находится рядом с храмом или над входом в храм.  Звон колоколов употребляется, чтобы созывать людей на богослужение или во время торжественных процессий – крестных ходов, им также возвещают об окончании церковной служб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00000" y="720720"/>
            <a:ext cx="3600720" cy="359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219640" y="720720"/>
            <a:ext cx="2879640" cy="359892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"/>
          <p:cNvSpPr/>
          <p:nvPr/>
        </p:nvSpPr>
        <p:spPr>
          <a:xfrm>
            <a:off x="360360" y="852480"/>
            <a:ext cx="354024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ыльцо или площадка перед храмом называется папертью. У высоких или двухъярусных храмов она также может располагаться высоко ( на уровне входа в верхний храм ) и даже опоясывать храм по периметру ( у некоторых древних храмов над ней устраивалась даже особая крыша ) и называться будет в таком случае гульбищем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00720" y="1620720"/>
            <a:ext cx="3600360" cy="3240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340000"/>
            <a:ext cx="3419640" cy="51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еступая порог храма, человек оказывается в первой части храма, именуемой притвор. Здесь могут совершаться некоторые богослужения, а также находится свечной ящик, за которым можно приобрести церковную литературу, свечи, подать записки для поминовения с именами живых и усопших, взять просфор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0360" y="360360"/>
            <a:ext cx="3419640" cy="1979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00720" y="360360"/>
            <a:ext cx="395892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едующая средняя часть храма есть, собственно,храм, здесь находятся молящиеся во время богослужения. Самую восточную часть храма (а все православные храмы строятся на восток) отделяет перегородка - иконостас, состоящий из нескольких рядов икон и имеющий трое двер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80000" y="3419640"/>
            <a:ext cx="3479760" cy="2700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0:35:26Z</dcterms:created>
  <dc:creator>Ванян</dc:creator>
  <dc:description/>
  <dc:language>en-US</dc:language>
  <cp:lastModifiedBy>Ванян</cp:lastModifiedBy>
  <dcterms:modified xsi:type="dcterms:W3CDTF">2013-02-19T06:39:33Z</dcterms:modified>
  <cp:revision>6</cp:revision>
  <dc:subject/>
  <dc:title>ХРАМ</dc:title>
</cp:coreProperties>
</file>