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0821-C5F5-4935-95D6-C69AAB92E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119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82240"/>
            <a:ext cx="82119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5E4F-DDD7-47F7-BD20-2925C4F5E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8224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388224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8C30-9759-460D-A1E2-3F0B19F17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160" y="144756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44756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8224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160" y="388224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388224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4852-CA41-4853-975E-4DE10AC4D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21196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F54B-5425-4AB4-BB09-0E7877C0E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119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E065-BDAC-4FB1-83F8-DC976F414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9D94-D0D0-4C3D-97E4-D32484D0E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5177-E8C7-4E95-B812-269C22C59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19080"/>
            <a:ext cx="8211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6E75-73C7-406D-B004-39E99B303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8224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7836-528A-4349-B934-8C0EE7162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388224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37AB-B496-4779-88A8-2654BA642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82240"/>
            <a:ext cx="82119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DA99-2712-46BD-A884-FD2370B4D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447560"/>
            <a:ext cx="82119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5791320" y="6203880"/>
            <a:ext cx="2589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5922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63FF5-FB32-40EE-8F01-950DFDE888F5}" type="slidenum"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9f9f9"/>
                </a:solidFill>
                <a:latin typeface="Arial Black"/>
              </a:rPr>
              <a:t>ХРАМ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"/>
          <p:cNvSpPr/>
          <p:nvPr/>
        </p:nvSpPr>
        <p:spPr>
          <a:xfrm>
            <a:off x="257184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ян Наталья Владимиро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«Средняя общеобразовательная школа №6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Щекинский райо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40360" y="1979640"/>
            <a:ext cx="2822400" cy="200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0720" y="2700360"/>
            <a:ext cx="3009960" cy="26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"/>
          <p:cNvSpPr/>
          <p:nvPr/>
        </p:nvSpPr>
        <p:spPr>
          <a:xfrm>
            <a:off x="360360" y="217440"/>
            <a:ext cx="48592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ним находится алтарь - главнейшая часть храма. Самое важное место в алтаре - престол – особо освященный четырехугольный стол, на котором совершается Божественная Литургия и незримо присутствует Сам Бог. Находиться в алтаре могут только посвященные (имеющие на это благословение), а прикасаться к престолу только священни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60360"/>
            <a:ext cx="3419640" cy="3059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319640" y="3959280"/>
            <a:ext cx="43196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нтральные двери или врата в иконостасе называются царскими, потому что через них Сам Христос – Царь Славы проходит во Святых Дарах (во время причащения), дабы преподать Себя верующ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79640" y="3449520"/>
            <a:ext cx="234000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220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60360"/>
            <a:ext cx="889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ый православный храм посвящен какому-либо святому, Пресвятой Богородице или событию Священной истори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19640" y="3959280"/>
            <a:ext cx="3240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319640" y="1260360"/>
            <a:ext cx="3240000" cy="19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"/>
          <p:cNvSpPr/>
          <p:nvPr/>
        </p:nvSpPr>
        <p:spPr>
          <a:xfrm>
            <a:off x="4319640" y="179280"/>
            <a:ext cx="45003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Храм в д. Тросна Щекинского района Тульской области был возведен по указу Екатерины II . Впервые он упоминается в начале XVIII века как деревянный при кладбище. Во второй половине того же столетия хозяин земель, на которых находился храм, помещик Владимир Писарев начал строительство  каменного здания церкви. В 1790 году состоялось освящение главного придела в честь великомученицы Параскевы и другого – теплого, на втором этаже – в честь святителя Димитрия Ростовског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360360"/>
            <a:ext cx="302436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40360" y="3959280"/>
            <a:ext cx="3022560" cy="251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700360"/>
            <a:ext cx="414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30-е годы XX века храм был закрыт, а настоятель – протоиерей Александр Успенский – репрессирован. Старожилы вспоминают, что в 1941 году немцы пытались взорвать церковь, даже подложили динамит, но у них ничего не вышло… Но от снарядов и бомб основательно пострадала верхняя часть здания.После закрытия помещение храма использовалось под зерносклад, фабрику игрушек, швейную мастерскую. В 80-е годы здесь расположилось со своим инвентарем общество пчеловод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0720" y="1414440"/>
            <a:ext cx="3240000" cy="4165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14760" y="847800"/>
            <a:ext cx="412596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2000 году, когда храм был передан верующим, здание находилось в аварийном состояни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рам был восстановлен всего за год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ейчас в храме можно поклониться и помолиться огромному числу святых. 98 частичек мощей киево-печерских подвижников, почивающих в Киево-Печерской Лавре, покоится здес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храме есть и такие великие святыни, как частичка от Гроба Господня, частицы мощей Иоанна Предтечи и святителя Николая и, конечно же, самой Параскевы Пятни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120" y="428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стоящее время всем очевидна необходимость восстановления утраченных связей современного человека с духовной культурой своего народа. Роль национальной духовной культуры огромна. Она внушает уважение к религиозным корням своей нации, гордость за лучших её сынов, веру в будущее своего наро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19480" y="3060720"/>
            <a:ext cx="4160520" cy="306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68200" y="706320"/>
            <a:ext cx="8583840" cy="4818240"/>
            <a:chOff x="268200" y="706320"/>
            <a:chExt cx="8583840" cy="48182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68200" y="706320"/>
              <a:ext cx="8583840" cy="48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28760" y="857160"/>
              <a:ext cx="8211960" cy="45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5600" indent="-255600" algn="just">
                <a:spcBef>
                  <a:spcPts val="601"/>
                </a:spcBef>
                <a:buClr>
                  <a:srgbClr val="f3a447"/>
                </a:buClr>
                <a:buFont typeface="Wingdings 2" charset="2"/>
                <a:buChar char=""/>
                <a:tabLst>
                  <a:tab algn="l" pos="255600"/>
                  <a:tab algn="l" pos="703440"/>
                  <a:tab algn="l" pos="1152360"/>
                  <a:tab algn="l" pos="1601640"/>
                  <a:tab algn="l" pos="2050920"/>
                  <a:tab algn="l" pos="2500200"/>
                  <a:tab algn="l" pos="2949480"/>
                  <a:tab algn="l" pos="3398760"/>
                  <a:tab algn="l" pos="3848040"/>
                  <a:tab algn="l" pos="4297320"/>
                  <a:tab algn="l" pos="4746600"/>
                  <a:tab algn="l" pos="5195880"/>
                  <a:tab algn="l" pos="5645160"/>
                  <a:tab algn="l" pos="6094440"/>
                  <a:tab algn="l" pos="6543720"/>
                  <a:tab algn="l" pos="6993000"/>
                  <a:tab algn="l" pos="7442280"/>
                  <a:tab algn="l" pos="7891560"/>
                  <a:tab algn="l" pos="8340840"/>
                  <a:tab algn="l" pos="8790120"/>
                  <a:tab algn="l" pos="9239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Российская земля богата святыми местами: церкви и монастыри, часовни и святые источники… Они являются не только украшением городов и областей, но и  предают родной земле особый колорит и самобытность. </a:t>
              </a: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55600" indent="-255600" algn="just">
                <a:lnSpc>
                  <a:spcPct val="100000"/>
                </a:lnSpc>
                <a:spcBef>
                  <a:spcPts val="601"/>
                </a:spcBef>
                <a:buClr>
                  <a:srgbClr val="f3a447"/>
                </a:buClr>
                <a:buFont typeface="Wingdings 2" charset="2"/>
                <a:buChar char=""/>
                <a:tabLst>
                  <a:tab algn="l" pos="255600"/>
                  <a:tab algn="l" pos="703440"/>
                  <a:tab algn="l" pos="1152360"/>
                  <a:tab algn="l" pos="1601640"/>
                  <a:tab algn="l" pos="2050920"/>
                  <a:tab algn="l" pos="2500200"/>
                  <a:tab algn="l" pos="2949480"/>
                  <a:tab algn="l" pos="3398760"/>
                  <a:tab algn="l" pos="3848040"/>
                  <a:tab algn="l" pos="4297320"/>
                  <a:tab algn="l" pos="4746600"/>
                  <a:tab algn="l" pos="5195880"/>
                  <a:tab algn="l" pos="5645160"/>
                  <a:tab algn="l" pos="6094440"/>
                  <a:tab algn="l" pos="6543720"/>
                  <a:tab algn="l" pos="6993000"/>
                  <a:tab algn="l" pos="7442280"/>
                  <a:tab algn="l" pos="7891560"/>
                  <a:tab algn="l" pos="8340840"/>
                  <a:tab algn="l" pos="8790120"/>
                  <a:tab algn="l" pos="9239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Эти места - та территория, которая насквозь пронизана лучами доброты и святости, где человек чувствует особую близость к Богу, где он никогда не посмеет совершить греховных поступков.</a:t>
              </a: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55600" indent="-255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255600"/>
                  <a:tab algn="l" pos="703440"/>
                  <a:tab algn="l" pos="1152360"/>
                  <a:tab algn="l" pos="1601640"/>
                  <a:tab algn="l" pos="2050920"/>
                  <a:tab algn="l" pos="2500200"/>
                  <a:tab algn="l" pos="2949480"/>
                  <a:tab algn="l" pos="3398760"/>
                  <a:tab algn="l" pos="3848040"/>
                  <a:tab algn="l" pos="4297320"/>
                  <a:tab algn="l" pos="4746600"/>
                  <a:tab algn="l" pos="5195880"/>
                  <a:tab algn="l" pos="5645160"/>
                  <a:tab algn="l" pos="6094440"/>
                  <a:tab algn="l" pos="6543720"/>
                  <a:tab algn="l" pos="6993000"/>
                  <a:tab algn="l" pos="7442280"/>
                  <a:tab algn="l" pos="7891560"/>
                  <a:tab algn="l" pos="8340840"/>
                  <a:tab algn="l" pos="8790120"/>
                  <a:tab algn="l" pos="92394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0360" y="711360"/>
            <a:ext cx="8229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тория возникновения православных храмов и их устройства такова В обычном жилом доме, но в особой «горнице большой, устланной, готовой» (Мк. 14, 15; Лк. 22, 12) была приготовлена, то есть особым образом устроена, и состоялась Тайная вечерня господа Иисуса Христа со Своими учениками. Здесь Христос омыл ноги Своим ученикам. для молитвенных собраний, богообщения и совершения таинств, и всего христианского богослужения – того, что в развитых, достигших рассвета формах мы и сейчас видим в наших православных храмах. Сам совершил первую Божественную литургию – таинство претворения хлеба и вина в Свои Тело и Кровь, долго беседовал за духовной трапезой о тайнах Церкви и Царства Небесного, затем все, с пением священных песнопений, пошли на гору Елеонскую. При этом Господь заповедовал творить сие, то есть совершать то же и так же, а Его воспомин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м зачаток и храма христианского, как особо устроенного помещен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214200" y="179280"/>
            <a:ext cx="8929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ославный храм выделяется среди прочих строений своим внешним видом, привлекая взгляды людей своими особенными и прекрасными очертаниями и формами, которые напоминают людям о небесном среди земной суеты. И поэтому каждая деталь наружного убранства и внутреннего устройства храма имеет глубокий смысл и значе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7360" y="2160720"/>
            <a:ext cx="2492280" cy="197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4378320"/>
            <a:ext cx="43196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д храмом возвышается купол, символизирующий небо. Купол венчается главою, на которой ставится крест, во славу главы Церкви – Господа Иисуса Христ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19640" y="234000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07280" y="4152960"/>
            <a:ext cx="205236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19640" y="654120"/>
            <a:ext cx="4498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образие форм в русском храмовом зодчестве отражается на количестве куполов, венчающих храмы. Это количество куполов — символичн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а глава символизирует Единого Бог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 купола — Святую Троицу, пять куполов — Христос и четыре евангелист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ь глав — семь таинств Церкви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вять куполов — по числу ангельских чинов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надцать — Христос и двенадцать апостол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исло глав может доходить до тридцати трех — по числу лет земной жизни Спасител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360" y="179280"/>
            <a:ext cx="4119480" cy="66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купола также имеет символический смысл. Шлемовидная форма напоминала о воинстве, о духовной брани, которую ведет Церковь с силами зла и тьмы. Форма луковицы — символ пламени свечи, обращающий нас к словам Христа: "Вы — свет миру". Замысловатая форма и яркая раскраска куполов на храме Василия Блаженного говорит о красоте Небесного Иерусалима.Цвет купола также важен в символике храма. Золото — символ небесной славы. Золотые купола были у главных храмов и у храмов, посвященных Христу и двунадесятым праздникам. Купола синие со звездами венчают храмы, посвященные Богородице, потому что звезда напоминает о рождении Христа от Девы Марии. Троицкие храмы имели зеленые купола, потому что зеленый — цвет Святого Духа. Храмы, посвященные святым, увенчаны также зелеными или серебряными купола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67360" y="1619280"/>
            <a:ext cx="3211560" cy="422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836960"/>
            <a:ext cx="88203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каждого храма есть колокольня – это башенка, на которой висят колокола. Обычно она находится рядом с храмом или над входом в храм.  Звон колоколов употребляется, чтобы созывать людей на богослужение или во время торжественных процессий – крестных ходов, им также возвещают об окончании церковной служб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0000" y="720720"/>
            <a:ext cx="3600720" cy="35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19640" y="720720"/>
            <a:ext cx="287964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"/>
          <p:cNvSpPr/>
          <p:nvPr/>
        </p:nvSpPr>
        <p:spPr>
          <a:xfrm>
            <a:off x="360360" y="852480"/>
            <a:ext cx="354024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ыльцо или площадка перед храмом называется папертью. У высоких или двухъярусных храмов она также может располагаться высоко ( на уровне входа в верхний храм ) и даже опоясывать храм по периметру ( у некоторых древних храмов над ней устраивалась даже особая крыша ) и называться будет в таком случае гульбище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00720" y="1620720"/>
            <a:ext cx="360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0000"/>
            <a:ext cx="341964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ступая порог храма, человек оказывается в первой части храма, именуемой притвор. Здесь могут совершаться некоторые богослужения, а также находится свечной ящик, за которым можно приобрести церковную литературу, свечи, подать записки для поминовения с именами живых и усопших, взять просфо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360360"/>
            <a:ext cx="39589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ующая средняя часть храма есть, собственно,храм, здесь находятся молящиеся во время богослужения. Самую восточную часть храма (а все православные храмы строятся на восток) отделяет перегородка - иконостас, состоящий из нескольких рядов икон и имеющий трое двер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0000" y="3419640"/>
            <a:ext cx="347976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0:35:26Z</dcterms:created>
  <dc:creator>Ванян</dc:creator>
  <dc:description/>
  <dc:language>en-US</dc:language>
  <cp:lastModifiedBy>Ванян</cp:lastModifiedBy>
  <dcterms:modified xsi:type="dcterms:W3CDTF">2013-02-19T06:39:33Z</dcterms:modified>
  <cp:revision>6</cp:revision>
  <dc:subject/>
  <dc:title>ХРАМ</dc:title>
</cp:coreProperties>
</file>