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3.wmf" ContentType="image/x-wmf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8A6F4-26CD-4461-A56D-953E28530D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-19080"/>
            <a:ext cx="8211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211960" cy="22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882240"/>
            <a:ext cx="8211960" cy="22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CCBA6-42D1-420A-A1BA-5DA48A736A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-19080"/>
            <a:ext cx="8211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07160" cy="22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880" y="1447560"/>
            <a:ext cx="4007160" cy="22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882240"/>
            <a:ext cx="4007160" cy="22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880" y="3882240"/>
            <a:ext cx="4007160" cy="22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C019E-6E72-4FFB-9289-EDBCB8FFF4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-19080"/>
            <a:ext cx="8211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643840" cy="22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3160" y="1447560"/>
            <a:ext cx="2643840" cy="22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9840" y="1447560"/>
            <a:ext cx="2643840" cy="22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882240"/>
            <a:ext cx="2643840" cy="22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3160" y="3882240"/>
            <a:ext cx="2643840" cy="22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9840" y="3882240"/>
            <a:ext cx="2643840" cy="22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3C530-49BC-4151-8D29-592AB7F39D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-19080"/>
            <a:ext cx="8211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8211960" cy="46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493F4-DA07-4A91-8795-4E8BDBFFCD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-19080"/>
            <a:ext cx="8211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211960" cy="46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4660C-1151-406A-AFAD-042F3CF3D7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-19080"/>
            <a:ext cx="8211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07160" cy="46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880" y="1447560"/>
            <a:ext cx="4007160" cy="46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AED7A-BD62-4671-99C2-7D6A92A243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-19080"/>
            <a:ext cx="8211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87544-C19C-43AE-BB83-70200AF5DF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-19080"/>
            <a:ext cx="821196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D1AFE-188E-4230-B839-76497A6260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-19080"/>
            <a:ext cx="8211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07160" cy="22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880" y="1447560"/>
            <a:ext cx="4007160" cy="46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882240"/>
            <a:ext cx="4007160" cy="22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9E292-36C8-446F-AABA-97C743DCD5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-19080"/>
            <a:ext cx="8211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07160" cy="46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880" y="1447560"/>
            <a:ext cx="4007160" cy="22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880" y="3882240"/>
            <a:ext cx="4007160" cy="22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35D66-87D7-4FF2-B113-6A43B56951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-19080"/>
            <a:ext cx="8211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07160" cy="22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880" y="1447560"/>
            <a:ext cx="4007160" cy="22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882240"/>
            <a:ext cx="8211960" cy="22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D9812-C955-409A-A11C-ADC4B0CEBD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447560"/>
            <a:ext cx="8211960" cy="46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"/>
          <p:cNvSpPr/>
          <p:nvPr/>
        </p:nvSpPr>
        <p:spPr>
          <a:xfrm>
            <a:off x="5791320" y="6203880"/>
            <a:ext cx="258912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" name="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8410320" y="6181560"/>
            <a:ext cx="592200" cy="4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D757D9-6817-4AF7-A06F-48E041225880}" type="slidenum">
              <a:rPr b="0" lang="ru-RU" sz="18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6840" y="-19080"/>
            <a:ext cx="8211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296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9f9f9"/>
                </a:solidFill>
                <a:latin typeface="Arial Black"/>
              </a:rPr>
              <a:t>ХРАМЫ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"/>
          <p:cNvSpPr/>
          <p:nvPr/>
        </p:nvSpPr>
        <p:spPr>
          <a:xfrm>
            <a:off x="2571840" y="442908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724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2724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нян Наталья Владимировна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2724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2724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У «Средняя общеобразовательная школа №6»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2724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 Щекинский район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140360" y="1979640"/>
            <a:ext cx="2822400" cy="2001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20720" y="2700360"/>
            <a:ext cx="3009960" cy="2617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15084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"/>
          <p:cNvSpPr/>
          <p:nvPr/>
        </p:nvSpPr>
        <p:spPr>
          <a:xfrm>
            <a:off x="360360" y="217440"/>
            <a:ext cx="4859280" cy="30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 ним находится алтарь - главнейшая часть храма. Самое важное место в алтаре - престол – особо освященный четырехугольный стол, на котором совершается Божественная Литургия и незримо присутствует Сам Бог. Находиться в алтаре могут только посвященные (имеющие на это благословение), а прикасаться к престолу только священники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219640" y="360360"/>
            <a:ext cx="3419640" cy="3059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319640" y="3959280"/>
            <a:ext cx="431964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Центральные двери или врата в иконостасе называются царскими, потому что через них Сам Христос – Царь Славы проходит во Святых Дарах (во время причащения), дабы преподать Себя верующим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079640" y="3449520"/>
            <a:ext cx="2340000" cy="30304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2206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360360"/>
            <a:ext cx="88916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ждый православный храм посвящен какому-либо святому, Пресвятой Богородице или событию Священной истории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79280" y="1079640"/>
            <a:ext cx="2340000" cy="19796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419640" y="3959280"/>
            <a:ext cx="3240000" cy="19810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4319640" y="1260360"/>
            <a:ext cx="3240000" cy="19954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5084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9" name=""/>
          <p:cNvSpPr/>
          <p:nvPr/>
        </p:nvSpPr>
        <p:spPr>
          <a:xfrm>
            <a:off x="4319640" y="179280"/>
            <a:ext cx="4500360" cy="34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Храм в д. Тросна Щекинского района Тульской области был возведен по указу Екатерины II . Впервые он упоминается в начале XVIII века как деревянный при кладбище. Во второй половине того же столетия хозяин земель, на которых находился храм, помещик Владимир Писарев начал строительство  каменного здания церкви. В 1790 году состоялось освящение главного придела в честь великомученицы Параскевы и другого – теплого, на втором этаже – в честь святителя Димитрия Ростовского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55640" y="360360"/>
            <a:ext cx="3024360" cy="2340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040360" y="3959280"/>
            <a:ext cx="3022560" cy="2519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79280" y="2700360"/>
            <a:ext cx="414036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 30-е годы XX века храм был закрыт, а настоятель – протоиерей Александр Успенский – репрессирован. Старожилы вспоминают, что в 1941 году немцы пытались взорвать церковь, даже подложили динамит, но у них ничего не вышло… Но от снарядов и бомб основательно пострадала верхняя часть здания.После закрытия помещение храма использовалось под зерносклад, фабрику игрушек, швейную мастерскую. В 80-е годы здесь расположилось со своим инвентарем общество пчеловодов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15084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20720" y="1414440"/>
            <a:ext cx="3240000" cy="41655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514760" y="847800"/>
            <a:ext cx="4125960" cy="50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 2000 году, когда храм был передан верующим, здание находилось в аварийном состоянии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Храм был восстановлен всего за год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ейчас в храме можно поклониться и помолиться огромному числу святых. 98 частичек мощей киево-печерских подвижников, почивающих в Киево-Печерской Лавре, покоится здесь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 храме есть и такие великие святыни, как частичка от Гроба Господня, частицы мощей Иоанна Предтечи и святителя Николая и, конечно же, самой Параскевы Пятницы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split dir="in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7120" y="428760"/>
            <a:ext cx="835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настоящее время всем очевидна необходимость восстановления утраченных связей современного человека с духовной культурой своего народа. Роль национальной духовной культуры огромна. Она внушает уважение к религиозным корням своей нации, гордость за лучших её сынов, веру в будущее своего народа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319480" y="3060720"/>
            <a:ext cx="4160520" cy="30607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268200" y="706320"/>
            <a:ext cx="8583840" cy="4818240"/>
            <a:chOff x="268200" y="706320"/>
            <a:chExt cx="8583840" cy="4818240"/>
          </a:xfrm>
        </p:grpSpPr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268200" y="706320"/>
              <a:ext cx="8583840" cy="481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428760" y="857160"/>
              <a:ext cx="8211960" cy="455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55600" indent="-255600" algn="just">
                <a:spcBef>
                  <a:spcPts val="601"/>
                </a:spcBef>
                <a:buClr>
                  <a:srgbClr val="f3a447"/>
                </a:buClr>
                <a:buFont typeface="Wingdings 2" charset="2"/>
                <a:buChar char=""/>
                <a:tabLst>
                  <a:tab algn="l" pos="255600"/>
                  <a:tab algn="l" pos="703440"/>
                  <a:tab algn="l" pos="1152360"/>
                  <a:tab algn="l" pos="1601640"/>
                  <a:tab algn="l" pos="2050920"/>
                  <a:tab algn="l" pos="2500200"/>
                  <a:tab algn="l" pos="2949480"/>
                  <a:tab algn="l" pos="3398760"/>
                  <a:tab algn="l" pos="3848040"/>
                  <a:tab algn="l" pos="4297320"/>
                  <a:tab algn="l" pos="4746600"/>
                  <a:tab algn="l" pos="5195880"/>
                  <a:tab algn="l" pos="5645160"/>
                  <a:tab algn="l" pos="6094440"/>
                  <a:tab algn="l" pos="6543720"/>
                  <a:tab algn="l" pos="6993000"/>
                  <a:tab algn="l" pos="7442280"/>
                  <a:tab algn="l" pos="7891560"/>
                  <a:tab algn="l" pos="8340840"/>
                  <a:tab algn="l" pos="8790120"/>
                  <a:tab algn="l" pos="92394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600" spc="-1" strike="noStrike">
                  <a:solidFill>
                    <a:srgbClr val="ffffff"/>
                  </a:solidFill>
                  <a:latin typeface="Constantia"/>
                </a:rPr>
                <a:t> </a:t>
              </a:r>
              <a:r>
                <a:rPr b="0" lang="ru-RU" sz="2600" spc="-1" strike="noStrike">
                  <a:solidFill>
                    <a:srgbClr val="ffffff"/>
                  </a:solidFill>
                  <a:latin typeface="Times New Roman"/>
                </a:rPr>
                <a:t>Российская земля богата святыми местами: церкви и монастыри, часовни и святые источники… Они являются не только украшением городов и областей, но и  предают родной земле особый колорит и самобытность. </a:t>
              </a:r>
              <a:endParaRPr b="0" lang="en-US" sz="2600" spc="-1" strike="noStrike">
                <a:solidFill>
                  <a:srgbClr val="ffffff"/>
                </a:solidFill>
                <a:latin typeface="Constantia"/>
              </a:endParaRPr>
            </a:p>
            <a:p>
              <a:pPr marL="255600" indent="-255600" algn="just">
                <a:lnSpc>
                  <a:spcPct val="100000"/>
                </a:lnSpc>
                <a:spcBef>
                  <a:spcPts val="601"/>
                </a:spcBef>
                <a:buClr>
                  <a:srgbClr val="f3a447"/>
                </a:buClr>
                <a:buFont typeface="Wingdings 2" charset="2"/>
                <a:buChar char=""/>
                <a:tabLst>
                  <a:tab algn="l" pos="255600"/>
                  <a:tab algn="l" pos="703440"/>
                  <a:tab algn="l" pos="1152360"/>
                  <a:tab algn="l" pos="1601640"/>
                  <a:tab algn="l" pos="2050920"/>
                  <a:tab algn="l" pos="2500200"/>
                  <a:tab algn="l" pos="2949480"/>
                  <a:tab algn="l" pos="3398760"/>
                  <a:tab algn="l" pos="3848040"/>
                  <a:tab algn="l" pos="4297320"/>
                  <a:tab algn="l" pos="4746600"/>
                  <a:tab algn="l" pos="5195880"/>
                  <a:tab algn="l" pos="5645160"/>
                  <a:tab algn="l" pos="6094440"/>
                  <a:tab algn="l" pos="6543720"/>
                  <a:tab algn="l" pos="6993000"/>
                  <a:tab algn="l" pos="7442280"/>
                  <a:tab algn="l" pos="7891560"/>
                  <a:tab algn="l" pos="8340840"/>
                  <a:tab algn="l" pos="8790120"/>
                  <a:tab algn="l" pos="92394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600" spc="-1" strike="noStrike">
                  <a:solidFill>
                    <a:srgbClr val="ffffff"/>
                  </a:solidFill>
                  <a:latin typeface="Times New Roman"/>
                </a:rPr>
                <a:t>Эти места - та территория, которая насквозь пронизана лучами доброты и святости, где человек чувствует особую близость к Богу, где он никогда не посмеет совершить греховных поступков.</a:t>
              </a:r>
              <a:endParaRPr b="0" lang="en-US" sz="2600" spc="-1" strike="noStrike">
                <a:solidFill>
                  <a:srgbClr val="ffffff"/>
                </a:solidFill>
                <a:latin typeface="Constantia"/>
              </a:endParaRPr>
            </a:p>
            <a:p>
              <a:pPr marL="255600" indent="-255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255600"/>
                  <a:tab algn="l" pos="703440"/>
                  <a:tab algn="l" pos="1152360"/>
                  <a:tab algn="l" pos="1601640"/>
                  <a:tab algn="l" pos="2050920"/>
                  <a:tab algn="l" pos="2500200"/>
                  <a:tab algn="l" pos="2949480"/>
                  <a:tab algn="l" pos="3398760"/>
                  <a:tab algn="l" pos="3848040"/>
                  <a:tab algn="l" pos="4297320"/>
                  <a:tab algn="l" pos="4746600"/>
                  <a:tab algn="l" pos="5195880"/>
                  <a:tab algn="l" pos="5645160"/>
                  <a:tab algn="l" pos="6094440"/>
                  <a:tab algn="l" pos="6543720"/>
                  <a:tab algn="l" pos="6993000"/>
                  <a:tab algn="l" pos="7442280"/>
                  <a:tab algn="l" pos="7891560"/>
                  <a:tab algn="l" pos="8340840"/>
                  <a:tab algn="l" pos="8790120"/>
                  <a:tab algn="l" pos="923940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60360" y="711360"/>
            <a:ext cx="82296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История возникновения православных храмов и их устройства такова В обычном жилом доме, но в особой «горнице большой, устланной, готовой» (Мк. 14, 15; Лк. 22, 12) была приготовлена, то есть особым образом устроена, и состоялась Тайная вечерня господа Иисуса Христа со Своими учениками. Здесь Христос омыл ноги Своим ученикам. для молитвенных собраний, богообщения и совершения таинств, и всего христианского богослужения – того, что в развитых, достигших рассвета формах мы и сейчас видим в наших православных храмах. Сам совершил первую Божественную литургию – таинство претворения хлеба и вина в Свои Тело и Кровь, долго беседовал за духовной трапезой о тайнах Церкви и Царства Небесного, затем все, с пением священных песнопений, пошли на гору Елеонскую. При этом Господь заповедовал творить сие, то есть совершать то же и так же, а Его воспоминание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В этом зачаток и храма христианского, как особо устроенного помещения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pull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5084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" name=""/>
          <p:cNvSpPr/>
          <p:nvPr/>
        </p:nvSpPr>
        <p:spPr>
          <a:xfrm>
            <a:off x="214200" y="179280"/>
            <a:ext cx="89298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Православный храм выделяется среди прочих строений своим внешним видом, привлекая взгляды людей своими особенными и прекрасными очертаниями и формами, которые напоминают людям о небесном среди земной суеты. И поэтому каждая деталь наружного убранства и внутреннего устройства храма имеет глубокий смысл и значение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87360" y="2160720"/>
            <a:ext cx="2492280" cy="1979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9640" y="4378320"/>
            <a:ext cx="431964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Над храмом возвышается купол, символизирующий небо. Купол венчается главою, на которой ставится крест, во славу главы Церкви – Господа Иисуса Христа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4319640" y="2340000"/>
            <a:ext cx="2340000" cy="1979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6407280" y="4152960"/>
            <a:ext cx="2052360" cy="21477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39640" y="539640"/>
            <a:ext cx="3600720" cy="2700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319640" y="654120"/>
            <a:ext cx="449892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ногообразие форм в русском храмовом зодчестве отражается на количестве куполов, венчающих храмы. Это количество куполов — символично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дна глава символизирует Единого Бога,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ри купола — Святую Троицу, пять куполов — Христос и четыре евангелиста,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емь глав — семь таинств Церкви,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евять куполов — по числу ангельских чинов,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ринадцать — Христос и двенадцать апостолов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Число глав может доходить до тридцати трех — по числу лет земной жизни Спасителя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60360" y="179280"/>
            <a:ext cx="4119480" cy="66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Форма купола также имеет символический смысл. Шлемовидная форма напоминала о воинстве, о духовной брани, которую ведет Церковь с силами зла и тьмы. Форма луковицы — символ пламени свечи, обращающий нас к словам Христа: "Вы — свет миру". Замысловатая форма и яркая раскраска куполов на храме Василия Блаженного говорит о красоте Небесного Иерусалима.Цвет купола также важен в символике храма. Золото — символ небесной славы. Золотые купола были у главных храмов и у храмов, посвященных Христу и двунадесятым праздникам. Купола синие со звездами венчают храмы, посвященные Богородице, потому что звезда напоминает о рождении Христа от Девы Марии. Троицкие храмы имели зеленые купола, потому что зеленый — цвет Святого Духа. Храмы, посвященные святым, увенчаны также зелеными или серебряными куполами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067360" y="1619280"/>
            <a:ext cx="3211560" cy="42228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5084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" name=""/>
          <p:cNvSpPr/>
          <p:nvPr/>
        </p:nvSpPr>
        <p:spPr>
          <a:xfrm>
            <a:off x="179280" y="4836960"/>
            <a:ext cx="8820360" cy="16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 каждого храма есть колокольня – это башенка, на которой висят колокола. Обычно она находится рядом с храмом или над входом в храм.  Звон колоколов употребляется, чтобы созывать людей на богослужение или во время торжественных процессий – крестных ходов, им также возвещают об окончании церковной службы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900000" y="720720"/>
            <a:ext cx="3600720" cy="3598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219640" y="720720"/>
            <a:ext cx="2879640" cy="359892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5084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" name=""/>
          <p:cNvSpPr/>
          <p:nvPr/>
        </p:nvSpPr>
        <p:spPr>
          <a:xfrm>
            <a:off x="360360" y="852480"/>
            <a:ext cx="3540240" cy="47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рыльцо или площадка перед храмом называется папертью. У высоких или двухъярусных храмов она также может располагаться высоко ( на уровне входа в верхний храм ) и даже опоясывать храм по периметру ( у некоторых древних храмов над ней устраивалась даже особая крыша ) и называться будет в таком случае гульбищем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500720" y="1620720"/>
            <a:ext cx="3600360" cy="32403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15084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2340000"/>
            <a:ext cx="3419640" cy="51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ереступая порог храма, человек оказывается в первой части храма, именуемой притвор. Здесь могут совершаться некоторые богослужения, а также находится свечной ящик, за которым можно приобрести церковную литературу, свечи, подать записки для поминовения с именами живых и усопших, взять просфору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60360" y="360360"/>
            <a:ext cx="3419640" cy="19796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500720" y="360360"/>
            <a:ext cx="3958920" cy="28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ледующая средняя часть храма есть, собственно,храм, здесь находятся молящиеся во время богослужения. Самую восточную часть храма (а все православные храмы строятся на восток) отделяет перегородка - иконостас, состоящий из нескольких рядов икон и имеющий трое дверей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680000" y="3419640"/>
            <a:ext cx="3479760" cy="2700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8T10:35:26Z</dcterms:created>
  <dc:creator>Ванян</dc:creator>
  <dc:description/>
  <dc:language>en-US</dc:language>
  <cp:lastModifiedBy>Ванян</cp:lastModifiedBy>
  <dcterms:modified xsi:type="dcterms:W3CDTF">2013-02-19T06:39:33Z</dcterms:modified>
  <cp:revision>6</cp:revision>
  <dc:subject/>
  <dc:title>ХРАМ</dc:title>
</cp:coreProperties>
</file>