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DFE-CAFF-41C4-A673-F0D34323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9E3-4981-4F0D-9C16-1D50FD75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DD9-85BF-49EA-B494-8F05DB08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EE6-0ED9-4394-911C-92234E1E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4F39-FA34-4753-934C-2F281232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D439-C94A-4847-B014-E6D811D2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EA2D-D4B8-4107-B05F-1C5BCDAE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301E-B1E7-4BA2-9336-A47DAFB2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C6A1-EE57-4666-A39F-970A27CB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148E-5239-435D-A968-E77A989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5479-5AE1-4B56-97E3-46B80B4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1D2-3C8D-446E-83BD-3C3BAD79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BB6-7D73-4AF3-8966-0E69F28E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E923-0319-4422-B5D0-CB9A87B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239D-7A82-46E3-A1F3-16100092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4B03-421B-46DC-BEF8-0845292E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1C01-FA52-477F-9644-30DF8E95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FBC-F10C-48F4-B7BB-23CC784D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6EC-0B44-4AAE-B673-6FFA4243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CB8-53C2-4792-88D0-1252C73F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487-5990-42DE-81EA-F752423E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269-1822-43F0-AB94-E6C978D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0F6-4BD3-4953-A726-D7D98DE1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307-8220-4140-B371-958CC53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F22C-9412-412D-A85D-D984CC8194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D9CE-2618-4075-B281-0CD2308CE5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ртинная галерея русских художников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5048280" cy="5616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оровиковский Портрет Бестужевой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853160" cy="540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рюллов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садница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16000" y="587520"/>
            <a:ext cx="6408720" cy="478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асилье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еред дождём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58920" y="479520"/>
            <a:ext cx="6408720" cy="4784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аснецов Богатыри.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5111640" cy="5689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нецианов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астушок с дудкой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408720" cy="4784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5410440" cy="6021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Грабарь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еприбранный стол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58920" y="425520"/>
            <a:ext cx="6481800" cy="4838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йнека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ть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58920" y="587520"/>
            <a:ext cx="6265800" cy="4676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устодие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сленица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5048280" cy="5618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лявин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ихрь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5305680" cy="590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ласто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сна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йвазовский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ор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5346720" cy="595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окотов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ртрет Струйской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5111640" cy="5688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еров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вочка с персиками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499000" cy="6120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Федото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вежий кавалер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16000" y="425520"/>
            <a:ext cx="6624720" cy="4944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Шаршун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ревянная ложк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нец!!!!!!!!!!!!!!!!!!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594320" cy="5111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рхипов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Девушка с кувшином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829400" cy="5373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йвазовский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вятый ва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рхипо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ачк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2:16:21Z</dcterms:created>
  <dc:creator>User</dc:creator>
  <dc:description/>
  <dc:language>en-US</dc:language>
  <cp:lastModifiedBy>User</cp:lastModifiedBy>
  <dcterms:modified xsi:type="dcterms:W3CDTF">2010-11-01T12:37:02Z</dcterms:modified>
  <cp:revision>2</cp:revision>
  <dc:subject/>
  <dc:title>Картинная галерея русских художников</dc:title>
</cp:coreProperties>
</file>