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FAA6-3BCE-4F00-97E2-25939C9F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1AEF-FE8B-4F5A-A162-235E45C1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D0BB-E0F3-41A0-97ED-BE05D45B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840E-626F-4BCA-900F-B819E7A4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4CAE-233D-4D11-A4C5-0E6108CC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02BA-0E6A-40B7-A2E2-B7F21E7A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3C5A-DFEB-4A9F-AEAE-0C938B7E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429A-D4FF-40DB-BE6D-EAF72B89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221C-F74B-49EC-A0C8-37832600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BA47-F0E8-4DCC-8181-1BF9996D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1A09-B134-481E-BD50-BE1D760B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7AB-1CAC-4238-9437-9690B65A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CDB3-1D5A-4DA3-889E-E4FBA4A5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6EA7-0472-483C-8120-C2C0DAD1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573F-25BB-406A-9C1A-B7C13C08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A668-4940-4CEE-8F3A-E9510587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34AC-7554-4115-AE1E-FCEC98CA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9A6-464A-401C-A2C9-3264E60D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DDD-5A78-49B1-BF45-2D729EA5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199-9587-4941-B09A-F9248107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C30-093C-4919-BD8B-28CCA375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5871-074A-4DFA-B08E-CBF34F3E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1527-F1E1-4848-816E-3D5686D1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60BE-7AFF-4EA9-9A46-49FEF63A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F839-1F0B-49C0-B6AF-BB57491975B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C6DA-6E6B-4CB1-A35E-D64718741D4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артинная галерея русских художников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5048280" cy="5616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Боровиковский Портрет Бестужевой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853160" cy="5400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Брюллов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садница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16000" y="587520"/>
            <a:ext cx="6408720" cy="4782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асильев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еред дождём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58920" y="479520"/>
            <a:ext cx="6408720" cy="47847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аснецов Богатыри.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27280" y="620640"/>
            <a:ext cx="5111640" cy="5689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енецианов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астушок с дудкой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408720" cy="47847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5410440" cy="6021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Грабарь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Неприбранный стол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58920" y="425520"/>
            <a:ext cx="6481800" cy="48387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Дейнека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ать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258920" y="587520"/>
            <a:ext cx="6265800" cy="46767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устодиев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асленица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5048280" cy="5618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алявин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ихрь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411280" y="404640"/>
            <a:ext cx="5305680" cy="590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ластов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есна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Айвазовский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оре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5346720" cy="5950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окотов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ортрет Струйской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5111640" cy="5688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еров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Девочка с персиками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5499000" cy="6120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Федотов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вежий кавалер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116000" y="425520"/>
            <a:ext cx="6624720" cy="4944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Шаршун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Деревянная ложк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онец!!!!!!!!!!!!!!!!!!!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4594320" cy="5111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Архипов</a:t>
            </a:r>
            <a:br>
              <a:rPr sz="44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Девушка с кувшином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829400" cy="5373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Айвазовский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Девятый вал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4981680" cy="5545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Архипов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ачки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2:16:21Z</dcterms:created>
  <dc:creator>User</dc:creator>
  <dc:description/>
  <dc:language>en-US</dc:language>
  <cp:lastModifiedBy>User</cp:lastModifiedBy>
  <dcterms:modified xsi:type="dcterms:W3CDTF">2010-11-01T12:37:02Z</dcterms:modified>
  <cp:revision>2</cp:revision>
  <dc:subject/>
  <dc:title>Картинная галерея русских художников</dc:title>
</cp:coreProperties>
</file>