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7B8-F8FE-44D1-A245-81E66A5B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882-EC91-4FD4-9DAA-2ED4946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A57-E882-490C-9917-DD876409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63F-DDDD-48A0-A87F-FA610B0C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48C3-5F4A-4A45-B44D-05343C1F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6606-2BA6-444D-A908-0E55025D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658-59A1-4EE1-B764-59B677CD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6967-3CE9-4002-9287-9FA4536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E61-6D6C-4183-B85A-1E7193CB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D879-F21B-48BF-A7F9-860CFC74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291C-D973-4C82-A5DE-16E0898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C1A-367C-4CF8-8B6A-684DA350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341-6DAD-417A-AC19-9DCC3F3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EFD-EEE2-4AD9-8166-F35464F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5268-B027-43FD-9A62-CFB145E0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5BDF-FEBB-4C4F-8A71-33A987F5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9F56-A63D-47F5-9AC5-2277772A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C7A-11F6-4031-9C9E-EDBE576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683-0716-49C1-96C8-37FE8166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3B0-0D15-49AD-B04E-AF15B02D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CBC-5C63-4218-809F-AF13FF46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AB9-CD25-4E09-990F-B5F879A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D65-41E1-4E34-9CF0-05F1C13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BC1-1A25-465F-B6C4-17FA1D1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9A5-FCD0-437B-B600-E5B26BA8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AE42-F14D-47ED-B205-2CEF51DB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15145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–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4880" y="1137960"/>
            <a:ext cx="82137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80px-Dmitry_Medvedev_official_large_photo_-5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13-04-03T10:38:45Z</dcterms:modified>
  <cp:revision>47</cp:revision>
  <dc:subject/>
  <dc:title>Слайд 1</dc:title>
</cp:coreProperties>
</file>