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3A1-8A54-4C0C-AD5A-DB8B0629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C18-B9A6-4FF0-90A4-9C7AE00B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961-73DB-416D-A279-8FAA7064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8E9-DB24-4307-927A-676C54B4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B25A-BAD4-427C-BE16-5C770306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4713-07AC-41E8-835C-1FB321F0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F79F-D749-4009-B797-75402BA5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5301-E4BE-4C1B-AEDB-7D6EEC20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13FB-498A-4DFD-B706-5517A479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63BD-F552-4151-A4BB-AEFC49A7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2A8B-F95C-4CFD-857C-253D4E09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EAD-5813-4964-A445-DCBBDC8F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1F8A-497F-451C-A81B-420A2D60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FEDC-B348-4D1B-AC6E-9B1E381E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07FA-0838-41D2-9BEE-58C462EE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E84B-D90B-428B-9136-3475AD9A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9FBE-6452-41A6-98A1-D0B4605D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262-2590-41CF-A071-0959FF04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CEF-E206-46E1-803E-D0DEC81D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8D2-2393-47E8-A9F3-14799FA3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A8B-58C8-43F2-9D56-4C472033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B33-C83D-4E52-8276-96BD06E8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36F-5CDD-44FA-8ADE-F1C47098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D07-6EC0-47E2-AF67-8D11F946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BFDB-7175-4D33-BA6F-665E08331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5AD1-A0F7-4A71-9F84-DA45CD743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800" y="1514520"/>
            <a:ext cx="841536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–</a:t>
            </a:r>
            <a:br>
              <a:rPr sz="40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День 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Конституции Р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 Российской Федерации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 - это </a:t>
            </a:r>
            <a:r>
              <a:rPr b="1" i="1" lang="ru-RU" sz="2600" spc="-1" strike="noStrike">
                <a:solidFill>
                  <a:srgbClr val="cc0000"/>
                </a:solidFill>
                <a:latin typeface="Times New Roman"/>
              </a:rPr>
              <a:t>основной закон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- это основной закон государства, к которому должны быть подлажены все остальные законы. Если какой-то закон все же противоречит Конституции, то поступать следует так, как указывает 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90600"/>
            <a:ext cx="9074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66247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онституция РФ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крепляет</a:t>
            </a: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 основы конституционного строя России, права и свободы человека и гражданина, федеративное устройство, организацию высших органов государственн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Все люди равны перед законом, и каждого из нас защищает государство, через ми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" y="2934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дл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512136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аждый ученик может подробнее узнать о Конституции РФ, прочитав сам закон, или специальный справочник дл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5613480" y="1538280"/>
            <a:ext cx="2909880" cy="465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360" y="198900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 праздником,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 Днём Конституци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4880" y="1137960"/>
            <a:ext cx="821376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ая конституция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– это 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121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на утратила силу в связи с принятием 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56360" y="1484280"/>
            <a:ext cx="2539800" cy="3706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5352840" cy="12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6680" y="2639520"/>
            <a:ext cx="824076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В 1922 года I съезд Советов СССР утвердил 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1924 года Конституция была единогласно принята II съездом Со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ssr"/>
          <p:cNvPicPr/>
          <p:nvPr/>
        </p:nvPicPr>
        <p:blipFill>
          <a:blip r:embed="rId1"/>
          <a:stretch/>
        </p:blipFill>
        <p:spPr>
          <a:xfrm>
            <a:off x="6369120" y="210960"/>
            <a:ext cx="2262240" cy="2318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0_1c0d6_199e7891_XL"/>
          <p:cNvPicPr/>
          <p:nvPr/>
        </p:nvPicPr>
        <p:blipFill>
          <a:blip r:embed="rId1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98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4870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Вошла в историю как «конституция развитого социализма» и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5724360" y="1628640"/>
            <a:ext cx="2368800" cy="3238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 2005 года 12 декабря не является в России выходным днё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6553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К 15-летию Конституции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в 2008 году Президент России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Дмитрий Медведев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сказа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33292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«12 декабря 1993 года в нашей стране впервые за её историю был принят принципиально новый Основной закон – такой Закон, который признал высшей ценностью человека, его права и свободы, который установил основы демократического порядка России и обязавший государство на деле соблюдать и защищать эти новые базовые ценности.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80px-Dmitry_Medvedev_official_large_photo_-5"/>
          <p:cNvPicPr/>
          <p:nvPr/>
        </p:nvPicPr>
        <p:blipFill>
          <a:blip r:embed="rId1"/>
          <a:stretch/>
        </p:blipFill>
        <p:spPr>
          <a:xfrm>
            <a:off x="6948360" y="333360"/>
            <a:ext cx="1565280" cy="1814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User</cp:lastModifiedBy>
  <dcterms:modified xsi:type="dcterms:W3CDTF">2013-04-03T10:38:45Z</dcterms:modified>
  <cp:revision>47</cp:revision>
  <dc:subject/>
  <dc:title>Слайд 1</dc:title>
</cp:coreProperties>
</file>