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DEF-6B04-44B0-BF2F-D24C3C1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BE2-F414-41B7-B9B4-6BE50106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0FA-6E84-4144-9B04-17B122AF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D91-0170-4102-9342-E0910620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5CF-156F-4866-9F96-7DC89352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70F-3007-4505-BABC-DE0E1BD3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230-CF6C-4453-BD38-E8708D53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36B-F4B6-4255-B820-51D31D6C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B51-DFC8-4C25-9C69-9136BA9E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81B-64AF-4C2B-98CD-C8989446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DF1-7A37-49EB-B718-069C108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2AD-E19B-4DE5-ADC1-73239560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2CC7-87A5-462A-A306-1A4E1EDA7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3127320" y="2262240"/>
            <a:ext cx="3809880" cy="16398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3"/>
          <a:stretch/>
        </p:blipFill>
        <p:spPr>
          <a:xfrm>
            <a:off x="2664000" y="1298520"/>
            <a:ext cx="527976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9" descr=""/>
          <p:cNvPicPr/>
          <p:nvPr/>
        </p:nvPicPr>
        <p:blipFill>
          <a:blip r:embed="rId4"/>
          <a:stretch/>
        </p:blipFill>
        <p:spPr>
          <a:xfrm>
            <a:off x="1616040" y="4151160"/>
            <a:ext cx="73198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684360" y="2060640"/>
            <a:ext cx="291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ТАЧ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788000" y="170028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ВЕСЁЛЫЕ ПАРОВОЗ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Домашний\Pictures\5.png"/>
          <p:cNvPicPr/>
          <p:nvPr/>
        </p:nvPicPr>
        <p:blipFill>
          <a:blip r:embed="rId2"/>
          <a:stretch/>
        </p:blipFill>
        <p:spPr>
          <a:xfrm>
            <a:off x="1201680" y="3429000"/>
            <a:ext cx="272736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Домашний\Pictures\pTRU1-8414912dt[1].jpg"/>
          <p:cNvPicPr/>
          <p:nvPr/>
        </p:nvPicPr>
        <p:blipFill>
          <a:blip r:embed="rId3"/>
          <a:srcRect l="0" t="9779" r="170" b="17070"/>
          <a:stretch/>
        </p:blipFill>
        <p:spPr>
          <a:xfrm>
            <a:off x="6245280" y="3284640"/>
            <a:ext cx="235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Домашний\Pictures\bl_emelya_b.jpg"/>
          <p:cNvPicPr/>
          <p:nvPr/>
        </p:nvPicPr>
        <p:blipFill>
          <a:blip r:embed="rId2"/>
          <a:stretch/>
        </p:blipFill>
        <p:spPr>
          <a:xfrm>
            <a:off x="1262160" y="2073240"/>
            <a:ext cx="2273040" cy="4960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Домашний\Pictures\2039.jpg"/>
          <p:cNvPicPr/>
          <p:nvPr/>
        </p:nvPicPr>
        <p:blipFill>
          <a:blip r:embed="rId3"/>
          <a:stretch/>
        </p:blipFill>
        <p:spPr>
          <a:xfrm>
            <a:off x="6229440" y="2000160"/>
            <a:ext cx="2036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Домашний\Pictures\klubnika.jpg"/>
          <p:cNvPicPr/>
          <p:nvPr/>
        </p:nvPicPr>
        <p:blipFill>
          <a:blip r:embed="rId2"/>
          <a:stretch/>
        </p:blipFill>
        <p:spPr>
          <a:xfrm>
            <a:off x="1407960" y="2292480"/>
            <a:ext cx="2657520" cy="39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Домашний\Pictures\156_94.jpg"/>
          <p:cNvPicPr/>
          <p:nvPr/>
        </p:nvPicPr>
        <p:blipFill>
          <a:blip r:embed="rId3"/>
          <a:stretch/>
        </p:blipFill>
        <p:spPr>
          <a:xfrm>
            <a:off x="5510160" y="2359080"/>
            <a:ext cx="27320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Домашний\Pictures\wheeler_junior_200_08_800.jpg"/>
          <p:cNvPicPr/>
          <p:nvPr/>
        </p:nvPicPr>
        <p:blipFill>
          <a:blip r:embed="rId2"/>
          <a:stretch/>
        </p:blipFill>
        <p:spPr>
          <a:xfrm>
            <a:off x="1360440" y="2205000"/>
            <a:ext cx="2335320" cy="216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Домашний\Pictures\26wac2011_1.png"/>
          <p:cNvPicPr/>
          <p:nvPr/>
        </p:nvPicPr>
        <p:blipFill>
          <a:blip r:embed="rId3"/>
          <a:stretch/>
        </p:blipFill>
        <p:spPr>
          <a:xfrm>
            <a:off x="6216480" y="2133720"/>
            <a:ext cx="216864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Домашний\Pictures\525_image_01[1].jpg"/>
          <p:cNvPicPr/>
          <p:nvPr/>
        </p:nvPicPr>
        <p:blipFill>
          <a:blip r:embed="rId2"/>
          <a:stretch/>
        </p:blipFill>
        <p:spPr>
          <a:xfrm>
            <a:off x="3203640" y="2205000"/>
            <a:ext cx="35067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Домашний\Pictures\x_206153fd.jpg"/>
          <p:cNvPicPr/>
          <p:nvPr/>
        </p:nvPicPr>
        <p:blipFill>
          <a:blip r:embed="rId2"/>
          <a:stretch/>
        </p:blipFill>
        <p:spPr>
          <a:xfrm>
            <a:off x="1403280" y="2349360"/>
            <a:ext cx="2664000" cy="1889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Домашний\Pictures\p40_mashina.jpg"/>
          <p:cNvPicPr/>
          <p:nvPr/>
        </p:nvPicPr>
        <p:blipFill>
          <a:blip r:embed="rId3"/>
          <a:stretch/>
        </p:blipFill>
        <p:spPr>
          <a:xfrm>
            <a:off x="5653080" y="2349360"/>
            <a:ext cx="2878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5:43:48Z</dcterms:created>
  <dc:creator>Домашний</dc:creator>
  <dc:description/>
  <dc:language>en-US</dc:language>
  <cp:lastModifiedBy>Лариса</cp:lastModifiedBy>
  <dcterms:modified xsi:type="dcterms:W3CDTF">2013-04-03T06:54:43Z</dcterms:modified>
  <cp:revision>58</cp:revision>
  <dc:subject/>
  <dc:title>Слайд 1</dc:title>
</cp:coreProperties>
</file>