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F24-3EF3-4751-97C0-48A44583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E91-031F-465F-9052-35D1A7E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468-228B-4327-917B-914878BC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F3B-87C9-49BA-B2A9-796CD9C9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391-3F4F-4601-A2F5-3743637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ECA-0CD0-4ACE-9070-3654EE5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D8B-8F1E-4CBC-86F2-7D66DC55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3DA-8A9B-4680-B352-535CAEB3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F91-381F-4373-B135-53C8A83B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C22-9803-452E-A5E4-B7577FE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EFF-68B8-4344-AFE0-9E1CCFE8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957-A5B8-465E-965B-8B1E8E72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3977-24D8-4629-821D-1E70071A6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35268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Михаил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асильевич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Ломоносов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(1711-17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61944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952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Заслуги Ломоносова в некоторых област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изика и 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019920"/>
            <a:ext cx="10666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876920" y="1447920"/>
            <a:ext cx="3552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Дал физической химии определение, весьма близкое к совреме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еликие физико-химические исследования. Его молекулярно-кинетическая теория тепла во многом предвосхитила современное представление о строении материи, — многие химические законы, в числе которых одно из начал термодинам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ложил основы науки о стек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5715000"/>
            <a:ext cx="1523880" cy="7621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реди поэтических произведений Ломоносова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Слово похвальное Петру Великому…». 17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да блаженныя памяти Государыне Императрице Анне Иоанновне на победу над турками и татарами и на взятие Хотина 173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Утреннее размышление о божием величестве» (17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Я знак бессмертия себе воздвигнул» (17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Ночною темнотою покрылись небеса…» (17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Лишь только дневной шум замолк…» (17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ихи, сочиненные на дороге в Петергоф, когда я в 1761 году ехал просить о подписании привилегии для академии, быв много раз прежде за тем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Гимн бороде (17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209600" cy="17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5867280"/>
            <a:ext cx="1371600" cy="60984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Полтавская баталия». Мозаика М. В. Ломоносова в здании Академии Наук. Санкт-Петербург. 1762—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4767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ртрет Петра I. Мозаика. Набрана М. В. Ломоносовым. 1754.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848720" y="6095880"/>
            <a:ext cx="990360" cy="609840"/>
          </a:xfrm>
          <a:prstGeom prst="leftArrow">
            <a:avLst>
              <a:gd name="adj1" fmla="val 50000"/>
              <a:gd name="adj2" fmla="val 40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ниверситет имени Ломоно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304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сновал первый в России университет, который носит его и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1944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амятник в Москв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И в Санкт-Петербург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Ломоносов стал самым          образованным человеком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нал несколько яз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Сочинил множество сти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Преподавал в Академии наук русский язык, историю, физику, химию и други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писал первую русскую грамматику, учебник русской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Первым объяснил русским людям, откуда берётся тепло и дожди, что такое планеты и кометы, от чего происходит северное сияние и мн.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коло 300 лет назад в рыбацкой деревушке на севере России, близь г.Холмогоры 19 ноября (по старому стилю - 8 ноября) родился Михаил Ломо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1640" y="1599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3012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095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лагодаря природному дару и упорству Ломоносов из северных крестьян выбился в "большие" люди, получил чины и признание, стал крупным ученым. Но, очевидно, положил на это слишком много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"Статский советник и профессор Ломоносов умирал трудно и одиноко,- пишет современный биограф.- Отяжелевший, но все еще порывистый и беспокойный, он лежал в притихшем большом доме. В саду наливались соком посаженные им деревья. Весенний ветер стучал в окна. В мозаичной мастерской стояли недоконченные карт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Ломоносов знал, что он умирает. "Я не тужу о смерти: пожил, потерпел и знаю, что обо мне дети отечества пожалеют",- записал он. Но его тревожила судьба его дела. Порой ему казалось, что вся напряженная борьба, которую он вел, пошла насмарку. Он сполна узнал цену милостям императрицы (Екатерины II) - и видел, что национальные начала русской науки , которые он развивал, снова поставлены под угрозу. Он не скрывает своих мрачных раздумий. "Друг, я вижу, что я должен умереть, и спокойно и равнодушно смотрю на смерть. Жалею токмо о том, что не мог я свершить всего того, что предпринял я для пользы Отечества, для приращения наук и для славы Академии и теперь при конце жизни моей должен видеть, что все мои полезные намерения исчезнут вместе со мной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Прислушивавшиеся к каждому слову царицы придворные, преисполненные сознанием своей значительности, невежественные вельможи, юлящие вокруг них иноземцы, погрязшие в канцелярщине чиновники откровенно радовались, что уходит, наконец, надоедливый человек, мечущийся и хлопочущий о чем-то на смертном своем од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вот 4 апреля (по старому стилю) 1765 года, около пяти часов дня, перестало биться горячее сердце Михаила Васильевича Ломоносов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ать Ломоносова умерла очень рано. Из двух мачех Ломоносова вторая была "злая и завистливая". Лучшими моментами в детстве были поездки с отцом в мо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0719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Путь Михайло Ломоносова из Холмогор в Моск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11600" cy="494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8116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5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ыдав себя за сына дворянина, в январе 1731 он поступил в Московскую Славяно-греко-латинскую академию. Несмотря на его взрослые лета, Михаила определили в самый низший класс, т.к. он не знал латин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Через полгода он был переведён в следующи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 5 лет он прошёл курс школы, выучился латинскому и греческому язы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2286000" cy="224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7179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16700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осковская Славяно-греко-латинская акаде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 1736 трое из способных учеников, в том числе Ломоносов, были отправлены Академией Наук в Германию для обучения математике, физике, философии, химии и металлургии. За границей Ломоносов пробыл 5 лет. Там же и женился в 1740, в Марбурге, на Елизавете-Христине Циль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4210200"/>
            <a:ext cx="39625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июне 1741 Ломоносов вернулся в Россию и был назначен в академию адъюнктом, а в августе 1745 стал первым русским, избранным на должность профессора (академика) хи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29811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Императрица Елизавета Петровна пожаловала ему в награду деревн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2940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na</cp:lastModifiedBy>
  <dcterms:modified xsi:type="dcterms:W3CDTF">2013-04-03T19:17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