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8064-E455-416B-BFEE-C9BA4327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55C8-1CD2-4CC3-B87D-E4C9FCD4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3C50-A35F-4D0D-912D-54A3FFAE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A9E-CEEA-4268-8BFD-36295A7C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2825-0056-42A3-AC21-76C699E6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148-F333-4E12-884D-71B3144F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B7DC-3E54-43A5-83D8-5BFEAD8F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43FC-8B0D-4749-B572-B6753965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FFBD-51F6-4079-86FF-FD11145A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D96E-B553-442B-AA27-18D3397F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11E-EED5-49FD-B0BF-AB36E73C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CC0-2826-4A52-8246-43F867D9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10B4-C102-4695-9999-FFE62ACB4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352680"/>
            <a:ext cx="8305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Михаил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Васильевич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Ломоносов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(1711-176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837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3619440" cy="4343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29528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Заслуги Ломоносова в некоторых област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Физика и х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Искус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6019920"/>
            <a:ext cx="1066680" cy="5331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4876920" y="1447920"/>
            <a:ext cx="3552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Дал физической химии определение, весьма близкое к современ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Великие физико-химические исследования. Его молекулярно-кинетическая теория тепла во многом предвосхитила современное представление о строении материи, — многие химические законы, в числе которых одно из начал термодинам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Заложил основы науки о стек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5715000"/>
            <a:ext cx="1523880" cy="76212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91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реди поэтических произведений Ломоносова: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«Слово похвальное Петру Великому…». 17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да блаженныя памяти Государыне Императрице Анне Иоанновне на победу над турками и татарами и на взятие Хотина 1739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«Утреннее размышление о божием величестве» (17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«Я знак бессмертия себе воздвигнул» (17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«Ночною темнотою покрылись небеса…» (17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«Лишь только дневной шум замолк…» (17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тихи, сочиненные на дороге в Петергоф, когда я в 1761 году ехал просить о подписании привилегии для академии, быв много раз прежде за тем 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Гимн бороде (175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162920" y="5029200"/>
            <a:ext cx="1209600" cy="17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81480" y="5867280"/>
            <a:ext cx="1371600" cy="60984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«Полтавская баталия». Мозаика М. В. Ломоносова в здании Академии Наук. Санкт-Петербург. 1762—17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19320" y="380880"/>
            <a:ext cx="647676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Портрет Петра I. Мозаика. Набрана М. В. Ломоносовым. 1754. Эрмит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743200" y="228600"/>
            <a:ext cx="3827520" cy="5105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848720" y="6095880"/>
            <a:ext cx="990360" cy="609840"/>
          </a:xfrm>
          <a:prstGeom prst="leftArrow">
            <a:avLst>
              <a:gd name="adj1" fmla="val 50000"/>
              <a:gd name="adj2" fmla="val 40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ниверситет имени Ломонос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90720" y="30492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Основал первый в России университет, который носит его и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19440" y="0"/>
            <a:ext cx="550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Памятник в Москв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71880" y="0"/>
            <a:ext cx="4514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И в Санкт-Петербург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0" y="0"/>
            <a:ext cx="4457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Ломоносов стал самым          образованным человеком в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Знал несколько язы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Сочинил множество стих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Преподавал в Академии наук русский язык, историю, физику, химию и другие предм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Написал первую русскую грамматику, учебник русской ис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Первым объяснил русским людям, откуда берётся тепло и дожди, что такое планеты и кометы, от чего происходит северное сияние и мн.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962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Около 300 лет назад в рыбацкой деревушке на севере России, близь г.Холмогоры 19 ноября (по старому стилю - 8 ноября) родился Михаил Ломоно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1640" y="1599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3012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0958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лагодаря природному дару и упорству Ломоносов из северных крестьян выбился в "большие" люди, получил чины и признание, стал крупным ученым. Но, очевидно, положил на это слишком много с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"Статский советник и профессор Ломоносов умирал трудно и одиноко,- пишет современный биограф.- Отяжелевший, но все еще порывистый и беспокойный, он лежал в притихшем большом доме. В саду наливались соком посаженные им деревья. Весенний ветер стучал в окна. В мозаичной мастерской стояли недоконченные карт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Ломоносов знал, что он умирает. "Я не тужу о смерти: пожил, потерпел и знаю, что обо мне дети отечества пожалеют",- записал он. Но его тревожила судьба его дела. Порой ему казалось, что вся напряженная борьба, которую он вел, пошла насмарку. Он сполна узнал цену милостям императрицы (Екатерины II) - и видел, что национальные начала русской науки , которые он развивал, снова поставлены под угрозу. Он не скрывает своих мрачных раздумий. "Друг, я вижу, что я должен умереть, и спокойно и равнодушно смотрю на смерть. Жалею токмо о том, что не мог я свершить всего того, что предпринял я для пользы Отечества, для приращения наук и для славы Академии и теперь при конце жизни моей должен видеть, что все мои полезные намерения исчезнут вместе со мной..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Прислушивавшиеся к каждому слову царицы придворные, преисполненные сознанием своей значительности, невежественные вельможи, юлящие вокруг них иноземцы, погрязшие в канцелярщине чиновники откровенно радовались, что уходит, наконец, надоедливый человек, мечущийся и хлопочущий о чем-то на смертном своем од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И вот 4 апреля (по старому стилю) 1765 года, около пяти часов дня, перестало биться горячее сердце Михаила Васильевича Ломоносова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Мать Ломоносова умерла очень рано. Из двух мачех Ломоносова вторая была "злая и завистливая". Лучшими моментами в детстве были поездки с отцом в мо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407196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Путь Михайло Ломоносова из Холмогор в Москв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2811600" cy="4946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952880" y="1676520"/>
            <a:ext cx="38116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45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5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144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Выдав себя за сына дворянина, в январе 1731 он поступил в Московскую Славяно-греко-латинскую академию. Несмотря на его взрослые лета, Михаила определили в самый низший класс, т.к. он не знал латинского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Через полгода он был переведён в следующий кл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За 5 лет он прошёл курс школы, выучился латинскому и греческому язы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38480" y="4419720"/>
            <a:ext cx="2286000" cy="2241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781680" y="4419720"/>
            <a:ext cx="17179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90920" y="228600"/>
            <a:ext cx="416700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Московская Славяно-греко-латинская академ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144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В 1736 трое из способных учеников, в том числе Ломоносов, были отправлены Академией Наук в Германию для обучения математике, физике, философии, химии и металлургии. За границей Ломоносов пробыл 5 лет. Там же и женился в 1740, в Марбурге, на Елизавете-Христине Циль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657600" y="4210200"/>
            <a:ext cx="3962520" cy="2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144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В июне 1741 Ломоносов вернулся в Россию и был назначен в академию адъюнктом, а в августе 1745 стал первым русским, избранным на должность профессора (академика) хим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114800" y="2743200"/>
            <a:ext cx="298116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Императрица Елизавета Петровна пожаловала ему в награду деревню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95280" y="304920"/>
            <a:ext cx="662940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na</cp:lastModifiedBy>
  <dcterms:modified xsi:type="dcterms:W3CDTF">2013-04-03T19:17:3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