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projctor.wav" ContentType="audio/x-wav"/>
  <Override PartName="/ppt/media/drumroll.wav" ContentType="audio/x-wav"/>
  <Override PartName="/ppt/media/image6.wmf" ContentType="image/x-wmf"/>
  <Override PartName="/ppt/media/chimes.wav" ContentType="audio/x-wav"/>
  <Override PartName="/ppt/media/clap.wav" ContentType="audio/x-wav"/>
  <Override PartName="/ppt/media/Lo_bell.wav" ContentType="audio/x-wav"/>
  <Override PartName="/ppt/media/lase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5F2-1F5B-4B46-B1AC-E0300E97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189-6E6B-4A8A-A7AF-4352B87B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417F-F394-499E-9B5D-D79D89E5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BF9-5250-46A5-B034-83A26EE9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27D3-13AE-4A2A-9624-90F8ADBD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FC2C-D478-4E22-83F4-764082A5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DC10-C55A-42AE-B928-6DBD08CF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7107-5179-4EE0-9DEE-6A32330D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7364-7737-4DDB-A3C4-7DF7D2E1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D4DB-C532-4268-A90A-B1A7A084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8258-2B36-4BD8-B7D0-F895C283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0F6-398A-4807-B3AB-E39FC01A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2696-A48E-40B1-B47E-52D3B072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0E11-0E57-4DC3-852D-8630642B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05BA-0C3D-41F5-944F-65B400E2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2F7D-4D90-44E8-91BE-84205AD1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EDDC-34E7-432C-B8CD-667531C9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417-247B-49E8-B5B5-19E8BB7C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EE8-14CA-4899-9514-2EADFB23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52A-138C-403E-A262-8DE3AE88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726-7ED2-4DE8-98A2-FF6E55DF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51C-D3A8-4789-BBFE-3FFDAB0D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78E-44E0-429C-9253-2CE2A912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45F-9D5C-400A-BD6E-AB410B62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1936-34C4-4D4C-BF41-08C5C5BEB1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85BE-07C8-4FE2-834A-A69754CABADD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o_bell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076960" cy="2362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60066"/>
                </a:solidFill>
                <a:latin typeface="Tahoma"/>
              </a:rPr>
              <a:t>Микропроцессор</a:t>
            </a:r>
            <a:br>
              <a:rPr sz="6000"/>
            </a:br>
            <a:endParaRPr b="0" lang="en-US" sz="8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08636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30516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1" name="Picture 11" descr="j0215559"/>
          <p:cNvPicPr/>
          <p:nvPr/>
        </p:nvPicPr>
        <p:blipFill>
          <a:blip r:embed="rId3"/>
          <a:stretch/>
        </p:blipFill>
        <p:spPr>
          <a:xfrm>
            <a:off x="3200400" y="3505320"/>
            <a:ext cx="2533680" cy="24476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Характеристики некоторых моделей микропроцессоров (МП), отражающих основные этапы развит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09480" y="2286000"/>
          <a:ext cx="8077320" cy="4314960"/>
        </p:xfrm>
        <a:graphic>
          <a:graphicData uri="http://schemas.openxmlformats.org/drawingml/2006/table">
            <a:tbl>
              <a:tblPr/>
              <a:tblGrid>
                <a:gridCol w="2667240"/>
                <a:gridCol w="1600200"/>
                <a:gridCol w="1447560"/>
                <a:gridCol w="2362320"/>
              </a:tblGrid>
              <a:tr h="82332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020e"/>
                          </a:solidFill>
                          <a:latin typeface="Tahoma"/>
                        </a:rPr>
                        <a:t>Микро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20020e"/>
                          </a:solidFill>
                          <a:latin typeface="Tahoma"/>
                        </a:rPr>
                        <a:t>процессор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020e"/>
                          </a:solidFill>
                          <a:latin typeface="Tahoma"/>
                        </a:rPr>
                        <a:t>Год выпуска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020e"/>
                          </a:solidFill>
                          <a:latin typeface="Tahoma"/>
                        </a:rPr>
                        <a:t>Число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20020e"/>
                          </a:solidFill>
                          <a:latin typeface="Tahoma"/>
                        </a:rPr>
                        <a:t> эл-ов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020e"/>
                          </a:solidFill>
                          <a:latin typeface="Tahoma"/>
                        </a:rPr>
                        <a:t>Значение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71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tel 4004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97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 30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Первый МП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tel </a:t>
                      </a: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08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97</a:t>
                      </a: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 80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Первый универсальный МП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otorola </a:t>
                      </a: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800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978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70 00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Первый 16-битный МП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Hewlett Packar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uperchip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981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50</a:t>
                      </a:r>
                      <a:r>
                        <a:rPr b="0" lang="ru-RU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0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Первый 32-битный МП сложной конструкции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solidFill>
                      <a:srgbClr val="cfdb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o_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-45900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Tahoma"/>
              </a:rPr>
              <a:t>Процессор</a:t>
            </a:r>
            <a:r>
              <a:rPr b="0" lang="ru-RU" sz="4800" spc="-1" strike="noStrike">
                <a:solidFill>
                  <a:srgbClr val="660066"/>
                </a:solidFill>
                <a:latin typeface="Tahoma"/>
              </a:rPr>
              <a:t> – устройство, обеспечивающее преобразование информации и управление другими устройствами компьютера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временный процессор представляет собой 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микросхему,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ли 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чип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(англ.</a:t>
            </a:r>
            <a:r>
              <a:rPr b="0" i="1" lang="en-US" sz="4400" spc="-1" strike="noStrike">
                <a:solidFill>
                  <a:srgbClr val="660066"/>
                </a:solidFill>
                <a:latin typeface="Tahoma"/>
              </a:rPr>
              <a:t>chip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),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выполненную на миниатюрной кремниевой пластине – кристалле. Поэтому его принято называть – </a:t>
            </a:r>
            <a:r>
              <a:rPr b="1" i="1" lang="ru-RU" sz="4400" spc="-1" strike="noStrike">
                <a:solidFill>
                  <a:srgbClr val="660066"/>
                </a:solidFill>
                <a:latin typeface="Tahoma"/>
              </a:rPr>
              <a:t>микропроцессор.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Процессор"/>
          <p:cNvPicPr/>
          <p:nvPr/>
        </p:nvPicPr>
        <p:blipFill>
          <a:blip r:embed="rId1"/>
          <a:stretch/>
        </p:blipFill>
        <p:spPr>
          <a:xfrm>
            <a:off x="5105520" y="4191120"/>
            <a:ext cx="3627360" cy="2239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В современных компьютерах весьма распространенными являются микропроцессоры фирмы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NTEL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, более известные по их товарной марке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entium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Характеристики микропроцессор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ехнические характеристики микропроцессор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914400" y="3124080"/>
          <a:ext cx="7199280" cy="21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124080"/>
                    <a:ext cx="719928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изводительность –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количество элементарных операций, выполняемых за одну секунду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изводительность определяет быстродействие компьютера в цело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актовая частота –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оличество тактов в секунду (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Такт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– чрезвычайно малый промежуток времени, измеряемый микросекундами, в течении которого может быть выполнена элементарная операция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0e14"/>
                </a:solidFill>
                <a:latin typeface="Arial Black"/>
              </a:rPr>
              <a:t>Единица  измерения тактовой частоты – </a:t>
            </a:r>
            <a:br>
              <a:rPr sz="2400"/>
            </a:br>
            <a:r>
              <a:rPr b="0" lang="ru-RU" sz="2400" spc="-1" strike="noStrike">
                <a:solidFill>
                  <a:srgbClr val="0e0e14"/>
                </a:solidFill>
                <a:latin typeface="Arial Black"/>
              </a:rPr>
              <a:t>Гц (герц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Arial Black"/>
              </a:rPr>
              <a:t>Для современных компьютеров тактовая частота измеряется от сотен мегагерц (1 МГц=1000 Гц) до нескольких гигагерц ( 1ГГц=1000 МГц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зрядность –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змер минимальной порции информации, обрабатываемой процессором за один такт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020e"/>
                </a:solidFill>
                <a:latin typeface="Tahoma"/>
              </a:rPr>
              <a:t>Эта порция информации, часто называемая </a:t>
            </a:r>
            <a:r>
              <a:rPr b="0" lang="ru-RU" sz="2800" spc="-1" strike="noStrike">
                <a:solidFill>
                  <a:srgbClr val="20020e"/>
                </a:solidFill>
                <a:latin typeface="Tahoma"/>
              </a:rPr>
              <a:t>машинным словом, </a:t>
            </a:r>
            <a:r>
              <a:rPr b="0" lang="ru-RU" sz="2800" spc="-1" strike="noStrike">
                <a:solidFill>
                  <a:srgbClr val="20020e"/>
                </a:solidFill>
                <a:latin typeface="Tahoma"/>
              </a:rPr>
              <a:t>представлена последовательностью двоичных разрядов (бит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цессор в зависимости от его типа может иметь одновременный доступ к 8, 16, 32, 64 бита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1</cp:lastModifiedBy>
  <dcterms:modified xsi:type="dcterms:W3CDTF">2012-09-11T05:28:17Z</dcterms:modified>
  <cp:revision>24</cp:revision>
  <dc:subject/>
  <dc:title>PowerPoint Presentation</dc:title>
</cp:coreProperties>
</file>