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projctor.wav" ContentType="audio/x-wav"/>
  <Override PartName="/ppt/media/drumroll.wav" ContentType="audio/x-wav"/>
  <Override PartName="/ppt/media/image6.wmf" ContentType="image/x-wmf"/>
  <Override PartName="/ppt/media/chimes.wav" ContentType="audio/x-wav"/>
  <Override PartName="/ppt/media/clap.wav" ContentType="audio/x-wav"/>
  <Override PartName="/ppt/media/Lo_bell.wav" ContentType="audio/x-wav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5F9-436E-48D1-8A67-FFF53A0D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E2A-1F1B-48D8-A85D-C4FA9723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E61-330C-44E8-B840-B4511621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6D3-42E2-407C-A488-C21FD3DA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E6F0-B5E7-492C-B997-860A0E8A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A51-DF31-4E8D-81BC-614D7B7B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6B54-2727-4B0A-89CE-5751457F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56BF-93FD-4D33-A062-F9FC169F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0BF8-BB81-4AE5-A481-84E70B20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BD1F-1375-4C0F-8A65-9168B2BD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8223-C4F2-4635-84B3-7A2B0D3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037-8EBA-4BAE-AC07-C1D36897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84C8-21DD-427D-B349-ACF88156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D197-8DD2-4DB8-A497-6FB5E62B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E787-09C5-4DB1-B31E-FFFFF84E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449E-6F2F-462F-9B0D-33AA7A53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0DD0-B53F-45FA-8249-47D6E33F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D45-E7E4-43B0-8B64-4A80BDBF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2CB-A850-4777-8F05-9050605A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A98-3BCE-4331-83EB-C47D621B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25B-21CB-4C58-A526-6E6FAE7A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578-C340-43E5-85D7-5485DEE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035-D0A0-4678-B419-5D79CF7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1F2-F2E2-4FCF-AE00-0BCA3397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DBDB-DC1A-4A11-87C5-4B5D626B4B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6AE8-9269-40F4-BD5A-E742C6D99F83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o_bell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362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0066"/>
                </a:solidFill>
                <a:latin typeface="Tahoma"/>
              </a:rPr>
              <a:t>Микропроцессор</a:t>
            </a:r>
            <a:br>
              <a:rPr sz="6000"/>
            </a:b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08636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3051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Picture 11" descr="j0215559"/>
          <p:cNvPicPr/>
          <p:nvPr/>
        </p:nvPicPr>
        <p:blipFill>
          <a:blip r:embed="rId3"/>
          <a:stretch/>
        </p:blipFill>
        <p:spPr>
          <a:xfrm>
            <a:off x="3200400" y="3505320"/>
            <a:ext cx="2533680" cy="24476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Характеристики некоторых моделей микропроцессоров (МП), отражающих основные этапы развит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09480" y="2286000"/>
          <a:ext cx="8077320" cy="4314960"/>
        </p:xfrm>
        <a:graphic>
          <a:graphicData uri="http://schemas.openxmlformats.org/drawingml/2006/table">
            <a:tbl>
              <a:tblPr/>
              <a:tblGrid>
                <a:gridCol w="2667240"/>
                <a:gridCol w="1600200"/>
                <a:gridCol w="1447560"/>
                <a:gridCol w="2362320"/>
              </a:tblGrid>
              <a:tr h="8233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Микро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процессор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Год выпуск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Число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 эл-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Значение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7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l 400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97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 3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ервый МП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l </a:t>
                      </a: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08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97</a:t>
                      </a: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 8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ервый универсальный МП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otorola </a:t>
                      </a: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80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978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0 0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ервый 16-битный МП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Hewlett Packar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uperchip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98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50</a:t>
                      </a: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ервый 32-битный МП сложной конструкции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o_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-45900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Tahoma"/>
              </a:rPr>
              <a:t>Процессор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– устройство, обеспечивающее преобразование информации и управление другими устройствами компьютера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й процессор представляет собой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микросхему,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ли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чип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(англ.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chip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),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выполненную на миниатюрной кремниевой пластине – кристалле. Поэтому его принято называть – </a:t>
            </a: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микропроцессор.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Процессор"/>
          <p:cNvPicPr/>
          <p:nvPr/>
        </p:nvPicPr>
        <p:blipFill>
          <a:blip r:embed="rId1"/>
          <a:stretch/>
        </p:blipFill>
        <p:spPr>
          <a:xfrm>
            <a:off x="5105520" y="4191120"/>
            <a:ext cx="3627360" cy="2239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 современных компьютерах весьма распространенными являются микропроцессоры фирмы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TEL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, более известные по их товарной марке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entium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Характеристики микропроцессор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ехнические характеристики микропроцессор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914400" y="3124080"/>
          <a:ext cx="7199280" cy="21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1992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изводительность –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оличество элементарных операций, выполняемых за одну секунду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изводительность определяет быстродействие компьютера в цел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актовая частота –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личество тактов в секунду (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Такт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– чрезвычайно малый промежуток времени, измеряемый микросекундами, в течении которого может быть выполнена элементарная операция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0e14"/>
                </a:solidFill>
                <a:latin typeface="Arial Black"/>
              </a:rPr>
              <a:t>Единица  измерения тактовой частоты – </a:t>
            </a:r>
            <a:br>
              <a:rPr sz="2400"/>
            </a:br>
            <a:r>
              <a:rPr b="0" lang="ru-RU" sz="2400" spc="-1" strike="noStrike">
                <a:solidFill>
                  <a:srgbClr val="0e0e14"/>
                </a:solidFill>
                <a:latin typeface="Arial Black"/>
              </a:rPr>
              <a:t>Гц (герц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Arial Black"/>
              </a:rPr>
              <a:t>Для современных компьютеров тактовая частота измеряется от сотен мегагерц (1 МГц=1000 Гц) до нескольких гигагерц ( 1ГГц=1000 МГц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зрядность –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мер минимальной порции информации, обрабатываемой процессором за один так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20e"/>
                </a:solidFill>
                <a:latin typeface="Tahoma"/>
              </a:rPr>
              <a:t>Эта порция информации, часто называемая </a:t>
            </a:r>
            <a:r>
              <a:rPr b="0" lang="ru-RU" sz="2800" spc="-1" strike="noStrike">
                <a:solidFill>
                  <a:srgbClr val="20020e"/>
                </a:solidFill>
                <a:latin typeface="Tahoma"/>
              </a:rPr>
              <a:t>машинным словом, </a:t>
            </a:r>
            <a:r>
              <a:rPr b="0" lang="ru-RU" sz="2800" spc="-1" strike="noStrike">
                <a:solidFill>
                  <a:srgbClr val="20020e"/>
                </a:solidFill>
                <a:latin typeface="Tahoma"/>
              </a:rPr>
              <a:t>представлена последовательностью двоичных разрядов (бит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ссор в зависимости от его типа может иметь одновременный доступ к 8, 16, 32, 64 бита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1</cp:lastModifiedBy>
  <dcterms:modified xsi:type="dcterms:W3CDTF">2012-09-11T05:28:17Z</dcterms:modified>
  <cp:revision>24</cp:revision>
  <dc:subject/>
  <dc:title>PowerPoint Presentation</dc:title>
</cp:coreProperties>
</file>