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69D-D3A6-4ED4-9AD5-644741E1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21D-5198-46AE-8C3D-EEA69276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3F0A-B432-481C-A280-EEA7F876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11A-E99D-4437-A0E5-0A271AE4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20B7-5577-441E-B194-A032B388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C15-7DE2-4AFF-A7D3-9F4A3D0D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B93-9C98-45D5-B4E1-3F048354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518-DA98-4552-82C2-6C6EEED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C5E-1100-4767-99EE-461881B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00A-1CCF-43B0-AEA9-AF9DD71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3268-0ECC-40CC-AA95-A0774B2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18A-CDCA-4F3D-A748-E318A9D0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9951-DE35-426E-BA66-6878E397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0CE8-405B-4A34-B3B2-535F0E0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731-5390-469B-8944-F4817FCD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EE4E-ECB3-487A-B7A1-2F267073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9148-E1DF-4C49-945C-39AC0B87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1F8-7D70-4FE1-A8F7-92CF8589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B41-09CC-4FFC-99E1-3DE63D7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7D8-C6FE-4CA9-ACE6-38A904A3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125-38CF-41CD-BFED-6A0EB6E9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307-B3AC-4CF6-8368-47B6346C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12C-BB1E-4599-95E1-C8A15BE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023-7B49-49D0-8793-F1A60D1F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0E98-9A43-40F7-8C9E-2D272CC3C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1FA-45FB-4BDC-A26C-B3F712E46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7408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«Мода – зеркало стиля эпохи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456000" cy="511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77920" y="1557360"/>
            <a:ext cx="4508280" cy="51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Эпоха Возрождения (Франция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1360" y="1557360"/>
            <a:ext cx="3892680" cy="496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25880" y="1484280"/>
            <a:ext cx="4218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857480" cy="1550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22880" y="404640"/>
            <a:ext cx="3921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09624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омантизм (1830-1860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480200" cy="511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719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4511880" cy="836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Русский костю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89680" y="260280"/>
            <a:ext cx="3154320" cy="436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3219480"/>
            <a:ext cx="18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908000" y="1268280"/>
            <a:ext cx="4065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9280" y="333360"/>
            <a:ext cx="4284720" cy="968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Костюм (20 век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080" y="260280"/>
            <a:ext cx="4397400" cy="604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78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84360" y="115920"/>
            <a:ext cx="566424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Современная одеж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976480" cy="446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295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3200" y="0"/>
            <a:ext cx="8740800" cy="907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Современная одежда разных стил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9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773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050920" y="0"/>
            <a:ext cx="6253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14880" cy="568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608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4000" y="115920"/>
            <a:ext cx="5376960" cy="968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Древняя Гре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297320" cy="518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4067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456240" cy="98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Готический стиль (12век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43000" cy="566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3242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515916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Стиль «Ампир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397400" cy="558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35440" y="1268280"/>
            <a:ext cx="4408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37992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тиль «Роккоко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405320" cy="518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3137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494352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озрождение (7век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0280" y="1197000"/>
            <a:ext cx="4537080" cy="566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6272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460840" y="2205000"/>
            <a:ext cx="368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9760" y="0"/>
            <a:ext cx="7248600" cy="836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Эпоха Возрождения (18 век 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880920"/>
            <a:ext cx="3936960" cy="597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4365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8523360" cy="896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Западноевропейское Возрожд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149640" cy="518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164360" y="1052640"/>
            <a:ext cx="1809720" cy="5543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9:44:53Z</dcterms:created>
  <dc:creator>Mama</dc:creator>
  <dc:description/>
  <dc:language>en-US</dc:language>
  <cp:lastModifiedBy>Mama</cp:lastModifiedBy>
  <dcterms:modified xsi:type="dcterms:W3CDTF">2009-10-25T13:56:29Z</dcterms:modified>
  <cp:revision>4</cp:revision>
  <dc:subject/>
  <dc:title>Слайд 1</dc:title>
</cp:coreProperties>
</file>