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808-7961-4345-B1D9-DC296492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C51-516F-473C-97D3-20253928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EF1-B1DD-4846-B205-8BB047A7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AC1-A951-4A5D-984D-6A5CFBFC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7310-5A13-435F-A8FC-A5B5C156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5A70-313E-411E-BB0E-9F473930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CAD6-9DA4-4A17-90DF-1A2E8704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F391-607F-4713-81F6-B5C184AD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50FB-78E8-4E9A-A5D4-FD170798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B7DD-B03E-4401-A970-EE75F6B5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F26B-B3E1-47BA-92AE-87399883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6A0-7A95-4563-82DA-775FE45B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8460-E296-4D01-88AF-9C4FDC93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942A-2F5A-4446-8C95-1FB4033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71D5-5A88-4E03-B377-5B1DDBF2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1916-C358-4A64-9213-FBA778FB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2FA5-8A72-4737-8B6D-E2FAF711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823-1360-4A69-A8C2-38BC76AE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4EA-2A3E-482C-A402-E6330E3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190C-2BE2-4A1F-ADDD-C46E435C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F6E-E971-45DF-A3B8-20C6100F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3D3-4BE4-4B78-8E84-B64F28A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D65-357E-4A18-863D-5A385CE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6D0-7721-4BD9-B31E-2AA247AD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BAF5-58AF-4DFE-988F-BFACB10C3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A8F4-B0DA-42E2-9235-D4DACAA58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7408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«Мода – зеркало стиля эпохи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456000" cy="511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77920" y="1557360"/>
            <a:ext cx="4508280" cy="5111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Эпоха Возрождения (Франция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41360" y="1557360"/>
            <a:ext cx="3892680" cy="496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925880" y="1484280"/>
            <a:ext cx="42181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4857480" cy="15506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22880" y="404640"/>
            <a:ext cx="39211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09624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Романтизм (1830-1860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480200" cy="511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2719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4511880" cy="836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Русский костю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89680" y="260280"/>
            <a:ext cx="3154320" cy="4365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3219480"/>
            <a:ext cx="18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908000" y="1268280"/>
            <a:ext cx="4065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9280" y="333360"/>
            <a:ext cx="4284720" cy="968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Костюм (20 век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4080" y="260280"/>
            <a:ext cx="4397400" cy="6048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878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84360" y="115920"/>
            <a:ext cx="5664240" cy="792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Современная одежд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976480" cy="446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2958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3200" y="0"/>
            <a:ext cx="8740800" cy="907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Современная одежда разных стил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89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58920" y="1413000"/>
            <a:ext cx="7732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050920" y="0"/>
            <a:ext cx="6253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214880" cy="568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92720" y="907920"/>
            <a:ext cx="36082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4000" y="115920"/>
            <a:ext cx="5376960" cy="968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Древняя Грец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297320" cy="518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4067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456240" cy="981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Готический стиль (12век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43000" cy="566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3242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280" y="115920"/>
            <a:ext cx="5159160" cy="100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Стиль «Ампир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4397400" cy="5589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35440" y="1268280"/>
            <a:ext cx="44085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37992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Стиль «Роккоко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405320" cy="518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96000" y="1557360"/>
            <a:ext cx="3137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494352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Возрождение (7век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60280" y="1197000"/>
            <a:ext cx="4537080" cy="5661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16272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460840" y="2205000"/>
            <a:ext cx="3683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9760" y="0"/>
            <a:ext cx="7248600" cy="836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Эпоха Возрождения (18 век 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880920"/>
            <a:ext cx="3936960" cy="597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1197000"/>
            <a:ext cx="4365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28240"/>
            <a:ext cx="8523360" cy="896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Западноевропейское Возрождени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149640" cy="5183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164360" y="1052640"/>
            <a:ext cx="1809720" cy="5543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564000" y="148428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9:44:53Z</dcterms:created>
  <dc:creator>Mama</dc:creator>
  <dc:description/>
  <dc:language>en-US</dc:language>
  <cp:lastModifiedBy>Mama</cp:lastModifiedBy>
  <dcterms:modified xsi:type="dcterms:W3CDTF">2009-10-25T13:56:29Z</dcterms:modified>
  <cp:revision>4</cp:revision>
  <dc:subject/>
  <dc:title>Слайд 1</dc:title>
</cp:coreProperties>
</file>