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EE2C-3478-4A0F-B3B0-6347BC75A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14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E9D2-6342-484A-81E0-9E6CAE896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9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C6D5-7BB8-41D7-AF68-364BD14F6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676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596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820F-F023-49D0-85D4-B63A0319E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24B5-C06F-4142-AA8E-F2E1EAD28C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9352-C0E7-4FD3-B7C4-BD37CF08BC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825C-FD48-4F0E-AB79-42E34A5329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79AD-141A-42AD-AC99-60D81FC198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9AF1-3020-4605-943F-6BC21090DE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247F-E628-4E28-9B40-4B7C5D2FD2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7556-598B-47C4-BDD4-E9D8E60CE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386F-FD03-415A-9178-2155CD2C9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89CF-2F26-4FD3-841D-1BED6C47A7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C279-56A1-4048-B8E6-F06288A619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14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9D4D2-9A43-4454-BAA2-28118AB16B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0458-BD5E-44DE-B1F9-79BFDFF8DF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676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596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BCB5-B935-4369-A643-B862AEDBF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3910-2AAC-421F-8267-DE5B92106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BF42-9DA5-4765-84BC-E82698845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E11B-E184-419C-9332-4770F245C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C358-F2BB-400F-AD4D-758F30F57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1B10-3E62-4AF9-B093-95A5A2204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9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1431-88F3-41DE-AA3B-33B22C389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5AC1-47D2-4C5F-9B03-7D88C9E8C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8c79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243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1F936-F095-4FED-B92F-73D042E32E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8c79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243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5C3155-793A-4C41-80E4-B86E4F9698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8467" r="38151" b="0"/>
          <a:stretch/>
        </p:blipFill>
        <p:spPr>
          <a:xfrm>
            <a:off x="0" y="928800"/>
            <a:ext cx="4857840" cy="592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00160" y="4287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БОУ СОШ №8 п.Крутобереж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29120" y="600084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одготовил ученик 10 клас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ухлыгин Андр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7840" y="928800"/>
            <a:ext cx="428616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89000"/>
            <a:ext cx="8291520" cy="62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Чтобы умело руководить войсками, командные кадры должны иметь хорошие знания по математике, уметь широко использовать вычислительные средства. В современной армии не только командиру, но и солдату нужно владеть основ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электротехник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радиотехники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компьютер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технолог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48360" y="3419640"/>
            <a:ext cx="34560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«Где нет знаний, там нет побед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01800" y="2422440"/>
            <a:ext cx="7702560" cy="3541680"/>
            <a:chOff x="901800" y="2422440"/>
            <a:chExt cx="7702560" cy="35416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901800" y="2422440"/>
              <a:ext cx="770256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901800" y="2422440"/>
              <a:ext cx="7702560" cy="35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627280" y="189000"/>
            <a:ext cx="63374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Важнейшим фактором, приближавшим победу нашего народа, следует считать решения важных прикладных задач, которые  осуществили  в предвоенные годы и в годы войны советские математи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000" y="1628640"/>
            <a:ext cx="2325600" cy="4176720"/>
            <a:chOff x="324000" y="1628640"/>
            <a:chExt cx="2325600" cy="41767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324000" y="1628640"/>
              <a:ext cx="232560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24000" y="1628640"/>
              <a:ext cx="2325600" cy="41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189000"/>
            <a:ext cx="5761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Почти каждая деталь военного оборудования, обмундирования, военные материалы, медикаменты – все это несло на себе отпечаток предварительной научно – технической мысли и обработки. В значительной части техническая мысль выражалась первоначально на математическом язы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12000" y="765000"/>
            <a:ext cx="2938320" cy="5112000"/>
            <a:chOff x="6012000" y="765000"/>
            <a:chExt cx="2938320" cy="51120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012000" y="765000"/>
              <a:ext cx="2938320" cy="51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012000" y="765000"/>
              <a:ext cx="2938320" cy="51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1557360"/>
            <a:ext cx="76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Математики помогали успешно решать важнейшие практические вопросы освоение природных богатств, проблемы, связанные с созданием новой совершенной военной техники, с увеличением выпуском танков, самолетов и другой продукции, в которой так нуждался фро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32000" y="115920"/>
            <a:ext cx="6119640" cy="1682640"/>
            <a:chOff x="1332000" y="115920"/>
            <a:chExt cx="6119640" cy="16826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1332000" y="115920"/>
              <a:ext cx="611964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332000" y="115920"/>
              <a:ext cx="611964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2421000"/>
            <a:ext cx="8424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Советские математики разрабатывали вопросы аэродинамики в связи с увеличением  скоростей боевых самолетов и их маневренности , вопросы баллистики, теории полета реактивных снарядов, теории колебаний и устойчивости движения, автоматического регулирова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40000" y="260280"/>
            <a:ext cx="3744720" cy="2176560"/>
            <a:chOff x="2340000" y="260280"/>
            <a:chExt cx="3744720" cy="21765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2340000" y="260280"/>
              <a:ext cx="37447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340000" y="260280"/>
              <a:ext cx="374472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843280" y="333360"/>
            <a:ext cx="6049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М.А. Лаврентьев применил новые математические методы при разработке следующих теорий: крыла, удара тел о воду, струй, волн, устойчивости стержней, взры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9640" y="1916280"/>
            <a:ext cx="1994040" cy="3168360"/>
            <a:chOff x="539640" y="1916280"/>
            <a:chExt cx="1994040" cy="31683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39640" y="1916280"/>
              <a:ext cx="199404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39640" y="1916280"/>
              <a:ext cx="1994040" cy="31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77151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М.В. Келдыш выполнил исследования по устранению разного рода вибрации в самолете. Авиаторы столкнулись с грозным явлением, которое возникало в самолетах, достигших больш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скоростей, - флаттер, самовозбуждающие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вибрации в мотора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которые часто вызыв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катастрофы в воздух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156360" y="3141720"/>
            <a:ext cx="2076480" cy="3166920"/>
            <a:chOff x="6156360" y="3141720"/>
            <a:chExt cx="2076480" cy="31669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6156360" y="3141720"/>
              <a:ext cx="207648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156360" y="3141720"/>
              <a:ext cx="207648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404640"/>
            <a:ext cx="82296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В.В. Степанов выполнил математический расчет динамики взвешенных частиц, позволивший определять наиболее поражаемые места лопастей вентиляторов турб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Х.А. Рахматулин реши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задачу об устойчив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формы аэрост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воздушного загражде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а так же прочности тро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аэроста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940360" y="2637000"/>
            <a:ext cx="2616120" cy="2879640"/>
            <a:chOff x="5940360" y="2637000"/>
            <a:chExt cx="2616120" cy="287964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940360" y="2637000"/>
              <a:ext cx="261612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940360" y="2637000"/>
              <a:ext cx="261612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68360" y="333360"/>
            <a:ext cx="662472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901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a26d18"/>
                </a:solidFill>
                <a:latin typeface="Times New Roman"/>
              </a:rPr>
              <a:t>Н.А Глаголев занимался проблемами оптимального размещения зенитных батарей вокруг Москв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901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a26d18"/>
                </a:solidFill>
                <a:latin typeface="Times New Roman"/>
              </a:rPr>
              <a:t>Л.В. Канторович предложил методы рационального раскроя металла и применения теории вероятностей к задачам оборонного значения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24000" y="1413000"/>
            <a:ext cx="2101680" cy="3311280"/>
            <a:chOff x="324000" y="1413000"/>
            <a:chExt cx="2101680" cy="331128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210168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24000" y="1413000"/>
              <a:ext cx="2101680" cy="33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7:34:15Z</dcterms:created>
  <dc:creator/>
  <dc:description/>
  <dc:language>en-US</dc:language>
  <cp:lastModifiedBy/>
  <cp:revision>1</cp:revision>
  <dc:subject/>
  <dc:title>Математика и оборона нашей страны</dc:title>
</cp:coreProperties>
</file>