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6E42-CB0B-4310-924C-1B3D59B63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14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A423-344A-4122-A4CE-682C0F6FD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9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336D-971C-4FC9-8540-3556C562E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676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596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64B8-2CC1-4E87-AB43-5AF271FBC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30844-6F6A-4340-B8D5-F85B2DFF0D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C7B8-10D9-4CDD-BDEB-46F0EE14B3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1C22-9453-4E28-90F6-E8C4F2971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066E-0CB2-4AB0-A703-21B3D7F140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9863-61CC-44C2-A8AF-8AF4835914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2774-F3D2-4B61-98D8-6FC06B055F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B2EE-436E-4066-9A54-22A20BAE1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5B9B-F466-48B7-AE28-123794294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F6D1-705E-41EC-BBAF-9DCFB805E1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F957-2D22-4E3A-98D7-073A22FC49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14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1E24-C29C-4227-8282-82877172A3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E9FF-B8E6-43F2-B4ED-5C7D4DE7DE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61440"/>
            <a:ext cx="26467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8392-2C85-4A3C-8261-C157FD6FD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E9BE-CC58-49DA-8B79-93222B3F1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CC0E-BB7E-496A-AD8F-C44D92B09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4314-6A34-44A1-87B3-99B40E141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F471-5748-4262-9534-BE2C449C9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2C5E-7B26-40D4-BC88-0B3FB1FB8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9200" y="39614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C252-75DF-4487-9D3D-7B2D51042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1440"/>
            <a:ext cx="82202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847B-B8E9-48F2-BF43-6A39C36F8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8c79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1F865-1455-4C27-B02B-0A7B6E7DDF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8c79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243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CF0633-145F-44CE-98B7-839C691AB0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8467" r="38151" b="0"/>
          <a:stretch/>
        </p:blipFill>
        <p:spPr>
          <a:xfrm>
            <a:off x="0" y="928800"/>
            <a:ext cx="4857840" cy="592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00160" y="4287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БОУ СОШ №8 п.Крутобереж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29120" y="600084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одготовил ученик 10 клас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Мухлыгин Анд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7840" y="928800"/>
            <a:ext cx="428616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89000"/>
            <a:ext cx="829152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Чтобы умело руководить войсками, командные кадры должны иметь хорошие знания по математике, уметь широко использовать вычислительные средства. В современной армии не только командиру, но и солдату нужно владеть основ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электротехник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радиотехники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компьютер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a26d18"/>
                </a:solidFill>
                <a:latin typeface="Georgia"/>
              </a:rPr>
              <a:t>технолог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8360" y="3419640"/>
            <a:ext cx="34560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«Где нет знаний, там нет побе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01800" y="2422440"/>
            <a:ext cx="7702560" cy="3541680"/>
            <a:chOff x="901800" y="2422440"/>
            <a:chExt cx="7702560" cy="35416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901800" y="2422440"/>
              <a:ext cx="770256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901800" y="2422440"/>
              <a:ext cx="7702560" cy="35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27280" y="189000"/>
            <a:ext cx="6337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Важнейшим фактором, приближавшим победу нашего народа, следует считать решения важных прикладных задач, которые  осуществили  в предвоенные годы и в годы войны советские математи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1628640"/>
            <a:ext cx="2325600" cy="4176720"/>
            <a:chOff x="324000" y="1628640"/>
            <a:chExt cx="2325600" cy="41767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24000" y="1628640"/>
              <a:ext cx="232560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24000" y="1628640"/>
              <a:ext cx="2325600" cy="41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189000"/>
            <a:ext cx="576108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Почти каждая деталь военного оборудования, обмундирования, военные материалы, медикаменты – все это несло на себе отпечаток предварительной научно – технической мысли и обработки. В значительной части техническая мысль выражалась первоначально на математическом язы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12000" y="765000"/>
            <a:ext cx="2938320" cy="5112000"/>
            <a:chOff x="6012000" y="765000"/>
            <a:chExt cx="2938320" cy="51120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012000" y="765000"/>
              <a:ext cx="293832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012000" y="765000"/>
              <a:ext cx="2938320" cy="51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1557360"/>
            <a:ext cx="76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Математики помогали успешно решать важнейшие практические вопросы освоение природных богатств, проблемы, связанные с созданием новой совершенной военной техники, с увеличением выпуском танков, самолетов и другой продукции, в которой так нуждался фро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32000" y="115920"/>
            <a:ext cx="6119640" cy="1682640"/>
            <a:chOff x="1332000" y="115920"/>
            <a:chExt cx="6119640" cy="16826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332000" y="115920"/>
              <a:ext cx="611964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32000" y="115920"/>
              <a:ext cx="611964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2421000"/>
            <a:ext cx="8424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Советские математики разрабатывали вопросы аэродинамики в связи с увеличением  скоростей боевых самолетов и их маневренности , вопросы баллистики, теории полета реактивных снарядов, теории колебаний и устойчивости движения, автоматического регулирова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40000" y="260280"/>
            <a:ext cx="3744720" cy="2176560"/>
            <a:chOff x="2340000" y="260280"/>
            <a:chExt cx="3744720" cy="21765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2340000" y="260280"/>
              <a:ext cx="37447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340000" y="260280"/>
              <a:ext cx="374472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843280" y="333360"/>
            <a:ext cx="6049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М.А. Лаврентьев применил новые математические методы при разработке следующих теорий: крыла, удара тел о воду, струй, волн, устойчивости стержней, взры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9640" y="1916280"/>
            <a:ext cx="1994040" cy="3168360"/>
            <a:chOff x="539640" y="1916280"/>
            <a:chExt cx="1994040" cy="31683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39640" y="1916280"/>
              <a:ext cx="199404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39640" y="1916280"/>
              <a:ext cx="1994040" cy="31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771516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М.В. Келдыш выполнил исследования по устранению разного рода вибрации в самолете. Авиаторы столкнулись с грозным явлением, которое возникало в самолетах, достигших больш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скоростей, - флаттер, самовозбуждающие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вибрации в мотора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которые часто вызыв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катастрофы в воздух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156360" y="3141720"/>
            <a:ext cx="2076480" cy="3166920"/>
            <a:chOff x="6156360" y="3141720"/>
            <a:chExt cx="2076480" cy="31669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6156360" y="3141720"/>
              <a:ext cx="207648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56360" y="3141720"/>
              <a:ext cx="207648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404640"/>
            <a:ext cx="82296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В.В. Степанов выполнил математический расчет динамики взвешенных частиц, позволивший определять наиболее поражаемые места лопастей вентиляторов турби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Х.А. Рахматулин реши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задачу об устойчив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формы аэрост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воздушного загражде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а так же прочности тро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аэрос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40360" y="2637000"/>
            <a:ext cx="2616120" cy="2879640"/>
            <a:chOff x="5940360" y="2637000"/>
            <a:chExt cx="2616120" cy="28796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940360" y="2637000"/>
              <a:ext cx="261612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40360" y="2637000"/>
              <a:ext cx="261612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9d7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68360" y="333360"/>
            <a:ext cx="662472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a26d18"/>
                </a:solidFill>
                <a:latin typeface="Times New Roman"/>
              </a:rPr>
              <a:t>Н.А Глаголев занимался проблемами оптимального размещения зенитных батарей вокруг Москв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a26d18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a26d18"/>
                </a:solidFill>
                <a:latin typeface="Times New Roman"/>
              </a:rPr>
              <a:t>Л.В. Канторович предложил методы рационального раскроя металла и применения теории вероятностей к задачам оборонного значения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4000" y="1413000"/>
            <a:ext cx="2101680" cy="3311280"/>
            <a:chOff x="324000" y="1413000"/>
            <a:chExt cx="2101680" cy="331128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210168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24000" y="1413000"/>
              <a:ext cx="2101680" cy="33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7:34:15Z</dcterms:created>
  <dc:creator/>
  <dc:description/>
  <dc:language>en-US</dc:language>
  <cp:lastModifiedBy/>
  <cp:revision>1</cp:revision>
  <dc:subject/>
  <dc:title>Математика и оборона нашей страны</dc:title>
</cp:coreProperties>
</file>