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A609-0B9A-4744-A890-077A1C0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BE2B-9BE6-4336-BCFE-A0F72424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D6DB-DA4D-4D12-A6AD-1EBFCCDB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5776-B36D-4B33-BBA0-B6E7DBED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95E-3D72-401D-84E3-072F8B02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A6D0-7F08-4F84-930A-3F45F72B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366D-4BBA-489F-8E6C-24A8AFA3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8E22-0C44-40C6-A6FF-BDA87D1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3980-04F2-4C5E-9D61-1E51388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6F01-F9D9-4BEA-8F6C-B82EF02D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ECD3-77B6-4698-83D1-A80CC66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CF4A8-D3F6-4138-B539-34043D5B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9545-E439-485E-AB1E-1DDCFD4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4F4-32F9-4497-8800-65ECB16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5602-3E4D-4B06-A4DB-E1A4F08A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F3B-E5D2-443E-B79B-1197AD41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755-AE99-4AFE-939A-B7A1D3C5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1C929-E7FD-4932-B27F-7529F355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03A81-D4F3-420A-A41D-BCB17ED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8E257-FCF2-4CAC-86C7-5A7EF25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09F21-E6AF-445B-B3EC-9025C40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EC0F4-0946-4FDC-8701-FB9D7BC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8641-DD4B-4DBC-8276-B8862EE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87723-3EB3-4636-8E48-ED19DC8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4FB47-CE72-4D41-9090-476ADF6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CD8E8-D11F-4AE7-A0F4-C3466D4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8E963-B092-48E1-BE85-C8B6C3B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DDBF2-576B-43EB-88F7-F0120F5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F5D5E-F2B2-48D2-9291-5F73F51D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33648-F99D-4B54-A85D-2ACB0D8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53E1-7343-4140-837F-FFB32A30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B1BA-1C7D-44A2-9C5F-7F4A19E1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1F8E-98F3-4C41-AD57-218A19F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8515E-A102-4E95-BE72-1CFD9CFA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9489-245E-48D5-A57B-D1CEA1A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9E5B-CC8F-44AB-AF3E-D1BCA4D1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7CE9-612A-4635-9198-52278F95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FDD80-A8FD-4F7D-90E8-A719152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3258-AF8D-4EB0-B774-266E90A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06F8-CE9E-41CF-A225-1025AB5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B9E2-F501-438D-ACDE-06326AA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E0FF-6C1A-4503-8E51-41E04199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D74CB-6F8D-422F-8983-F08CAF68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983C-B0B1-422D-859E-E836AA06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92E9D-4D15-4561-A08A-D1538B1F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8A7C-084D-4939-81AF-AFB73EAF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CDCD-785D-47A3-8C6F-29196D27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5EE8-9030-437C-87D1-86227156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89E9-81C5-44CA-880D-69BB977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C693-9F05-416F-869D-7607D247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5B68-DF0D-4845-B141-D87B196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A32A-5DCE-4BD1-98D0-43CA6C4C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A5EF-ED0D-4C5C-8B66-2E79DA2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E5CA-A4DC-4985-B6B4-F453735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522EE-564A-46DC-980E-BD41F053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F64D-99FB-4CE0-B5CA-F687D57D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CAF4-DE20-4DAF-972D-1BA24E7C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F8A0-CA5A-4795-A8D1-54C35223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3552A-579C-4CEC-BB4E-056FF04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6A9EC-478B-41B9-8F91-8847B05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7556-37AE-405D-8B02-8F88D95C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2C4C-E584-4E0F-A166-8A023FAC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6258-3274-4F33-8F52-447AF707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9CF2-94CC-44BB-97F1-53AA68C9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604A2-63CB-4A70-9B11-9CC81B44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7516-6D25-41A6-843B-7650ED5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02BE-791B-4709-9CE5-CE8C8B3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D2AE7-EBA9-4F9A-A45A-E446F8B0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B0CD-5F53-4180-AC71-D20A8A3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738D7-F770-44F4-8639-0D01C639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701C-D222-4179-A908-CC11E05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B6E1-49EC-457B-B2E9-A7E7FA7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A0CA-F136-46E9-A055-4F4E48AE2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64B6-C79D-438A-8185-67C65D8EEC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3EBB-C4B1-4965-9FC6-05FD227499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37A0-1CA2-4347-970E-F89C53339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5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6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08C-DC87-476A-8307-AE741F09C3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3D5-3AD5-4C79-9FBB-BADF7F6DC4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НОД И Н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знания по теме «Делитель и крат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понятиями НОД и НОК, способами нахождения НОД и 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епить с помощью упраж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 усвоение нов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сти итог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ать 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ормы оцен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              оценка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                оценка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                оценка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2340000" y="206064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2340000" y="3213000"/>
            <a:ext cx="50328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2340000" y="436572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нахождения Н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делители каждого из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общие дел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Н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лгоритм нахождения Н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7 кратных для кажд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общие кра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ка самостоятельн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57200" y="1981080"/>
          <a:ext cx="8229600" cy="4048200"/>
        </p:xfrm>
        <a:graphic>
          <a:graphicData uri="http://schemas.openxmlformats.org/drawingml/2006/table">
            <a:tbl>
              <a:tblPr/>
              <a:tblGrid>
                <a:gridCol w="1378080"/>
                <a:gridCol w="936360"/>
                <a:gridCol w="1008360"/>
                <a:gridCol w="1008000"/>
                <a:gridCol w="1008000"/>
                <a:gridCol w="1008000"/>
                <a:gridCol w="936720"/>
                <a:gridCol w="9460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.6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3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асибо за урок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8:23:19Z</dcterms:created>
  <dc:creator>Ирина</dc:creator>
  <dc:description/>
  <dc:language>en-US</dc:language>
  <cp:lastModifiedBy>Ирина</cp:lastModifiedBy>
  <dcterms:modified xsi:type="dcterms:W3CDTF">2012-12-12T19:46:20Z</dcterms:modified>
  <cp:revision>22</cp:revision>
  <dc:subject/>
  <dc:title>Тема  урока: </dc:title>
</cp:coreProperties>
</file>