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A1726-27A6-48FE-B492-3671C13B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D260-6C15-4DFE-83E3-83BC7C34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F671-B1FF-49AC-9DE1-EC77AFA5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8888-57C6-4284-BE3A-687BD0A5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96EA-5D96-4159-89E6-F5D2A6CE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D8BE-501D-4C0C-9B99-AB6C35CA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45C5-1C6D-4CF0-92C8-A8EE3D6B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A4D3-2AEB-4438-8FAB-3E2F9C38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83B0-ABD8-4136-9206-DBABD18A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1BF5-4D63-410F-AF21-AC12A5C1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8B1F-3BBF-4B33-B0D7-84AC51D1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05FA-9129-46AE-9EF1-1090A15F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10F2-E651-4B54-8563-6A323899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9FCC-FBE0-4936-9288-3A2CA207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F792-7567-46AD-B440-7A24CD20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2550-FAA5-4E01-8CF1-4D436EA2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9520-130B-4FD4-83EB-CB3B08D7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4701E-3B4B-4EC3-91E3-312B7EAE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0E86B-05FC-4685-B3BA-BA26560C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85AA9-F046-430C-B39B-708F1555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4E300-2303-4A65-AD90-DEBE4BC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7B72D-BF98-4394-B9A5-2B48A295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15B4-3516-4674-B298-AF8F229D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E3B28-8A36-4FB4-B807-BF84986A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721C2-6D23-4751-A31C-55C9F357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9D254-DF85-4969-B4D9-0AEF20F3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40585-98B7-456A-A51A-19B413C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2DC19-D04F-4A9D-AF3D-4140BFCE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C011F-271B-4550-8B24-20855932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85492-7FE5-49EC-8D48-638D731A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1B93-BB24-488F-8345-681A7388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EF675-FBE2-4AFA-A2AF-E6F28F3B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7B8B-0D30-4F3C-8422-57D6B9B8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43C5-9179-4D51-9DB9-A6154DC9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5C440-E090-4971-8313-FFE20EBE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B3FAA-EAFC-4276-8D71-F29B79B6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E8DDF-566A-4AFF-8A14-35FBA167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F190E-A431-42FC-98CB-AF981A90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C1FD-A05C-4BE5-A356-934471A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C9B4-78D4-479D-8025-507E163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09FA-3F2B-4ADD-862F-168F65E3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4C7DA-C5B0-45E9-9C6E-155CBE40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18D11-F3DB-41C5-B21D-58C6CE39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04A7A-3636-4693-A50F-AA636DAD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BFD9-465A-4020-91E9-4CB8A0C5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7A0CE-C7C0-4839-B646-79FD7714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5AA45-F391-4BFA-9665-81CD5C22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520DF-7B76-47A0-8E6F-AF72911B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3B7D1-D8B8-48E0-A85F-D32D82D8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B71DC-30C5-42AA-A87B-3919A567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3FF01-5490-4B21-B950-D6FEBA3D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C25A5-C56C-48CF-AA35-59BBF524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DD94-37DF-463E-9C84-A0D2B01A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2C36A-D27C-4380-A19D-E03F0AAA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9F95B-58B4-4E8A-924D-DBD93983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6CFC-8961-46C7-9762-F3C38D63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4B100-2483-4690-8521-1BD08851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548DA-C08B-4F47-A91B-E2CDE92A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A67FA-98CC-41E8-94FF-27EC50A7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F0739-6791-4440-A4FA-AB8FD8AB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5B358-E4BB-4CF1-BB0A-C0E6DF3F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9CE17-CE82-4E03-9F02-064EA5CD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3450-79E0-4A7A-8DCE-3CD5EDE3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9B2E-CD4E-40B3-82EC-0CD95961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C869B-E656-404E-8D26-1BEA452C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3C985-74F0-4431-9553-0BE9767F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2446-66BF-45CF-ABB0-46668E31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61187-FBFE-41AF-A97F-27EE748F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6249E-C90B-439E-9AB5-4D390DD0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5EFB-4631-4FA2-ACCB-B13F0DE6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1396-6415-4270-88ED-0E90D61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A0AE1-2340-45DC-80A2-7A56E676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55F4-32AB-4995-A6AD-A6231A5DB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E655-CE8F-4693-816C-3F6B508F03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81B1-0F3E-4A9F-9292-4F1C8768AE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60DC-20F7-41ED-AE1E-7237CB6CF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F78E-D46B-41D6-A17E-19E64DF584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8BB5-8EA7-48A0-9DC4-0A29DE87AC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НОД И НО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ь знания по теме «Делитель и кратн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понятиями НОД и НОК, способами нахождения НОД и 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епить с помощью упраж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ь усвоение нов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сти итог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исать домашне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рмы оцен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              оценка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                оценка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                оценка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2340000" y="2060640"/>
            <a:ext cx="5032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6"/>
          <p:cNvSpPr/>
          <p:nvPr/>
        </p:nvSpPr>
        <p:spPr>
          <a:xfrm>
            <a:off x="2340000" y="3213000"/>
            <a:ext cx="50328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7"/>
          <p:cNvSpPr/>
          <p:nvPr/>
        </p:nvSpPr>
        <p:spPr>
          <a:xfrm>
            <a:off x="2340000" y="4365720"/>
            <a:ext cx="5032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 нахождения Н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делители каждого из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исать общие дел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Н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 нахождения Н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исать 7 кратных для каждого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исать общие кра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ка самостоятельн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57200" y="1981080"/>
          <a:ext cx="8229600" cy="4048200"/>
        </p:xfrm>
        <a:graphic>
          <a:graphicData uri="http://schemas.openxmlformats.org/drawingml/2006/table">
            <a:tbl>
              <a:tblPr/>
              <a:tblGrid>
                <a:gridCol w="1378080"/>
                <a:gridCol w="936360"/>
                <a:gridCol w="1008360"/>
                <a:gridCol w="1008000"/>
                <a:gridCol w="1008000"/>
                <a:gridCol w="1008000"/>
                <a:gridCol w="936720"/>
                <a:gridCol w="9460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.6.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3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асибо за урок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8:23:19Z</dcterms:created>
  <dc:creator>Ирина</dc:creator>
  <dc:description/>
  <dc:language>en-US</dc:language>
  <cp:lastModifiedBy>Ирина</cp:lastModifiedBy>
  <dcterms:modified xsi:type="dcterms:W3CDTF">2012-12-12T19:46:20Z</dcterms:modified>
  <cp:revision>22</cp:revision>
  <dc:subject/>
  <dc:title>Тема  урока: </dc:title>
</cp:coreProperties>
</file>