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40E-4420-46FC-A8A7-27DCC54D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544-EF58-4D84-B4C2-0F336E0A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D43F-69D9-4B0F-A5FC-FEEC99B7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5DC-A7DF-42B5-A5DB-4CF8BA4F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E06D-64AB-417E-AB32-F9954503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93AB-0AF0-44C9-B7AC-C75AAD18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3971-8F87-4A6E-B088-471C16C6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C058-5165-41F1-81E7-22DDC56A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C4F2-62BA-440A-8E20-E261BFE1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7D94-E5EE-4CBC-B5A1-2D2755BE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E7B1-B88A-4855-9C42-9318AD27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252F-1685-40C1-A8A5-30D750FE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9549-F1E5-41A1-B1C7-2C64BBEE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8BDC-5646-44DA-A508-C4C2DB1F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FE00-FC80-4070-A183-169A2EF1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3CE1-1E7B-44DA-B198-1DB456EA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7E8C-6B5B-487E-8BC5-45B3514D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A1B-C386-4503-A2D0-FBE04676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B94-6140-48F3-AE60-90FA6917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156-D2D6-4310-A118-324A1B43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AA4-700D-48A0-AE4E-B1743317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09A-0269-4C63-9116-0789A394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528-13EC-424C-816C-26415D34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DF2-7225-4BFD-9C6C-B8B3EDF9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417F-0305-4CFF-87C1-82BA846A84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3E3F-A667-450C-B51F-7C62C51D4036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226360" cy="493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ЯЗАНИЕ НА ПЯТИ СПИЦАХ</a:t>
            </a:r>
            <a:br>
              <a:rPr sz="4800"/>
            </a:br>
            <a:br>
              <a:rPr sz="4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ЯЗАНИЕ  НОСКОВ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ыполнила  презентацию к уроку «Технология»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Писарева Дарья ученица 8 класса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Проверила учитель технологии  Третьякова О.В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МНБОУ «Лицей  №76»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город Новокузнецк , Кемеровская область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се наши носки и гольфы связаны по одним правилам, с помощью которых вы быстро приобретете необходимые навыки и сможете перейти к более сложным узор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907920" y="1447920"/>
            <a:ext cx="3380040" cy="5181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09480" y="2286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Общие правила вязания носков, которые помогут вам связать любую модел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авильно измерить и рассчитать размер носка можно по следующей формуле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азмер ноги разделить на 3 и умножить на 2 = длина ступни в сантиметра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мер: 42 : 3 х 2 = 28, т. е. размеру обуви 42 соответствует длина ступни 28 см.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8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889080" cy="54864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6360" cy="717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рассчитать размер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где находится у нос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410080" y="16002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5715000" cy="54864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9"/>
          <p:cNvSpPr/>
          <p:nvPr/>
        </p:nvSpPr>
        <p:spPr>
          <a:xfrm>
            <a:off x="2743200" y="1219320"/>
            <a:ext cx="2819520" cy="5638680"/>
          </a:xfrm>
          <a:prstGeom prst="rect">
            <a:avLst/>
          </a:prstGeom>
          <a:solidFill>
            <a:srgbClr val="6b6b99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5486400" y="4191120"/>
            <a:ext cx="3657600" cy="2666880"/>
          </a:xfrm>
          <a:prstGeom prst="rect">
            <a:avLst/>
          </a:prstGeom>
          <a:solidFill>
            <a:srgbClr val="6b6b99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5030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а = резинка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Ь = верхняя часть носка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 = стенка пятки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ятка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е = клин подъема стопы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= нижняя часть носка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= мысо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счет плотности вяз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осок должен плотно облегать ногу, не стягивая ее, иначе он будет плохо греть и быстро рватьс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з грубой шерсти можно вязать носки для спорта, а из тонкой домашние или нарядны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счет петель для носка производится по контрольному образцу основного узор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ля образца набирают 10 петел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змерьте объем ноги у щиколотк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дсчитайте число петель, необходимое для начала работ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Если количество петель не будет кратным 4-м, округлите число в большую или меньшую сторону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бор петель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пределив количество петель начального ряда, наберите их на 2 спицы, затем одну спицу удалите и, провязывая петли, равномерно распределите их на 4 спицы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ерхняя часть носка вяжется по кругу. Переход от ряда к ряду проходит по задней линии середины между 4-й и 1-й спицами. Это место легко узнать по свисающей нити наборного кра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1511" descr="Вязание"/>
          <p:cNvPicPr/>
          <p:nvPr/>
        </p:nvPicPr>
        <p:blipFill>
          <a:blip r:embed="rId1"/>
          <a:stretch/>
        </p:blipFill>
        <p:spPr>
          <a:xfrm>
            <a:off x="588960" y="1600200"/>
            <a:ext cx="3706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Верхняя часть носка с манжето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бы замкнуть петли 1-го р. в кольцо, продвиньте 4-ю спицу к 1 -й и провяжите петли 1 -й спицы резинкой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 переходе от ряда к ряду нить натяните и   1-ю п. провяжите плотно, чтобы в промежутке между петлями соседних спиц не образовалось слишком большое отверстие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7" descr="Вязание"/>
          <p:cNvPicPr/>
          <p:nvPr/>
        </p:nvPicPr>
        <p:blipFill>
          <a:blip r:embed="rId1"/>
          <a:stretch/>
        </p:blipFill>
        <p:spPr>
          <a:xfrm>
            <a:off x="609480" y="1600200"/>
            <a:ext cx="3824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енка пятк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876920" y="1598760"/>
            <a:ext cx="3805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вязав верхнюю часть носка желаемой длины, половину петель временно оставить (петли 2-й и 3-й спиц) и продолжить вязание рядами в прямом и обратном направлениях на петлях 1 -й и 4-й спиц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ля этого переведите соответствующие петли на одну спиц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7" descr="Вязание"/>
          <p:cNvPicPr/>
          <p:nvPr/>
        </p:nvPicPr>
        <p:blipFill>
          <a:blip r:embed="rId1"/>
          <a:stretch/>
        </p:blipFill>
        <p:spPr>
          <a:xfrm>
            <a:off x="92160" y="1447920"/>
            <a:ext cx="46130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ижняя часть пятк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86200" y="114264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Связав для стенки пятки необходимое количество рядов, начать вязание нижней части пятки. Для этого петли разделить на 3 части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В следующем лицевом ряду провязать лицевыми боковые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етли и петли средней част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оследнюю петлю средней части снять, как при лицевом вязании, следующую петлю боковой части провязать лицевой и протянуть через нее снятую петлю средней части. Повернуть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1 -ю п. средней части снять, как при изнаночном вязании, нить протянуть перед петлей и провязать петли средней части, за исключением последней, изнаночными. Последнюю петлю средней части и следующую петлю боковой части провязать вместе изнаночной. Повернуть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1 -ю п. средней части снять, как изнаночную, нить протянуть за петлей и провязать петли средней части, за исключением последней, лицевым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Эти убавки повторять до тех пор, пока не будут использованы все боковые петли и в работе не останутся только средние петл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Picture 7" descr="Вязание"/>
          <p:cNvPicPr/>
          <p:nvPr/>
        </p:nvPicPr>
        <p:blipFill>
          <a:blip r:embed="rId1"/>
          <a:stretch/>
        </p:blipFill>
        <p:spPr>
          <a:xfrm>
            <a:off x="152280" y="1905120"/>
            <a:ext cx="36576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оединение пятки со стопой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419360" y="1371600"/>
            <a:ext cx="4498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новь вязать на всех петлях лицевыми по кругу. Для этого провязать петли нижней части пятки, при этом распределить их равномерно на 2 спицы (= 4-я и 1 -я спицы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Затем 1 -й спицей набрать из каждой кромочной по боковому краю стенки пятки по 1 п. (1 п. на участке 2-х р.) и из протяжки между 1-й и 2-й спицами вывязать 1 лиц. скрещенную петлю. Затем провязать петли 2-й и 3-й спиц (верхняя часть стопы), из протяжки между 3-й и 4-й спицами вывязать 1 лиц. скрещенную петлю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Из кромочных по второму боковому краю стенки пятки набрать по 1 п. Провязать оставшиеся петли до задней линии середины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результате на 1 -й и 4-й спицах больше петель, чем на 2-й и 3-й спицах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Picture 7" descr="Вязание"/>
          <p:cNvPicPr/>
          <p:nvPr/>
        </p:nvPicPr>
        <p:blipFill>
          <a:blip r:embed="rId1"/>
          <a:stretch/>
        </p:blipFill>
        <p:spPr>
          <a:xfrm>
            <a:off x="228600" y="1752480"/>
            <a:ext cx="426708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лин подъема стоп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85840" y="1218960"/>
            <a:ext cx="5257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ля придания носку соответствующей формы необходимо убавить петли до их первоначального количества до начала вязания пятк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начала выполнить 2 р. на всех имеющихся петлях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следующем ряду 2-ю и 3-ю п. 1-й спицы провязать вместе лицевой, последнюю петлю провязать лицевой; на 4-й спице 1-ю п. провязать лицевой и две следующие петли с наклоном влево (1 п. снять, как при лицевом вязании, следующую петлю провязать лицевой и протянуть через нее снятую петлю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ти убавки повторять в каждом 3-м р. до тех пор, пока на каждой из 4-х спиц вновь не окажется петель столько, как перед началом вязания пятк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7" descr="Вязание"/>
          <p:cNvPicPr/>
          <p:nvPr/>
        </p:nvPicPr>
        <p:blipFill>
          <a:blip r:embed="rId1"/>
          <a:stretch/>
        </p:blipFill>
        <p:spPr>
          <a:xfrm>
            <a:off x="228600" y="2057400"/>
            <a:ext cx="36576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5032440" cy="6477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562720" y="380880"/>
            <a:ext cx="3581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История создания нос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язание является одним из самых старинных видов декоративно прикладного искусства, он существует более трех тысяч лет. Вязанные вещи были найдены в древних захоронениях Египта, Рима, Гре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От клина подъема стопы до мыск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9520" y="1523520"/>
            <a:ext cx="5334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 уменьшенном до первоначального количества петлях вязать до начала мыска лицевой гладью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ля упрощения подсчета рядов для вязания 2-го носка в каждом 5-м р. последнюю петлю 1-й спицы и первую петлю 4-й спицы можно провязывать изнаночными или каждый раз отмечать контрастной нитью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кончив прямую часть стопы, приступить к формированию мыск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7" descr="Вязание"/>
          <p:cNvPicPr/>
          <p:nvPr/>
        </p:nvPicPr>
        <p:blipFill>
          <a:blip r:embed="rId1"/>
          <a:stretch/>
        </p:blipFill>
        <p:spPr>
          <a:xfrm>
            <a:off x="304920" y="2209680"/>
            <a:ext cx="33400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Мысок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038120" y="1218960"/>
            <a:ext cx="4953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Мысок носка по желанию можно выполнить и контрастной нитью. На мыске с боковыми убавками формируются рельефные дорожки в виде сходящихся узких ленточек: на 1 -й и 2-й спицах находится по одинаковому количеству петель одной дорожки, на 3-й и 4-й спицах петли второй дорожки распределяются так же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Для убавок на 1 -й и 3-й спицах надо вязать, оставив в конце по 3 п., следующие 2 п. провязать вместе лицевой и последнюю лицевой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На 2-й и 4-й спицах 1 -ю п. провязать лицевой, 2 следующие петли провязать с наклоном влево (см."Клин подъема стопы"). Таким образом, в каждом ряду убавляется по 4 п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Убавки выполняются в определенном ритме, в 4-м, 3-м и 2-м р. и затем в каждом ряду до тех пор пока на спицах не останется 8 п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Эти петли стянуть двойной нитью, носок вывернуть, нить вывести на изнаночную сторону и прочно закрепить. Оставшиеся петли боковых дорожек можно также сшить швом "петля в петлю" с лицевой стороны изделия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7" descr="Вязание"/>
          <p:cNvPicPr/>
          <p:nvPr/>
        </p:nvPicPr>
        <p:blipFill>
          <a:blip r:embed="rId1"/>
          <a:stretch/>
        </p:blipFill>
        <p:spPr>
          <a:xfrm>
            <a:off x="304920" y="1905120"/>
            <a:ext cx="37638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ОВЕТ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59840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тобы при вязании на чулочных спицах по кругу при переходе от одной спицы к другой не образовывались вытянутые петли, две первые петли с новой спицы следует провязать как можно плотнее: расположите спицу с провязанными петлями так, чтобы ее конец находился над следующей спицей, и в таком положении провяжите две следующие петли. Для этого придержите ее вместе с новой спицей большим и указательным пальцами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Для вязания носков лучше всего выбрать прочную пряжу особой отделки, допускающую машинную стирку. Она не сваляется, а изделие сохранит первоначальную форму даже после многократных стирок. Кроме того, такие "критические" участки, как пятки и мыски, следует "усилить" прочной нитью, добавленной к основной пряже — тогда носки прослужат вам дольше </a:t>
            </a:r>
            <a:br>
              <a:rPr sz="24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Желаем удач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409720" y="91440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одной из гробниц фараонов был найден детский вязаный носок. Большой палец был вывязан отдельно, так как в то время носили обувь. Похожую на нашу пляжную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9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840200" cy="5867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5029200" cy="6095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876920" y="9140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еке вязание процветает на Востоке и примерно в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X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. Попадает в Европу, где до этого времени чулки шили из полотна и тонкой кожи. В Европе появляются вязаные чулки. Их носили и короли и их свит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3941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Испании вязаные чулки получили признание только в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XVI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., и английский король Генрих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II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лучил в качестве дорогого дара пару чулок ручной вязки. В те времена, как правило, вязанием занимались мужчины , а не женщин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4560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876920" y="837720"/>
            <a:ext cx="4037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1589 г. Гальвертонский священник Уильям Ли изобрел первую вязальную машину, но английская королева Елизавета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отказала ему в патенте, т.к. чулки связанные на этой машине, показались ей толще, сшитых из шелк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413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029200" y="60948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Ли перебрался во Францию и в г. Руане основал первую механическую трикотажную мастерскую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конце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XVIII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. во Франции изобрели круговую трикотажную машину., вязавшую полотно в виде трубы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710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486400" y="2362320"/>
            <a:ext cx="3657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улки, вязаные на машине, быстро вытеснили ручные изделия, так как были гораздо дешевле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8578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638320" y="1752480"/>
            <a:ext cx="3195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России носки появились лишь в 1815 году. Сначала их также изготавливали из шерсти и хлопка, а потом начали добавлять капроновые волокн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7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9784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03T09:11:1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