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D875-9C09-4E72-B584-9ACC3D7F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072E-6C52-4ED1-A36E-F40EA5E5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D538-3BBB-41F6-B0FD-6D99D780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DD79-9F98-4509-A8E4-F8016F42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7DF5-B2AD-4A51-B8B7-6CE65C16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470D-FCD8-4C19-82E0-A2104104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B5E7-DD85-4301-9D77-C1FCA1FC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9EF7-A4FF-43B6-BD31-67FB3C76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21D7-19E5-4428-A125-16CCB3AF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B219-24DA-461B-8DB1-0DBAC05F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FB3D-028F-467A-9E9B-6A01BD6D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8A69-FACE-4EE8-BBEE-763E91F2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84B2-53E2-4110-9B28-B880723B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6E25-B675-4DC1-B39C-5197675C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A40B-B1CA-4827-A39E-78BE5273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6CD3-7750-4944-84E6-7BB75BDC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E1C5-553A-41D4-8B84-4BD77D0D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4647-BC96-4FBC-A931-E00552EB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278A-2C8A-4180-9EAC-AE0231CF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D77C-38CD-499B-96A5-303F60D3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97F8-DDD6-49D7-AA97-D0382F96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4298-0EE4-471F-89BC-B7EC81A3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69D5-41D1-4E8C-AA45-E5EDB38F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AA04-BDDC-4B0D-81C1-EEECAA89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19D4-FDC5-4C7C-A05F-D975B1E278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F33A-28BA-4B18-8576-6817523ACC92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160" y="1066320"/>
            <a:ext cx="8226360" cy="493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ВЯЗАНИЕ НА ПЯТИ СПИЦАХ</a:t>
            </a:r>
            <a:br>
              <a:rPr sz="4800"/>
            </a:br>
            <a:br>
              <a:rPr sz="48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ВЯЗАНИЕ  НОСКОВ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Выполнила  презентацию к уроку «Технология»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Писарева Дарья ученица 8 класса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Проверила учитель технологии  Третьякова О.В.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МНБОУ «Лицей  №76»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город Новокузнецк , Кемеровская область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се наши носки и гольфы связаны по одним правилам, с помощью которых вы быстро приобретете необходимые навыки и сможете перейти к более сложным узорам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907920" y="1447920"/>
            <a:ext cx="3380040" cy="51814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609480" y="2286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Общие правила вязания носков, которые помогут вам связать любую модел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авильно измерить и рассчитать размер носка можно по следующей формуле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Размер ноги разделить на 3 и умножить на 2 = длина ступни в сантиметрах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имер: 42 : 3 х 2 = 28, т. е. размеру обуви 42 соответствует длина ступни 28 см.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Picture 8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3889080" cy="54864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26360" cy="717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 рассчитать размер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то где находится у нос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410080" y="16002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5715000" cy="54864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9"/>
          <p:cNvSpPr/>
          <p:nvPr/>
        </p:nvSpPr>
        <p:spPr>
          <a:xfrm>
            <a:off x="2743200" y="1219320"/>
            <a:ext cx="2819520" cy="5638680"/>
          </a:xfrm>
          <a:prstGeom prst="rect">
            <a:avLst/>
          </a:prstGeom>
          <a:solidFill>
            <a:srgbClr val="6b6b99"/>
          </a:solidFill>
          <a:ln w="9360">
            <a:solidFill>
              <a:srgbClr val="6b6b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5486400" y="4191120"/>
            <a:ext cx="3657600" cy="2666880"/>
          </a:xfrm>
          <a:prstGeom prst="rect">
            <a:avLst/>
          </a:prstGeom>
          <a:solidFill>
            <a:srgbClr val="6b6b99"/>
          </a:solidFill>
          <a:ln w="9360">
            <a:solidFill>
              <a:srgbClr val="6b6b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5030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а = резинка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Ь = верхняя часть носка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 = стенка пятки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d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=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ятка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е = клин подъема стопы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= нижняя часть носка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= мысок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счет плотности вяз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осок должен плотно облегать ногу, не стягивая ее, иначе он будет плохо греть и быстро рватьс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з грубой шерсти можно вязать носки для спорта, а из тонкой домашние или нарядны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счет петель для носка производится по контрольному образцу основного узор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ля образца набирают 10 петел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змерьте объем ноги у щиколотки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дсчитайте число петель, необходимое для начала работ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Если количество петель не будет кратным 4-м, округлите число в большую или меньшую сторону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Набор петель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пределив количество петель начального ряда, наберите их на 2 спицы, затем одну спицу удалите и, провязывая петли, равномерно распределите их на 4 спицы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ерхняя часть носка вяжется по кругу. Переход от ряда к ряду проходит по задней линии середины между 4-й и 1-й спицами. Это место легко узнать по свисающей нити наборного кра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1511" descr="Вязание"/>
          <p:cNvPicPr/>
          <p:nvPr/>
        </p:nvPicPr>
        <p:blipFill>
          <a:blip r:embed="rId1"/>
          <a:stretch/>
        </p:blipFill>
        <p:spPr>
          <a:xfrm>
            <a:off x="588960" y="1600200"/>
            <a:ext cx="3706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Верхняя часть носка с манжето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бы замкнуть петли 1-го р. в кольцо, продвиньте 4-ю спицу к 1 -й и провяжите петли 1 -й спицы резинкой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 переходе от ряда к ряду нить натяните и   1-ю п. провяжите плотно, чтобы в промежутке между петлями соседних спиц не образовалось слишком большое отверстие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Picture 7" descr="Вязание"/>
          <p:cNvPicPr/>
          <p:nvPr/>
        </p:nvPicPr>
        <p:blipFill>
          <a:blip r:embed="rId1"/>
          <a:stretch/>
        </p:blipFill>
        <p:spPr>
          <a:xfrm>
            <a:off x="609480" y="1600200"/>
            <a:ext cx="3824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тенка пятки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876920" y="1598760"/>
            <a:ext cx="3805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вязав верхнюю часть носка желаемой длины, половину петель временно оставить (петли 2-й и 3-й спиц) и продолжить вязание рядами в прямом и обратном направлениях на петлях 1 -й и 4-й спиц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ля этого переведите соответствующие петли на одну спиц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2" name="Picture 7" descr="Вязание"/>
          <p:cNvPicPr/>
          <p:nvPr/>
        </p:nvPicPr>
        <p:blipFill>
          <a:blip r:embed="rId1"/>
          <a:stretch/>
        </p:blipFill>
        <p:spPr>
          <a:xfrm>
            <a:off x="92160" y="1447920"/>
            <a:ext cx="46130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Нижняя часть пятки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86200" y="1142640"/>
            <a:ext cx="5105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Связав для стенки пятки необходимое количество рядов, начать вязание нижней части пятки. Для этого петли разделить на 3 части,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В следующем лицевом ряду провязать лицевыми боковые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етли и петли средней част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оследнюю петлю средней части снять, как при лицевом вязании, следующую петлю боковой части провязать лицевой и протянуть через нее снятую петлю средней части. Повернуть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1 -ю п. средней части снять, как при изнаночном вязании, нить протянуть перед петлей и провязать петли средней части, за исключением последней, изнаночными. Последнюю петлю средней части и следующую петлю боковой части провязать вместе изнаночной. Повернуть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1 -ю п. средней части снять, как изнаночную, нить протянуть за петлей и провязать петли средней части, за исключением последней, лицевым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Эти убавки повторять до тех пор, пока не будут использованы все боковые петли и в работе не останутся только средние петл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Picture 7" descr="Вязание"/>
          <p:cNvPicPr/>
          <p:nvPr/>
        </p:nvPicPr>
        <p:blipFill>
          <a:blip r:embed="rId1"/>
          <a:stretch/>
        </p:blipFill>
        <p:spPr>
          <a:xfrm>
            <a:off x="152280" y="1905120"/>
            <a:ext cx="36576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оединение пятки со стопой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419360" y="1371600"/>
            <a:ext cx="4498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новь вязать на всех петлях лицевыми по кругу. Для этого провязать петли нижней части пятки, при этом распределить их равномерно на 2 спицы (= 4-я и 1 -я спицы)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Затем 1 -й спицей набрать из каждой кромочной по боковому краю стенки пятки по 1 п. (1 п. на участке 2-х р.) и из протяжки между 1-й и 2-й спицами вывязать 1 лиц. скрещенную петлю. Затем провязать петли 2-й и 3-й спиц (верхняя часть стопы), из протяжки между 3-й и 4-й спицами вывязать 1 лиц. скрещенную петлю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Из кромочных по второму боковому краю стенки пятки набрать по 1 п. Провязать оставшиеся петли до задней линии середины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 результате на 1 -й и 4-й спицах больше петель, чем на 2-й и 3-й спицах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8" name="Picture 7" descr="Вязание"/>
          <p:cNvPicPr/>
          <p:nvPr/>
        </p:nvPicPr>
        <p:blipFill>
          <a:blip r:embed="rId1"/>
          <a:stretch/>
        </p:blipFill>
        <p:spPr>
          <a:xfrm>
            <a:off x="228600" y="1752480"/>
            <a:ext cx="426708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Клин подъема стопы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85840" y="1218960"/>
            <a:ext cx="5257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Для придания носку соответствующей формы необходимо убавить петли до их первоначального количества до начала вязания пятки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начала выполнить 2 р. на всех имеющихся петлях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следующем ряду 2-ю и 3-ю п. 1-й спицы провязать вместе лицевой, последнюю петлю провязать лицевой; на 4-й спице 1-ю п. провязать лицевой и две следующие петли с наклоном влево (1 п. снять, как при лицевом вязании, следующую петлю провязать лицевой и протянуть через нее снятую петлю)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Эти убавки повторять в каждом 3-м р. до тех пор, пока на каждой из 4-х спиц вновь не окажется петель столько, как перед началом вязания пятки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1" name="Picture 7" descr="Вязание"/>
          <p:cNvPicPr/>
          <p:nvPr/>
        </p:nvPicPr>
        <p:blipFill>
          <a:blip r:embed="rId1"/>
          <a:stretch/>
        </p:blipFill>
        <p:spPr>
          <a:xfrm>
            <a:off x="228600" y="2057400"/>
            <a:ext cx="365760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8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5032440" cy="64771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5562720" y="380880"/>
            <a:ext cx="35812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История создания нос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язание является одним из самых старинных видов декоративно прикладного искусства, он существует более трех тысяч лет. Вязанные вещи были найдены в древних захоронениях Египта, Рима, Гре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От клина подъема стопы до мыска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9520" y="1523520"/>
            <a:ext cx="5334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 уменьшенном до первоначального количества петлях вязать до начала мыска лицевой гладью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ля упрощения подсчета рядов для вязания 2-го носка в каждом 5-м р. последнюю петлю 1-й спицы и первую петлю 4-й спицы можно провязывать изнаночными или каждый раз отмечать контрастной нитью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кончив прямую часть стопы, приступить к формированию мыск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Picture 7" descr="Вязание"/>
          <p:cNvPicPr/>
          <p:nvPr/>
        </p:nvPicPr>
        <p:blipFill>
          <a:blip r:embed="rId1"/>
          <a:stretch/>
        </p:blipFill>
        <p:spPr>
          <a:xfrm>
            <a:off x="304920" y="2209680"/>
            <a:ext cx="33400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Мысок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038120" y="1218960"/>
            <a:ext cx="4953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Мысок носка по желанию можно выполнить и контрастной нитью. На мыске с боковыми убавками формируются рельефные дорожки в виде сходящихся узких ленточек: на 1 -й и 2-й спицах находится по одинаковому количеству петель одной дорожки, на 3-й и 4-й спицах петли второй дорожки распределяются так же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Для убавок на 1 -й и 3-й спицах надо вязать, оставив в конце по 3 п., следующие 2 п. провязать вместе лицевой и последнюю лицевой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На 2-й и 4-й спицах 1 -ю п. провязать лицевой, 2 следующие петли провязать с наклоном влево (см."Клин подъема стопы"). Таким образом, в каждом ряду убавляется по 4 п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Убавки выполняются в определенном ритме, в 4-м, 3-м и 2-м р. и затем в каждом ряду до тех пор пока на спицах не останется 8 п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Эти петли стянуть двойной нитью, носок вывернуть, нить вывести на изнаночную сторону и прочно закрепить. Оставшиеся петли боковых дорожек можно также сшить швом "петля в петлю" с лицевой стороны изделия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7" descr="Вязание"/>
          <p:cNvPicPr/>
          <p:nvPr/>
        </p:nvPicPr>
        <p:blipFill>
          <a:blip r:embed="rId1"/>
          <a:stretch/>
        </p:blipFill>
        <p:spPr>
          <a:xfrm>
            <a:off x="304920" y="1905120"/>
            <a:ext cx="37638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ОВЕТ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598400"/>
            <a:ext cx="91440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Чтобы при вязании на чулочных спицах по кругу при переходе от одной спицы к другой не образовывались вытянутые петли, две первые петли с новой спицы следует провязать как можно плотнее: расположите спицу с провязанными петлями так, чтобы ее конец находился над следующей спицей, и в таком положении провяжите две следующие петли. Для этого придержите ее вместе с новой спицей большим и указательным пальцами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3619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Для вязания носков лучше всего выбрать прочную пряжу особой отделки, допускающую машинную стирку. Она не сваляется, а изделие сохранит первоначальную форму даже после многократных стирок. Кроме того, такие "критические" участки, как пятки и мыски, следует "усилить" прочной нитью, добавленной к основной пряже — тогда носки прослужат вам дольше </a:t>
            </a:r>
            <a:br>
              <a:rPr sz="24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Желаем удач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409720" y="914400"/>
            <a:ext cx="3505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одной из гробниц фараонов был найден детский вязаный носок. Большой палец был вывязан отдельно, так как в то время носили обувь. Похожую на нашу пляжную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Picture 9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4840200" cy="5867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5029200" cy="6095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876920" y="914040"/>
            <a:ext cx="4037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еке вязание процветает на Востоке и примерно в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X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. Попадает в Европу, где до этого времени чулки шили из полотна и тонкой кожи. В Европе появляются вязаные чулки. Их носили и короли и их свит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3941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Испании вязаные чулки получили признание только в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XVI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., и английский король Генрих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III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лучил в качестве дорогого дара пару чулок ручной вязки. В те времена, как правило, вязанием занимались мужчины , а не женщин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Picture 7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4560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876920" y="837720"/>
            <a:ext cx="4037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1589 г. Гальвертонский священник Уильям Ли изобрел первую вязальную машину, но английская королева Елизавета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отказала ему в патенте, т.к. чулки связанные на этой машине, показались ей толще, сшитых из шелк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4132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029200" y="609480"/>
            <a:ext cx="4114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Ли перебрался во Францию и в г. Руане основал первую механическую трикотажную мастерскую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конце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XVIII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. во Франции изобрели круговую трикотажную машину., вязавшую полотно в виде трубы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Picture 7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710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486400" y="2362320"/>
            <a:ext cx="3657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улки, вязаные на машине, быстро вытеснили ручные изделия, так как были гораздо дешевле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8578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638320" y="1752480"/>
            <a:ext cx="31957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России носки появились лишь в 1815 году. Сначала их также изготавливали из шерсти и хлопка, а потом начали добавлять капроновые волокна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Picture 7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9784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03T09:11:1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