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13.jpeg" ContentType="image/jpeg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5893-2967-453D-9119-088EC1B17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FBDD-00F6-4909-BD44-CDBF784F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540A-EB9F-4778-91FE-434DB3DF0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736D-4FFD-4698-8E61-06AF20923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629A-5FBC-4977-888C-A3E653888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E010-19EB-42B9-9E6C-2AEBA97F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4C04-4AAE-4080-B712-7A81C74F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E735-4A64-42B4-946A-92D754A9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EFBA-0190-443A-8640-D7C1458A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3E14-D2CD-4BBF-943C-485E2679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DEB9-C7BD-40F8-A093-D60A4BFE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FF5C-E75F-4DC6-BB15-B84D8956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995F-2D01-45F3-A8DB-E0D9DF14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6BD2-9594-438A-8FB0-D7BB756D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BC16-B0B7-4A4B-9688-EE7EC976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1C2C-FA36-40BB-B7E6-0B742B41B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4BD2-B37C-45C6-BA55-7D0D33788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7652-0687-4D9E-945F-282D5B6F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7FCB-8318-448A-97AB-1BAAE2F0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CD9C-0184-422A-AE4E-AEA5F113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BD6F-09C5-4A77-B04F-282F9AA7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D72D-0DF2-46DD-B3E6-16ECBE50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CA68-9C96-4952-934C-31B66286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786B-8B8D-4604-8BE9-E883BFDD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7F2F-823A-4D99-9F04-DFD46826F36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D12F-460B-4EC0-8229-8D407728C01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Районное научное общество учащихся «Радуга»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НОУ «ОЛИМП»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МКОУ «Красноярская СОШ»</a:t>
            </a:r>
            <a:br>
              <a:rPr sz="1200"/>
            </a:br>
            <a:br>
              <a:rPr sz="1200"/>
            </a:br>
            <a:r>
              <a:rPr b="1" i="1" lang="en-US" sz="1400" spc="-1" strike="noStrike">
                <a:solidFill>
                  <a:srgbClr val="003366"/>
                </a:solidFill>
                <a:latin typeface="Arial"/>
              </a:rPr>
              <a:t>«Деятельность Любинского молочно-консервного комбината: страницы  истории»</a:t>
            </a:r>
            <a:br>
              <a:rPr sz="1400"/>
            </a:b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                                                    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секция: история и краеведение</a:t>
            </a:r>
            <a:br>
              <a:rPr sz="1200"/>
            </a:br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4704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6666"/>
                </a:solidFill>
                <a:latin typeface="Arial"/>
              </a:rPr>
              <a:t>Выполнила:    </a:t>
            </a: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Малютина Виктория Дмитриевна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66"/>
                </a:solidFill>
                <a:latin typeface="Arial"/>
              </a:rPr>
              <a:t>Ученица 10 «А»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6666"/>
                </a:solidFill>
                <a:latin typeface="Arial"/>
              </a:rPr>
              <a:t>класса</a:t>
            </a:r>
            <a:br>
              <a:rPr sz="1000"/>
            </a:br>
            <a:r>
              <a:rPr b="1" lang="en-US" sz="1000" spc="-1" strike="noStrike">
                <a:solidFill>
                  <a:srgbClr val="006666"/>
                </a:solidFill>
                <a:latin typeface="Arial"/>
              </a:rPr>
              <a:t> Руководители: </a:t>
            </a:r>
            <a:r>
              <a:rPr b="1" lang="en-US" sz="1200" spc="-1" strike="noStrike">
                <a:solidFill>
                  <a:srgbClr val="006666"/>
                </a:solidFill>
                <a:latin typeface="Monotype Corsiva"/>
              </a:rPr>
              <a:t>Малютина Татьяна Михайловна,</a:t>
            </a: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Monotype Corsiva"/>
              </a:rPr>
              <a:t>Обухова Ольга Андреевна</a:t>
            </a: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64000" y="5589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012го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осстановление производств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92360" y="2781360"/>
            <a:ext cx="5759280" cy="3743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дукция ЛМК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916360" y="2349360"/>
            <a:ext cx="3544920" cy="4235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09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99280" y="112464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если бы все банки с любинской сгущенкой выставить в ряд, то такой сладкой лентой можно было бы опоясать экватор 5 раз!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843280" y="2349360"/>
            <a:ext cx="3889440" cy="4104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оизводство во время конкурентной борьбы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03640" y="2133720"/>
            <a:ext cx="345600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2565360"/>
            <a:ext cx="4968720" cy="395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8560" y="981000"/>
            <a:ext cx="838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«Любинский молочно-консервный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                                                  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омбинат!!!»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8280360" cy="58820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562920" y="404640"/>
            <a:ext cx="37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Моя малая родин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ользуются ли они продукцией ЛМКК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16000" y="2421000"/>
            <a:ext cx="6840720" cy="4103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нают ли они историю ЛМКК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017800" y="2492280"/>
            <a:ext cx="5722920" cy="3457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амый популярный продукт среди респондентов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017800" y="2492280"/>
            <a:ext cx="5649840" cy="3457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отели бы в будущем работать на ЛМКК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17800" y="2637000"/>
            <a:ext cx="5938920" cy="3313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оздаются новые цех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24000" y="2421000"/>
            <a:ext cx="5318280" cy="367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уск дан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68360" y="2421000"/>
            <a:ext cx="4535640" cy="4032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Тяжёлые годы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700360" y="2349360"/>
            <a:ext cx="4608360" cy="39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4:20:10Z</dcterms:created>
  <dc:creator>User</dc:creator>
  <dc:description/>
  <dc:language>en-US</dc:language>
  <cp:lastModifiedBy>zloy</cp:lastModifiedBy>
  <dcterms:modified xsi:type="dcterms:W3CDTF">2013-04-03T13:42:30Z</dcterms:modified>
  <cp:revision>12</cp:revision>
  <dc:subject/>
  <dc:title>Районное научное общество учащихся «Радуга» НОУ «ОЛИМП» МКОУ «Красноярская СОШ»  «Деятельность Любинского молочно-консервного комбината: страницы  истории»                                                         секция: история и краеведение </dc:title>
</cp:coreProperties>
</file>