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F7D-84D6-4017-B9DC-4533491E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D581-5CBB-4157-A849-B1144EF3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E5E1-47DC-47F7-84DD-B498826B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8A1-E2FF-43BE-94A1-EBE49EF4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9582-CC99-46A1-B00E-E538E03E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1520-5D91-49B2-A018-6002AA78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4732-DDE1-4726-93BE-3B33020C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5A1D-FE2B-42CE-BDED-81D8E429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D584-4719-4D56-84F5-05288A7B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C4AD-7061-46EB-B252-A4922298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32A6-A33D-490E-853D-931620BB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08E-86E5-41FB-8120-1B119FCA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9234-B41E-4B6E-B7FD-C0C3DF55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634B-EBEA-4CA3-A645-14CAE5B6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D531-7063-46F4-8F71-1CD68F21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9D23-35C6-4513-BBA5-946FFF4D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C18C-CD8B-4F25-949C-86FB199A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C38-180A-456B-A65C-A3FE6337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274-9124-4178-8356-8D46E0AB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5292-3A84-441D-9256-9FEEB2CF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69E-6F4F-4B53-BA96-BA5F7F2C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6C7-BE3D-4F7A-B395-F5056EC8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7509-56D1-4B87-A94C-66E04DA0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52E-877D-4FCE-A6EE-49754939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A084-B8BB-4D5A-BC9E-1AFC3B8AD36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AE01-A91E-4EDF-BA20-5FF691ED979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Районное научное общество учащихся «Радуга»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НОУ «ОЛИМП»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МКОУ «Красноярская СОШ»</a:t>
            </a:r>
            <a:br>
              <a:rPr sz="1200"/>
            </a:br>
            <a:br>
              <a:rPr sz="1200"/>
            </a:b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«Деятельность Любинского молочно-консервного комбината: страницы  истории»</a:t>
            </a:r>
            <a:br>
              <a:rPr sz="1400"/>
            </a:b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                                                   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секция: история и краеведение</a:t>
            </a:r>
            <a:br>
              <a:rPr sz="1200"/>
            </a:b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6666"/>
                </a:solidFill>
                <a:latin typeface="Arial"/>
              </a:rPr>
              <a:t>Выполнила:    </a:t>
            </a: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Малютина Виктория Дмитриевна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66"/>
                </a:solidFill>
                <a:latin typeface="Arial"/>
              </a:rPr>
              <a:t>Ученица 10 «А»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6666"/>
                </a:solidFill>
                <a:latin typeface="Arial"/>
              </a:rPr>
              <a:t>класса</a:t>
            </a:r>
            <a:br>
              <a:rPr sz="1000"/>
            </a:br>
            <a:r>
              <a:rPr b="1" lang="en-US" sz="1000" spc="-1" strike="noStrike">
                <a:solidFill>
                  <a:srgbClr val="006666"/>
                </a:solidFill>
                <a:latin typeface="Arial"/>
              </a:rPr>
              <a:t> Руководители: </a:t>
            </a:r>
            <a:r>
              <a:rPr b="1" lang="en-US" sz="1200" spc="-1" strike="noStrike">
                <a:solidFill>
                  <a:srgbClr val="006666"/>
                </a:solidFill>
                <a:latin typeface="Monotype Corsiva"/>
              </a:rPr>
              <a:t>Малютина Татьяна Михайловна,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Monotype Corsiva"/>
              </a:rPr>
              <a:t>Обухова Ольга Андреевна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558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12го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осстановление производст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5759280" cy="3743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дукция ЛМК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3544920" cy="4235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9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99280" y="112464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если бы все банки с любинской сгущенкой выставить в ряд, то такой сладкой лентой можно было бы опоясать экватор 5 раз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43280" y="2349360"/>
            <a:ext cx="3889440" cy="4104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изводство во время конкурентной борьб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03640" y="2133720"/>
            <a:ext cx="345600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4968720" cy="395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8560" y="981000"/>
            <a:ext cx="83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«Любинский молочно-консервный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омбинат!!!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280360" cy="5882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562920" y="404640"/>
            <a:ext cx="37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Моя малая родин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льзуются ли они продукцией ЛМКК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6840720" cy="4103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нают ли они историю ЛМКК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17800" y="2492280"/>
            <a:ext cx="5722920" cy="3457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амый популярный продукт среди респондентов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17800" y="2492280"/>
            <a:ext cx="5649840" cy="3457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отели бы в будущем работать на ЛМКК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17800" y="2637000"/>
            <a:ext cx="5938920" cy="331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здаются новые цех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24000" y="2421000"/>
            <a:ext cx="5318280" cy="36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уск дан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4535640" cy="4032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яжёлые годы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00360" y="2349360"/>
            <a:ext cx="4608360" cy="39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4:20:10Z</dcterms:created>
  <dc:creator>User</dc:creator>
  <dc:description/>
  <dc:language>en-US</dc:language>
  <cp:lastModifiedBy>zloy</cp:lastModifiedBy>
  <dcterms:modified xsi:type="dcterms:W3CDTF">2013-04-03T13:42:30Z</dcterms:modified>
  <cp:revision>12</cp:revision>
  <dc:subject/>
  <dc:title>Районное научное общество учащихся «Радуга» НОУ «ОЛИМП» МКОУ «Красноярская СОШ»  «Деятельность Любинского молочно-консервного комбината: страницы  истории»                                                         секция: история и краеведение </dc:title>
</cp:coreProperties>
</file>