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17A-8D64-4FBA-A583-91343993B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443-CC1B-4662-BE81-AF37043B0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C200-6249-439E-B37C-E93DF4CD5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4BC1-1974-4B39-AB07-10CA059BB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E0C-B97D-4E78-AA09-CA4038B6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2F8-6877-4246-825E-C0803147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10F-525E-42E1-9972-2E829BE1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E55-B62F-418F-8908-81D28DD4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C22-5B60-4242-AE80-3F8D5F1D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102-1DAD-43D4-9A10-5AB671BD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812-9B91-4EEE-9766-17F12902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013-5748-4657-85D7-92A46559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C44-0463-4D01-85AC-6DB5DECA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CEB-A204-4715-B51C-5BC98D7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997-C78E-4C1C-A953-7145578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A6D-AB34-4000-8E43-644A326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E42-460F-48DE-A53A-7FB00549F20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nana.by/engine/print.php?newsid=156305" TargetMode="External"/><Relationship Id="rId2" Type="http://schemas.openxmlformats.org/officeDocument/2006/relationships/hyperlink" Target="http://berezin-fb.livejournal.com/83468.html" TargetMode="External"/><Relationship Id="rId3" Type="http://schemas.openxmlformats.org/officeDocument/2006/relationships/hyperlink" Target="http://www.rozymnuk.com.ua/" TargetMode="External"/><Relationship Id="rId4" Type="http://schemas.openxmlformats.org/officeDocument/2006/relationships/hyperlink" Target="http://miac.medkirov.ru/news/docid/26752C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429000" y="25797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рок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0200" y="5791320"/>
            <a:ext cx="47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работала Пелипенко Ольг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АОУ СОШ №  11 им.В.В.Рассо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682776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2990880" cy="2871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143520" y="3989520"/>
            <a:ext cx="44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 подготовка  к сочинению-рассужд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04920" y="685800"/>
            <a:ext cx="830556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ИНКВЕЙН</a:t>
            </a:r>
            <a:r>
              <a:rPr b="0" lang="ru-RU" sz="18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малая стихотворная форма, используемая для фиксации эмоциональных оценок, описания своих текущих впечатлений, ощущений, ассоци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ИНКВЕЙ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короткое литературное произведение, характеризующее предмет (тему), состоящее из пяти строк, которое пишется по определённому пла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1371600" y="3276720"/>
            <a:ext cx="6477120" cy="231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строка – одно слово – название стихотворения, обычно существите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строка – два слова (прилагательные или причастия). Описание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строка – три слова (глаголы). Действия относящиеся к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строка – четыре слова – предложение. Фраза, которая показывает отношение автора к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строка – одно слово – ассоциация, которая повторяет суть темы, обычно существите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Соня\Рабочий стол\НА ЗАВТРА\профессии\проф3.jpg"/>
          <p:cNvPicPr/>
          <p:nvPr/>
        </p:nvPicPr>
        <p:blipFill>
          <a:blip r:embed="rId1"/>
          <a:stretch/>
        </p:blipFill>
        <p:spPr>
          <a:xfrm>
            <a:off x="5181480" y="4114800"/>
            <a:ext cx="3584520" cy="2389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1403280" y="1600200"/>
            <a:ext cx="70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исать сочинение-рассуждение «Портрет профе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римере профессии филол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286000" y="1900080"/>
            <a:ext cx="457200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"/>
              </a:rPr>
              <a:t>banana.by/engine/pr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"/>
              </a:rPr>
              <a:t>berezin-fb.livejour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"/>
              </a:rPr>
              <a:t>http://www.rozymnuk.com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4"/>
              </a:rPr>
              <a:t>miac.medkirov.ru/new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0c0"/>
                </a:solidFill>
                <a:uFillTx/>
                <a:latin typeface="Times New Roman"/>
                <a:ea typeface="Calibri"/>
              </a:rPr>
              <a:t>minsk.slanet.by/Svark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mygamelandtr.hostingsit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nevsedoma.com.ua/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real-trick.ru/narodno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ukrindustry.com/boar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ww.jobs.ua/articles/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681920" y="53352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b9bd5"/>
                </a:solidFill>
                <a:latin typeface="Arial"/>
              </a:rPr>
              <a:t>Интернет-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362320" y="2610000"/>
            <a:ext cx="4578120" cy="1736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-12600" y="395280"/>
            <a:ext cx="2952720" cy="221472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16"/>
          <p:cNvCxnSpPr/>
          <p:nvPr/>
        </p:nvCxnSpPr>
        <p:spPr>
          <a:xfrm flipH="1" flipV="1">
            <a:off x="2513880" y="1344600"/>
            <a:ext cx="1600920" cy="135612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56" name="Рисунок 2" descr=""/>
          <p:cNvPicPr/>
          <p:nvPr/>
        </p:nvPicPr>
        <p:blipFill>
          <a:blip r:embed="rId3"/>
          <a:stretch/>
        </p:blipFill>
        <p:spPr>
          <a:xfrm>
            <a:off x="1039680" y="4424400"/>
            <a:ext cx="2979720" cy="2152440"/>
          </a:xfrm>
          <a:prstGeom prst="rect">
            <a:avLst/>
          </a:prstGeom>
          <a:ln w="0">
            <a:noFill/>
          </a:ln>
        </p:spPr>
      </p:pic>
      <p:cxnSp>
        <p:nvCxnSpPr>
          <p:cNvPr id="57" name="Прямая со стрелкой 40"/>
          <p:cNvCxnSpPr/>
          <p:nvPr/>
        </p:nvCxnSpPr>
        <p:spPr>
          <a:xfrm flipH="1">
            <a:off x="2818800" y="4225680"/>
            <a:ext cx="1200600" cy="133740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58" name="Рисунок 8" descr=""/>
          <p:cNvPicPr/>
          <p:nvPr/>
        </p:nvPicPr>
        <p:blipFill>
          <a:blip r:embed="rId4"/>
          <a:stretch/>
        </p:blipFill>
        <p:spPr>
          <a:xfrm>
            <a:off x="6045120" y="4776840"/>
            <a:ext cx="2724120" cy="1700280"/>
          </a:xfrm>
          <a:prstGeom prst="rect">
            <a:avLst/>
          </a:prstGeom>
          <a:ln w="0">
            <a:noFill/>
          </a:ln>
        </p:spPr>
      </p:pic>
      <p:cxnSp>
        <p:nvCxnSpPr>
          <p:cNvPr id="59" name="Прямая со стрелкой 19"/>
          <p:cNvCxnSpPr/>
          <p:nvPr/>
        </p:nvCxnSpPr>
        <p:spPr>
          <a:xfrm>
            <a:off x="5756040" y="4016160"/>
            <a:ext cx="1276560" cy="138600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60" name="Рисунок 11" descr=""/>
          <p:cNvPicPr/>
          <p:nvPr/>
        </p:nvPicPr>
        <p:blipFill>
          <a:blip r:embed="rId5"/>
          <a:stretch/>
        </p:blipFill>
        <p:spPr>
          <a:xfrm>
            <a:off x="5999040" y="550800"/>
            <a:ext cx="2625840" cy="196848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17"/>
          <p:cNvCxnSpPr/>
          <p:nvPr/>
        </p:nvCxnSpPr>
        <p:spPr>
          <a:xfrm flipV="1">
            <a:off x="4723920" y="1302480"/>
            <a:ext cx="1275480" cy="126756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64840" y="838080"/>
            <a:ext cx="1499040" cy="3988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048120" y="838800"/>
            <a:ext cx="2438280" cy="3988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веств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248520" y="838800"/>
            <a:ext cx="2361960" cy="3988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ас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2280" y="1941120"/>
            <a:ext cx="2362320" cy="131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ся о постоянных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 одновремен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сутствующих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ах чего-либо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059280" y="2212920"/>
            <a:ext cx="246960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ся о сменя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 друга  действиях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ыт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878800" y="1928160"/>
            <a:ext cx="2972520" cy="15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ся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ЧИНАХ и СЛЕДСТВ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ытий и явлений, о наш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ставлениях о них, оценк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вствах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7010280" y="4114800"/>
            <a:ext cx="8384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1"/>
          <p:cNvSpPr/>
          <p:nvPr/>
        </p:nvSpPr>
        <p:spPr>
          <a:xfrm flipH="1">
            <a:off x="6629040" y="4038480"/>
            <a:ext cx="15238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2"/>
          <p:cNvSpPr/>
          <p:nvPr/>
        </p:nvSpPr>
        <p:spPr>
          <a:xfrm>
            <a:off x="6705720" y="4038480"/>
            <a:ext cx="14475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947520" cy="10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905040" cy="10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4495680" y="4419720"/>
            <a:ext cx="914400" cy="98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971280" cy="11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Rectangle 12"/>
          <p:cNvSpPr/>
          <p:nvPr/>
        </p:nvSpPr>
        <p:spPr>
          <a:xfrm>
            <a:off x="237600" y="5564160"/>
            <a:ext cx="1715040" cy="5806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адр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аппарата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355200" y="5717880"/>
            <a:ext cx="2239560" cy="8240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кад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меня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4"/>
          <p:cNvSpPr/>
          <p:nvPr/>
        </p:nvSpPr>
        <p:spPr>
          <a:xfrm>
            <a:off x="6334560" y="5867280"/>
            <a:ext cx="2593080" cy="3373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нельз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35"/>
          <p:cNvSpPr/>
          <p:nvPr/>
        </p:nvSpPr>
        <p:spPr>
          <a:xfrm>
            <a:off x="9144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36"/>
          <p:cNvSpPr/>
          <p:nvPr/>
        </p:nvSpPr>
        <p:spPr>
          <a:xfrm>
            <a:off x="3809880" y="1219320"/>
            <a:ext cx="685800" cy="9903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37"/>
          <p:cNvSpPr/>
          <p:nvPr/>
        </p:nvSpPr>
        <p:spPr>
          <a:xfrm>
            <a:off x="7010280" y="1219320"/>
            <a:ext cx="685800" cy="761760"/>
          </a:xfrm>
          <a:prstGeom prst="down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38"/>
          <p:cNvSpPr/>
          <p:nvPr/>
        </p:nvSpPr>
        <p:spPr>
          <a:xfrm>
            <a:off x="762120" y="4800600"/>
            <a:ext cx="685800" cy="762120"/>
          </a:xfrm>
          <a:prstGeom prst="down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39"/>
          <p:cNvSpPr/>
          <p:nvPr/>
        </p:nvSpPr>
        <p:spPr>
          <a:xfrm>
            <a:off x="3809880" y="48769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низ 40"/>
          <p:cNvSpPr/>
          <p:nvPr/>
        </p:nvSpPr>
        <p:spPr>
          <a:xfrm>
            <a:off x="7086600" y="502920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7200" y="5488200"/>
            <a:ext cx="8229600" cy="64260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ворим не о том, что видим, а о том, что знаем, о чем ду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2971800" y="457200"/>
            <a:ext cx="320040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ипы расс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914400" y="3200400"/>
            <a:ext cx="2057400" cy="68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Доказательств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581280" y="3276720"/>
            <a:ext cx="2057400" cy="68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ъяс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324480" y="3124080"/>
            <a:ext cx="2057400" cy="68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7"/>
          <p:cNvCxnSpPr>
            <a:stCxn id="85" idx="2"/>
            <a:endCxn id="88" idx="0"/>
          </p:cNvCxnSpPr>
          <p:nvPr/>
        </p:nvCxnSpPr>
        <p:spPr>
          <a:xfrm>
            <a:off x="4572000" y="1371600"/>
            <a:ext cx="2782080" cy="175320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0" name="Прямая со стрелкой 9"/>
          <p:cNvCxnSpPr>
            <a:stCxn id="85" idx="2"/>
            <a:endCxn id="86" idx="0"/>
          </p:cNvCxnSpPr>
          <p:nvPr/>
        </p:nvCxnSpPr>
        <p:spPr>
          <a:xfrm flipH="1">
            <a:off x="1942920" y="1371600"/>
            <a:ext cx="2629440" cy="182952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1" name="Прямая со стрелкой 10"/>
          <p:cNvCxnSpPr>
            <a:stCxn id="85" idx="2"/>
            <a:endCxn id="87" idx="0"/>
          </p:cNvCxnSpPr>
          <p:nvPr/>
        </p:nvCxnSpPr>
        <p:spPr>
          <a:xfrm>
            <a:off x="4572000" y="1371600"/>
            <a:ext cx="38880" cy="190584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2" name="Прямая со стрелкой 15"/>
          <p:cNvCxnSpPr>
            <a:stCxn id="84" idx="0"/>
            <a:endCxn id="86" idx="2"/>
          </p:cNvCxnSpPr>
          <p:nvPr/>
        </p:nvCxnSpPr>
        <p:spPr>
          <a:xfrm flipH="1" flipV="1">
            <a:off x="1942920" y="3885480"/>
            <a:ext cx="2629440" cy="160092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3" name="Прямая со стрелкой 16"/>
          <p:cNvCxnSpPr>
            <a:stCxn id="84" idx="0"/>
            <a:endCxn id="87" idx="2"/>
          </p:cNvCxnSpPr>
          <p:nvPr/>
        </p:nvCxnSpPr>
        <p:spPr>
          <a:xfrm flipV="1">
            <a:off x="4572000" y="3961800"/>
            <a:ext cx="38880" cy="152460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4" name="Прямая со стрелкой 17"/>
          <p:cNvCxnSpPr>
            <a:stCxn id="84" idx="0"/>
            <a:endCxn id="88" idx="2"/>
          </p:cNvCxnSpPr>
          <p:nvPr/>
        </p:nvCxnSpPr>
        <p:spPr>
          <a:xfrm flipV="1">
            <a:off x="4572000" y="3809160"/>
            <a:ext cx="2782080" cy="167724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28600" y="1689480"/>
            <a:ext cx="4038480" cy="281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 Blac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ступление. Ответ на вопрос.</a:t>
            </a:r>
            <a:r>
              <a:rPr b="0" lang="ru-RU" sz="1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новная ча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1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Заключение. Обобщение, 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123720" y="914400"/>
            <a:ext cx="4498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ЗМОЖНАЯ СТРУКТУРА СОЧ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7"/>
          <p:cNvCxnSpPr/>
          <p:nvPr/>
        </p:nvCxnSpPr>
        <p:spPr>
          <a:xfrm>
            <a:off x="1828800" y="2514600"/>
            <a:ext cx="1448640" cy="915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Прямая со стрелкой 9"/>
          <p:cNvCxnSpPr/>
          <p:nvPr/>
        </p:nvCxnSpPr>
        <p:spPr>
          <a:xfrm flipH="1">
            <a:off x="1066320" y="2514600"/>
            <a:ext cx="61056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4"/>
          <p:cNvSpPr/>
          <p:nvPr/>
        </p:nvSpPr>
        <p:spPr>
          <a:xfrm>
            <a:off x="4648320" y="1689480"/>
            <a:ext cx="4038480" cy="281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 Blac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ступление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становка задачи, вопро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новная ча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1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Заключение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твет на вопр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18"/>
          <p:cNvCxnSpPr/>
          <p:nvPr/>
        </p:nvCxnSpPr>
        <p:spPr>
          <a:xfrm flipH="1">
            <a:off x="5409360" y="2743200"/>
            <a:ext cx="686520" cy="457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>
            <a:off x="6324120" y="2666520"/>
            <a:ext cx="1600920" cy="762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Rectangle 5"/>
          <p:cNvSpPr/>
          <p:nvPr/>
        </p:nvSpPr>
        <p:spPr>
          <a:xfrm>
            <a:off x="1460520" y="5185440"/>
            <a:ext cx="66196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Виды аргумен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) прямое доказательство  (прямое указание на необходимость яв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)доказательство от противного (что произошло  бы, если бы я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тсутствовал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66960" y="4038480"/>
            <a:ext cx="880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ЛОЛО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пециалист по фил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ЛОЛОГ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овокупность наук, изучающих духовную культуру наро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женную в языке и литературном творч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438280" y="536400"/>
            <a:ext cx="56451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2000160" y="857160"/>
            <a:ext cx="5143680" cy="5143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13800" y="11520"/>
            <a:ext cx="745920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33"/>
                </a:solidFill>
                <a:latin typeface="Arial Black"/>
                <a:ea typeface="Times New Roman"/>
              </a:rPr>
              <a:t>Назначение профессии:</a:t>
            </a:r>
            <a:r>
              <a:rPr b="0" lang="ru-RU" sz="20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осуществление научно-исследователь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и практической деятельности в области в гуманитарного знания, межъязык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коммуникации, образования и куль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Объектами профессиональной деятельности выступают: языки (отечественны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иностранные) в их теоретическом и практическом, историче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и диалектологическом аспектах; литература (отечественная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зарубежная) с учетом закономерностей ее развития в различных стран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80680" y="2829960"/>
            <a:ext cx="729792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33"/>
                </a:solidFill>
                <a:latin typeface="Arial Black"/>
                <a:ea typeface="Times New Roman"/>
              </a:rPr>
              <a:t>Основные решаемые 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выполнение научно-исследовательской деятельности (исследование язык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литературы в их современном состоянии и историческом развитии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осуществление практической деятельности, связанной с использова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знаний и умений в области филологии в учреждениях образования,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управления, в СМИ, в области межкультурной коммуникации и других област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социально-гуманитарной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684160" y="533520"/>
            <a:ext cx="3068640" cy="52056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снов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767520" y="2057400"/>
            <a:ext cx="2053800" cy="3373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школьные зн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676840" y="2057400"/>
            <a:ext cx="2355480" cy="3225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пециальные зн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457200" y="3888720"/>
            <a:ext cx="2743200" cy="7333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русский язы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гуманитарные нау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800600" y="3421440"/>
            <a:ext cx="3657600" cy="20120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классический язы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литературоведен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философ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русский язык и культура реч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психология и педагогик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культуролог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люс 8"/>
          <p:cNvSpPr/>
          <p:nvPr/>
        </p:nvSpPr>
        <p:spPr>
          <a:xfrm>
            <a:off x="3886200" y="1905120"/>
            <a:ext cx="838080" cy="761760"/>
          </a:xfrm>
          <a:custGeom>
            <a:avLst/>
            <a:gdLst/>
            <a:ahLst/>
            <a:rect l="l" t="t" r="r" b="b"/>
            <a:pathLst>
              <a:path w="838200" h="762000">
                <a:moveTo>
                  <a:pt x="111103" y="291389"/>
                </a:moveTo>
                <a:lnTo>
                  <a:pt x="329489" y="291389"/>
                </a:lnTo>
                <a:lnTo>
                  <a:pt x="329489" y="101003"/>
                </a:lnTo>
                <a:lnTo>
                  <a:pt x="508711" y="101003"/>
                </a:lnTo>
                <a:lnTo>
                  <a:pt x="508711" y="291389"/>
                </a:lnTo>
                <a:lnTo>
                  <a:pt x="727097" y="291389"/>
                </a:lnTo>
                <a:lnTo>
                  <a:pt x="727097" y="470611"/>
                </a:lnTo>
                <a:lnTo>
                  <a:pt x="508711" y="470611"/>
                </a:lnTo>
                <a:lnTo>
                  <a:pt x="508711" y="660997"/>
                </a:lnTo>
                <a:lnTo>
                  <a:pt x="329489" y="660997"/>
                </a:lnTo>
                <a:lnTo>
                  <a:pt x="329489" y="470611"/>
                </a:lnTo>
                <a:lnTo>
                  <a:pt x="111103" y="470611"/>
                </a:lnTo>
                <a:lnTo>
                  <a:pt x="111103" y="291389"/>
                </a:lnTo>
                <a:close/>
              </a:path>
            </a:pathLst>
          </a:cu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10"/>
          <p:cNvSpPr/>
          <p:nvPr/>
        </p:nvSpPr>
        <p:spPr>
          <a:xfrm>
            <a:off x="1371600" y="2438280"/>
            <a:ext cx="484200" cy="144792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1"/>
          <p:cNvSpPr/>
          <p:nvPr/>
        </p:nvSpPr>
        <p:spPr>
          <a:xfrm>
            <a:off x="6553080" y="2438280"/>
            <a:ext cx="484200" cy="9907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Пелипенко</cp:lastModifiedBy>
  <dcterms:modified xsi:type="dcterms:W3CDTF">2013-04-03T18:01:18Z</dcterms:modified>
  <cp:revision>40</cp:revision>
  <dc:subject/>
  <dc:title>Слайд 1</dc:title>
</cp:coreProperties>
</file>