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1D5B-EA2B-43A6-9024-48B7B2F29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41A1-40FD-4252-8C36-343748B1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053D-56B0-44B2-A80C-3D0D0053D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1414-A0A3-4B9F-9DB9-9B94885BA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A360-FCAC-4DF1-BDBD-D1D763487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5FBE-FD25-45E3-B6CE-E9CAB064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A0A6-0476-4EF9-8103-BB02F876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D376-CDA5-44B9-9FC3-EE0E275E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0DE0-49F8-48B6-AFC9-7277AEF5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FC1D-CB55-4B1D-9890-18D4ABFE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460B-8B32-455D-BD40-1602022B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FA70-D89D-48A5-A259-FC67795E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17E6-B6F7-474F-A1D6-857F1C77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A9A5-7406-44F7-ABCD-C82D6486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1EE7-35A4-49E1-9559-D7946764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D129-F485-4697-BF2D-329ECE571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2C19-1F61-43C5-B317-53772CD51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2F42-90E9-48AB-92C5-C620745C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8091-93A2-4364-A03D-B61627F4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B419-DFC3-4ECD-9FBC-790539E1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2C54-8A6A-4B97-99F3-4E4B90B4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DA0F-D88D-4E96-9F54-CD07653D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1874-B70D-4CA5-A4ED-29331708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9F58-2BA0-4E70-A6DD-1EBBFF0C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9FCD-E610-4712-A768-A75CDC1A05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FBED-92BF-4E82-B19A-94189DF44E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692360" y="260280"/>
            <a:ext cx="5975280" cy="46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Образ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камерно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музы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68360" y="4941720"/>
            <a:ext cx="8207280" cy="143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езентацию приготовила: учитель музы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КОУ "Краснооктябрьская СОШ" Каргапольский райо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ореванова Елена Александров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rcRect l="8640" t="32264" r="23339" b="26210"/>
          <a:stretch/>
        </p:blipFill>
        <p:spPr>
          <a:xfrm>
            <a:off x="971640" y="404640"/>
            <a:ext cx="7200720" cy="6085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39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04014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иш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к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зерцатель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раст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стор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ж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ры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ом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репет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Антонио Вивальд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(1678- 1741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крипач – виртуоз, дирижер и педагог, один из величайших композиторов 17 -18 в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оздатель инструментальног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нцерт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964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тонио Вивальд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1678- 1741)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rcRect l="0" t="5529" r="0" b="11576"/>
          <a:stretch/>
        </p:blipFill>
        <p:spPr>
          <a:xfrm>
            <a:off x="2484360" y="1700280"/>
            <a:ext cx="4194360" cy="489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ршиной творч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вальди являе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икл «Времена год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427640" y="333360"/>
            <a:ext cx="442584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Цикл концертов «Времена года» -программное произведение, в основе которого лежат стихотворения самого композитор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сна грядет! И радостною песн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урчат ручьи. И праздничные в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ефир разносит, точно волшебст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благовест, звучит небесный гр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о быстро вдруг набегают бархатные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уч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ссякает вихрь могучи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щебет вновь плывет в пространстве голубом.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rcRect l="3831" t="57426" r="0" b="1052"/>
          <a:stretch/>
        </p:blipFill>
        <p:spPr>
          <a:xfrm>
            <a:off x="395280" y="333360"/>
            <a:ext cx="8362800" cy="61912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795672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оганн Себастьян Бах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rcRect l="8145" t="0" r="22958" b="0"/>
          <a:stretch/>
        </p:blipFill>
        <p:spPr>
          <a:xfrm>
            <a:off x="2124000" y="1557360"/>
            <a:ext cx="4714920" cy="51292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6112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329528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йдите произведение А.Вивальд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ff99"/>
                </a:solidFill>
                <a:uFillTx/>
                <a:latin typeface="Arial"/>
              </a:rPr>
              <a:t>Этюд №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ff99"/>
                </a:solidFill>
                <a:uFillTx/>
                <a:latin typeface="Arial"/>
              </a:rPr>
              <a:t>Баллада «Лесной царь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ff99"/>
                </a:solidFill>
                <a:uFillTx/>
                <a:latin typeface="Arial"/>
              </a:rPr>
              <a:t>«Времена год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ff99"/>
                </a:solidFill>
                <a:uFillTx/>
                <a:latin typeface="Arial"/>
              </a:rPr>
              <a:t>Прелюдия № 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ff99"/>
                </a:solidFill>
                <a:uFillTx/>
                <a:latin typeface="Arial"/>
              </a:rPr>
              <a:t>Квартет №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768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768" fill="hold"/>
                                        <p:tgtEl>
                                          <p:spTgt spid="2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9" dur="768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1" dur="768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мерная музыка от лат.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mera –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комната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писанная для небольшого состава исполнителей, звучала в домашней обстановке или при дворах знатных вельмож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Подумай ещё!!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>
            <a:hlinkClick r:id="" action="ppaction://hlinkshowjump?jump=previousslide"/>
          </p:cNvPr>
          <p:cNvSpPr/>
          <p:nvPr/>
        </p:nvSpPr>
        <p:spPr>
          <a:xfrm>
            <a:off x="6588000" y="5229360"/>
            <a:ext cx="1656000" cy="936360"/>
          </a:xfrm>
          <a:custGeom>
            <a:avLst/>
            <a:gdLst>
              <a:gd name="textAreaLeft" fmla="*/ 60480 w 1656000"/>
              <a:gd name="textAreaRight" fmla="*/ 1595520 w 165600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38194" h="21600">
                <a:moveTo>
                  <a:pt x="0" y="0"/>
                </a:moveTo>
                <a:lnTo>
                  <a:pt x="38194" y="0"/>
                </a:lnTo>
                <a:lnTo>
                  <a:pt x="38194" y="21600"/>
                </a:lnTo>
                <a:lnTo>
                  <a:pt x="0" y="21600"/>
                </a:lnTo>
                <a:close/>
              </a:path>
              <a:path fill="lightenLess" w="38194" h="21600">
                <a:moveTo>
                  <a:pt x="0" y="0"/>
                </a:moveTo>
                <a:lnTo>
                  <a:pt x="38194" y="0"/>
                </a:lnTo>
                <a:lnTo>
                  <a:pt x="36794" y="1400"/>
                </a:lnTo>
                <a:lnTo>
                  <a:pt x="1400" y="1400"/>
                </a:lnTo>
                <a:close/>
              </a:path>
              <a:path fill="darken" w="38194" h="21600">
                <a:moveTo>
                  <a:pt x="38194" y="0"/>
                </a:moveTo>
                <a:lnTo>
                  <a:pt x="38194" y="21600"/>
                </a:lnTo>
                <a:lnTo>
                  <a:pt x="36794" y="20200"/>
                </a:lnTo>
                <a:lnTo>
                  <a:pt x="36794" y="1400"/>
                </a:lnTo>
                <a:close/>
              </a:path>
              <a:path fill="darkenLess" w="38194" h="21600">
                <a:moveTo>
                  <a:pt x="38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94" y="20200"/>
                </a:lnTo>
                <a:close/>
              </a:path>
              <a:path fill="lighten" w="38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194" h="21600">
                <a:moveTo>
                  <a:pt x="12091" y="10800"/>
                </a:moveTo>
                <a:lnTo>
                  <a:pt x="26104" y="3794"/>
                </a:lnTo>
                <a:lnTo>
                  <a:pt x="26104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Молодец!!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6156360" y="5084640"/>
            <a:ext cx="1440000" cy="720720"/>
          </a:xfrm>
          <a:custGeom>
            <a:avLst/>
            <a:gdLst>
              <a:gd name="textAreaLeft" fmla="*/ 46440 w 1440000"/>
              <a:gd name="textAreaRight" fmla="*/ 1393560 w 144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43146" h="21600">
                <a:moveTo>
                  <a:pt x="0" y="0"/>
                </a:moveTo>
                <a:lnTo>
                  <a:pt x="43146" y="0"/>
                </a:lnTo>
                <a:lnTo>
                  <a:pt x="43146" y="21600"/>
                </a:lnTo>
                <a:lnTo>
                  <a:pt x="0" y="21600"/>
                </a:lnTo>
                <a:close/>
              </a:path>
              <a:path fill="lightenLess" w="43146" h="21600">
                <a:moveTo>
                  <a:pt x="0" y="0"/>
                </a:moveTo>
                <a:lnTo>
                  <a:pt x="43146" y="0"/>
                </a:lnTo>
                <a:lnTo>
                  <a:pt x="41746" y="1400"/>
                </a:lnTo>
                <a:lnTo>
                  <a:pt x="1400" y="1400"/>
                </a:lnTo>
                <a:close/>
              </a:path>
              <a:path fill="darken" w="43146" h="21600">
                <a:moveTo>
                  <a:pt x="43146" y="0"/>
                </a:moveTo>
                <a:lnTo>
                  <a:pt x="43146" y="21600"/>
                </a:lnTo>
                <a:lnTo>
                  <a:pt x="41746" y="20200"/>
                </a:lnTo>
                <a:lnTo>
                  <a:pt x="41746" y="1400"/>
                </a:lnTo>
                <a:close/>
              </a:path>
              <a:path fill="darkenLess" w="43146" h="21600">
                <a:moveTo>
                  <a:pt x="431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6" y="20200"/>
                </a:lnTo>
                <a:close/>
              </a:path>
              <a:path fill="lighten" w="431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6" h="21600">
                <a:moveTo>
                  <a:pt x="14567" y="3794"/>
                </a:moveTo>
                <a:lnTo>
                  <a:pt x="28580" y="10800"/>
                </a:lnTo>
                <a:lnTo>
                  <a:pt x="1456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Соотнеси имена и фамилии композиторов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ександр                        Ба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оганн                              Шопе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ридерик                         Бород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лод                                 Вивальд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тонио                           Дебюсс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Сравни свои ответы с правильным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ександр Бород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оганн Себастьян Б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ридерик Шопе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лод Дебюсс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тонио Вивальд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ыбери из предложенных, портрет И.С. Бах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rcRect l="8145" t="0" r="22958" b="0"/>
          <a:stretch/>
        </p:blipFill>
        <p:spPr>
          <a:xfrm>
            <a:off x="3203640" y="1700280"/>
            <a:ext cx="2952720" cy="29862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rcRect l="0" t="5529" r="0" b="11576"/>
          <a:stretch/>
        </p:blipFill>
        <p:spPr>
          <a:xfrm>
            <a:off x="395280" y="1700280"/>
            <a:ext cx="2589120" cy="3024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rcRect l="4943" t="15126" r="4810" b="14678"/>
          <a:stretch/>
        </p:blipFill>
        <p:spPr>
          <a:xfrm>
            <a:off x="6156360" y="1628640"/>
            <a:ext cx="2701800" cy="29797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324000" y="4869000"/>
            <a:ext cx="380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419640" y="4869000"/>
            <a:ext cx="380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300720" y="4797360"/>
            <a:ext cx="381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Не верно!!!!!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164360" y="5157720"/>
            <a:ext cx="1584360" cy="935280"/>
          </a:xfrm>
          <a:custGeom>
            <a:avLst/>
            <a:gdLst>
              <a:gd name="textAreaLeft" fmla="*/ 60480 w 1584360"/>
              <a:gd name="textAreaRight" fmla="*/ 1523880 w 158436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36585" h="21600">
                <a:moveTo>
                  <a:pt x="0" y="0"/>
                </a:moveTo>
                <a:lnTo>
                  <a:pt x="36585" y="0"/>
                </a:lnTo>
                <a:lnTo>
                  <a:pt x="36585" y="21600"/>
                </a:lnTo>
                <a:lnTo>
                  <a:pt x="0" y="21600"/>
                </a:lnTo>
                <a:close/>
              </a:path>
              <a:path fill="lightenLess" w="36585" h="21600">
                <a:moveTo>
                  <a:pt x="0" y="0"/>
                </a:moveTo>
                <a:lnTo>
                  <a:pt x="36585" y="0"/>
                </a:lnTo>
                <a:lnTo>
                  <a:pt x="35185" y="1400"/>
                </a:lnTo>
                <a:lnTo>
                  <a:pt x="1400" y="1400"/>
                </a:lnTo>
                <a:close/>
              </a:path>
              <a:path fill="darken" w="36585" h="21600">
                <a:moveTo>
                  <a:pt x="36585" y="0"/>
                </a:moveTo>
                <a:lnTo>
                  <a:pt x="36585" y="21600"/>
                </a:lnTo>
                <a:lnTo>
                  <a:pt x="35185" y="20200"/>
                </a:lnTo>
                <a:lnTo>
                  <a:pt x="35185" y="1400"/>
                </a:lnTo>
                <a:close/>
              </a:path>
              <a:path fill="darkenLess" w="36585" h="21600">
                <a:moveTo>
                  <a:pt x="36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85" y="20200"/>
                </a:lnTo>
                <a:close/>
              </a:path>
              <a:path fill="lighten" w="36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85" h="21600">
                <a:moveTo>
                  <a:pt x="11286" y="10800"/>
                </a:moveTo>
                <a:lnTo>
                  <a:pt x="25299" y="3794"/>
                </a:lnTo>
                <a:lnTo>
                  <a:pt x="25299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Вы правы!!!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>
            <a:hlinkClick r:id="" action="ppaction://hlinkshowjump?jump=nextslide"/>
          </p:cNvPr>
          <p:cNvSpPr/>
          <p:nvPr/>
        </p:nvSpPr>
        <p:spPr>
          <a:xfrm>
            <a:off x="7236000" y="5373720"/>
            <a:ext cx="1439640" cy="792000"/>
          </a:xfrm>
          <a:custGeom>
            <a:avLst/>
            <a:gdLst>
              <a:gd name="textAreaLeft" fmla="*/ 51120 w 1439640"/>
              <a:gd name="textAreaRight" fmla="*/ 1388520 w 143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39255" h="21600">
                <a:moveTo>
                  <a:pt x="0" y="0"/>
                </a:moveTo>
                <a:lnTo>
                  <a:pt x="39255" y="0"/>
                </a:lnTo>
                <a:lnTo>
                  <a:pt x="39255" y="21600"/>
                </a:lnTo>
                <a:lnTo>
                  <a:pt x="0" y="21600"/>
                </a:lnTo>
                <a:close/>
              </a:path>
              <a:path fill="lightenLess" w="39255" h="21600">
                <a:moveTo>
                  <a:pt x="0" y="0"/>
                </a:moveTo>
                <a:lnTo>
                  <a:pt x="39255" y="0"/>
                </a:lnTo>
                <a:lnTo>
                  <a:pt x="37855" y="1400"/>
                </a:lnTo>
                <a:lnTo>
                  <a:pt x="1400" y="1400"/>
                </a:lnTo>
                <a:close/>
              </a:path>
              <a:path fill="darken" w="39255" h="21600">
                <a:moveTo>
                  <a:pt x="39255" y="0"/>
                </a:moveTo>
                <a:lnTo>
                  <a:pt x="39255" y="21600"/>
                </a:lnTo>
                <a:lnTo>
                  <a:pt x="37855" y="20200"/>
                </a:lnTo>
                <a:lnTo>
                  <a:pt x="37855" y="1400"/>
                </a:lnTo>
                <a:close/>
              </a:path>
              <a:path fill="darkenLess" w="39255" h="21600">
                <a:moveTo>
                  <a:pt x="392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55" y="20200"/>
                </a:lnTo>
                <a:close/>
              </a:path>
              <a:path fill="lighten" w="392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255" h="21600">
                <a:moveTo>
                  <a:pt x="12621" y="3794"/>
                </a:moveTo>
                <a:lnTo>
                  <a:pt x="26634" y="10800"/>
                </a:lnTo>
                <a:lnTo>
                  <a:pt x="12621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826920" y="1844640"/>
            <a:ext cx="749016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рок окончен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сыл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classic-online.ru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muzofon.com›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images.yandex.ru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бник «Музыки» Критская Е.Д., Сергеева Г.П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иск «Времена года» А. Вивальд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30785" t="65663" r="6799" b="8040"/>
          <a:stretch/>
        </p:blipFill>
        <p:spPr>
          <a:xfrm>
            <a:off x="250920" y="404640"/>
            <a:ext cx="8642160" cy="6048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остепенно камерная музыка стала исполняться не только в узком кругу знатоков и любителей, но и в больших концертных залах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rcRect l="33710" t="52133" r="26730" b="27597"/>
          <a:stretch/>
        </p:blipFill>
        <p:spPr>
          <a:xfrm>
            <a:off x="539640" y="404640"/>
            <a:ext cx="8064720" cy="61135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ольский композитор – импровизатор, создатель инструментальной баллад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м написаны четыре баллады, кроме этого замечательные прелюдии и этюды. Один из них – этюд № 12 имеет название «Революционный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Фридерик Шопен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(1810-1849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4943" t="15126" r="4810" b="14678"/>
          <a:stretch/>
        </p:blipFill>
        <p:spPr>
          <a:xfrm>
            <a:off x="2484360" y="1557360"/>
            <a:ext cx="4268880" cy="47084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755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68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68" fill="hold"/>
                                        <p:tgtEl>
                                          <p:spTgt spid="2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68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68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32288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Ноктюрн – это слово в переводе означает «ночной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ородин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лексан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рфирье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833-188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rcRect l="19817" t="42014" r="60059" b="39949"/>
          <a:stretch/>
        </p:blipFill>
        <p:spPr>
          <a:xfrm>
            <a:off x="4284720" y="476280"/>
            <a:ext cx="4390920" cy="5627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8:49:39Z</dcterms:created>
  <dc:creator>ЗУВР</dc:creator>
  <dc:description/>
  <dc:language>en-US</dc:language>
  <cp:lastModifiedBy>User</cp:lastModifiedBy>
  <dcterms:modified xsi:type="dcterms:W3CDTF">2012-11-01T15:20:21Z</dcterms:modified>
  <cp:revision>14</cp:revision>
  <dc:subject/>
  <dc:title>Слайд 1</dc:title>
</cp:coreProperties>
</file>