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F94C-B4D9-491D-8CBF-C9C213A2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B50-14E2-44A4-ABE2-9993F093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779-9697-4D1C-992D-BAE77421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F17-7342-468D-BD7E-615E6FE8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0FAE-E1CE-4850-B6D9-C60049B5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A9EB-1819-4DDE-8ACA-A26AF53A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798C-BCB9-4F83-BAD8-196A6AA9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D81C-B8C3-4C71-9241-7E94E18A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0052-51D7-447C-9304-A96653E5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2EC9-0F59-4215-B948-1B10BE1F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DC6C-6E40-469F-A4BB-71F15C91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912-BFD9-4FD6-959D-BFD53CBE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A97A-CA78-4FB6-8AD5-45DE4DE1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0981-C2C5-4FCA-95DD-53B9EC07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1080-D090-4EE7-B00B-434FFFC6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54DA-269E-4DC1-B234-2B4E52EC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B6FB-0C94-49B8-B6B1-210A0120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9C7-1B98-466E-85A6-4995D358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C26-35E7-4BA2-ABA1-A35354EF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84C8-4FBC-4469-8D7C-C552EC3C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285C-8601-41F7-81D1-900DA0C8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EE7-8F0C-4624-9B81-8CB46ED5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A7D-A3A5-4680-B765-C5740B17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881B-23F1-44FB-AB65-5CC77B00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2F9B-7512-4B5B-ABB4-78BDAA5AB4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382D-D01B-49AF-BF9C-456FB0B3BB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692360" y="260280"/>
            <a:ext cx="597528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Образ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камерн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музы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8360" y="4941720"/>
            <a:ext cx="8207280" cy="14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зентацию приготовила: учитель музы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КОУ "Краснооктябрьская СОШ" Каргапольский рай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реванова Елена Александро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8640" t="32264" r="23339" b="26210"/>
          <a:stretch/>
        </p:blipFill>
        <p:spPr>
          <a:xfrm>
            <a:off x="971640" y="404640"/>
            <a:ext cx="7200720" cy="6085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3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04014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иш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зерца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ас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то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ж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ры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м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пе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нтонио Вивальд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1678- 1741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крипач – виртуоз, дирижер и педагог, один из величайших композиторов 17 -18 в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здатель инструментальн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нцерт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онио Виваль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678- 1741)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5529" r="0" b="11576"/>
          <a:stretch/>
        </p:blipFill>
        <p:spPr>
          <a:xfrm>
            <a:off x="2484360" y="1700280"/>
            <a:ext cx="419436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ршиной твор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вальди явля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икл «Времена год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427640" y="333360"/>
            <a:ext cx="442584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Цикл концертов «Времена года» -программное произведение, в основе которого лежат стихотворения самого композитор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сна грядет! И радостною пес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урчат ручьи. И праздничные в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фир разносит, точно волшеб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благовест, звучит небесный г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 быстро вдруг набегают бархатные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уч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сякает вихрь могучи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щебет вновь плывет в пространстве голубом.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3831" t="57426" r="0" b="1052"/>
          <a:stretch/>
        </p:blipFill>
        <p:spPr>
          <a:xfrm>
            <a:off x="395280" y="333360"/>
            <a:ext cx="8362800" cy="6191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95672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оганн Себастьян Б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8145" t="0" r="22958" b="0"/>
          <a:stretch/>
        </p:blipFill>
        <p:spPr>
          <a:xfrm>
            <a:off x="2124000" y="1557360"/>
            <a:ext cx="4714920" cy="5129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329528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йдите произведение А.Вивальд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99"/>
                </a:solidFill>
                <a:uFillTx/>
                <a:latin typeface="Arial"/>
              </a:rPr>
              <a:t>Этюд №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99"/>
                </a:solidFill>
                <a:uFillTx/>
                <a:latin typeface="Arial"/>
              </a:rPr>
              <a:t>Баллада «Лесной царь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99"/>
                </a:solidFill>
                <a:uFillTx/>
                <a:latin typeface="Arial"/>
              </a:rPr>
              <a:t>«Времена год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99"/>
                </a:solidFill>
                <a:uFillTx/>
                <a:latin typeface="Arial"/>
              </a:rPr>
              <a:t>Прелюдия №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99"/>
                </a:solidFill>
                <a:uFillTx/>
                <a:latin typeface="Arial"/>
              </a:rPr>
              <a:t>Квартет №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68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68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68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68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мерная музыка от лат.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mera –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комнат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писанная для небольшого состава исполнителей, звучала в домашней обстановке или при дворах знатных вельмож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Подумай ещё!!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6588000" y="5229360"/>
            <a:ext cx="1656000" cy="936360"/>
          </a:xfrm>
          <a:custGeom>
            <a:avLst/>
            <a:gdLst>
              <a:gd name="textAreaLeft" fmla="*/ 60480 w 1656000"/>
              <a:gd name="textAreaRight" fmla="*/ 1595520 w 165600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38194" h="21600">
                <a:moveTo>
                  <a:pt x="0" y="0"/>
                </a:moveTo>
                <a:lnTo>
                  <a:pt x="38194" y="0"/>
                </a:lnTo>
                <a:lnTo>
                  <a:pt x="38194" y="21600"/>
                </a:lnTo>
                <a:lnTo>
                  <a:pt x="0" y="21600"/>
                </a:lnTo>
                <a:close/>
              </a:path>
              <a:path fill="lightenLess" w="38194" h="21600">
                <a:moveTo>
                  <a:pt x="0" y="0"/>
                </a:moveTo>
                <a:lnTo>
                  <a:pt x="38194" y="0"/>
                </a:lnTo>
                <a:lnTo>
                  <a:pt x="36794" y="1400"/>
                </a:lnTo>
                <a:lnTo>
                  <a:pt x="1400" y="1400"/>
                </a:lnTo>
                <a:close/>
              </a:path>
              <a:path fill="darken" w="38194" h="21600">
                <a:moveTo>
                  <a:pt x="38194" y="0"/>
                </a:moveTo>
                <a:lnTo>
                  <a:pt x="38194" y="21600"/>
                </a:lnTo>
                <a:lnTo>
                  <a:pt x="36794" y="20200"/>
                </a:lnTo>
                <a:lnTo>
                  <a:pt x="36794" y="1400"/>
                </a:lnTo>
                <a:close/>
              </a:path>
              <a:path fill="darkenLess" w="38194" h="21600">
                <a:moveTo>
                  <a:pt x="38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94" y="20200"/>
                </a:lnTo>
                <a:close/>
              </a:path>
              <a:path fill="lighten" w="38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94" h="21600">
                <a:moveTo>
                  <a:pt x="12091" y="10800"/>
                </a:moveTo>
                <a:lnTo>
                  <a:pt x="26104" y="3794"/>
                </a:lnTo>
                <a:lnTo>
                  <a:pt x="26104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Молодец!!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6156360" y="5084640"/>
            <a:ext cx="1440000" cy="720720"/>
          </a:xfrm>
          <a:custGeom>
            <a:avLst/>
            <a:gdLst>
              <a:gd name="textAreaLeft" fmla="*/ 46440 w 1440000"/>
              <a:gd name="textAreaRight" fmla="*/ 1393560 w 144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3146" h="21600">
                <a:moveTo>
                  <a:pt x="0" y="0"/>
                </a:moveTo>
                <a:lnTo>
                  <a:pt x="43146" y="0"/>
                </a:lnTo>
                <a:lnTo>
                  <a:pt x="43146" y="21600"/>
                </a:lnTo>
                <a:lnTo>
                  <a:pt x="0" y="21600"/>
                </a:lnTo>
                <a:close/>
              </a:path>
              <a:path fill="lightenLess" w="43146" h="21600">
                <a:moveTo>
                  <a:pt x="0" y="0"/>
                </a:moveTo>
                <a:lnTo>
                  <a:pt x="43146" y="0"/>
                </a:lnTo>
                <a:lnTo>
                  <a:pt x="41746" y="1400"/>
                </a:lnTo>
                <a:lnTo>
                  <a:pt x="1400" y="1400"/>
                </a:lnTo>
                <a:close/>
              </a:path>
              <a:path fill="darken" w="43146" h="21600">
                <a:moveTo>
                  <a:pt x="43146" y="0"/>
                </a:moveTo>
                <a:lnTo>
                  <a:pt x="43146" y="21600"/>
                </a:lnTo>
                <a:lnTo>
                  <a:pt x="41746" y="20200"/>
                </a:lnTo>
                <a:lnTo>
                  <a:pt x="41746" y="1400"/>
                </a:lnTo>
                <a:close/>
              </a:path>
              <a:path fill="darkenLess" w="43146" h="21600">
                <a:moveTo>
                  <a:pt x="431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6" y="20200"/>
                </a:lnTo>
                <a:close/>
              </a:path>
              <a:path fill="lighten" w="431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6" h="21600">
                <a:moveTo>
                  <a:pt x="14567" y="3794"/>
                </a:moveTo>
                <a:lnTo>
                  <a:pt x="28580" y="10800"/>
                </a:lnTo>
                <a:lnTo>
                  <a:pt x="14567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оотнеси имена и фамилии композиторов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ександр                        Б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оганн                              Шоп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идерик                         Бород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од                                 Виваль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онио                           Дебюс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равни свои ответы с правильны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ександр Бород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оганн Себастьян Б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идерик Шоп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од Дебюс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тонио Виваль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ыбери из предложенных, портрет И.С. Бах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8145" t="0" r="22958" b="0"/>
          <a:stretch/>
        </p:blipFill>
        <p:spPr>
          <a:xfrm>
            <a:off x="3203640" y="1700280"/>
            <a:ext cx="2952720" cy="2986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rcRect l="0" t="5529" r="0" b="11576"/>
          <a:stretch/>
        </p:blipFill>
        <p:spPr>
          <a:xfrm>
            <a:off x="395280" y="1700280"/>
            <a:ext cx="2589120" cy="3024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rcRect l="4943" t="15126" r="4810" b="14678"/>
          <a:stretch/>
        </p:blipFill>
        <p:spPr>
          <a:xfrm>
            <a:off x="6156360" y="1628640"/>
            <a:ext cx="2701800" cy="29797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324000" y="486900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419640" y="486900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300720" y="4797360"/>
            <a:ext cx="3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Не верно!!!!!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64360" y="5157720"/>
            <a:ext cx="1584360" cy="935280"/>
          </a:xfrm>
          <a:custGeom>
            <a:avLst/>
            <a:gdLst>
              <a:gd name="textAreaLeft" fmla="*/ 60480 w 1584360"/>
              <a:gd name="textAreaRight" fmla="*/ 1523880 w 158436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36585" h="21600">
                <a:moveTo>
                  <a:pt x="0" y="0"/>
                </a:moveTo>
                <a:lnTo>
                  <a:pt x="36585" y="0"/>
                </a:lnTo>
                <a:lnTo>
                  <a:pt x="36585" y="21600"/>
                </a:lnTo>
                <a:lnTo>
                  <a:pt x="0" y="21600"/>
                </a:lnTo>
                <a:close/>
              </a:path>
              <a:path fill="lightenLess" w="36585" h="21600">
                <a:moveTo>
                  <a:pt x="0" y="0"/>
                </a:moveTo>
                <a:lnTo>
                  <a:pt x="36585" y="0"/>
                </a:lnTo>
                <a:lnTo>
                  <a:pt x="35185" y="1400"/>
                </a:lnTo>
                <a:lnTo>
                  <a:pt x="1400" y="1400"/>
                </a:lnTo>
                <a:close/>
              </a:path>
              <a:path fill="darken" w="36585" h="21600">
                <a:moveTo>
                  <a:pt x="36585" y="0"/>
                </a:moveTo>
                <a:lnTo>
                  <a:pt x="36585" y="21600"/>
                </a:lnTo>
                <a:lnTo>
                  <a:pt x="35185" y="20200"/>
                </a:lnTo>
                <a:lnTo>
                  <a:pt x="35185" y="1400"/>
                </a:lnTo>
                <a:close/>
              </a:path>
              <a:path fill="darkenLess" w="36585" h="21600">
                <a:moveTo>
                  <a:pt x="36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85" y="20200"/>
                </a:lnTo>
                <a:close/>
              </a:path>
              <a:path fill="lighten" w="36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85" h="21600">
                <a:moveTo>
                  <a:pt x="11286" y="10800"/>
                </a:moveTo>
                <a:lnTo>
                  <a:pt x="25299" y="3794"/>
                </a:lnTo>
                <a:lnTo>
                  <a:pt x="25299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Вы правы!!!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7236000" y="5373720"/>
            <a:ext cx="1439640" cy="792000"/>
          </a:xfrm>
          <a:custGeom>
            <a:avLst/>
            <a:gdLst>
              <a:gd name="textAreaLeft" fmla="*/ 51120 w 1439640"/>
              <a:gd name="textAreaRight" fmla="*/ 1388520 w 143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9255" h="21600">
                <a:moveTo>
                  <a:pt x="0" y="0"/>
                </a:moveTo>
                <a:lnTo>
                  <a:pt x="39255" y="0"/>
                </a:lnTo>
                <a:lnTo>
                  <a:pt x="39255" y="21600"/>
                </a:lnTo>
                <a:lnTo>
                  <a:pt x="0" y="21600"/>
                </a:lnTo>
                <a:close/>
              </a:path>
              <a:path fill="lightenLess" w="39255" h="21600">
                <a:moveTo>
                  <a:pt x="0" y="0"/>
                </a:moveTo>
                <a:lnTo>
                  <a:pt x="39255" y="0"/>
                </a:lnTo>
                <a:lnTo>
                  <a:pt x="37855" y="1400"/>
                </a:lnTo>
                <a:lnTo>
                  <a:pt x="1400" y="1400"/>
                </a:lnTo>
                <a:close/>
              </a:path>
              <a:path fill="darken" w="39255" h="21600">
                <a:moveTo>
                  <a:pt x="39255" y="0"/>
                </a:moveTo>
                <a:lnTo>
                  <a:pt x="39255" y="21600"/>
                </a:lnTo>
                <a:lnTo>
                  <a:pt x="37855" y="20200"/>
                </a:lnTo>
                <a:lnTo>
                  <a:pt x="37855" y="1400"/>
                </a:lnTo>
                <a:close/>
              </a:path>
              <a:path fill="darkenLess" w="39255" h="21600">
                <a:moveTo>
                  <a:pt x="39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55" y="20200"/>
                </a:lnTo>
                <a:close/>
              </a:path>
              <a:path fill="lighten" w="39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55" h="21600">
                <a:moveTo>
                  <a:pt x="12621" y="3794"/>
                </a:moveTo>
                <a:lnTo>
                  <a:pt x="26634" y="10800"/>
                </a:lnTo>
                <a:lnTo>
                  <a:pt x="12621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826920" y="1844640"/>
            <a:ext cx="74901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 оконче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сыл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lassic-online.ru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muzofon.com›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images.yandex.ru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«Музыки» Критская Е.Д., Сергеева Г.П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ск «Времена года» А. Виваль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30785" t="65663" r="6799" b="8040"/>
          <a:stretch/>
        </p:blipFill>
        <p:spPr>
          <a:xfrm>
            <a:off x="250920" y="404640"/>
            <a:ext cx="8642160" cy="6048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степенно камерная музыка стала исполняться не только в узком кругу знатоков и любителей, но и в больших концертных зала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33710" t="52133" r="26730" b="27597"/>
          <a:stretch/>
        </p:blipFill>
        <p:spPr>
          <a:xfrm>
            <a:off x="539640" y="404640"/>
            <a:ext cx="8064720" cy="6113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льский композитор – импровизатор, создатель инструментальной балла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м написаны четыре баллады, кроме этого замечательные прелюдии и этюды. Один из них – этюд № 12 имеет название «Революционный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Фридерик Шопен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(1810-1849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943" t="15126" r="4810" b="14678"/>
          <a:stretch/>
        </p:blipFill>
        <p:spPr>
          <a:xfrm>
            <a:off x="2484360" y="1557360"/>
            <a:ext cx="4268880" cy="4708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55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32288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октюрн – это слово в переводе означает «ночной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роди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лексан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рфирь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833-188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19817" t="42014" r="60059" b="39949"/>
          <a:stretch/>
        </p:blipFill>
        <p:spPr>
          <a:xfrm>
            <a:off x="4284720" y="476280"/>
            <a:ext cx="4390920" cy="5627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8:49:39Z</dcterms:created>
  <dc:creator>ЗУВР</dc:creator>
  <dc:description/>
  <dc:language>en-US</dc:language>
  <cp:lastModifiedBy>User</cp:lastModifiedBy>
  <dcterms:modified xsi:type="dcterms:W3CDTF">2012-11-01T15:20:21Z</dcterms:modified>
  <cp:revision>14</cp:revision>
  <dc:subject/>
  <dc:title>Слайд 1</dc:title>
</cp:coreProperties>
</file>