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20E-39F5-4F38-B517-177B96EA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C18-0E07-4A75-8459-80077625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4A6-2848-4F63-8AF8-FC5F2E33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08E-A5DD-410A-A078-1C39EAF7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0CC-4491-4A79-88D0-3F08248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C54-DC1E-4E50-9140-6A8E3BC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D05-AB25-4A89-AC49-BD30AB73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508-BDDC-4F71-8B64-19244FBE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E34-A88C-44A6-B43A-33B9949E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58B-55A9-490A-8E55-F93C62E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1AD-9656-4FDC-A4F3-0E04609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48E-21AC-4E42-B5C7-21EA729A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90A-CD71-4075-9B0E-E9FEDD012D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800600"/>
            <a:ext cx="48769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666880" y="1752480"/>
            <a:ext cx="57913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"Вместе за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безопасность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дорожного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движения"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1066680" y="7621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4" descr="иии"/>
          <p:cNvPicPr/>
          <p:nvPr/>
        </p:nvPicPr>
        <p:blipFill>
          <a:blip r:embed="rId1"/>
          <a:stretch/>
        </p:blipFill>
        <p:spPr>
          <a:xfrm>
            <a:off x="304920" y="228600"/>
            <a:ext cx="3124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Авто- изо- обозрение – серия плакатов худ. Б.Эренбу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“Дорогу осилит идущий” дорожная грамота в 100 вопросах и ответах . Ленинград,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»О правилах дорожного движения».Составитель Н.А. Извекова,Москва «Просвещение»,198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“Светофор” (рассказы, стихи, сказки, очерки). Составитель Г.Юрмин. Москва. “Детская литература”, 199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“Правила дорожного движение для младшего школьника “И.Э. Руюлях. Москва. “Просвещение”. 1983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“Хозяин дороги” – дидактический материал по правилам уличного движения. Уфа. 199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“Школа пешехода”. М.Кривин и О.Ольгин. Изд-во “Малыш”,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 должны уважать дорогу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бы дорога уважала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62320" y="2133720"/>
            <a:ext cx="4471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   ЗА 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Picture 5" descr="чччч"/>
          <p:cNvPicPr/>
          <p:nvPr/>
        </p:nvPicPr>
        <p:blipFill>
          <a:blip r:embed="rId6"/>
          <a:stretch/>
        </p:blipFill>
        <p:spPr>
          <a:xfrm>
            <a:off x="6934320" y="1600200"/>
            <a:ext cx="1904760" cy="19051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0" name="Picture 7" descr="1"/>
          <p:cNvPicPr/>
          <p:nvPr/>
        </p:nvPicPr>
        <p:blipFill>
          <a:blip r:embed="rId7"/>
          <a:stretch/>
        </p:blipFill>
        <p:spPr>
          <a:xfrm>
            <a:off x="304920" y="4419720"/>
            <a:ext cx="2666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астники дорожного дви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53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, шофер, пассажир — люди, от поведения которых зависит порядок на дорогах. Каждый из них имеет свои правила. Любой человек может быть и пешеходом, и водителем, и пассажиром, поэтому правила дорожного движения должны изучать и знать как взрослые люди, так и д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кккк"/>
          <p:cNvPicPr/>
          <p:nvPr/>
        </p:nvPicPr>
        <p:blipFill>
          <a:blip r:embed="rId1"/>
          <a:stretch/>
        </p:blipFill>
        <p:spPr>
          <a:xfrm>
            <a:off x="533520" y="1143000"/>
            <a:ext cx="2238120" cy="167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77н7н"/>
          <p:cNvPicPr/>
          <p:nvPr/>
        </p:nvPicPr>
        <p:blipFill>
          <a:blip r:embed="rId2"/>
          <a:stretch/>
        </p:blipFill>
        <p:spPr>
          <a:xfrm>
            <a:off x="304920" y="2895480"/>
            <a:ext cx="31622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0480" y="1600200"/>
            <a:ext cx="565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школе вы – ученик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 театре – зрител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 музее, в зоопарке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мы посетител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коль на улицу ты вышел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й, приятель, наперед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х названий стал ты выш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л ты сраз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ШЕ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ккккк"/>
          <p:cNvPicPr/>
          <p:nvPr/>
        </p:nvPicPr>
        <p:blipFill>
          <a:blip r:embed="rId1"/>
          <a:stretch/>
        </p:blipFill>
        <p:spPr>
          <a:xfrm>
            <a:off x="762120" y="1752480"/>
            <a:ext cx="2238120" cy="167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7"/>
          <p:cNvPicPr/>
          <p:nvPr/>
        </p:nvPicPr>
        <p:blipFill>
          <a:blip r:embed="rId2"/>
          <a:stretch/>
        </p:blipFill>
        <p:spPr>
          <a:xfrm>
            <a:off x="152280" y="35053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0400" y="274320"/>
            <a:ext cx="521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Ш ДРУГ- СВЕТО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иии"/>
          <p:cNvPicPr/>
          <p:nvPr/>
        </p:nvPicPr>
        <p:blipFill>
          <a:blip r:embed="rId1"/>
          <a:stretch/>
        </p:blipFill>
        <p:spPr>
          <a:xfrm>
            <a:off x="304920" y="228600"/>
            <a:ext cx="3124080" cy="3016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"/>
          <p:cNvPicPr/>
          <p:nvPr/>
        </p:nvPicPr>
        <p:blipFill>
          <a:blip r:embed="rId2"/>
          <a:stretch/>
        </p:blipFill>
        <p:spPr>
          <a:xfrm>
            <a:off x="2971800" y="2133720"/>
            <a:ext cx="5999040" cy="4498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276720" y="2362320"/>
            <a:ext cx="16761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5257800" y="2362320"/>
            <a:ext cx="15238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086600" y="2362320"/>
            <a:ext cx="15238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WordArt 9"/>
          <p:cNvSpPr txBox="1"/>
          <p:nvPr/>
        </p:nvSpPr>
        <p:spPr>
          <a:xfrm>
            <a:off x="3505320" y="243828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ОЙ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1" name="WordArt 10"/>
          <p:cNvSpPr txBox="1"/>
          <p:nvPr/>
        </p:nvSpPr>
        <p:spPr>
          <a:xfrm>
            <a:off x="5486400" y="2743200"/>
            <a:ext cx="127620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ЖДИ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2" name="WordArt 11"/>
          <p:cNvSpPr txBox="1"/>
          <p:nvPr/>
        </p:nvSpPr>
        <p:spPr>
          <a:xfrm>
            <a:off x="7315200" y="2438280"/>
            <a:ext cx="1143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ХОД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4876920" y="5791320"/>
            <a:ext cx="2438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14"/>
          <p:cNvSpPr txBox="1"/>
          <p:nvPr/>
        </p:nvSpPr>
        <p:spPr>
          <a:xfrm>
            <a:off x="5181480" y="5943600"/>
            <a:ext cx="1752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5"/>
          <p:cNvSpPr txBox="1"/>
          <p:nvPr/>
        </p:nvSpPr>
        <p:spPr>
          <a:xfrm>
            <a:off x="228600" y="3886200"/>
            <a:ext cx="259092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«Дисциплина на улице –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лог безопасности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удьте внимательны на дорогах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30640" y="1600200"/>
            <a:ext cx="455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 дорожных на св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ал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ы их выучить нам не мешало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основное из правил движения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ть как таблицу должны умножен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ииииирпп"/>
          <p:cNvPicPr/>
          <p:nvPr/>
        </p:nvPicPr>
        <p:blipFill>
          <a:blip r:embed="rId1"/>
          <a:stretch/>
        </p:blipFill>
        <p:spPr>
          <a:xfrm>
            <a:off x="380880" y="1752480"/>
            <a:ext cx="36576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ПОВЕДЕ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ядом с проезжей ча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84480" y="1600200"/>
            <a:ext cx="470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гда не играй рядом с проезжей частью доро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п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дь внимателен даже на пешеходном переходе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ыбегай из - за   стоящего транспорта - быстро движущийся автомоби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ко остановиться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грай на проезжей части дороги даже возле двора собственного дома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5"/>
          <p:cNvPicPr/>
          <p:nvPr/>
        </p:nvPicPr>
        <p:blipFill>
          <a:blip r:embed="rId1"/>
          <a:stretch/>
        </p:blipFill>
        <p:spPr>
          <a:xfrm>
            <a:off x="762120" y="4038480"/>
            <a:ext cx="33526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7"/>
          <p:cNvPicPr/>
          <p:nvPr/>
        </p:nvPicPr>
        <p:blipFill>
          <a:blip r:embed="rId2"/>
          <a:stretch/>
        </p:blipFill>
        <p:spPr>
          <a:xfrm>
            <a:off x="380880" y="1531800"/>
            <a:ext cx="3505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ДВИЖЕНИЯ ПЕШЕХОДОВ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 населённых пун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11760" y="1600200"/>
            <a:ext cx="477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нет тротуара или пешеходной дорожки, можно идти по обочине до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выходя на проезж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и проезжую часть дороги по кратчайшему пути на участке, где дорога хорошо просматривается в обе стороны, и убеди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ереход безоп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8"/>
          <p:cNvPicPr/>
          <p:nvPr/>
        </p:nvPicPr>
        <p:blipFill>
          <a:blip r:embed="rId1"/>
          <a:stretch/>
        </p:blipFill>
        <p:spPr>
          <a:xfrm>
            <a:off x="609480" y="1724040"/>
            <a:ext cx="3048120" cy="221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76" name="Picture 6" descr="1"/>
          <p:cNvPicPr/>
          <p:nvPr/>
        </p:nvPicPr>
        <p:blipFill>
          <a:blip r:embed="rId2"/>
          <a:stretch/>
        </p:blipFill>
        <p:spPr>
          <a:xfrm>
            <a:off x="228600" y="3581280"/>
            <a:ext cx="3886200" cy="2868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ВИЛА ПОВЕДЕНИЯ ПАССАЖ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30280" y="1600200"/>
            <a:ext cx="455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язательно пристегнись при движении в автомоб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движении в автобусе, троллейбусе  займи своё посадочное место или стой держась за поруч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бегай и не высовывайся в оконные проё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льзя мешать водителю и отвлекать его во время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Копия 6"/>
          <p:cNvPicPr/>
          <p:nvPr/>
        </p:nvPicPr>
        <p:blipFill>
          <a:blip r:embed="rId1"/>
          <a:stretch/>
        </p:blipFill>
        <p:spPr>
          <a:xfrm>
            <a:off x="457200" y="1447920"/>
            <a:ext cx="2932200" cy="405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533520" y="1447920"/>
            <a:ext cx="281916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9" descr="555"/>
          <p:cNvPicPr/>
          <p:nvPr/>
        </p:nvPicPr>
        <p:blipFill>
          <a:blip r:embed="rId2"/>
          <a:stretch/>
        </p:blipFill>
        <p:spPr>
          <a:xfrm>
            <a:off x="1523880" y="3657600"/>
            <a:ext cx="2590920" cy="208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2" name="Rectangle 10"/>
          <p:cNvSpPr/>
          <p:nvPr/>
        </p:nvSpPr>
        <p:spPr>
          <a:xfrm>
            <a:off x="457200" y="5029200"/>
            <a:ext cx="10666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а5акак5а5к"/>
          <p:cNvPicPr/>
          <p:nvPr/>
        </p:nvPicPr>
        <p:blipFill>
          <a:blip r:embed="rId1"/>
          <a:stretch/>
        </p:blipFill>
        <p:spPr>
          <a:xfrm>
            <a:off x="1600200" y="1447920"/>
            <a:ext cx="6135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3-04-03T10:59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