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67C-C8E0-47D1-BE85-F58A258E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578-09A1-4981-B63D-309A93D3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081-02C2-4B40-ADEF-78871426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CEF-6CF4-4E0F-BD49-100AB8CC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9CE-154D-4F4A-96AA-BA01682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A45-B9D6-4714-A3C8-C74D6E3E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F1B-337C-46FC-98CC-CC73F65B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EF4-9492-4B9C-B11A-AD308380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B16-3274-43E8-B7AE-D15B1141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A01-E449-434A-89F3-8E64EBBD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4DF-9E40-4620-A2F2-F6C4E8C3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DE9-D0DF-45D1-853F-79B4E1B7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52A9-DB0C-44E8-9846-36E1861C72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2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800600"/>
            <a:ext cx="4876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666880" y="1752480"/>
            <a:ext cx="57913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"Вместе за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безопасность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дорожного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движения"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066680" y="7621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4" descr="иии"/>
          <p:cNvPicPr/>
          <p:nvPr/>
        </p:nvPicPr>
        <p:blipFill>
          <a:blip r:embed="rId1"/>
          <a:stretch/>
        </p:blipFill>
        <p:spPr>
          <a:xfrm>
            <a:off x="304920" y="228600"/>
            <a:ext cx="3124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Авто- изо- обозрение – серия плакатов худ. Б.Эренбу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“Дорогу осилит идущий” дорожная грамота в 100 вопросах и ответах . Ленинград,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»О правилах дорожного движения».Составитель Н.А. Извекова,Москва «Просвещение»,198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“Светофор” (рассказы, стихи, сказки, очерки). Составитель Г.Юрмин. Москва. “Детская литература”, 199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“Правила дорожного движение для младшего школьника “И.Э. Руюлях. Москва. “Просвещение”. 1983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“Хозяин дороги” – дидактический материал по правилам уличного движения. Уфа. 199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“Школа пешехода”. М.Кривин и О.Ольгин. Изд-во “Малыш”,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ы должны уважать дорогу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бы дорога уважал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362320" y="2133720"/>
            <a:ext cx="4471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   ЗА 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Picture 5" descr="чччч"/>
          <p:cNvPicPr/>
          <p:nvPr/>
        </p:nvPicPr>
        <p:blipFill>
          <a:blip r:embed="rId6"/>
          <a:stretch/>
        </p:blipFill>
        <p:spPr>
          <a:xfrm>
            <a:off x="6934320" y="1600200"/>
            <a:ext cx="1904760" cy="19051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90" name="Picture 7" descr="1"/>
          <p:cNvPicPr/>
          <p:nvPr/>
        </p:nvPicPr>
        <p:blipFill>
          <a:blip r:embed="rId7"/>
          <a:stretch/>
        </p:blipFill>
        <p:spPr>
          <a:xfrm>
            <a:off x="304920" y="4419720"/>
            <a:ext cx="2666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астники дорожного движ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52680" y="1600200"/>
            <a:ext cx="53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шеход, шофер, пассажир — люди, от поведения которых зависит порядок на дорогах. Каждый из них имеет свои правила. Любой человек может быть и пешеходом, и водителем, и пассажиром, поэтому правила дорожного движения должны изучать и знать как взрослые люди, так и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кккк"/>
          <p:cNvPicPr/>
          <p:nvPr/>
        </p:nvPicPr>
        <p:blipFill>
          <a:blip r:embed="rId1"/>
          <a:stretch/>
        </p:blipFill>
        <p:spPr>
          <a:xfrm>
            <a:off x="533520" y="1143000"/>
            <a:ext cx="2238120" cy="167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77н7н"/>
          <p:cNvPicPr/>
          <p:nvPr/>
        </p:nvPicPr>
        <p:blipFill>
          <a:blip r:embed="rId2"/>
          <a:stretch/>
        </p:blipFill>
        <p:spPr>
          <a:xfrm>
            <a:off x="304920" y="2895480"/>
            <a:ext cx="31622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30480" y="1600200"/>
            <a:ext cx="5656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школе вы – ученики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 театре – зрители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 музее, в зоопарке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мы посетител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коль на улицу ты вышел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й, приятель, наперед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х названий стал ты выш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л ты сраз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Ш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ккккк"/>
          <p:cNvPicPr/>
          <p:nvPr/>
        </p:nvPicPr>
        <p:blipFill>
          <a:blip r:embed="rId1"/>
          <a:stretch/>
        </p:blipFill>
        <p:spPr>
          <a:xfrm>
            <a:off x="762120" y="1752480"/>
            <a:ext cx="2238120" cy="167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67"/>
          <p:cNvPicPr/>
          <p:nvPr/>
        </p:nvPicPr>
        <p:blipFill>
          <a:blip r:embed="rId2"/>
          <a:stretch/>
        </p:blipFill>
        <p:spPr>
          <a:xfrm>
            <a:off x="152280" y="35053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0400" y="274320"/>
            <a:ext cx="521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Ш ДРУГ- СВЕТОФ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иии"/>
          <p:cNvPicPr/>
          <p:nvPr/>
        </p:nvPicPr>
        <p:blipFill>
          <a:blip r:embed="rId1"/>
          <a:stretch/>
        </p:blipFill>
        <p:spPr>
          <a:xfrm>
            <a:off x="304920" y="228600"/>
            <a:ext cx="3124080" cy="3016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2"/>
          <p:cNvPicPr/>
          <p:nvPr/>
        </p:nvPicPr>
        <p:blipFill>
          <a:blip r:embed="rId2"/>
          <a:stretch/>
        </p:blipFill>
        <p:spPr>
          <a:xfrm>
            <a:off x="2971800" y="2133720"/>
            <a:ext cx="5999040" cy="4498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3276720" y="2362320"/>
            <a:ext cx="16761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5257800" y="2362320"/>
            <a:ext cx="15238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086600" y="2362320"/>
            <a:ext cx="15238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3505320" y="2438280"/>
            <a:ext cx="1371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ОЙ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1" name="WordArt 10"/>
          <p:cNvSpPr txBox="1"/>
          <p:nvPr/>
        </p:nvSpPr>
        <p:spPr>
          <a:xfrm>
            <a:off x="5486400" y="2743200"/>
            <a:ext cx="1276200" cy="380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ЖДИ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2" name="WordArt 11"/>
          <p:cNvSpPr txBox="1"/>
          <p:nvPr/>
        </p:nvSpPr>
        <p:spPr>
          <a:xfrm>
            <a:off x="7315200" y="2438280"/>
            <a:ext cx="114300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ХОДИ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4876920" y="5791320"/>
            <a:ext cx="2438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14"/>
          <p:cNvSpPr txBox="1"/>
          <p:nvPr/>
        </p:nvSpPr>
        <p:spPr>
          <a:xfrm>
            <a:off x="5181480" y="5943600"/>
            <a:ext cx="1752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ОМНИ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5"/>
          <p:cNvSpPr txBox="1"/>
          <p:nvPr/>
        </p:nvSpPr>
        <p:spPr>
          <a:xfrm>
            <a:off x="228600" y="3886200"/>
            <a:ext cx="259092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«Дисциплина на улице –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лог безопасности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удьте внимательны на дорогах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30640" y="160020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 дорожных на св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мало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бы их выучить нам не мешало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основное из правил движения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ть как таблицу должны умножень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ииииирпп"/>
          <p:cNvPicPr/>
          <p:nvPr/>
        </p:nvPicPr>
        <p:blipFill>
          <a:blip r:embed="rId1"/>
          <a:stretch/>
        </p:blipFill>
        <p:spPr>
          <a:xfrm>
            <a:off x="380880" y="1752480"/>
            <a:ext cx="36576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ИЛА ПОВЕДЕНИ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ядом с проезжей ча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84480" y="1600200"/>
            <a:ext cx="470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да не играй рядом с проезжей частью доро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п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ь внимателен даже на пешеходном переходе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ыбегай из - за   стоящего транспорта - быстро движущийся автомоби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ко остановиться не мо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играй на проезжей части дороги даже возле двора собственного дома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5"/>
          <p:cNvPicPr/>
          <p:nvPr/>
        </p:nvPicPr>
        <p:blipFill>
          <a:blip r:embed="rId1"/>
          <a:stretch/>
        </p:blipFill>
        <p:spPr>
          <a:xfrm>
            <a:off x="762120" y="4038480"/>
            <a:ext cx="33526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7"/>
          <p:cNvPicPr/>
          <p:nvPr/>
        </p:nvPicPr>
        <p:blipFill>
          <a:blip r:embed="rId2"/>
          <a:stretch/>
        </p:blipFill>
        <p:spPr>
          <a:xfrm>
            <a:off x="380880" y="1531800"/>
            <a:ext cx="3505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ИЛА ДВИЖЕНИЯ ПЕШЕХОДОВ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 населённых пун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11760" y="1600200"/>
            <a:ext cx="477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нет тротуара или пешеходной дорожки, можно идти по обочине доро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ыходя на проезж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ходи проезжую часть дороги по кратчайшему пути на участке, где дорога хорошо просматривается в обе стороны, и убеди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ереход безопа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8"/>
          <p:cNvPicPr/>
          <p:nvPr/>
        </p:nvPicPr>
        <p:blipFill>
          <a:blip r:embed="rId1"/>
          <a:stretch/>
        </p:blipFill>
        <p:spPr>
          <a:xfrm>
            <a:off x="609480" y="1724040"/>
            <a:ext cx="3048120" cy="2216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6" name="Picture 6" descr="1"/>
          <p:cNvPicPr/>
          <p:nvPr/>
        </p:nvPicPr>
        <p:blipFill>
          <a:blip r:embed="rId2"/>
          <a:stretch/>
        </p:blipFill>
        <p:spPr>
          <a:xfrm>
            <a:off x="228600" y="3581280"/>
            <a:ext cx="3886200" cy="2868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ИЛА ПОВЕДЕНИЯ ПАССАЖ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30280" y="1600200"/>
            <a:ext cx="455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язательно пристегнись при движении в автомоби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движении в автобусе, троллейбусе  займи своё посадочное место или стой держась за поруч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бегай и не высовывайся в оконные проё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мешать водителю и отвлекать его во время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Копия 6"/>
          <p:cNvPicPr/>
          <p:nvPr/>
        </p:nvPicPr>
        <p:blipFill>
          <a:blip r:embed="rId1"/>
          <a:stretch/>
        </p:blipFill>
        <p:spPr>
          <a:xfrm>
            <a:off x="457200" y="1447920"/>
            <a:ext cx="2932200" cy="4057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533520" y="1447920"/>
            <a:ext cx="281916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9" descr="555"/>
          <p:cNvPicPr/>
          <p:nvPr/>
        </p:nvPicPr>
        <p:blipFill>
          <a:blip r:embed="rId2"/>
          <a:stretch/>
        </p:blipFill>
        <p:spPr>
          <a:xfrm>
            <a:off x="1523880" y="3657600"/>
            <a:ext cx="2590920" cy="208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2" name="Rectangle 10"/>
          <p:cNvSpPr/>
          <p:nvPr/>
        </p:nvSpPr>
        <p:spPr>
          <a:xfrm>
            <a:off x="457200" y="5029200"/>
            <a:ext cx="106668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ка5акак5а5к"/>
          <p:cNvPicPr/>
          <p:nvPr/>
        </p:nvPicPr>
        <p:blipFill>
          <a:blip r:embed="rId1"/>
          <a:stretch/>
        </p:blipFill>
        <p:spPr>
          <a:xfrm>
            <a:off x="1600200" y="1447920"/>
            <a:ext cx="61358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3-04-03T10:59:0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