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14.gif" ContentType="image/gif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AF9-A07B-4282-BBED-9F8E39E4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0B8-BC5A-4076-AEEE-DEA3FC45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C85-263B-4F95-A5A3-4ABD044C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AED-910C-40F7-8D5D-D0FA8800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CA84-4145-49B7-B233-1C9C7C77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6C47-AD17-4340-B93B-DB57E127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A89E-7B7C-4B8A-88A5-A129F36B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5842-5EF9-4EBE-AA13-D4796819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363E-4A9D-4588-8F74-53B3C0CD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24A1-A0B0-4A0D-94DF-DAAB0F93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D4C8-971C-4FEA-88F9-58BF2206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81A-4B01-4FFC-A40E-0A7650DF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81CC-F14C-49D6-BC06-8E5A7B1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71AE-88F6-48FC-879D-545E98E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B852-88A0-4C6D-A4E5-F04A3AA0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3C8B-FCF7-4B64-93DF-3D4F41B5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2D9F-CE3B-424A-9A2A-39E43307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A2E-9667-48BC-9ED3-21BCA562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255-4322-480E-9DA9-831148C6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0E6-DF4C-4B3C-A9A4-49ED5C1D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481-3E58-4738-999C-DEE80EC7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BBC-716C-443C-9409-68ED2E79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365-681F-481B-80B1-8B0088F5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486-8634-40E5-AE4A-58BD8FC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8853-72FB-4754-A5CB-68BB314E5D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F04C-998E-4122-864D-35B17A7EE1D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0&amp;ed=1&amp;text=&#1075;&#1086;&#1088;&#1086;&#1076;&#1077;&#1094;&#1082;&#1072;&#1103;%20&#1088;&#1086;&#1089;&#1087;&#1080;&#1089;&#1100;&amp;spsite=www.stihi.ru&amp;img_url=demiart.ru%2Fforum%2Fuploads%2Fpost-25406-1178993159.gif&amp;rpt=s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668240"/>
            <a:ext cx="7989840" cy="2982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ТВОРЧЕСКИЙ ПРОЕКТ ПО ИЗОБРАЗИТЕЛЬНОМУ ИСКУССТВУ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2920" y="4624560"/>
            <a:ext cx="723276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Выполнила:  Кочергина Светла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чащаяся 7 класс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                 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уководитель: Сивцова Л.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читель  изобразительного искусства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1 категор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635280" y="60069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Журавлиха 2012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1187280" y="333360"/>
            <a:ext cx="6121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ородецкая роспи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9" name="Picture 5" descr="i?id=40761537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149720"/>
            <a:ext cx="237636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5. Достоинства и недостатки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Достоинства данного проекта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- во первых, необходимая вещь на кухне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- во вторых, универсальн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- в третьих, легка в изготовлении,   экономичн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Недостатк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9933"/>
                </a:solidFill>
                <a:latin typeface="Verdana"/>
              </a:rPr>
              <a:t>- изготовлена из мягкой пород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3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3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3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6. Экономический расч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Безымянный4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 по тем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наши дни, когда товар промышленного производства заполнили наш быт, я предлагаю сделать своими руками свой дом внеся элементы творчества и индивидуальности в окружающий нас мир. А главное – вы получите огромное удовольствие от вещи, сделанной вашим трудом в сочетании с оригинальной фантазие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ошли века, изменилось мировоззрение людей, их быт. А изделия народных мастеров и сегодня по-прежнему восхищают нас своим совершенством. В наше время декоративное искусство не только сохраняется в музейных залах, оно живет в народе. С чувством благоговения относимся к изделиям, хранящим тепло человеческих рук. Ведь в каждой вещи – часть души, сердца мастер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9"/>
          <p:cNvSpPr/>
          <p:nvPr/>
        </p:nvSpPr>
        <p:spPr>
          <a:xfrm>
            <a:off x="642312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4859280" y="494028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Доска для разделки  удобная, доступная и необходимая вещь для каждой кухни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WordArt 21"/>
          <p:cNvSpPr txBox="1"/>
          <p:nvPr/>
        </p:nvSpPr>
        <p:spPr>
          <a:xfrm>
            <a:off x="1835280" y="0"/>
            <a:ext cx="54720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кла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Содержимое 7" descr="C:\Users\д\Desktop\Проэкты  МОУ Журавлихинская сош\хорошисты 004.bmp"/>
          <p:cNvPicPr/>
          <p:nvPr/>
        </p:nvPicPr>
        <p:blipFill>
          <a:blip r:embed="rId1"/>
          <a:stretch/>
        </p:blipFill>
        <p:spPr>
          <a:xfrm>
            <a:off x="798480" y="2292480"/>
            <a:ext cx="2577960" cy="371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д\Desktop\Новая папка (2)\DSC01814.JPG"/>
          <p:cNvPicPr/>
          <p:nvPr/>
        </p:nvPicPr>
        <p:blipFill>
          <a:blip r:embed="rId2"/>
          <a:stretch/>
        </p:blipFill>
        <p:spPr>
          <a:xfrm>
            <a:off x="5187960" y="1609560"/>
            <a:ext cx="2792520" cy="321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ехника безопасности при окраск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. Окраску изделий производить только на накладной доск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. Не допускать попадания краски и растворителей на кожу рук и лиц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. Не окрашивать изделия и не хранить краску вблизи нагревательных прибор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. Проветрить помещение, в котором проводится окрас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5. Руки после окрашивания вымыть с мыло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1. Бузкинов М., Потапов Г.,Искусство резьбы по дереву. -М.: Антиква, 1998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2. Гликин М.С. Декоративная работа по дереву на станках. М.: Искона, 1999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3. Мартенсон А. Начинаем мастерить из древесины. М.: Просвещение, 1979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4. Леонтьев Д.П. Сделай сам. – М.: Просвещение, 1985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5. Логачева Л.А. Основы мастерства резчика по дереву. М.: Народное творчество, 2002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6. Лебедева Е.И., Бургунова Е.М. Резьба по дереву.М.: Аделант, 2005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7. Абросимова А. Художественная резьба по дереву. М.: Высшая школа, 1989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8. Хворостов А.С. Чеканка, инкрустация, резьба по дереву. М.: Просвещение, 1977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прыг"/>
          <p:cNvPicPr/>
          <p:nvPr/>
        </p:nvPicPr>
        <p:blipFill>
          <a:blip r:embed="rId1"/>
          <a:stretch/>
        </p:blipFill>
        <p:spPr>
          <a:xfrm>
            <a:off x="6227640" y="3716280"/>
            <a:ext cx="2381400" cy="2737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515351-93efd799a82eb34d"/>
          <p:cNvPicPr/>
          <p:nvPr/>
        </p:nvPicPr>
        <p:blipFill>
          <a:blip r:embed="rId2"/>
          <a:stretch/>
        </p:blipFill>
        <p:spPr>
          <a:xfrm>
            <a:off x="1692360" y="549360"/>
            <a:ext cx="6767280" cy="302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прыг184"/>
          <p:cNvPicPr/>
          <p:nvPr/>
        </p:nvPicPr>
        <p:blipFill>
          <a:blip r:embed="rId3"/>
          <a:stretch/>
        </p:blipFill>
        <p:spPr>
          <a:xfrm>
            <a:off x="468360" y="3573360"/>
            <a:ext cx="2160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АЗДЕЛЫ ПРОЕК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1. Обоснование выбора данного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. Историческая справка по тем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3. Факторы, которые следуют принять во внима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4. Описание собственной работы над проект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разработка эскизов, шаблонов, ознакомление с литератур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подготовка материалов, инструмен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выполнение теоретической част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выполнение практической част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оформление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- защита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5. Достоинства и недостатки проек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6. Вывод по тем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7. Литератур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8. Техника безопасности при рабо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9. Реклам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1. Обоснование выбора данного проек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Verdana"/>
              </a:rPr>
              <a:t>В своем творческом проекте я решила раскрасить разделочную доск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Verdana"/>
              </a:rPr>
              <a:t>Я выбрала традиционную форму в старинном русском стиле городецкая роспись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6" descr="001"/>
          <p:cNvPicPr/>
          <p:nvPr/>
        </p:nvPicPr>
        <p:blipFill>
          <a:blip r:embed="rId1"/>
          <a:stretch/>
        </p:blipFill>
        <p:spPr>
          <a:xfrm>
            <a:off x="5796000" y="4581360"/>
            <a:ext cx="16812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Городецкая роспись по дереву – знаменитый народны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омысел Нижегородского края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н получил развитие во второй половине XIX века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в заволжских деревнях близ Городц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ители окрестных деревень слыли искусным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емесленниками, среди которых были кузнецы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ткачи, красильщики, резчики, плотники и столяры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Леса в Заволжье было много, и он давал много дешёвого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атериала, из которого делали всё: от детских игрушек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до предметов мебели. Особой известностью пользовались Городецкие 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ялки, которые в большом количестве продавались на Нижегородск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ярмарке и расходились по все России. Их с удовольствием покупал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лагодаря забавным расписным картинкам на донце прялк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сле окончания работы такими донцами хозяйки украшал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тены вместо картин. Вскоре такой росписью стали украшат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е только прялки, но и многие предметы народного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ыта: стульчики, лукошки, короба, солонки и игрушк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WordArt 4" descr=""/>
          <p:cNvPicPr/>
          <p:nvPr/>
        </p:nvPicPr>
        <p:blipFill>
          <a:blip r:embed="rId1"/>
          <a:stretch/>
        </p:blipFill>
        <p:spPr>
          <a:xfrm>
            <a:off x="1468440" y="274680"/>
            <a:ext cx="6237360" cy="11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9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72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52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676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1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136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336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532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736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904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3. Факторы, которые следует принять во внимание при изготовлении издел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5" descr="Безымянный"/>
          <p:cNvPicPr/>
          <p:nvPr/>
        </p:nvPicPr>
        <p:blipFill>
          <a:blip r:embed="rId1"/>
          <a:stretch/>
        </p:blipFill>
        <p:spPr>
          <a:xfrm>
            <a:off x="324000" y="1773360"/>
            <a:ext cx="828036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28036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. Описание собственной работы над проектом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разработка эскизов, шаблонов, ознакомление с литератур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подготовка материалов, инструмен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выполнение теоретической части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выполнение практической части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оформление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Verdana"/>
              </a:rPr>
              <a:t>- защита проек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6" descr="52"/>
          <p:cNvPicPr/>
          <p:nvPr/>
        </p:nvPicPr>
        <p:blipFill>
          <a:blip r:embed="rId1"/>
          <a:stretch/>
        </p:blipFill>
        <p:spPr>
          <a:xfrm>
            <a:off x="5867280" y="4508640"/>
            <a:ext cx="3097440" cy="19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зработка эскизов, шаблонов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4" descr="post-25406-1178993161"/>
          <p:cNvPicPr/>
          <p:nvPr/>
        </p:nvPicPr>
        <p:blipFill>
          <a:blip r:embed="rId1"/>
          <a:stretch/>
        </p:blipFill>
        <p:spPr>
          <a:xfrm>
            <a:off x="2627280" y="4078440"/>
            <a:ext cx="2590920" cy="2779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post-25406-1176851922"/>
          <p:cNvPicPr/>
          <p:nvPr/>
        </p:nvPicPr>
        <p:blipFill>
          <a:blip r:embed="rId2"/>
          <a:stretch/>
        </p:blipFill>
        <p:spPr>
          <a:xfrm>
            <a:off x="250920" y="83664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3"/>
          <a:stretch/>
        </p:blipFill>
        <p:spPr>
          <a:xfrm>
            <a:off x="4788000" y="870120"/>
            <a:ext cx="3240000" cy="255420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основания выбора эскиза разделочной дос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Verdana"/>
              </a:rPr>
              <a:t>Доска №2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своем проекте я выбрала традиционную форму в старинном русском стиле . Для работы больше всего подходят доска из липы, так как она из мягкой породы, легко обрабатывать, не коробится. Применяемый древесный материал должен быть без дефектов, без трещин и сучков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хнический рисунок разделочной дос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16" descr="PIC_2210"/>
          <p:cNvPicPr/>
          <p:nvPr/>
        </p:nvPicPr>
        <p:blipFill>
          <a:blip r:embed="rId1"/>
          <a:stretch/>
        </p:blipFill>
        <p:spPr>
          <a:xfrm>
            <a:off x="1835280" y="2924280"/>
            <a:ext cx="504180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4:51:34Z</dcterms:created>
  <dc:creator>Customer</dc:creator>
  <dc:description/>
  <dc:language>en-US</dc:language>
  <cp:lastModifiedBy>Пользоатель</cp:lastModifiedBy>
  <dcterms:modified xsi:type="dcterms:W3CDTF">2012-12-04T06:16:59Z</dcterms:modified>
  <cp:revision>23</cp:revision>
  <dc:subject/>
  <dc:title>ТВОРЧЕСКИЙ ПРОЕКТ ПО ТЕХНОЛОГИИ «ИЗГОТОВЛЕНИЕ ДОСКИ ДЛЯ РАЗДЕЛКИ РЫБЫ»</dc:title>
</cp:coreProperties>
</file>