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14.gif" ContentType="image/gif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03A-DB09-4821-89E8-6F82C62E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E18-E216-4F7E-8BB0-33DB53A7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9E7-618E-48ED-9982-4AE64243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E97-931C-4F14-811B-FB9A16C8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65FF-4A76-46DC-A459-7C34EA7C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9B79-C046-4C5C-9E6E-BDA0B8F2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748E-184F-42C6-B5AB-FCEB393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91B4-087C-4D53-99B5-6C0463E7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4547-FC52-4432-BD39-1AE75ED3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9545-8BEB-4919-A213-76B20E45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942E-BBD2-4722-A5C5-DD5B0CC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5FF-9A95-48A6-A1A3-5F38CD53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B4C8-6B4F-4BE0-B179-E568DD6C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39AC-4779-40CE-9BB2-89598284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036A-CBDD-4813-8362-D280591C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0814-33B4-45A6-8E60-629CDD75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FECE-4A02-4090-A974-4AEE4AF5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689-0100-429D-BB96-21A27EAE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251-362E-41B5-953D-B0BA52C5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03E-D2BD-46F4-960F-34573438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15F-CFB8-4C5C-97EA-21F2631C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8E7-F85E-49EF-9EFE-E6153E44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870-1E80-4755-86E3-BA0D4DE5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945-22B2-4A24-A91D-76FA45F3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18D0-B242-4FDD-9768-298DB8A3E8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9C5C-5D49-4C67-B4F4-DC1895DD8B7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0&amp;ed=1&amp;text=&#1075;&#1086;&#1088;&#1086;&#1076;&#1077;&#1094;&#1082;&#1072;&#1103;%20&#1088;&#1086;&#1089;&#1087;&#1080;&#1089;&#1100;&amp;spsite=www.stihi.ru&amp;img_url=demiart.ru%2Fforum%2Fuploads%2Fpost-25406-1178993159.gif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668240"/>
            <a:ext cx="7989840" cy="298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ТВОРЧЕСКИЙ ПРОЕКТ ПО ИЗОБРАЗИТЕЛЬНОМУ ИСКУССТВУ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2920" y="4624560"/>
            <a:ext cx="723276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ыполнила:  Кочергина Светла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чащаяся 7 класс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уководитель: Сивцова Л.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читель  изобразительного искусств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1 категор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635280" y="60069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Журавлиха 2012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1187280" y="333360"/>
            <a:ext cx="6121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ородецкая росп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Picture 5" descr="i?id=40761537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149720"/>
            <a:ext cx="237636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 Достоинства и недостатки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Достоинства данного проекта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- во первых, необходимая вещь на кухне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- во вторых, универсальн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- в третьих, легка в изготовлении,   экономичн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Недостатк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- изготовлена из мягкой поро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3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6. Экономический расч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Безымянный4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 по тем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наши дни, когда товар промышленного производства заполнили наш быт, я предлагаю сделать своими руками свой дом внеся элементы творчества и индивидуальности в окружающий нас мир. А главное – вы получите огромное удовольствие от вещи, сделанной вашим трудом в сочетании с оригинальной фантази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ошли века, изменилось мировоззрение людей, их быт. А изделия народных мастеров и сегодня по-прежнему восхищают нас своим совершенством. В наше время декоративное искусство не только сохраняется в музейных залах, оно живет в народе. С чувством благоговения относимся к изделиям, хранящим тепло человеческих рук. Ведь в каждой вещи – часть души, сердца масте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9"/>
          <p:cNvSpPr/>
          <p:nvPr/>
        </p:nvSpPr>
        <p:spPr>
          <a:xfrm>
            <a:off x="642312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4859280" y="494028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Доска для разделки  удобная, доступная и необходимая вещь для каждой кухни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WordArt 21"/>
          <p:cNvSpPr txBox="1"/>
          <p:nvPr/>
        </p:nvSpPr>
        <p:spPr>
          <a:xfrm>
            <a:off x="1835280" y="0"/>
            <a:ext cx="54720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кла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Содержимое 7" descr="C:\Users\д\Desktop\Проэкты  МОУ Журавлихинская сош\хорошисты 004.bmp"/>
          <p:cNvPicPr/>
          <p:nvPr/>
        </p:nvPicPr>
        <p:blipFill>
          <a:blip r:embed="rId1"/>
          <a:stretch/>
        </p:blipFill>
        <p:spPr>
          <a:xfrm>
            <a:off x="798480" y="2292480"/>
            <a:ext cx="2577960" cy="371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д\Desktop\Новая папка (2)\DSC01814.JPG"/>
          <p:cNvPicPr/>
          <p:nvPr/>
        </p:nvPicPr>
        <p:blipFill>
          <a:blip r:embed="rId2"/>
          <a:stretch/>
        </p:blipFill>
        <p:spPr>
          <a:xfrm>
            <a:off x="5187960" y="1609560"/>
            <a:ext cx="2792520" cy="32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ехника безопасности при окраск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. Окраску изделий производить только на накладной доск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. Не допускать попадания краски и растворителей на кожу рук и лиц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. Не окрашивать изделия и не хранить краску вблизи нагревательных прибор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. Проветрить помещение, в котором проводится окрас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5. Руки после окрашивания вымыть с мыло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. Бузкинов М., Потапов Г.,Искусство резьбы по дереву. -М.: Антиква, 1998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2. Гликин М.С. Декоративная работа по дереву на станках. М.: Искона, 1999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. Мартенсон А. Начинаем мастерить из древесины. М.: Просвещение, 1979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4. Леонтьев Д.П. Сделай сам. – М.: Просвещение, 1985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5. Логачева Л.А. Основы мастерства резчика по дереву. М.: Народное творчество, 2002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6. Лебедева Е.И., Бургунова Е.М. Резьба по дереву.М.: Аделант, 2005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7. Абросимова А. Художественная резьба по дереву. М.: Высшая школа, 1989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8. Хворостов А.С. Чеканка, инкрустация, резьба по дереву. М.: Просвещение, 1977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прыг"/>
          <p:cNvPicPr/>
          <p:nvPr/>
        </p:nvPicPr>
        <p:blipFill>
          <a:blip r:embed="rId1"/>
          <a:stretch/>
        </p:blipFill>
        <p:spPr>
          <a:xfrm>
            <a:off x="6227640" y="3716280"/>
            <a:ext cx="2381400" cy="2737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515351-93efd799a82eb34d"/>
          <p:cNvPicPr/>
          <p:nvPr/>
        </p:nvPicPr>
        <p:blipFill>
          <a:blip r:embed="rId2"/>
          <a:stretch/>
        </p:blipFill>
        <p:spPr>
          <a:xfrm>
            <a:off x="1692360" y="549360"/>
            <a:ext cx="6767280" cy="302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прыг184"/>
          <p:cNvPicPr/>
          <p:nvPr/>
        </p:nvPicPr>
        <p:blipFill>
          <a:blip r:embed="rId3"/>
          <a:stretch/>
        </p:blipFill>
        <p:spPr>
          <a:xfrm>
            <a:off x="468360" y="3573360"/>
            <a:ext cx="2160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АЗДЕЛЫ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1. Обоснование выбора данного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. Историческая справка по тем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3. Факторы, которые следуют принять во внима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4. Описание собственной работы над проект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разработка эскизов, шаблонов, ознакомление с литератур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подготовка материалов, инструмен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выполнение теоретической част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выполнение практической част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оформление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защита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5. Достоинства и недостатк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6. Вывод по тем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7. Литератур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8. Техника безопасности при рабо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9. Реклам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1. Обоснование выбора данного проек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Verdana"/>
              </a:rPr>
              <a:t>В своем творческом проекте я решила раскрасить разделочную доск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Verdana"/>
              </a:rPr>
              <a:t>Я выбрала традиционную форму в старинном русском стиле городецкая роспись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6" descr="001"/>
          <p:cNvPicPr/>
          <p:nvPr/>
        </p:nvPicPr>
        <p:blipFill>
          <a:blip r:embed="rId1"/>
          <a:stretch/>
        </p:blipFill>
        <p:spPr>
          <a:xfrm>
            <a:off x="5796000" y="4581360"/>
            <a:ext cx="16812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Городецкая роспись по дереву – знаменитый народны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омысел Нижегородского края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н получил развитие во второй половине XIX века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заволжских деревнях близ Городц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ители окрестных деревень слыли искусным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емесленниками, среди которых были кузнецы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ткачи, красильщики, резчики, плотники и столяры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Леса в Заволжье было много, и он давал много дешёвого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атериала, из которого делали всё: от детских игруше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до предметов мебели. Особой известностью пользовались Городецкие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ялки, которые в большом количестве продавались на Нижегородск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ярмарке и расходились по все России. Их с удовольствием покупал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лагодаря забавным расписным картинкам на донце прял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сле окончания работы такими донцами хозяйки украшал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тены вместо картин. Вскоре такой росписью стали украшат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е только прялки, но и многие предметы народного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ыта: стульчики, лукошки, короба, солонки и игруш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WordArt 4" descr=""/>
          <p:cNvPicPr/>
          <p:nvPr/>
        </p:nvPicPr>
        <p:blipFill>
          <a:blip r:embed="rId1"/>
          <a:stretch/>
        </p:blipFill>
        <p:spPr>
          <a:xfrm>
            <a:off x="1468440" y="274680"/>
            <a:ext cx="6237360" cy="11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9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72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52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67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1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136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336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32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736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904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3. Факторы, которые следует принять во внимание при изготовлении издел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5" descr="Безымянный"/>
          <p:cNvPicPr/>
          <p:nvPr/>
        </p:nvPicPr>
        <p:blipFill>
          <a:blip r:embed="rId1"/>
          <a:stretch/>
        </p:blipFill>
        <p:spPr>
          <a:xfrm>
            <a:off x="324000" y="1773360"/>
            <a:ext cx="828036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28036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. Описание собственной работы над проектом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разработка эскизов, шаблонов, ознакомление с литератур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подготовка материалов, инструмен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выполнение теоретической части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выполнение практической части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оформление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защита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6" descr="52"/>
          <p:cNvPicPr/>
          <p:nvPr/>
        </p:nvPicPr>
        <p:blipFill>
          <a:blip r:embed="rId1"/>
          <a:stretch/>
        </p:blipFill>
        <p:spPr>
          <a:xfrm>
            <a:off x="5867280" y="4508640"/>
            <a:ext cx="3097440" cy="19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зработка эскизов, шаблонов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post-25406-1178993161"/>
          <p:cNvPicPr/>
          <p:nvPr/>
        </p:nvPicPr>
        <p:blipFill>
          <a:blip r:embed="rId1"/>
          <a:stretch/>
        </p:blipFill>
        <p:spPr>
          <a:xfrm>
            <a:off x="2627280" y="4078440"/>
            <a:ext cx="2590920" cy="2779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post-25406-1176851922"/>
          <p:cNvPicPr/>
          <p:nvPr/>
        </p:nvPicPr>
        <p:blipFill>
          <a:blip r:embed="rId2"/>
          <a:stretch/>
        </p:blipFill>
        <p:spPr>
          <a:xfrm>
            <a:off x="250920" y="83664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4788000" y="870120"/>
            <a:ext cx="3240000" cy="255420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основания выбора эскиза разделочной дос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Доска №2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своем проекте я выбрала традиционную форму в старинном русском стиле . Для работы больше всего подходят доска из липы, так как она из мягкой породы, легко обрабатывать, не коробится. Применяемый древесный материал должен быть без дефектов, без трещин и сучко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ический рисунок разделочной дос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16" descr="PIC_2210"/>
          <p:cNvPicPr/>
          <p:nvPr/>
        </p:nvPicPr>
        <p:blipFill>
          <a:blip r:embed="rId1"/>
          <a:stretch/>
        </p:blipFill>
        <p:spPr>
          <a:xfrm>
            <a:off x="1835280" y="2924280"/>
            <a:ext cx="504180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51:34Z</dcterms:created>
  <dc:creator>Customer</dc:creator>
  <dc:description/>
  <dc:language>en-US</dc:language>
  <cp:lastModifiedBy>Пользоатель</cp:lastModifiedBy>
  <dcterms:modified xsi:type="dcterms:W3CDTF">2012-12-04T06:16:59Z</dcterms:modified>
  <cp:revision>23</cp:revision>
  <dc:subject/>
  <dc:title>ТВОРЧЕСКИЙ ПРОЕКТ ПО ТЕХНОЛОГИИ «ИЗГОТОВЛЕНИЕ ДОСКИ ДЛЯ РАЗДЕЛКИ РЫБЫ»</dc:title>
</cp:coreProperties>
</file>