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3A2-2C3B-4AE1-A9A5-8ED2D457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3BCB-4C4B-4660-AFC2-C793CFDB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177-F60D-4645-871D-3688BA5B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6EF-1849-4E2E-904E-DF07651C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40E9-F6F5-450E-AE1E-4FC7D970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9E23-669B-44CA-9C86-5931350C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1AA7-20DB-4F09-A8F6-13F090AF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6D70-1008-4F5A-B91A-99944261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F547-3840-4559-B22E-F148F4FE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5623-759F-4AC3-8C2C-C383EEC1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1177-C91A-4FA4-8D50-70762E27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B99B-6ED8-4772-8407-55E8C463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8FA3-F347-4048-BF94-5FA4E13A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B7E3-3E51-4C44-A7C0-EA1588AB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2901-135E-4951-A437-591C3FC3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B354-3068-4F8F-B93E-87EEA345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D4E2-430D-4206-86C3-A861FC0C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0B9-440B-40F0-8598-280D84BD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55A5-DB23-48BF-A02B-7B149304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2409-B6BE-49D5-8CAC-F650FA07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4C0-6989-454D-8C5D-9AB64A7C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8FE0-4C4A-4F5A-8119-03593014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E70-2D2F-4825-97F7-43F24934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3476-8D86-47FF-952F-41FBD4B1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709F-65C0-40DD-A2A9-027BE837FA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8A58-ABAF-4032-9B16-227FABC998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Arial"/>
              </a:rPr>
              <a:t>Родительское собрание </a:t>
            </a:r>
            <a:br>
              <a:rPr sz="4200"/>
            </a:br>
            <a:r>
              <a:rPr b="1" i="1" lang="en-US" sz="4200" spc="-1" strike="noStrike">
                <a:solidFill>
                  <a:srgbClr val="ffffff"/>
                </a:solidFill>
                <a:latin typeface="Arial"/>
              </a:rPr>
              <a:t>9 класс </a:t>
            </a:r>
            <a:br>
              <a:rPr sz="4200"/>
            </a:br>
            <a:r>
              <a:rPr b="1" i="1" lang="en-US" sz="4200" spc="-1" strike="noStrike">
                <a:solidFill>
                  <a:srgbClr val="ffffff"/>
                </a:solidFill>
                <a:latin typeface="Arial"/>
              </a:rPr>
              <a:t>25.04.2012г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сновные момен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Успеваемость и поведение, внешний 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ГИА, переход в 10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Ремонт и прак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Выпуск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Раз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спеваемость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нчили 3 четвер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«5» 2 чел.(Казарян А., Сарксян 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«4» и «5» 1 чел. (Ирицян Э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1-ой «3»   чел. (Нерсесян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успевающие 8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вед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итогам 3 четверти (мониторинг воспитательной работы) наш класс назван лучшим классом школы среди старших классов, но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Записи в санитарный дневни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928800"/>
          <a:ext cx="8229600" cy="7072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аакян Сарки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гоманян Арсе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акимян Вов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Апарян Серге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Габрелян Сержик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Барсегян Арте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нян Арсе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гарян Арсе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пелицына Тан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утюнян Анжел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нджян Жорик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венян Анаид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рксян Сим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Тумасян Ару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ицян Эльвир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3 сентября 2011г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ыбо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08660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сещение кинотеатра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 GAME 2008</cp:lastModifiedBy>
  <dcterms:modified xsi:type="dcterms:W3CDTF">2012-04-24T18:19:2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