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41E-80B2-4968-B333-0BEB8E25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317-0B23-4178-8F7C-FFB1EE24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C31-6F4E-4280-9437-215D4620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8AB-0C27-4CEA-964C-ADD66EB4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5027-DF00-4F81-A00A-6077C0CF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8773-B45D-4A10-89BB-86010E3E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CC4D-B8F1-44C3-8ED7-14AEBE1C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6453-F62F-4B6E-9D95-01F2F458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5F8C-2024-49C9-8D44-71BE86CE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5850-12AE-4B81-AB84-EB7F82DF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91AA-8A9B-47FE-BD4C-450FCCB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882-C9B0-415B-8BF1-1C32502E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D87F-6103-486A-B2DB-5A1BD94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224A-AA55-4CFF-BAC0-D50255E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546D-6A43-4B39-B952-51F25249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8C5F-0E5E-46B2-8571-AAF29CE2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A699-4471-4CC2-B500-E7C8A126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1BB-C8E2-4301-8D33-7F7EE3F3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52C-453A-4BB3-90F2-86F321E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8F5-F57E-4DDD-BA17-8F5F4F56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8CA-A8F6-4962-8526-A9F971AE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5B8-3378-4F84-AF8D-3917857B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A49-51BA-4AF9-9269-CAED3D96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F48-4667-4F6A-AD00-B761BBE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6AE5-8C6F-4931-A994-4791E508E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C826-7C0D-4DF4-B843-5E4621693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Родительское собрание </a:t>
            </a:r>
            <a:br>
              <a:rPr sz="4200"/>
            </a:b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9 класс </a:t>
            </a:r>
            <a:br>
              <a:rPr sz="4200"/>
            </a:b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25.04.2012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новные мо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Успеваемость и поведение, внешний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ГИА, переход в 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Ремонт и пр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Выпуск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Ра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певаемость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нчили 3 четвер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5» 2 чел.(Казарян А., Сарксян 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4» и «5» 1 чел. (Ирицян 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1-ой «3»   чел. (Нерсесян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спевающие 8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вед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итогам 3 четверти (мониторинг воспитательной работы) наш класс назван лучшим классом школы среди старших классов, н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писи в санитарный дневни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928800"/>
          <a:ext cx="8229600" cy="70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аакян Сарки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гоманян Арс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акимян Вов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парян Серге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Габрелян Сержи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арсегян Арте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ян Арс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гарян Арс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елицына Тан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утюнян Анже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нджян Жори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венян Анаид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ксян Си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умасян Ару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цян Эльвир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3 сентября 2011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бо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ещение кинотеатра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8</cp:lastModifiedBy>
  <dcterms:modified xsi:type="dcterms:W3CDTF">2012-04-24T18:19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