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52E3-2370-4337-91B9-C0A68093644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1929-A0C0-417F-A11F-7D298EC23B1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выки председательствующего позволяют быстро достичь высокой эффективности при работе с группами людей.  Роль председателя заключается в разработке повестки дня, обеспечении участия людей в мероприятии и управлении темпом его проведения.  Воспользуйтесь данными стратегиями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Da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Carnegi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® для успешного проведения совещ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омендуется предоставить раздаточные материалы, чтобы сфокусировать обсуждение на важных моментах и дать возможность присутствующим записать свои идеи.  При печати раздаточных материалов в режиме трех слайдов на страницу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автоматически включает пустые строки для заметок участ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D6BA-1D4C-48DD-99C4-35ABDDED8B3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ните выступление серьезно по отношению к теме и аудитории.  Учитывайте интересы аудитории.  Ваша энергия и отношение к делу придадут импульс всему ходу совещ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 председателя заключается в том, чтобы помочь людям в общении и совместной работе.  Создайте открытую атмосферу, способствующую решению поставленных зада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99EB-DC4B-47E4-BDE1-AA55783869D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ите четкие цели совещания.  Сформулируйте задачи, которые требуется решить.  Получите у участников согласие на предлагаемые повестку дня, задачи и порядок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едседатель, направляйте, стимулируйте и поддерживайте участников в обсуждении.  Используйте имеющийся у участников опыт.  Спрашивайте о причинах затруднений.  Сделайте так, чтобы каждый участник чувствовал значимость своего вкла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E0BC-E10C-4451-AF90-735939A655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постановки задачи переходите к поиску решений.  Воодушевите участников на широкое, творческое мышление и поиск ре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йте разные мнения.  Наличие различных взглядов подчеркивает суть задачи и добавляет темы для обсу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идеи.  Учитывайте все предложения.  Поддерживайте доброжелательное отношение на протяжении всего совещания.  Вовлеките в обсуждение всех участников.  Перечислите основные моменты и расставьте приоритеты.  Постарайтесь выработать совместное 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FCF0-CDCB-4036-8CF1-5063B20225B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, когда есть решение, разработайте план действий.  Совместно определите правильное направление действий для достижения поставленны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ите необходимые шаги.  Для записи шагов воспользуйтесь записной книжкой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 Определите требуемые ресурсы.  Назначьте ответственных.  Определите порядок отчетности.  Согласуйте график работ.  Определите затраты.  Оцените имеющиеся ресур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те, что требуется для успешного достижения цели.  Обучение?  Специальные знания?  Дополнительные сведения?  Специальные материалы?  Дополнительные ресурсы?  Дополнительное руководств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е планирование действий ведет к достижению ц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47B-4465-4EBD-9EDE-D95F79EB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81D-3762-490A-A266-1D92CDA2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362-A395-4593-9BB0-88A99FAC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4CA-6994-4594-80BC-1DBF17C8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3572-BD68-432C-BCFA-62E900C5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F552-4071-497D-8B4C-52BE59BA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3FB2-3352-4492-A964-0B23BF46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A3B5-DE5C-44A4-8D44-C8058D3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964D-A1BE-4156-BE3A-A2114D7A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5839-962C-46FE-AC3A-307E7764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AD8C-DCAE-4B92-952A-EC4465C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C8B-3E2F-487D-8F3B-6361CD1D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CC5C-511D-48FD-BE45-5B1DB17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85DF-4824-4EA8-8D5F-09F936E6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ABAA-9979-4173-9AF7-AB841909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77B8-E87F-4241-89F9-DAB6BB12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B8BF-A4E3-4B1E-A6A3-6693172A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6B8-2DFF-4F09-9EF6-C23BABA9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49A-653F-4784-B8FC-B7C659E5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46D-9FF9-46F9-BC2E-6F22FDC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71E-7734-412D-8023-C1B6D443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526-5F27-43C5-AE12-3BE528D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DDA-11F3-4110-A4AF-DD4E786F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350-9122-4A20-932B-61BDB65B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8D00-9F9C-475B-B499-708E9AD49C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026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02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028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3050-BC54-43C7-8BFA-6148C9664A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1b60f"/>
                </a:solidFill>
                <a:latin typeface="Arial"/>
              </a:rPr>
              <a:t>Родительское собрание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Детская шалость и нравственная ответственность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4427640" y="4941720"/>
            <a:ext cx="434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Цель родительского собрания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мотреть значение нравственности в жизни подростков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крыть связь между аморальными поступками и правонарушения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1b60f"/>
                </a:solidFill>
                <a:latin typeface="Arial"/>
              </a:rPr>
              <a:t>«В беду попадают как в пропасть, вдруг, но в преступление сходят постепенно»</a:t>
            </a:r>
            <a:endParaRPr b="0" lang="en-US" sz="4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907560"/>
            <a:ext cx="75438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1b60f"/>
                </a:solidFill>
                <a:latin typeface="Arial"/>
              </a:rPr>
              <a:t>Термин 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Юридическая ответственность – это реакция государства на вред, совершенный правонарушителе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rganization Chart 15"/>
          <p:cNvGrpSpPr/>
          <p:nvPr/>
        </p:nvGrpSpPr>
        <p:grpSpPr>
          <a:xfrm>
            <a:off x="395280" y="3475440"/>
            <a:ext cx="8748360" cy="1196280"/>
            <a:chOff x="395280" y="3475440"/>
            <a:chExt cx="8748360" cy="119628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6323760" y="2323800"/>
              <a:ext cx="228960" cy="33368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 rot="16200000">
              <a:off x="5212440" y="3435840"/>
              <a:ext cx="228960" cy="11127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4098960" y="3435840"/>
              <a:ext cx="228960" cy="11131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1"/>
            <p:cNvCxnSpPr>
              <a:stCxn id="113" idx="0"/>
              <a:endCxn id="107" idx="2"/>
            </p:cNvCxnSpPr>
            <p:nvPr/>
          </p:nvCxnSpPr>
          <p:spPr>
            <a:xfrm flipH="1" flipV="1" rot="5400000">
              <a:off x="2987280" y="2323440"/>
              <a:ext cx="228960" cy="33379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" name="_s1032"/>
            <p:cNvSpPr/>
            <p:nvPr/>
          </p:nvSpPr>
          <p:spPr>
            <a:xfrm>
              <a:off x="3020760" y="3475440"/>
              <a:ext cx="3497040" cy="402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ридическая ответствен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33"/>
            <p:cNvSpPr/>
            <p:nvPr/>
          </p:nvSpPr>
          <p:spPr>
            <a:xfrm>
              <a:off x="395280" y="4106880"/>
              <a:ext cx="2074680" cy="564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Дисциплинар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взыск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34"/>
            <p:cNvSpPr/>
            <p:nvPr/>
          </p:nvSpPr>
          <p:spPr>
            <a:xfrm>
              <a:off x="2619720" y="4106880"/>
              <a:ext cx="2074680" cy="564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Материальна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ответствен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4844520" y="4106880"/>
              <a:ext cx="2074680" cy="564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80" rIns="1188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Административна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ответственн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1036"/>
            <p:cNvSpPr/>
            <p:nvPr/>
          </p:nvSpPr>
          <p:spPr>
            <a:xfrm>
              <a:off x="7068960" y="4106880"/>
              <a:ext cx="2074680" cy="564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Уголовно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каз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Нравственная ответственность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осителями нравственности являются как общество в целом, так и отдельные микроколлективы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900"/>
                </a:solidFill>
                <a:latin typeface="Arial"/>
              </a:rPr>
              <a:t>Основным носителем нравственности  остается сем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Мораль – это множество норм, в том числе запретов, принятых в обществе.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оральные нормы, в отличие от юридических, нигде не записаны. Однако они более действенны. Можно определенно сказать, что если бы люди научились соблюдать моральные нормы, законы бы не потребовались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Формирование духовного богатства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ажный фактор, на который необходимо обращать внимание в воспитании детей -  это формирование  духовного богатства. Отсутствие духовности приводит к духовной нищет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1b60f"/>
                </a:solidFill>
                <a:latin typeface="Arial"/>
              </a:rPr>
              <a:t>Духовная нищета формируется из: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небрежительного отношения к учебе, знания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ремлению к примитивному времяпрепровождения (подростки «тусуются», интересуясь только развлечениями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еобладание материальных ценностей (были бы деньги, а остальное мы купим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3:52:08Z</dcterms:created>
  <dc:creator>мэри</dc:creator>
  <dc:description/>
  <dc:language>en-US</dc:language>
  <cp:lastModifiedBy>Социальный педагог</cp:lastModifiedBy>
  <dcterms:modified xsi:type="dcterms:W3CDTF">2012-09-12T03:47:02Z</dcterms:modified>
  <cp:revision>7</cp:revision>
  <dc:subject/>
  <dc:title>Родительское собр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