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5903-2D8C-4136-A748-E3BD640A27A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7774-727D-42A0-BD87-8BF292DBDB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ыки председательствующего позволяют быстро достичь высокой эффективности при работе с группами людей.  Роль председателя заключается в разработке повестки дня, обеспечении участия людей в мероприятии и управлении темпом его проведения.  Воспользуйтесь данными стратегиями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Da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rnegi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® для успешного проведения совещ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уется предоставить раздаточные материалы, чтобы сфокусировать обсуждение на важных моментах и дать возможность присутствующим записать свои идеи.  При печати раздаточных материалов в режиме трех слайдов на страницу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автоматически включает пустые строки для заметок участ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F04A-D587-4FB8-BC10-FB8DF6BFD8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ните выступление серьезно по отношению к теме и аудитории.  Учитывайте интересы аудитории.  Ваша энергия и отношение к делу придадут импульс всему ходу совещ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 председателя заключается в том, чтобы помочь людям в общении и совместной работе.  Создайте открытую атмосферу, способствующую решению поставленных зада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BF2F-3152-41A5-B24F-F8D24E6C26E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ите четкие цели совещания.  Сформулируйте задачи, которые требуется решить.  Получите у участников согласие на предлагаемые повестку дня, задачи и порядок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едседатель, направляйте, стимулируйте и поддерживайте участников в обсуждении.  Используйте имеющийся у участников опыт.  Спрашивайте о причинах затруднений.  Сделайте так, чтобы каждый участник чувствовал значимость своего вкла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D6BB-F873-4EE2-B906-C7D6AF2CAC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постановки задачи переходите к поиску решений.  Воодушевите участников на широкое, творческое мышление и поиск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йте разные мнения.  Наличие различных взглядов подчеркивает суть задачи и добавляет темы для обсу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идеи.  Учитывайте все предложения.  Поддерживайте доброжелательное отношение на протяжении всего совещания.  Вовлеките в обсуждение всех участников.  Перечислите основные моменты и расставьте приоритеты.  Постарайтесь выработать совместное 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3D45-F6C7-45EF-9EF7-A70C9152DBD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, когда есть решение, разработайте план действий.  Совместно определите правильное направление действий для достижения поставленны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ите необходимые шаги.  Для записи шагов воспользуйтесь записной книжкой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 Определите требуемые ресурсы.  Назначьте ответственных.  Определите порядок отчетности.  Согласуйте график работ.  Определите затраты.  Оцените имеющиеся рес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те, что требуется для успешного достижения цели.  Обучение?  Специальные знания?  Дополнительные сведения?  Специальные материалы?  Дополнительные ресурсы?  Дополнительное руководств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е планирование действий ведет к достижению ц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49D-78AC-4780-B39F-5FBFCC87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9F4-3B9F-4B4D-9009-7622CF3D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B65-7D7B-49DD-998F-DF43E5B8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585-5137-4BB8-A45B-FDEDE96F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D971-6434-473B-AE83-94B2E1AE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159-D9DF-4F44-917A-13FB9BDF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2CBB-2ADA-4290-AC1C-88EBE30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00EC-501E-4A23-AA1F-CCF8B6B0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C892-E3C8-453C-99B7-9492A9EB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8A72-D72B-429E-BADA-F7820363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AB6E-F1F8-4F65-AE08-2D9F298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8B8-5E77-4241-8D2C-8B38816D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8B90-90D6-4C69-857B-B277174B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0543-200F-40B8-8AD2-3F54732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0BBF-4404-435A-9BCF-A8AD7CCA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0667-FE86-44AA-A110-F1059F9D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7D6E-623E-430B-B84E-F45916E5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4D6-9624-4343-A3CB-1C9322F5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C33-6B37-49C4-90EE-A6C1BF83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2E0-1339-40A1-949E-0C831A41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342-484F-4CB9-8DDA-67B5E288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989-4DAD-409B-BD7A-146183B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269-C802-4ECC-9554-B22F6407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A38-342A-4EB2-B24E-978DC31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F07E-577D-426F-8456-3DEF8A416E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026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D73B-96C4-4634-8D33-8E25DABA94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1b60f"/>
                </a:solidFill>
                <a:latin typeface="Arial"/>
              </a:rPr>
              <a:t>Родительское собрание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Детская шалость и нравственная ответственность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4427640" y="4941720"/>
            <a:ext cx="434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Цель родительского собрания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мотреть значение нравственности в жизни подростков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крыть связь между аморальными поступками и правонарушения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1b60f"/>
                </a:solidFill>
                <a:latin typeface="Arial"/>
              </a:rPr>
              <a:t>«В беду попадают как в пропасть, вдруг, но в преступление сходят постепенно»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907560"/>
            <a:ext cx="75438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1b60f"/>
                </a:solidFill>
                <a:latin typeface="Arial"/>
              </a:rPr>
              <a:t>Термин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Юридическая ответственность – это реакция государства на вред, совершенный правонарушителе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rganization Chart 15"/>
          <p:cNvGrpSpPr/>
          <p:nvPr/>
        </p:nvGrpSpPr>
        <p:grpSpPr>
          <a:xfrm>
            <a:off x="395280" y="3475440"/>
            <a:ext cx="8748360" cy="1196280"/>
            <a:chOff x="395280" y="3475440"/>
            <a:chExt cx="8748360" cy="119628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6323760" y="2323800"/>
              <a:ext cx="228960" cy="33368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 rot="16200000">
              <a:off x="5212440" y="3435840"/>
              <a:ext cx="228960" cy="11127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4098960" y="3435840"/>
              <a:ext cx="228960" cy="11131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1"/>
            <p:cNvCxnSpPr>
              <a:stCxn id="113" idx="0"/>
              <a:endCxn id="107" idx="2"/>
            </p:cNvCxnSpPr>
            <p:nvPr/>
          </p:nvCxnSpPr>
          <p:spPr>
            <a:xfrm flipH="1" flipV="1" rot="5400000">
              <a:off x="2987280" y="2323440"/>
              <a:ext cx="228960" cy="33379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" name="_s1032"/>
            <p:cNvSpPr/>
            <p:nvPr/>
          </p:nvSpPr>
          <p:spPr>
            <a:xfrm>
              <a:off x="3020760" y="3475440"/>
              <a:ext cx="3497040" cy="402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ридическая ответствен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33"/>
            <p:cNvSpPr/>
            <p:nvPr/>
          </p:nvSpPr>
          <p:spPr>
            <a:xfrm>
              <a:off x="395280" y="4106880"/>
              <a:ext cx="2074680" cy="564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Дисциплинар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взыск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34"/>
            <p:cNvSpPr/>
            <p:nvPr/>
          </p:nvSpPr>
          <p:spPr>
            <a:xfrm>
              <a:off x="2619720" y="4106880"/>
              <a:ext cx="2074680" cy="564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Материальна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ответствен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4844520" y="4106880"/>
              <a:ext cx="2074680" cy="564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Административна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ответствен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036"/>
            <p:cNvSpPr/>
            <p:nvPr/>
          </p:nvSpPr>
          <p:spPr>
            <a:xfrm>
              <a:off x="7068960" y="4106880"/>
              <a:ext cx="2074680" cy="564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Уголовно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каз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Нравственная ответственность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осителями нравственности являются как общество в целом, так и отдельные микроколлективы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900"/>
                </a:solidFill>
                <a:latin typeface="Arial"/>
              </a:rPr>
              <a:t>Основным носителем нравственности  остается сем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Мораль – это множество норм, в том числе запретов, принятых в обществе.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оральные нормы, в отличие от юридических, нигде не записаны. Однако они более действенны. Можно определенно сказать, что если бы люди научились соблюдать моральные нормы, законы бы не потребовалис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Формирование духовного богатства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ажный фактор, на который необходимо обращать внимание в воспитании детей -  это формирование  духовного богатства. Отсутствие духовности приводит к духовной нищет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Духовная нищета формируется из: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небрежительного отношения к учебе, знания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ремлению к примитивному времяпрепровождения (подростки «тусуются», интересуясь только развлечениям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обладание материальных ценностей (были бы деньги, а остальное мы купим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3:52:08Z</dcterms:created>
  <dc:creator>мэри</dc:creator>
  <dc:description/>
  <dc:language>en-US</dc:language>
  <cp:lastModifiedBy>Социальный педагог</cp:lastModifiedBy>
  <dcterms:modified xsi:type="dcterms:W3CDTF">2012-09-12T03:47:02Z</dcterms:modified>
  <cp:revision>7</cp:revision>
  <dc:subject/>
  <dc:title>Родительское собр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