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365-58F0-436E-97EB-C7A16CF3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899-EFE6-4987-94DD-A0D5221E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D2F-78FA-4752-80F9-84E1EAB1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C60-9259-4759-95A3-7DBB3A7D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2842-4C3C-412A-9AD4-06D5E32C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D6A1-F12D-4332-9225-93D6F3AD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300B-0793-4603-82C7-45BD5AB1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3851-9BE9-4989-9737-27BB0016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7010-45EA-4522-8EA1-7F1D95E8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2B65-38B0-4028-8164-B7B3435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D6A4-11E3-43F1-AF91-9EA3562D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241-E155-4915-8698-2333B3C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3723-654F-433D-9033-F53352F7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005C-4999-4D9C-B4E8-314F2D1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326F-CD7D-43E9-A0B5-A2DCB122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7A2E-7589-407A-AB6C-D7B71F08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F937-66E5-4855-AFDB-7A6DD4F8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AA3F7-B41A-49AD-ABE7-159D607E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0DFE3-3D66-41DE-901A-6B73C891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B9919-EA6B-446A-8BA3-ED639F0E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5FE9F-6B3A-43A1-9709-2D8557BE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9CC9A-EF3B-43F1-8C61-F1DAEFE5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EBD-8CB6-4994-8026-2A58E38B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0BA3C-BD47-4015-8A5E-781A227B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4501D-E44E-4A5D-9667-CB7B641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0DD8D-D78E-4641-8AC8-613DFC5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30AC0-1031-47A7-A5E4-DFEF9C24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A2EFB-D371-45A3-BB9B-27608730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4346F-92E9-4510-96B7-78BD7D99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ACA9C-22AF-4EDE-A17A-CA669DF6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4A94B-527D-49F6-9BC8-34A809E7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472F4-3725-4AF8-BE24-1CA7065E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616B4-5C0A-44E0-A027-0FFF8664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904-14B3-451C-BF49-6ADE758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9E183-7C6D-4D70-8F99-63ABF139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EE6D7-9866-49CB-BBB1-96B57673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CD0CD-2F9E-42FB-BF06-CAD146C3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38640-A4E2-40CA-ABA5-7999492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2F10F-81D0-461C-8E18-2E02F00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180EB-0FFD-40AF-A377-B0B9723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76C1E-DF9E-404D-BE57-F018865F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400B6-A899-49D6-B158-DE546BCF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ACF7D-4E3B-4EA1-A2A6-9ECC0EA2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B5D39-67FA-4138-8F54-679F3EA1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A0D-948F-455D-9593-A2B375A5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E7497-455F-4CCD-A22E-0974E401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51547-D5CA-4DCD-B46A-1B44A7F9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31B639-4648-4405-83F3-22A9CEE2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06AE2-04B9-4CE8-A3A4-71A86EFF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EF593-C6C3-4903-95AD-78F7F379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A37C0-1DE0-432B-876B-C95D2206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B8C54-98B5-4AC0-BF85-B7CCF4E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FAEF0-E781-40AC-B9EA-F15AB2D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FD86E-0B1A-4D94-8401-0FFF4BB1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86AA1-3FE0-4591-9284-E89EBC6D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36D-ED04-485E-AD42-E8C4B158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34970-18BA-4F7B-94AB-E28D7FD2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E3569-98B5-42F2-9427-93D9B8F6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9F075-C867-4E3C-B60B-E82AD500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E44AD-F68B-4542-8022-283F7C36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F9041-EAF2-4E5E-A2A8-751EBC32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561B6-064D-4BAE-B34B-A3643DBF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5B395-7805-4F77-8DDB-11BC8FB3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6494-D0BF-4D20-A371-2A57B1F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CBD07-431E-4902-8596-F4487BD1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66E9D-D02E-4333-AEC7-AF983A3D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4B6-6158-47BD-8148-C49D6D41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4B5B9-AF73-454C-99B1-887E7DB8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884D2-FB3C-4D41-BD37-ABA4DB90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E79D-B205-41DA-B8C7-48D410DF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587EF-0BF4-4DC4-96E9-4E52BD5D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A30F5-FFF8-445D-94EE-AE08D1B3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FFFA6-C286-49C7-9AB8-622118C4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11962-7EB4-410F-AD95-CFF0D49A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3F3AE-4E52-4B69-A6FC-3DFCE87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C9169-2F63-4221-9FAF-2B50D966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920E79-80FA-419B-AFBC-001241FD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EB8-F46D-4E3B-A3D0-EEE5FC2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2E4F3-9100-4CE0-A6E6-3CE2F878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7B561-A695-46C9-B592-89D32B96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8D667-1A07-4839-9845-704BB305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1102A-3F8C-4C74-B913-0527D3E3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98865-B400-4252-AE05-71F72E08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C0C4-5C46-4E05-95F1-279F570B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973E1-FAEC-4880-BC03-61A95201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24F51-8C72-4C7F-B382-A09012E5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E21C0-E2C4-4EE0-ADEE-85100D64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33550-8FE9-47D2-9321-316044A4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899-34C8-479A-A05A-2F39DD2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5315F-814E-458C-81D1-FC162EE4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727C6-4DCD-4807-A3E5-416D1E9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13CB1-3F16-4332-94B8-69AB710F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DEA79-F977-4884-8CE7-5D64B371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ACD0C-5E2B-4469-9C8E-1882D800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7F9E-77A9-46DF-9096-AC7881D9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A3761-ED60-497D-AE08-8E557887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934A-1DA1-4AEB-AC3C-F01D2B0DDF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2E5E-3C28-47AC-B3A3-A25DAEE6360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73A3-B7DD-4686-85EB-67E2B87C695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07F7-90E1-4BCC-8B36-6B8865B312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760C-964A-43BC-9978-797BDBA3A7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3115-C011-474C-B8F5-D7EA8D22F5B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D458-76B0-4675-9CB7-0805B52FEF0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3056-DE66-40FA-8B0B-5799D490B2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КАЗЕННОЕ ОБЩЕОБРАЗОВАТЕЛЬНОЕ УЧРЕЖДЕНИЕ «ВЕЧЕРНЯЯ (СМЕННАЯ) ОБЩЕОБРАЗОВАТЕЛЬНАЯ ШКОЛА  №2 ГУФСИН РОССИИ ПО СВЕРДЛОВСКОЙ ОБЛАСТИ</a:t>
            </a:r>
            <a:endParaRPr b="0" lang="en-US" sz="1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99036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профессиональной и личной эффективности №8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и дети, или Как преодолеть трудности в общении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ькова Л.Ю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 по УВР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ировград, март 2013г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составлена по методическому пособию С.Р. Петрухиной и Г.А. Стюхиной , Педагогический университет «Первое сентября»,2012г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Упрямство, активное отвержение требований взрослых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лишняя строгость, давление со стороны родителей, требование родителей о беспрекословном послушании ребенк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товность взрослого к диалогу, умение уступать, прислушиваться к мнению другого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кое изменение жизненного уклада ребенк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нести  до  ребёнка  суть произошедших изменений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рослые не должны забывать о важности совместной деятельности, совместных игр и занятий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1" descr="C:\Users\007\Desktop\ж.jpg"/>
          <p:cNvPicPr/>
          <p:nvPr/>
        </p:nvPicPr>
        <p:blipFill>
          <a:blip r:embed="rId1"/>
          <a:stretch/>
        </p:blipFill>
        <p:spPr>
          <a:xfrm>
            <a:off x="7086600" y="4952880"/>
            <a:ext cx="12952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Младший  школьник: способы преодоления проблем взаимодействия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вете современных знаний школьная система должна считатьс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алившейся, если она может заставить детей учиться только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тем угроз»     Р. Скиннер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адший школьный возраст – с  6-7 до 10-11 лет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С 7 лет – кризис 7-и лет «хочу быть школьником»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 всё то, что связано с  учебной деятельностью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Произвольное поведени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Планирование результатов действий и рефлекс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Эмоциональная впечатлительность. Ребенок постепенно утрачивает детскую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осредственнос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1" name="Picture 2" descr="C:\Users\007\Desktop\6.jpg"/>
          <p:cNvPicPr/>
          <p:nvPr/>
        </p:nvPicPr>
        <p:blipFill>
          <a:blip r:embed="rId1"/>
          <a:stretch/>
        </p:blipFill>
        <p:spPr>
          <a:xfrm>
            <a:off x="6248520" y="2286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Тревожность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ивидуальная психологическая особенность, проявляющаяся в склонности человека часто переживать сильную тревогу по относительно малым поводам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чины повышения уровня тревожности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ышенные  требования со стороны взрослых,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ым ребёнок не может соответствовать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адривать ребёнка, если он оказался в ситуации неуспеха. Научить говорить ребёнка о своих тревогах. Телесный контакт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речивые требования родителей и школы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делать?  Необходимо избегать подобные ситуации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ная тревожность как личностная особенность ребенка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ключить оценку личности ученика, а оценивать результат его деятельности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1" descr="C:\Users\007\Desktop\г.jpg"/>
          <p:cNvPicPr/>
          <p:nvPr/>
        </p:nvPicPr>
        <p:blipFill>
          <a:blip r:embed="rId1"/>
          <a:stretch/>
        </p:blipFill>
        <p:spPr>
          <a:xfrm>
            <a:off x="6477120" y="220968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Ложь - намеренное решение ввести в заблуждение того, кому адресована информация.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как стремление избежать наказани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анализировать систему запретов и наказаний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как стремление получить нечто, чего иначе не получишь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о, чтобы действия ребёнка, связанные с ложью, не приносили успеха и не способствовали получению желаемого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как стремление избежать страха унижени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о позволить ребёнку «сохранить лицо»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как стремление повысить свой социальный статус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очь ребёнку найти приемлемые способы удовлетворения потребности в значимости для семьи, сверстников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ожь для предотвращения вмешательства в личную жизнь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ку нужно иметь возможность самому подумать о своих переживаниях, осмыслить их без внешнего вмешательст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одросток: поиски взаимопонимания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 от11-12 до 14-15 лет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ытывает переживания «уже не ребенка, но еще и не взрослого»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ростковый возраст – это пора стремительного наращивания знаний, умений, становления нравственности и открытия собственного «Я», обретения новой социальной позиции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Кризис идентич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Кризис, связанный с отделением от семьи и приобретением самостоятель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Кризис во внешних проявления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Половое созрев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Повышенная раздражительность и чувствительность, беспокойство и легковозбудимост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Трудности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тношениях со взрослым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интереса к школе, к учебным занятиям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своего 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выбора карьеры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ство в группе сверстников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и никотин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Составляющие доверительного контакта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енност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атия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словное уваже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ы все равно молодец, потому что…», «Мне это знакомо, я тоже сталкивался с похожей ситуацией…», «Благодаря этому ты …»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ешь, это действительно сложно….», «Давай вместе попробуем разобраться в случившемся…»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Литература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и дети, Как преодолеть трудности в общении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Р.Петрухина, Г.А. Стюхина, Москва, Педагогический университет «Первое сентября», 2012год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Что нужно знать, чтобы правильно общаться с детьми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а для эффективного взаимодейств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 детьми различного возрас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вляются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оциональные отношен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торые строятся на </a:t>
            </a: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вязанност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бенка и ответных чувствах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зрослых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ение любви родителей к своему ребенку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патия – антипатия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ажение – неуважение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зость – отдаленность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ы родительской любв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йственная любовь (С, У, Б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траненная любовь ( С, У, отдаленность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йственная жалость (С, неуважение, близость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ржение и презрение (А, Н, отдаленность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Задача взрослых – создание у детей уверенности в том, что их уважают, о них заботятся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о безусловного принятия (правило трех П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ние –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видеть ребенка «изнутри», умение взглянуть на мир одновременно с двух точек зрения: своей собственной и ребенк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ие –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жительное отношение к ребенку, его индивидуаль-ности независимо от того, радует он взрослых в данный  момент  или нет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нание –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оставление ребенку права в решении тех или иных проблем, право на совещательный голос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2" descr="C:\Users\007\Desktop\2.jpg"/>
          <p:cNvPicPr/>
          <p:nvPr/>
        </p:nvPicPr>
        <p:blipFill>
          <a:blip r:embed="rId1"/>
          <a:stretch/>
        </p:blipFill>
        <p:spPr>
          <a:xfrm>
            <a:off x="762120" y="4648320"/>
            <a:ext cx="25146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Правила эффективного слушания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еляйте общению с ребёнком специальное врем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яйте терпение, когда дети не могут сразу что-то сказать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ните о том, какое впечатление и влияние на ребенка могут оказать ваши сло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вайте вопросы, чтобы показать свою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интересованность и участи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уйте формулу «Я – сообщения»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C:\Users\007\Desktop\1.jpg"/>
          <p:cNvPicPr/>
          <p:nvPr/>
        </p:nvPicPr>
        <p:blipFill>
          <a:blip r:embed="rId1"/>
          <a:stretch/>
        </p:blipFill>
        <p:spPr>
          <a:xfrm>
            <a:off x="5867280" y="3809880"/>
            <a:ext cx="2746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775f55"/>
                </a:solidFill>
                <a:uFillTx/>
                <a:latin typeface="Times New Roman"/>
                <a:ea typeface="Times New Roman"/>
              </a:rPr>
              <a:t>Типичные ошибки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казы, команды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дупреждения, предостережения, угрозы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ораль, нравоучения, проповеди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веты, готовые решения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ритика, выговоры, обвинения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хвала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зывание, высмеивание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Догадки, интерпретации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ыспрашивание, расследование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чувствие на словах, уговоры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Picture 1" descr="C:\Users\007\Desktop\а.jpg"/>
          <p:cNvPicPr/>
          <p:nvPr/>
        </p:nvPicPr>
        <p:blipFill>
          <a:blip r:embed="rId1"/>
          <a:stretch/>
        </p:blipFill>
        <p:spPr>
          <a:xfrm>
            <a:off x="6629400" y="4191120"/>
            <a:ext cx="2133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ошкольник – трудности воспитания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общение, при котором              Стало  общение как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– центр мироздания         взаимодействие  ТРОИ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1752480" y="1752480"/>
            <a:ext cx="182880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"/>
          <p:cNvSpPr/>
          <p:nvPr/>
        </p:nvSpPr>
        <p:spPr>
          <a:xfrm>
            <a:off x="838080" y="2666880"/>
            <a:ext cx="160020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5"/>
          <p:cNvSpPr/>
          <p:nvPr/>
        </p:nvSpPr>
        <p:spPr>
          <a:xfrm>
            <a:off x="2971800" y="2666880"/>
            <a:ext cx="160020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7"/>
          <p:cNvCxnSpPr/>
          <p:nvPr/>
        </p:nvCxnSpPr>
        <p:spPr>
          <a:xfrm>
            <a:off x="3123000" y="2209320"/>
            <a:ext cx="381960" cy="3819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9" name="Прямая со стрелкой 10"/>
          <p:cNvCxnSpPr/>
          <p:nvPr/>
        </p:nvCxnSpPr>
        <p:spPr>
          <a:xfrm flipV="1">
            <a:off x="1751400" y="2209320"/>
            <a:ext cx="381960" cy="4579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sp>
        <p:nvSpPr>
          <p:cNvPr id="370" name="Прямоугольник 14"/>
          <p:cNvSpPr/>
          <p:nvPr/>
        </p:nvSpPr>
        <p:spPr>
          <a:xfrm>
            <a:off x="5638680" y="2743200"/>
            <a:ext cx="198144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4952880" y="1828800"/>
            <a:ext cx="144792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6"/>
          <p:cNvSpPr/>
          <p:nvPr/>
        </p:nvSpPr>
        <p:spPr>
          <a:xfrm>
            <a:off x="7010280" y="1828800"/>
            <a:ext cx="1524240" cy="4572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8"/>
          <p:cNvCxnSpPr>
            <a:stCxn id="371" idx="3"/>
            <a:endCxn id="372" idx="1"/>
          </p:cNvCxnSpPr>
          <p:nvPr/>
        </p:nvCxnSpPr>
        <p:spPr>
          <a:xfrm>
            <a:off x="6400440" y="2057400"/>
            <a:ext cx="610200" cy="21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4" name="Прямая со стрелкой 22"/>
          <p:cNvCxnSpPr/>
          <p:nvPr/>
        </p:nvCxnSpPr>
        <p:spPr>
          <a:xfrm flipV="1">
            <a:off x="7010280" y="2285640"/>
            <a:ext cx="457920" cy="4579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5" name="Прямая со стрелкой 27"/>
          <p:cNvCxnSpPr/>
          <p:nvPr/>
        </p:nvCxnSpPr>
        <p:spPr>
          <a:xfrm>
            <a:off x="5867280" y="2286000"/>
            <a:ext cx="457920" cy="4579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headEnd len="med" type="arrow" w="med"/>
            <a:tailEnd len="med" type="arrow" w="med"/>
          </a:ln>
        </p:spPr>
      </p:cxnSp>
      <p:pic>
        <p:nvPicPr>
          <p:cNvPr id="376" name="Picture 2" descr="http://im2-tub-ru.yandex.net/i?id=322021436-56-72&amp;n=21"/>
          <p:cNvPicPr/>
          <p:nvPr/>
        </p:nvPicPr>
        <p:blipFill>
          <a:blip r:embed="rId1"/>
          <a:stretch/>
        </p:blipFill>
        <p:spPr>
          <a:xfrm>
            <a:off x="1219320" y="4648320"/>
            <a:ext cx="2590560" cy="190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im4-tub-ru.yandex.net/i?id=33929215-05-72&amp;n=21"/>
          <p:cNvPicPr/>
          <p:nvPr/>
        </p:nvPicPr>
        <p:blipFill>
          <a:blip r:embed="rId2"/>
          <a:stretch/>
        </p:blipFill>
        <p:spPr>
          <a:xfrm>
            <a:off x="5334120" y="457200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етская агрессивность следствие неудовлетворенной потребности ребёнка в общении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ссивное поведение самих взрослых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Дети усваивают те формы поведения, которые видят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е проявление любви к ребёнку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 Чувства, выраженные через прикосновения, имеют большее значение, чем попытки что-либо объяснять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ст против действий, запретов взрослых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 « Я то, что я могу сам сделать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коммуникативных навыков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Учить ребёнка неагрессивным  способам установления контакта с другими детьм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Застенчивость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льная привязанность ребёнка к матер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ять круг общения ребёнка, приводить его в новые места и знакомить с новыми людьм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утствие социального опыта, неумение разрешать сложные ситуации в общени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 делать?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еобходимо научить ребёнка правильно  реагировать на различные ситуаци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ышенные  требования  в  адрес  ребёнка  со  стороны  родителей, постоянная критика в его адрес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янная поддержка  ребёнка  взрослым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1" descr="C:\Users\007\Desktop\10.jpg"/>
          <p:cNvPicPr/>
          <p:nvPr/>
        </p:nvPicPr>
        <p:blipFill>
          <a:blip r:embed="rId1"/>
          <a:stretch/>
        </p:blipFill>
        <p:spPr>
          <a:xfrm>
            <a:off x="6553080" y="4572000"/>
            <a:ext cx="1981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Детские  капризы – бурные проявления гнева и злости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резмерная забота на фоне полной вседозволенности со стороны  родителей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ёткая система  требований, с которыми ребенка нужно ознакомить и строго следить за их выполнением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раничение жизненно важных интересов и потребностей, с которым ребёнок не может примиритьс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ти приемлемое  направление для проявления детской активности и любознатель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лечение внимания родителей как своеобразная просьба помочь, вмешатьс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то делать?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ить более эффективным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о приемлемым способам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чения внимани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1" descr="C:\Users\007\Desktop\д.jpg"/>
          <p:cNvPicPr/>
          <p:nvPr/>
        </p:nvPicPr>
        <p:blipFill>
          <a:blip r:embed="rId1"/>
          <a:stretch/>
        </p:blipFill>
        <p:spPr>
          <a:xfrm>
            <a:off x="5943600" y="4648320"/>
            <a:ext cx="2143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5:33:17Z</dcterms:created>
  <dc:creator>Толян</dc:creator>
  <dc:description/>
  <dc:language>en-US</dc:language>
  <cp:lastModifiedBy>007</cp:lastModifiedBy>
  <dcterms:modified xsi:type="dcterms:W3CDTF">2013-03-24T17:02:01Z</dcterms:modified>
  <cp:revision>29</cp:revision>
  <dc:subject/>
  <dc:title>Слайд 1</dc:title>
</cp:coreProperties>
</file>