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82CD-5381-4AC9-8933-2510A4056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5CD8-13CD-410B-87D2-7839AB45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092A-E6A8-4236-9002-70238B804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C14F-7A26-4CF4-B44B-36A173190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FC839-6AD5-49A0-A2C0-D51E30649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A6E3-0EB2-46E5-A17D-D64A5C52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FE960-EC66-45CD-838F-34629CA7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5832-D669-4EC7-B4A1-0ADCBC3C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D0132-B5B1-4173-846B-6D0A1AB8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BEE8-5CDE-450C-8334-DDF78298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0ED17-6348-4E64-91A4-051FA651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A5EE-D424-4A42-B824-F6140AF3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9623-D67E-4881-9852-AC1C079E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2CE80-0ADD-49A2-A0BB-5616AEB5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69261-71AB-4C2E-8757-E3F33673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173B-E48B-45F3-A494-141FF7EB2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7D65-C258-4C11-946F-022E8D556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1D5F13-A67C-41D8-9C5D-4E4EE952B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54E92E-1942-4159-A41D-4F3EE2EB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B9FEC5-9820-4A34-BF1A-F6768764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40A995-953B-4C0D-BCD5-2FBC5160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9EBD55-815B-45F3-8A48-097A4C8E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1382-2657-4AC7-9864-E0F347F5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64CF3A-288E-469C-9140-B9C4D9E6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C88842-6587-4BF9-B093-9456F642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703053-4D53-46F2-8830-2FFA059F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EE7E6E-4DFA-4B53-BAFB-21CF891B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BFFE24-4C58-49D3-8D96-2CC56C32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18465C-2CF1-4108-8878-0BD9BF8C7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96FF6B-A4D5-4E66-968B-1F643492C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F2B34B-5DAE-4C05-80F0-B18F00F14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F91F75-0657-4EED-B16C-96AE6D13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8686D5-B19E-4CBA-857F-5338B0AE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C368-1F84-4AFB-9FEF-4BEE0B78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39D0D3-A4E0-406B-B50C-AD52535E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83F333-385B-4944-BBE7-B3B2EBAD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A604A7-D1C7-4B99-85E2-8417060D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E1D893-2487-4312-922C-E5849B74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75EC73-2426-4C1F-AE66-4B1F7E70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D623A8-3D59-4438-BEF6-18D0918A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F9E720-3ED5-4BE7-B49B-F540F796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B5C192-43C8-4404-A9E8-1315C7FEE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BDA23B-147B-4BD2-96A4-BB7C57896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F0AE51-6458-4DF3-AD66-BE36384E9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C906-6A76-4D83-8785-A85D3E7D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181694-C93B-4C12-92BF-3E86111E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115D71-DB8C-4FE0-B1AB-5DFAA990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83EE2E-8BC2-482A-BD6B-FC08C588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AAC925-9773-41B1-9B6D-16723745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F42F6C-E953-42B8-BF7D-42FA69B1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E705BB-B968-44AD-A948-99BEA7C1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CFF799-61BE-4862-99D7-7B6E5E24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BACFF4-B0F4-4B61-A12D-BFC5BE37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97EFB3-8D04-49A9-8ECA-AE0E5C49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B90049-6FD2-4B9C-8F35-943CD6BD3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913B-95AA-4715-A1BB-812FFA61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C2E5FC-A6E5-4A44-9B27-6B5CC5B73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DD6D8-1CAE-42D0-8E2B-B8EEC90E8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3BB3C-3206-49C3-B452-43B2418D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1478D-CAC9-46D0-8278-F51F09F6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4D7F5-75C8-440C-88FA-10DFD5E1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9AA54-B7EC-4E11-B6B0-F1A95A29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552D0-21D2-4EC4-8F5D-9A6235A0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AD7A4-AF77-4B4E-ADE2-253195A1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526F8-5006-4D1A-9D2A-B744CC9C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E3577-48F5-45BD-9467-5EA58795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8C35-F76B-4FD8-9C46-BD5930FE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B2811-DC91-473E-B8ED-C3673298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CB986-31F3-4E56-92DA-1A62B00AE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5917A-7EFE-425F-8FB0-7E40B649A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C52E99-4D88-4554-8837-DB8CB9876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205F98-0268-4A4B-B779-E792D3CC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D9AC90-F399-4670-9A2A-51675BD1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10478E-29B9-429D-B2F1-52082108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FDDA7B-EF9E-41BA-A107-A7F85EDD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51A88A-BE89-4F4B-B6E4-CFF98BC7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E8DE7E-2227-498D-A363-5BB8A79A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5AC0-E1CC-47F5-ADDF-FF407675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BDF44A-F8B9-46B9-9E29-0437B2B0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CDCD97-A665-4BBC-B485-66C57973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1B6DE6-5B41-40B9-9183-F356684D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F5C473-492C-4158-84CC-8E4597314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8E4B9B-1B75-4B01-83E2-A5F9F4722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1154A-8C2D-409D-8B49-5C57BCEC5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E6D3B-B92B-4DFA-A63D-C114FB9E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2699F-0958-4FA5-B1E2-7D26E91C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39990-6349-4D09-8CEE-2DE2F82D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691D6-EF4E-4674-8CB8-E7312FC9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9526-19EB-4571-8B0F-EBB23ABE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D7B11-290A-4B84-8853-B403DDDB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F3227-7421-4A07-9360-55550662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F7E82-4295-447B-ADE0-5E6B1BCB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43A02-38E6-4098-8652-F3547EBA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C9455-A3B5-4A22-B05A-D4645C1F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07D88-45BB-4E56-9074-8294E7065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B1A8D-BCD5-4B67-8269-49A4B6121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06DC-78C2-4AA2-86F5-7AE34435126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0984-100B-4A8D-A873-9F4136B651CC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1AAB-941D-4527-8A3C-4C8769A88704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F862-16AE-4C3E-9623-4CA4C2D3F9E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47F4-4E4A-417E-A917-6DA9344A78C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3858-8717-49C8-AA5B-333237BE751E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7E7F-E5DF-4964-8C25-6EB86FA3C1CF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669F-1FF6-41BF-9020-0CF56901AAA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ОЕ КАЗЕННОЕ ОБЩЕОБРАЗОВАТЕЛЬНОЕ УЧРЕЖДЕНИЕ «ВЕЧЕРНЯЯ (СМЕННАЯ) ОБЩЕОБРАЗОВАТЕЛЬНАЯ ШКОЛА  №2 ГУФСИН РОССИИ ПО СВЕРДЛОВСКОЙ ОБЛАСТИ</a:t>
            </a:r>
            <a:endParaRPr b="0" lang="en-US" sz="1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14400" y="990360"/>
            <a:ext cx="739152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ыки профессиональной и личной эффективности №8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и дети, или Как преодолеть трудности в общении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ькова Л.Ю.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ститель директора по УВР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Кировград, март 2013г.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составлена по методическому пособию С.Р. Петрухиной и Г.А. Стюхиной , Педагогический университет «Первое сентября»,2012г.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Упрямство, активное отвержение требований взрослых.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лишняя строгость, давление со стороны родителей, требование родителей о беспрекословном послушании ребенка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Что делать?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товность взрослого к диалогу, умение уступать, прислушиваться к мнению другого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зкое изменение жизненного уклада ребенка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Что делать?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нести  до  ребёнка  суть произошедших изменений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ВОД: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зрослые не должны забывать о важности совместной деятельности, совместных игр и занятий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8" name="Picture 1" descr="C:\Users\007\Desktop\ж.jpg"/>
          <p:cNvPicPr/>
          <p:nvPr/>
        </p:nvPicPr>
        <p:blipFill>
          <a:blip r:embed="rId1"/>
          <a:stretch/>
        </p:blipFill>
        <p:spPr>
          <a:xfrm>
            <a:off x="7086600" y="4952880"/>
            <a:ext cx="129528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Младший  школьник: способы преодоления проблем взаимодействия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вете современных знаний школьная система должна считаться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валившейся, если она может заставить детей учиться только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утем угроз»     Р. Скиннер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ладший школьный возраст – с  6-7 до 10-11 лет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*С 7 лет – кризис 7-и лет «хочу быть школьником»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нно всё то, что связано с  учебной деятельностью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*Произвольное поведение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*Планирование результатов действий и рефлексия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*Эмоциональная впечатлительность. Ребенок постепенно утрачивает детскую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посредственность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</a:t>
            </a:r>
            <a:endParaRPr b="0" lang="en-US" sz="5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1" name="Picture 2" descr="C:\Users\007\Desktop\6.jpg"/>
          <p:cNvPicPr/>
          <p:nvPr/>
        </p:nvPicPr>
        <p:blipFill>
          <a:blip r:embed="rId1"/>
          <a:stretch/>
        </p:blipFill>
        <p:spPr>
          <a:xfrm>
            <a:off x="6248520" y="2286000"/>
            <a:ext cx="1828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Тревожность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дивидуальная психологическая особенность, проявляющаяся в склонности человека часто переживать сильную тревогу по относительно малым поводам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ичины повышения уровня тревожности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вышенные  требования со стороны взрослых, 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торым ребёнок не может соответствовать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Что делать? </a:t>
            </a: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бадривать ребёнка, если он оказался в ситуации неуспеха. Научить говорить ребёнка о своих тревогах. Телесный контакт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тиворечивые требования родителей и школы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делать?  Необходимо избегать подобные ситуации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ышенная тревожность как личностная особенность ребенка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Что делать? </a:t>
            </a: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ключить оценку личности ученика, а оценивать результат его деятельности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4" name="Picture 1" descr="C:\Users\007\Desktop\г.jpg"/>
          <p:cNvPicPr/>
          <p:nvPr/>
        </p:nvPicPr>
        <p:blipFill>
          <a:blip r:embed="rId1"/>
          <a:stretch/>
        </p:blipFill>
        <p:spPr>
          <a:xfrm>
            <a:off x="6477120" y="220968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Ложь - намеренное решение ввести в заблуждение того, кому адресована информация.</a:t>
            </a:r>
            <a:br>
              <a:rPr sz="2800"/>
            </a:b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ожь как стремление избежать наказания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Что делать?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анализировать систему запретов и наказаний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ожь как стремление получить нечто, чего иначе не получишь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Что делать?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ажно, чтобы действия ребёнка, связанные с ложью, не приносили успеха и не способствовали получению желаемого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ожь как стремление избежать страха унижения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Что делать?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ажно позволить ребёнку «сохранить лицо»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ожь как стремление повысить свой социальный статус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Что делать?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мочь ребёнку найти приемлемые способы удовлетворения потребности в значимости для семьи, сверстников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ожь для предотвращения вмешательства в личную жизнь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Что делать?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бенку нужно иметь возможность самому подумать о своих переживаниях, осмыслить их без внешнего вмешательства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Подросток: поиски взаимопонимания.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раст от11-12 до 14-15 лет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ытывает переживания «уже не ребенка, но еще и не взрослого»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ростковый возраст – это пора стремительного наращивания знаний, умений, становления нравственности и открытия собственного «Я», обретения новой социальной позиции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*Кризис идентичности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*Кризис, связанный с отделением от семьи и приобретением самостоятельности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*Кризис во внешних проявлениях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*Половое созревание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*Повышенная раздражительность и чувствительность, беспокойство и легковозбудимость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Трудности</a:t>
            </a:r>
            <a:endParaRPr b="0" lang="en-US" sz="2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сти в отношениях со взрослыми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интереса к школе, к учебным занятиям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ск своего Я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 выбора карьеры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ленство в группе сверстников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ь и никотин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Составляющие доверительного контакта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ренность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патия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условное уважение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ы все равно молодец, потому что…», «Мне это знакомо, я тоже сталкивался с похожей ситуацией…», «Благодаря этому ты …»,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наешь, это действительно сложно….», «Давай вместе попробуем разобраться в случившемся…»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Литература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и дети, Как преодолеть трудности в общении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Р.Петрухина, Г.А. Стюхина, Москва, Педагогический университет «Первое сентября», 2012год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Что нужно знать, чтобы правильно общаться с детьми.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а для эффективного взаимодействия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с детьми различного возраста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вляются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моциональные отношения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которые строятся на </a:t>
            </a: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ивязанности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ребенка и ответных чувствах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зрослых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явление любви родителей к своему ребенку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мпатия – антипатия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важение – неуважение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лизость – отдаленность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ипы родительской любви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йственная любовь (С, У, Б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страненная любовь ( С, У, отдаленность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йственная жалость (С, неуважение, близость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ржение и презрение (А, Н, отдаленность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Задача взрослых – создание у детей уверенности в том, что их уважают, о них заботятся.</a:t>
            </a:r>
            <a:endParaRPr b="0" lang="en-US" sz="2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авило безусловного принятия (правило трех П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нимание –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мение видеть ребенка «изнутри», умение взглянуть на мир одновременно с двух точек зрения: своей собственной и ребенка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нятие –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ложительное отношение к ребенку, его индивидуаль-ности независимо от того, радует он взрослых в данный  момент  или нет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знание –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оставление ребенку права в решении тех или иных проблем, право на совещательный голос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6" name="Picture 2" descr="C:\Users\007\Desktop\2.jpg"/>
          <p:cNvPicPr/>
          <p:nvPr/>
        </p:nvPicPr>
        <p:blipFill>
          <a:blip r:embed="rId1"/>
          <a:stretch/>
        </p:blipFill>
        <p:spPr>
          <a:xfrm>
            <a:off x="762120" y="4648320"/>
            <a:ext cx="251460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Правила эффективного слушания</a:t>
            </a:r>
            <a:endParaRPr b="0" lang="en-US" sz="2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деляйте общению с ребёнком специальное время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храняйте терпение, когда дети не могут сразу что-то сказать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мните о том, какое впечатление и влияние на ребенка могут оказать ваши слова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вайте вопросы, чтобы показать свою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интересованность и участие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ьзуйте формулу «Я – сообщения»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9" name="Picture 2" descr="C:\Users\007\Desktop\1.jpg"/>
          <p:cNvPicPr/>
          <p:nvPr/>
        </p:nvPicPr>
        <p:blipFill>
          <a:blip r:embed="rId1"/>
          <a:stretch/>
        </p:blipFill>
        <p:spPr>
          <a:xfrm>
            <a:off x="5867280" y="3809880"/>
            <a:ext cx="27464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775f55"/>
                </a:solidFill>
                <a:uFillTx/>
                <a:latin typeface="Times New Roman"/>
                <a:ea typeface="Times New Roman"/>
              </a:rPr>
              <a:t>Типичные ошибки 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иказы, команды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едупреждения, предостережения, угрозы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Мораль, нравоучения, проповеди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Советы, готовые решения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Критика, выговоры, обвинения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охвала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Обзывание, высмеивание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Догадки, интерпретации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Выспрашивание, расследование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Сочувствие на словах, уговоры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2" name="Picture 1" descr="C:\Users\007\Desktop\а.jpg"/>
          <p:cNvPicPr/>
          <p:nvPr/>
        </p:nvPicPr>
        <p:blipFill>
          <a:blip r:embed="rId1"/>
          <a:stretch/>
        </p:blipFill>
        <p:spPr>
          <a:xfrm>
            <a:off x="6629400" y="4191120"/>
            <a:ext cx="21337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Дошкольник – трудности воспитания</a:t>
            </a:r>
            <a:endParaRPr b="0" lang="en-US" sz="2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 общение, при котором              Стало  общение как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– центр мироздания         взаимодействие  ТРОИХ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Прямоугольник 3"/>
          <p:cNvSpPr/>
          <p:nvPr/>
        </p:nvSpPr>
        <p:spPr>
          <a:xfrm>
            <a:off x="1752480" y="1752480"/>
            <a:ext cx="1828800" cy="45720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ён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4"/>
          <p:cNvSpPr/>
          <p:nvPr/>
        </p:nvSpPr>
        <p:spPr>
          <a:xfrm>
            <a:off x="838080" y="2666880"/>
            <a:ext cx="1600200" cy="45720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5"/>
          <p:cNvSpPr/>
          <p:nvPr/>
        </p:nvSpPr>
        <p:spPr>
          <a:xfrm>
            <a:off x="2971800" y="2666880"/>
            <a:ext cx="1600200" cy="45720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8" name="Прямая со стрелкой 7"/>
          <p:cNvCxnSpPr/>
          <p:nvPr/>
        </p:nvCxnSpPr>
        <p:spPr>
          <a:xfrm>
            <a:off x="3123000" y="2209320"/>
            <a:ext cx="381960" cy="381960"/>
          </a:xfrm>
          <a:prstGeom prst="straightConnector1">
            <a:avLst/>
          </a:prstGeom>
          <a:ln w="10080">
            <a:solidFill>
              <a:srgbClr val="94b6d2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69" name="Прямая со стрелкой 10"/>
          <p:cNvCxnSpPr/>
          <p:nvPr/>
        </p:nvCxnSpPr>
        <p:spPr>
          <a:xfrm flipV="1">
            <a:off x="1751400" y="2209320"/>
            <a:ext cx="381960" cy="457920"/>
          </a:xfrm>
          <a:prstGeom prst="straightConnector1">
            <a:avLst/>
          </a:prstGeom>
          <a:ln w="10080">
            <a:solidFill>
              <a:srgbClr val="94b6d2"/>
            </a:solidFill>
            <a:miter/>
            <a:headEnd len="med" type="arrow" w="med"/>
            <a:tailEnd len="med" type="arrow" w="med"/>
          </a:ln>
        </p:spPr>
      </p:cxnSp>
      <p:sp>
        <p:nvSpPr>
          <p:cNvPr id="370" name="Прямоугольник 14"/>
          <p:cNvSpPr/>
          <p:nvPr/>
        </p:nvSpPr>
        <p:spPr>
          <a:xfrm>
            <a:off x="5638680" y="2743200"/>
            <a:ext cx="1981440" cy="45720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15"/>
          <p:cNvSpPr/>
          <p:nvPr/>
        </p:nvSpPr>
        <p:spPr>
          <a:xfrm>
            <a:off x="4952880" y="1828800"/>
            <a:ext cx="1447920" cy="45720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16"/>
          <p:cNvSpPr/>
          <p:nvPr/>
        </p:nvSpPr>
        <p:spPr>
          <a:xfrm>
            <a:off x="7010280" y="1828800"/>
            <a:ext cx="1524240" cy="45720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Прямая со стрелкой 18"/>
          <p:cNvCxnSpPr>
            <a:stCxn id="371" idx="3"/>
            <a:endCxn id="372" idx="1"/>
          </p:cNvCxnSpPr>
          <p:nvPr/>
        </p:nvCxnSpPr>
        <p:spPr>
          <a:xfrm>
            <a:off x="6400440" y="2057400"/>
            <a:ext cx="610200" cy="2160"/>
          </a:xfrm>
          <a:prstGeom prst="straightConnector1">
            <a:avLst/>
          </a:prstGeom>
          <a:ln w="10080">
            <a:solidFill>
              <a:srgbClr val="94b6d2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74" name="Прямая со стрелкой 22"/>
          <p:cNvCxnSpPr/>
          <p:nvPr/>
        </p:nvCxnSpPr>
        <p:spPr>
          <a:xfrm flipV="1">
            <a:off x="7010280" y="2285640"/>
            <a:ext cx="457920" cy="457920"/>
          </a:xfrm>
          <a:prstGeom prst="straightConnector1">
            <a:avLst/>
          </a:prstGeom>
          <a:ln w="10080">
            <a:solidFill>
              <a:srgbClr val="94b6d2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75" name="Прямая со стрелкой 27"/>
          <p:cNvCxnSpPr/>
          <p:nvPr/>
        </p:nvCxnSpPr>
        <p:spPr>
          <a:xfrm>
            <a:off x="5867280" y="2286000"/>
            <a:ext cx="457920" cy="457920"/>
          </a:xfrm>
          <a:prstGeom prst="straightConnector1">
            <a:avLst/>
          </a:prstGeom>
          <a:ln w="10080">
            <a:solidFill>
              <a:srgbClr val="94b6d2"/>
            </a:solidFill>
            <a:miter/>
            <a:headEnd len="med" type="arrow" w="med"/>
            <a:tailEnd len="med" type="arrow" w="med"/>
          </a:ln>
        </p:spPr>
      </p:cxnSp>
      <p:pic>
        <p:nvPicPr>
          <p:cNvPr id="376" name="Picture 2" descr="http://im2-tub-ru.yandex.net/i?id=322021436-56-72&amp;n=21"/>
          <p:cNvPicPr/>
          <p:nvPr/>
        </p:nvPicPr>
        <p:blipFill>
          <a:blip r:embed="rId1"/>
          <a:stretch/>
        </p:blipFill>
        <p:spPr>
          <a:xfrm>
            <a:off x="1219320" y="4648320"/>
            <a:ext cx="2590560" cy="19047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http://im4-tub-ru.yandex.net/i?id=33929215-05-72&amp;n=21"/>
          <p:cNvPicPr/>
          <p:nvPr/>
        </p:nvPicPr>
        <p:blipFill>
          <a:blip r:embed="rId2"/>
          <a:stretch/>
        </p:blipFill>
        <p:spPr>
          <a:xfrm>
            <a:off x="5334120" y="4572000"/>
            <a:ext cx="25146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Детская агрессивность следствие неудовлетворенной потребности ребёнка в общении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ссивное поведение самих взрослых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елать? Дети усваивают те формы поведения, которые видят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очное проявление любви к ребёнку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елать?  Чувства, выраженные через прикосновения, имеют большее значение, чем попытки что-либо объяснять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ст против действий, запретов взрослых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елать?  « Я то, что я могу сам сделать»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коммуникативных навыков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елать? Учить ребёнка неагрессивным  способам установления контакта с другими детьми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Застенчивость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льная привязанность ребёнка к матери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Что делать? 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ширять круг общения ребёнка, приводить его в новые места и знакомить с новыми людьми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сутствие социального опыта, неумение разрешать сложные ситуации в общении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Что  делать?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Необходимо научить ребёнка правильно  реагировать на различные ситуации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вышенные  требования  в  адрес  ребёнка  со  стороны  родителей, постоянная критика в его адрес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Что делать? 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тоянная поддержка  ребёнка  взрослыми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2" name="Picture 1" descr="C:\Users\007\Desktop\10.jpg"/>
          <p:cNvPicPr/>
          <p:nvPr/>
        </p:nvPicPr>
        <p:blipFill>
          <a:blip r:embed="rId1"/>
          <a:stretch/>
        </p:blipFill>
        <p:spPr>
          <a:xfrm>
            <a:off x="6553080" y="4572000"/>
            <a:ext cx="1981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Детские  капризы – бурные проявления гнева и злости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резмерная забота на фоне полной вседозволенности со стороны  родителей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Что делать?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ёткая система  требований, с которыми ребенка нужно ознакомить и строго следить за их выполнением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граничение жизненно важных интересов и потребностей, с которым ребёнок не может примириться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Что делать?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йти приемлемое  направление для проявления детской активности и любознательности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влечение внимания родителей как своеобразная просьба помочь, вмешаться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Что делать?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учить более эффективным,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циально приемлемым способам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лучения внимания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5" name="Picture 1" descr="C:\Users\007\Desktop\д.jpg"/>
          <p:cNvPicPr/>
          <p:nvPr/>
        </p:nvPicPr>
        <p:blipFill>
          <a:blip r:embed="rId1"/>
          <a:stretch/>
        </p:blipFill>
        <p:spPr>
          <a:xfrm>
            <a:off x="5943600" y="4648320"/>
            <a:ext cx="21430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3T15:33:17Z</dcterms:created>
  <dc:creator>Толян</dc:creator>
  <dc:description/>
  <dc:language>en-US</dc:language>
  <cp:lastModifiedBy>007</cp:lastModifiedBy>
  <dcterms:modified xsi:type="dcterms:W3CDTF">2013-03-24T17:02:01Z</dcterms:modified>
  <cp:revision>29</cp:revision>
  <dc:subject/>
  <dc:title>Слайд 1</dc:title>
</cp:coreProperties>
</file>