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EED9E-09DC-49DB-9E1D-8B86079C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F93DF-05BE-4099-A653-751E1D02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590EE-56F9-4522-A17D-EA080450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B3190-A8E1-44BE-BB2D-1EF6C4A6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9918-91C7-495B-9079-E77D82A6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DCF0-78BA-49EB-9303-F194ED82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5CFC-2399-4EB0-AB29-9695BBAC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2305-0B7F-49AF-9E7C-6BF5FB8A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AD1F-9BF8-4510-A926-C9A65D5D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508F-5554-4265-A187-7D6E43E6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D5CA-B7D2-4D0F-BA94-72A39ABC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26939-B628-41CE-BC0A-7DD1D4C8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962B-E34B-4DB4-91D5-0CC82C4F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8582-C725-4C25-913D-1FAC2591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A138-C1D1-4128-B643-61080C5A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DA1E-AAE4-403F-8D86-7C9CFF88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65E4-6C5F-4C8E-94D0-E56C5BD9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608BD-CBDA-459C-BE0D-22905DEB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9C108-5179-42D5-A237-4BD8A6A2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3F182-57A6-41B6-B130-034606C7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9F12A-367B-4BE7-BEF7-42398EAD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4913D-7F87-43C3-96C4-B0A02772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F8DCD-BAE0-494A-A874-854D27E9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27A6E-5B89-402C-9588-73699FED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6FB9-849D-438C-BC61-B61D23CBB2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1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1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3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8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19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20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21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22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23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24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25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26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98B2-B0B0-4787-948A-31E5274358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СИЛА АРХИМЕДА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328840" y="3978360"/>
            <a:ext cx="4486320" cy="156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 составлении данной презентации использовались: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916360" y="3429000"/>
            <a:ext cx="3157560" cy="23716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611280" y="1821240"/>
            <a:ext cx="8064360" cy="15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9000" rIns="90000" tIns="73080" bIns="0" anchor="ctr">
            <a:spAutoFit/>
          </a:bodyPr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Знания, полученные на уроках физик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http://www.bookprojekt.ru/abstracts/zadachi/phisiks/91.ht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3708360" y="6093000"/>
            <a:ext cx="1368360" cy="57600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008 год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ведения об авторе закона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3564000" y="1268280"/>
            <a:ext cx="1779480" cy="19814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179280" y="3716280"/>
            <a:ext cx="8856720" cy="2808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Архимед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(287 до н. э. — 212 до н. э.)  древнегречески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механик, математик и инженер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Известен тем, что совершил огромное количество открытий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в самых различных областях науки . В том числ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открыл закон гидростатики, который впоследствии был назван его именем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егенда об открытии закона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звестен рассказ о том, как Архимед сумел определить, сделана ли корона царя Гиерона из чистого золота или ювелир подмешал туда значительное количество серебра. Удельный вес золота был известен, но трудность состояла в том, чтобы точно определить объём короны: ведь она имела неправильную форму! Как-то Архимед принимал ванну, и тут ему пришла в голову блестящая идея: погружая корону в воду, можно определить её объём, измерив объём вытесненной ею воды. Согласно легенде, Архимед выскочил голый на улицу с криком «Эврика!», т. е. «Нашёл!»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826920" y="5516640"/>
            <a:ext cx="7632720" cy="5763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V (тела , погруженного в жидкость)=V (вытесненной жидкости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Области применения закона Архимеда: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1763640" y="1700280"/>
            <a:ext cx="1584360" cy="216000"/>
          </a:xfrm>
          <a:prstGeom prst="leftArrow">
            <a:avLst>
              <a:gd name="adj1" fmla="val 50000"/>
              <a:gd name="adj2" fmla="val 183375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435640" y="1700280"/>
            <a:ext cx="1657440" cy="216000"/>
          </a:xfrm>
          <a:prstGeom prst="rightArrow">
            <a:avLst>
              <a:gd name="adj1" fmla="val 50000"/>
              <a:gd name="adj2" fmla="val 191833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539640" y="14907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В газах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Сила Архимеда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 В жидкостях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AutoShape 18"/>
          <p:cNvSpPr/>
          <p:nvPr/>
        </p:nvSpPr>
        <p:spPr>
          <a:xfrm>
            <a:off x="826920" y="5013360"/>
            <a:ext cx="2592720" cy="107964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здухоплаван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AutoShape 20"/>
          <p:cNvSpPr/>
          <p:nvPr/>
        </p:nvSpPr>
        <p:spPr>
          <a:xfrm>
            <a:off x="5435640" y="5013360"/>
            <a:ext cx="2736720" cy="107964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реплаван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1" descr="C:\Documents and Settings\Новиков АВ\Мои документы\Мои рисунки\Рисунок1.jpg"/>
          <p:cNvPicPr/>
          <p:nvPr/>
        </p:nvPicPr>
        <p:blipFill>
          <a:blip r:embed="rId1"/>
          <a:stretch/>
        </p:blipFill>
        <p:spPr>
          <a:xfrm>
            <a:off x="928800" y="2500200"/>
            <a:ext cx="2938320" cy="220032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12" descr="Рисунок2.jpg"/>
          <p:cNvPicPr/>
          <p:nvPr/>
        </p:nvPicPr>
        <p:blipFill>
          <a:blip r:embed="rId2"/>
          <a:stretch/>
        </p:blipFill>
        <p:spPr>
          <a:xfrm>
            <a:off x="5143680" y="2500200"/>
            <a:ext cx="2962080" cy="217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ормула силы Архимеда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08000" y="2852640"/>
            <a:ext cx="2584440" cy="2011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6372360" y="1916280"/>
            <a:ext cx="2531880" cy="406080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10"/>
          <p:cNvSpPr/>
          <p:nvPr/>
        </p:nvSpPr>
        <p:spPr>
          <a:xfrm>
            <a:off x="2916360" y="1628640"/>
            <a:ext cx="3311280" cy="4537080"/>
          </a:xfrm>
          <a:prstGeom prst="vertic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рхимедова сил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ействующая на тело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груженное в жидкость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ли газ равн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изведению объём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ела на ускорени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вободного падени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 на плотность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жидкости либо газ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словия плавания тел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2554560" cy="2683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1332000" y="4048200"/>
            <a:ext cx="6265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lephant"/>
              </a:rPr>
              <a:t>Fарх=mg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ρ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ела    &gt;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ρ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жидкости  -  тело тоне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ρ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ела   =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ρ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жидкости   -  тело плавает внутри жидкост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ρ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ела   &lt;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ρ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жидкости   -  тело плавает на поверхност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имеры решения задач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324000" y="2349360"/>
            <a:ext cx="3168360" cy="1511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ычислить силу Архимеда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ействующую на брусок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 размерами  3,5х1,5х0,2  м  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груженный в вод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324000" y="5084640"/>
            <a:ext cx="3313080" cy="1297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ревно объёмом 0,8 куб. м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гружено в вод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ычислите силу Архимед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ействующую на него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684360" y="1700280"/>
            <a:ext cx="1655640" cy="50472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мер №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755640" y="4292640"/>
            <a:ext cx="1655640" cy="50472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мер №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Содержимое 11" descr="Рисунок7.jpg"/>
          <p:cNvPicPr/>
          <p:nvPr/>
        </p:nvPicPr>
        <p:blipFill>
          <a:blip r:embed="rId1"/>
          <a:stretch/>
        </p:blipFill>
        <p:spPr>
          <a:xfrm>
            <a:off x="4000680" y="4857840"/>
            <a:ext cx="4771800" cy="139356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13" descr="Рисунок6.jpg"/>
          <p:cNvPicPr/>
          <p:nvPr/>
        </p:nvPicPr>
        <p:blipFill>
          <a:blip r:embed="rId2"/>
          <a:stretch/>
        </p:blipFill>
        <p:spPr>
          <a:xfrm>
            <a:off x="4000680" y="2428920"/>
            <a:ext cx="4700520" cy="14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имеры решения задач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4572000" y="1700280"/>
            <a:ext cx="4038480" cy="2266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2"/>
          <a:stretch/>
        </p:blipFill>
        <p:spPr>
          <a:xfrm>
            <a:off x="4572000" y="4508640"/>
            <a:ext cx="4038480" cy="19224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0"/>
          <p:cNvSpPr/>
          <p:nvPr/>
        </p:nvSpPr>
        <p:spPr>
          <a:xfrm>
            <a:off x="539640" y="1557360"/>
            <a:ext cx="1511280" cy="50328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мер №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AutoShape 11"/>
          <p:cNvSpPr/>
          <p:nvPr/>
        </p:nvSpPr>
        <p:spPr>
          <a:xfrm>
            <a:off x="468360" y="4005360"/>
            <a:ext cx="1511280" cy="50328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мер №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179280" y="2205000"/>
            <a:ext cx="3888000" cy="1368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ычислите подъемную силу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бкового спасательного круг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324000" y="4724280"/>
            <a:ext cx="3743280" cy="1368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пределить, выдержит л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льдина площадью 8 кв.м 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олщиной 0,25м вес человек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ассой 60 кг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полнил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аврищенко  Василий  Павлович , 11А клас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цей №124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подаватель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овиков Алексей Владимирови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10:34:43Z</dcterms:created>
  <dc:creator>Гаврищенко</dc:creator>
  <dc:description/>
  <dc:language>en-US</dc:language>
  <cp:lastModifiedBy>Новиков А.В.</cp:lastModifiedBy>
  <dcterms:modified xsi:type="dcterms:W3CDTF">2013-04-03T05:16:45Z</dcterms:modified>
  <cp:revision>12</cp:revision>
  <dc:subject/>
  <dc:title>СИЛА АРХИМЕД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