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C0E8-F596-48D0-98FC-83D93084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ADB2-7110-461C-8006-B84497D3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AAC4-7CEF-4566-8827-721D483C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0C77-8C6B-4024-88A9-1FD2BF6E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12AC-474E-4E29-86BD-07293A1C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D5E9-8FF9-4640-8B28-4164045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8F11-BF09-478A-8EF9-8312B434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EC67-94DC-41F3-899D-F6A4675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F94-86AB-4A91-8DE4-6ABD9E08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C9C-35B0-4B1D-AFB1-EFAA5E4F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B837-FB83-42E0-910F-F1D3236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2F12-0C83-43C9-B404-34C19E3E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CB32-7BAC-4BDC-A235-FE1BA17F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6973-828D-426D-80F7-8EEF82B3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8396-D5EF-4E9C-AE99-4DE3A77E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5040-D7A0-400E-8817-85BBA6F4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F95A-FD53-47C4-A9EA-9531C8B8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B1CF-ED1F-47EF-AAC8-CD307BC1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FD39-4510-4F3B-914F-4A3A7EC9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7747-E121-49A7-8601-66A84091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7A83-F6DF-42B6-8D45-C95868F9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5E24-87CF-486F-874A-CA9745AF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1DE2-7865-4B6A-8E7E-25DBD69E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B7D0-EBF2-4235-942F-E78E6B40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F6D-607C-480F-AE1B-3CEC331277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803-0306-4274-956D-B771C4AC62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СИЛА АРХИМЕДА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328840" y="3978360"/>
            <a:ext cx="4486320" cy="15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 составлении данной презентации использовались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157560" cy="2371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11280" y="1821240"/>
            <a:ext cx="806436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9000" rIns="90000" tIns="73080" bIns="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Знания, полученные на уроках физ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ttp://www.bookprojekt.ru/abstracts/zadachi/phisiks/91.ht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708360" y="6093000"/>
            <a:ext cx="1368360" cy="576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ведения об авторе закон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177948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79280" y="3716280"/>
            <a:ext cx="8856720" cy="280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Архиме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(287 до н. э. — 212 до н. э.)  древнегрече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механик, математик и инжене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Известен тем, что совершил огромное количество открыт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в самых различных областях науки . В том числ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открыл закон гидростатики, который впоследствии был назван его именем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генда об открытии закон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вестен рассказ о том, как 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Как-то Архимед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, т. е. «Нашёл!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826920" y="5516640"/>
            <a:ext cx="763272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V (тела , погруженного в жидкость)=V (вытесненной жидкости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бласти применения закона Архимеда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763640" y="1700280"/>
            <a:ext cx="1584360" cy="216000"/>
          </a:xfrm>
          <a:prstGeom prst="leftArrow">
            <a:avLst>
              <a:gd name="adj1" fmla="val 50000"/>
              <a:gd name="adj2" fmla="val 183375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435640" y="1700280"/>
            <a:ext cx="1657440" cy="216000"/>
          </a:xfrm>
          <a:prstGeom prst="rightArrow">
            <a:avLst>
              <a:gd name="adj1" fmla="val 50000"/>
              <a:gd name="adj2" fmla="val 19183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539640" y="14907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газах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Сила Архимеда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В жидкостя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826920" y="5013360"/>
            <a:ext cx="2592720" cy="107964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здухопла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20"/>
          <p:cNvSpPr/>
          <p:nvPr/>
        </p:nvSpPr>
        <p:spPr>
          <a:xfrm>
            <a:off x="5435640" y="5013360"/>
            <a:ext cx="2736720" cy="107964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репла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C:\Documents and Settings\Новиков АВ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928800" y="2500200"/>
            <a:ext cx="2938320" cy="220032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12" descr="Рисунок2.jpg"/>
          <p:cNvPicPr/>
          <p:nvPr/>
        </p:nvPicPr>
        <p:blipFill>
          <a:blip r:embed="rId2"/>
          <a:stretch/>
        </p:blipFill>
        <p:spPr>
          <a:xfrm>
            <a:off x="5143680" y="2500200"/>
            <a:ext cx="2962080" cy="217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рмула силы Архимед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2584440" cy="2011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531880" cy="40608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"/>
          <p:cNvSpPr/>
          <p:nvPr/>
        </p:nvSpPr>
        <p:spPr>
          <a:xfrm>
            <a:off x="2916360" y="1628640"/>
            <a:ext cx="3311280" cy="4537080"/>
          </a:xfrm>
          <a:prstGeom prst="vertic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химедова сил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ющая на тело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груженное в жидкост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ли газ рав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изведению объём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на ускоре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ободного пад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на плотност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либо га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словия плавания тел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2554560" cy="2683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1332000" y="4048200"/>
            <a:ext cx="62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Fарх=mg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   &gt;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 -  тело тон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  =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  -  тело плавает внутри жидк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  &lt;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  -  тело плавает на поверх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ы решения задач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24000" y="2349360"/>
            <a:ext cx="3168360" cy="1511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числить силу Архимед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ющую на брусо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размерами  3,5х1,5х0,2  м  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груженный в в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24000" y="5084640"/>
            <a:ext cx="331308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ревно объёмом 0,8 куб. 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гружено в в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числите силу Архиме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ющую на не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684360" y="1700280"/>
            <a:ext cx="1655640" cy="5047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755640" y="4292640"/>
            <a:ext cx="1655640" cy="5047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Содержимое 11" descr="Рисунок7.jpg"/>
          <p:cNvPicPr/>
          <p:nvPr/>
        </p:nvPicPr>
        <p:blipFill>
          <a:blip r:embed="rId1"/>
          <a:stretch/>
        </p:blipFill>
        <p:spPr>
          <a:xfrm>
            <a:off x="4000680" y="4857840"/>
            <a:ext cx="4771800" cy="13935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13" descr="Рисунок6.jpg"/>
          <p:cNvPicPr/>
          <p:nvPr/>
        </p:nvPicPr>
        <p:blipFill>
          <a:blip r:embed="rId2"/>
          <a:stretch/>
        </p:blipFill>
        <p:spPr>
          <a:xfrm>
            <a:off x="4000680" y="2428920"/>
            <a:ext cx="4700520" cy="14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ы решения задач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038480" cy="226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4038480" cy="1922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/>
          <p:cNvSpPr/>
          <p:nvPr/>
        </p:nvSpPr>
        <p:spPr>
          <a:xfrm>
            <a:off x="539640" y="1557360"/>
            <a:ext cx="1511280" cy="5032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468360" y="4005360"/>
            <a:ext cx="1511280" cy="5032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179280" y="2205000"/>
            <a:ext cx="3888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числите подъемную сил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бкового спасательного круг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4000" y="4724280"/>
            <a:ext cx="3743280" cy="136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пределить, выдержит 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ьдина площадью 8 кв.м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олщиной 0,25м вес челове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ссой 60 к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аврищенко  Василий  Павлович , 11А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цей №12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подавател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иков Алексей Владимирови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0:34:43Z</dcterms:created>
  <dc:creator>Гаврищенко</dc:creator>
  <dc:description/>
  <dc:language>en-US</dc:language>
  <cp:lastModifiedBy>Новиков А.В.</cp:lastModifiedBy>
  <dcterms:modified xsi:type="dcterms:W3CDTF">2013-04-03T05:16:45Z</dcterms:modified>
  <cp:revision>12</cp:revision>
  <dc:subject/>
  <dc:title>СИЛА АРХИМЕД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