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091-B029-4095-AFC8-8243AD62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B1B-208F-4C8A-91F5-D554C8A2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CF9-9EEF-4CC3-AD19-FF32FA2F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A91-9633-4F9E-BA71-FE8AA6E5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3488-311C-4493-8F1C-48B5FD4B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3678-8887-4ED5-BBE8-5072A14C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BF79-BBAF-4929-A72A-6CA69485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0220-7FFC-4796-B895-0EA17454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3203-8B4B-4089-9A77-8177C633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7EA6-EEEB-4F97-9BBE-7CEE7965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6539-DBB7-4BCE-92DC-92B4CE6E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436-B9CA-442E-98A6-2E006ADC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4793-4A6E-4E25-9130-1D021A4D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1B67-DB11-4E1F-AC13-95CB63CC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9E88-50AC-4FE1-A308-02C5B902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F6FE-88EE-4963-90CC-5BBA65AC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65BF-B324-46AB-858D-1268B6BC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2BA-725B-4935-AE5F-03370CDE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EC4-69A1-45A6-86C9-01526776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356-87AE-4E6A-98C9-63D0EA22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A3E-9878-4F7A-9CF5-E7EB14FC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556-3762-4135-884B-B014019E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72E-1368-4C90-ACBD-F8FDF8B4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41C-6B1F-470B-8E4C-6D4CBE79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4177-96D4-4F0A-BE20-C8EE6E3A49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1A08-0AB1-4908-BDF9-55B620C59E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Monotype Corsiva"/>
              </a:rPr>
              <a:t>Символика в карельской вышивк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95680" y="4038480"/>
            <a:ext cx="46483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Региональный компонен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11" descr="Без имени-17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33520" y="5105520"/>
            <a:ext cx="2057400" cy="134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8" name="Picture 12" descr="Без имени-32"/>
          <p:cNvPicPr/>
          <p:nvPr/>
        </p:nvPicPr>
        <p:blipFill>
          <a:blip r:embed="rId3"/>
          <a:stretch/>
        </p:blipFill>
        <p:spPr>
          <a:xfrm>
            <a:off x="7753320" y="228600"/>
            <a:ext cx="1147680" cy="1676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Большое значение           в жизни карел       играла вышивка.                       Е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ю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 украшались дома, полотенца, одежда. Вышивка районов Карелии имела определённые различия, но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все 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их объединяла природа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23" descr="Рисунок14"/>
          <p:cNvPicPr/>
          <p:nvPr/>
        </p:nvPicPr>
        <p:blipFill>
          <a:blip r:embed="rId2"/>
          <a:stretch/>
        </p:blipFill>
        <p:spPr>
          <a:xfrm>
            <a:off x="7086600" y="1066680"/>
            <a:ext cx="1600200" cy="2286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91" name="Picture 24" descr="Рисунок15"/>
          <p:cNvPicPr/>
          <p:nvPr/>
        </p:nvPicPr>
        <p:blipFill>
          <a:blip r:embed="rId3"/>
          <a:stretch/>
        </p:blipFill>
        <p:spPr>
          <a:xfrm>
            <a:off x="5410080" y="3124080"/>
            <a:ext cx="1697040" cy="2667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В вышивке дореволюционной Карелии               можно выделить два на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5235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     </a:t>
            </a: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Геометрический и изобразительный орнамент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к изобразительному  относятся птицы, люди, животные, раст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геометрическому орнаменту - ромбы, треугольники,  ромбы с разнообразными краями и крючкам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8" descr="Рисуно6"/>
          <p:cNvPicPr/>
          <p:nvPr/>
        </p:nvPicPr>
        <p:blipFill>
          <a:blip r:embed="rId2"/>
          <a:stretch/>
        </p:blipFill>
        <p:spPr>
          <a:xfrm>
            <a:off x="5105520" y="1828800"/>
            <a:ext cx="1676160" cy="20574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95" name="Picture 9" descr="Рисунок12"/>
          <p:cNvPicPr/>
          <p:nvPr/>
        </p:nvPicPr>
        <p:blipFill>
          <a:blip r:embed="rId3"/>
          <a:stretch/>
        </p:blipFill>
        <p:spPr>
          <a:xfrm>
            <a:off x="5943600" y="4038480"/>
            <a:ext cx="2139840" cy="20574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Verdana"/>
              </a:rPr>
              <a:t>Символика в карельской вышивк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00"/>
                </a:solidFill>
                <a:latin typeface="Verdana"/>
              </a:rPr>
              <a:t>Птица</a:t>
            </a: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- олицетворение счастья, весеннего тепла, солнца. Различные формы хвостов, причудливое оперение, необычайные крылья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или вовсе без них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, вместо хвоста и крыльев у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птиц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 вышиты ветки растений, которые свисают и из клюв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2" descr="D:\ФОТО\моя днюха...ха\Новая папка\SSA40299nmkm,.jpg"/>
          <p:cNvPicPr/>
          <p:nvPr/>
        </p:nvPicPr>
        <p:blipFill>
          <a:blip r:embed="rId2"/>
          <a:stretch/>
        </p:blipFill>
        <p:spPr>
          <a:xfrm>
            <a:off x="1371600" y="1828800"/>
            <a:ext cx="2214720" cy="20574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99" name="Picture 8" descr="Рисунок9"/>
          <p:cNvPicPr/>
          <p:nvPr/>
        </p:nvPicPr>
        <p:blipFill>
          <a:blip r:embed="rId3"/>
          <a:stretch/>
        </p:blipFill>
        <p:spPr>
          <a:xfrm>
            <a:off x="4038480" y="2133720"/>
            <a:ext cx="3962520" cy="1414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66280" y="41907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0000"/>
                </a:solidFill>
                <a:latin typeface="Verdana"/>
              </a:rPr>
              <a:t>Солнце  </a:t>
            </a:r>
            <a:r>
              <a:rPr b="0" i="1" lang="ru-RU" sz="2200" spc="-1" strike="noStrike">
                <a:solidFill>
                  <a:srgbClr val="cc0000"/>
                </a:solidFill>
                <a:latin typeface="Verdana"/>
              </a:rPr>
              <a:t>-  </a:t>
            </a:r>
            <a:r>
              <a:rPr b="0" lang="ru-RU" sz="2200" spc="-1" strike="noStrike">
                <a:solidFill>
                  <a:srgbClr val="cc0000"/>
                </a:solidFill>
                <a:latin typeface="Verdana"/>
              </a:rPr>
              <a:t>образ весеннего и утреннего солнца отож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д</a:t>
            </a:r>
            <a:r>
              <a:rPr b="0" lang="ru-RU" sz="2200" spc="-1" strike="noStrike">
                <a:solidFill>
                  <a:srgbClr val="cc0000"/>
                </a:solidFill>
                <a:latin typeface="Verdana"/>
              </a:rPr>
              <a:t>ествляется не только с чудо-птицей, но и со златогривым конём, у которого часто необычно проросший хвост. Ведь конь – воплощение божества, растительности, а хвост 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его </a:t>
            </a:r>
            <a:r>
              <a:rPr b="0" lang="ru-RU" sz="22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 воплощение</a:t>
            </a:r>
            <a:r>
              <a:rPr b="0" lang="ru-RU" sz="2200" spc="-1" strike="noStrike">
                <a:solidFill>
                  <a:srgbClr val="cc0000"/>
                </a:solidFill>
                <a:latin typeface="Verdana"/>
              </a:rPr>
              <a:t> плодород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6" descr="Рисунок1"/>
          <p:cNvPicPr/>
          <p:nvPr/>
        </p:nvPicPr>
        <p:blipFill>
          <a:blip r:embed="rId2"/>
          <a:stretch/>
        </p:blipFill>
        <p:spPr>
          <a:xfrm>
            <a:off x="1752480" y="838080"/>
            <a:ext cx="2500560" cy="2478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2" name="Picture 7" descr="Рисунок17"/>
          <p:cNvPicPr/>
          <p:nvPr/>
        </p:nvPicPr>
        <p:blipFill>
          <a:blip r:embed="rId3"/>
          <a:stretch/>
        </p:blipFill>
        <p:spPr>
          <a:xfrm>
            <a:off x="5686560" y="1143000"/>
            <a:ext cx="1876320" cy="2743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Женская фигура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 - олицетворение продолжения рода,  покровительниц домашнего очага и женских ремёсел, целительниц людей и скот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Изображались с ромбовидной головой, опущенными или воздетыми руками, в колоколообразном одеян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По бокам её симметрично располагались всадники, кони, деревья, птиц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8" descr="Рисунок2"/>
          <p:cNvPicPr/>
          <p:nvPr/>
        </p:nvPicPr>
        <p:blipFill>
          <a:blip r:embed="rId2"/>
          <a:stretch/>
        </p:blipFill>
        <p:spPr>
          <a:xfrm>
            <a:off x="5486400" y="1066680"/>
            <a:ext cx="2298600" cy="2514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5" name="Picture 9" descr="Рисунок16"/>
          <p:cNvPicPr/>
          <p:nvPr/>
        </p:nvPicPr>
        <p:blipFill>
          <a:blip r:embed="rId3"/>
          <a:stretch/>
        </p:blipFill>
        <p:spPr>
          <a:xfrm>
            <a:off x="1447920" y="1143000"/>
            <a:ext cx="2847960" cy="1854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Verdana"/>
              </a:rPr>
              <a:t>Древо</a:t>
            </a:r>
            <a:r>
              <a:rPr b="0" lang="ru-RU" sz="2200" spc="-1" strike="noStrike">
                <a:solidFill>
                  <a:srgbClr val="cc0000"/>
                </a:solidFill>
                <a:latin typeface="Verdana"/>
              </a:rPr>
              <a:t>  - воплощение плодородной силы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 и</a:t>
            </a:r>
            <a:r>
              <a:rPr b="0" lang="ru-RU" sz="2200" spc="-1" strike="noStrike">
                <a:solidFill>
                  <a:srgbClr val="cc0000"/>
                </a:solidFill>
                <a:latin typeface="Verdana"/>
              </a:rPr>
              <a:t> продолжени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я</a:t>
            </a:r>
            <a:r>
              <a:rPr b="0" lang="ru-RU" sz="2200" spc="-1" strike="noStrike">
                <a:solidFill>
                  <a:srgbClr val="cc0000"/>
                </a:solidFill>
                <a:latin typeface="Verdana"/>
              </a:rPr>
              <a:t> рода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 -</a:t>
            </a:r>
            <a:r>
              <a:rPr b="0" lang="ru-RU" sz="2200" spc="-1" strike="noStrike">
                <a:solidFill>
                  <a:srgbClr val="cc0000"/>
                </a:solidFill>
                <a:latin typeface="Verdana"/>
              </a:rPr>
              <a:t> является символом благополучия, единства. Кроме раскидистого, пышного дерева почти во всех вышивках встречаются и мелкие растительные мотив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D:\ФОТО\моя днюха...ха\Новая папка\SSA402, .99.jpg"/>
          <p:cNvPicPr/>
          <p:nvPr/>
        </p:nvPicPr>
        <p:blipFill>
          <a:blip r:embed="rId2"/>
          <a:stretch/>
        </p:blipFill>
        <p:spPr>
          <a:xfrm>
            <a:off x="685800" y="1066680"/>
            <a:ext cx="3200400" cy="2398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8" name="Picture 9" descr="Рисунок3"/>
          <p:cNvPicPr/>
          <p:nvPr/>
        </p:nvPicPr>
        <p:blipFill>
          <a:blip r:embed="rId3"/>
          <a:stretch/>
        </p:blipFill>
        <p:spPr>
          <a:xfrm>
            <a:off x="4267080" y="1066680"/>
            <a:ext cx="4341960" cy="2413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vuch</cp:lastModifiedBy>
  <dcterms:modified xsi:type="dcterms:W3CDTF">2012-10-11T08:45:1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