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42.jpeg" ContentType="image/jpeg"/>
  <Override PartName="/ppt/media/image83.png" ContentType="image/png"/>
  <Override PartName="/ppt/media/image56.png" ContentType="image/png"/>
  <Override PartName="/ppt/media/image40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8.jpeg" ContentType="image/jpeg"/>
  <Override PartName="/ppt/media/image53.png" ContentType="image/png"/>
  <Override PartName="/ppt/media/image50.jpeg" ContentType="image/jpeg"/>
  <Override PartName="/ppt/media/image48.jpeg" ContentType="image/jpeg"/>
  <Override PartName="/ppt/media/image7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57.jpeg" ContentType="image/jpeg"/>
  <Override PartName="/ppt/media/image63.png" ContentType="image/png"/>
  <Override PartName="/ppt/media/image41.png" ContentType="image/png"/>
  <Override PartName="/ppt/media/image3.jpeg" ContentType="image/jpeg"/>
  <Override PartName="/ppt/media/image38.jpeg" ContentType="image/jpeg"/>
  <Override PartName="/ppt/media/image72.png" ContentType="image/png"/>
  <Override PartName="/ppt/media/image36.png" ContentType="image/png"/>
  <Override PartName="/ppt/media/image47.png" ContentType="image/png"/>
  <Override PartName="/ppt/media/image35.jpeg" ContentType="image/jpeg"/>
  <Override PartName="/ppt/media/image32.jpeg" ContentType="image/jpeg"/>
  <Override PartName="/ppt/media/image62.png" ContentType="image/png"/>
  <Override PartName="/ppt/media/image51.jpeg" ContentType="image/jpeg"/>
  <Override PartName="/ppt/media/image28.jpeg" ContentType="image/jpeg"/>
  <Override PartName="/ppt/media/image11.jpeg" ContentType="image/jpeg"/>
  <Override PartName="/ppt/media/image24.png" ContentType="image/png"/>
  <Override PartName="/ppt/media/image73.jpeg" ContentType="image/jpeg"/>
  <Override PartName="/ppt/media/image9.gif" ContentType="image/gif"/>
  <Override PartName="/ppt/media/image16.jpeg" ContentType="image/jpeg"/>
  <Override PartName="/ppt/media/image2.jpeg" ContentType="image/jpeg"/>
  <Override PartName="/ppt/media/image19.jpeg" ContentType="image/jpeg"/>
  <Override PartName="/ppt/media/image27.png" ContentType="image/png"/>
  <Override PartName="/ppt/media/image17.jpeg" ContentType="image/jpeg"/>
  <Override PartName="/ppt/media/image61.jpeg" ContentType="image/jpeg"/>
  <Override PartName="/ppt/media/image4.jpeg" ContentType="image/jpeg"/>
  <Override PartName="/ppt/media/image87.png" ContentType="image/png"/>
  <Override PartName="/ppt/media/image5.jpeg" ContentType="image/jpeg"/>
  <Override PartName="/ppt/media/image70.jpeg" ContentType="image/jpeg"/>
  <Override PartName="/ppt/media/image81.png" ContentType="image/png"/>
  <Override PartName="/ppt/media/image60.png" ContentType="image/png"/>
  <Override PartName="/ppt/media/image6.jpeg" ContentType="image/jpeg"/>
  <Override PartName="/ppt/media/image76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22.jpeg" ContentType="image/jpeg"/>
  <Override PartName="/ppt/media/image75.png" ContentType="image/png"/>
  <Override PartName="/ppt/media/image77.jpeg" ContentType="image/jpeg"/>
  <Override PartName="/ppt/media/image68.png" ContentType="image/png"/>
  <Override PartName="/ppt/media/image71.jpeg" ContentType="image/jpeg"/>
  <Override PartName="/ppt/media/image69.png" ContentType="image/png"/>
  <Override PartName="/ppt/media/image67.jpeg" ContentType="image/jpeg"/>
  <Override PartName="/ppt/media/image66.png" ContentType="image/png"/>
  <Override PartName="/ppt/media/image64.jpeg" ContentType="image/jpeg"/>
  <Override PartName="/ppt/media/image15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12.png" ContentType="image/png"/>
  <Override PartName="/ppt/media/image49.png" ContentType="image/png"/>
  <Override PartName="/ppt/media/image65.jpeg" ContentType="image/jpeg"/>
  <Override PartName="/ppt/media/image39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86.jpeg" ContentType="image/jpeg"/>
  <Override PartName="/ppt/media/image10.jpeg" ContentType="image/jpeg"/>
  <Override PartName="/ppt/media/image14.jpeg" ContentType="image/jpeg"/>
  <Override PartName="/ppt/media/image23.jpeg" ContentType="image/jpeg"/>
  <Override PartName="/ppt/media/image8.png" ContentType="image/png"/>
  <Override PartName="/ppt/media/image85.png" ContentType="image/png"/>
  <Override PartName="/ppt/media/image82.jpeg" ContentType="image/jpeg"/>
  <Override PartName="/ppt/media/image79.jpeg" ContentType="image/jpeg"/>
  <Override PartName="/ppt/media/image7.png" ContentType="image/png"/>
  <Override PartName="/ppt/media/image34.jpeg" ContentType="image/jpeg"/>
  <Override PartName="/ppt/media/image13.jpeg" ContentType="image/jpeg"/>
  <Override PartName="/ppt/media/image3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E01C8-FB8B-413B-A21B-CC962731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BFF89-F8A7-46AB-89EA-61473A11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07F97-4E5F-4EF2-9B20-9682AEE4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C1AD8-5E6F-482C-ABCF-851EC7D6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888C-90CD-4C1D-BDA0-1D7946DB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1BDA-676A-4CCE-8CBF-8DD3963E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84AB-9AD4-4631-BEEF-32230401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DAC8-9252-43CE-8DE0-7D7FE56C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05D3-3FC4-4507-A5D7-AC1A9168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7B03-0E2F-4F3E-A31E-A2A454B5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A811-A037-420D-A1F6-F24D6FB7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0A798-36AF-45F9-BE3B-36EA37D4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784C-10B7-42CA-A614-2E579DB2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5C23-E190-4AF6-A461-5285D0D2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9CA9-E24C-4CF4-948D-5DCBFE4C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45EB-E8D1-4A57-AFEF-4FEB8881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E4B1-7A0E-4C7B-B697-CDD73992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860E1-ED6F-47EA-A0EE-A3B14DB4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03487-A27B-4DA1-8246-17369E76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F982B-E4ED-42D5-993C-EECE9477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2B803-1778-484A-9B02-50FF6A93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EF93E-F6A5-4527-BC07-19B0ADB9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505F9-50EA-4119-BD3C-AD86D928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3AD1A-DA12-4BD1-825B-D59634EF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AE6A-1FAF-4B0F-BAFD-DFCCFC6E9E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CC7B-CC46-46D4-8CA8-802679BEA9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9.gif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9.gif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9.gif"/><Relationship Id="rId5" Type="http://schemas.openxmlformats.org/officeDocument/2006/relationships/image" Target="../media/image58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9.gif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3.png"/><Relationship Id="rId4" Type="http://schemas.openxmlformats.org/officeDocument/2006/relationships/image" Target="../media/image9.gif"/><Relationship Id="rId5" Type="http://schemas.openxmlformats.org/officeDocument/2006/relationships/image" Target="../media/image64.jpe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image" Target="../media/image66.png"/><Relationship Id="rId4" Type="http://schemas.openxmlformats.org/officeDocument/2006/relationships/image" Target="../media/image9.gif"/><Relationship Id="rId5" Type="http://schemas.openxmlformats.org/officeDocument/2006/relationships/image" Target="../media/image67.jpe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69.png"/><Relationship Id="rId4" Type="http://schemas.openxmlformats.org/officeDocument/2006/relationships/image" Target="../media/image9.gif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png"/><Relationship Id="rId3" Type="http://schemas.openxmlformats.org/officeDocument/2006/relationships/image" Target="../media/image72.png"/><Relationship Id="rId4" Type="http://schemas.openxmlformats.org/officeDocument/2006/relationships/image" Target="../media/image9.gif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png"/><Relationship Id="rId3" Type="http://schemas.openxmlformats.org/officeDocument/2006/relationships/image" Target="../media/image75.png"/><Relationship Id="rId4" Type="http://schemas.openxmlformats.org/officeDocument/2006/relationships/image" Target="../media/image9.gif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png"/><Relationship Id="rId3" Type="http://schemas.openxmlformats.org/officeDocument/2006/relationships/image" Target="../media/image78.png"/><Relationship Id="rId4" Type="http://schemas.openxmlformats.org/officeDocument/2006/relationships/image" Target="../media/image9.gif"/><Relationship Id="rId5" Type="http://schemas.openxmlformats.org/officeDocument/2006/relationships/image" Target="../media/image79.jpe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png"/><Relationship Id="rId3" Type="http://schemas.openxmlformats.org/officeDocument/2006/relationships/image" Target="../media/image81.png"/><Relationship Id="rId4" Type="http://schemas.openxmlformats.org/officeDocument/2006/relationships/image" Target="../media/image9.gif"/><Relationship Id="rId5" Type="http://schemas.openxmlformats.org/officeDocument/2006/relationships/image" Target="../media/image8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3.png"/><Relationship Id="rId3" Type="http://schemas.openxmlformats.org/officeDocument/2006/relationships/image" Target="../media/image84.jpeg"/><Relationship Id="rId4" Type="http://schemas.openxmlformats.org/officeDocument/2006/relationships/image" Target="../media/image85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9.gif"/><Relationship Id="rId28" Type="http://schemas.openxmlformats.org/officeDocument/2006/relationships/image" Target="../media/image9.gif"/><Relationship Id="rId29" Type="http://schemas.openxmlformats.org/officeDocument/2006/relationships/image" Target="../media/image9.gif"/><Relationship Id="rId30" Type="http://schemas.openxmlformats.org/officeDocument/2006/relationships/image" Target="../media/image9.gif"/><Relationship Id="rId31" Type="http://schemas.openxmlformats.org/officeDocument/2006/relationships/image" Target="../media/image87.png"/><Relationship Id="rId32" Type="http://schemas.openxmlformats.org/officeDocument/2006/relationships/image" Target="../media/image87.png"/><Relationship Id="rId3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9.gif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952880" y="2438280"/>
            <a:ext cx="3676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Стран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недыщащих гор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59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038480" y="3505320"/>
            <a:ext cx="4496040" cy="3070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724280" y="609480"/>
            <a:ext cx="3238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Комаров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2209680" y="327672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886200" y="1222560"/>
            <a:ext cx="5257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тносится к действующи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меет сложную постройку из кальдеры, сдвоенного конуса с потоками лавы и двумя кратерами, экструзивных купо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: 55°с.ш.; 160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ысота 2070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зван в честь академика В.Л. Комарова -исследователя камчатской фло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343400" y="3581280"/>
            <a:ext cx="4400640" cy="2917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5105520" y="533520"/>
            <a:ext cx="27241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Гамчен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2206800" y="3352680"/>
            <a:ext cx="290160" cy="304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199040" y="1222200"/>
            <a:ext cx="4143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ный, действующий вулк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Сложен четырьмя стратовулка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:  55°с.ш.; 160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бсолютная высота 2576 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Сведений об извержениях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настоящее время наблюда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фумарольная деятель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191120" y="3657600"/>
            <a:ext cx="4171680" cy="2717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419720" y="609480"/>
            <a:ext cx="41907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Кроноцкая сопк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2054160" y="3657600"/>
            <a:ext cx="29052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428720" y="1298880"/>
            <a:ext cx="41630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ктивный, действующий вулк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ической формы, у поднож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расивое одноименное озер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ординаты кратера: 54°с.ш., 160°в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бсолютная высота 3528 ме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следнее извержение в 1922–1923 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звание произошло от сло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ронок-собо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343400" y="3759120"/>
            <a:ext cx="4248000" cy="2840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343400" y="609480"/>
            <a:ext cx="4343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Крашенинников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1978200" y="380988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201560" y="1147680"/>
            <a:ext cx="4528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ный, действующий, представл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вумя слившимися конусами, на верши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альдера, из кратера которой раст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овый лавовый кону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: 54°с.ш., 160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ысота 1856 ме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звергался предположительно 400 л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за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зван в честь исследователя Степ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етровича Крашенинник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3943080" cy="2951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5105520" y="533520"/>
            <a:ext cx="27241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льдера Узон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1673280" y="396252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275720" y="1222560"/>
            <a:ext cx="4589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ействующий вулкан кальдерного тип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ординаты: 54°с.ш.; 159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но кальдеры находится на уровне 700 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сшая точка кальдеры-пик Баран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сота 1591 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оявляется активная газ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идротермальная деятельность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характерным рудопроявле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267080" y="3521160"/>
            <a:ext cx="4267440" cy="2693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800600" y="609480"/>
            <a:ext cx="33242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Кихпиныч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1825560" y="396252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052520" y="1371600"/>
            <a:ext cx="4649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тносится к действующ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Сложен несколькими конусами различ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озра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 вершины:54°с.ш.; 160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звержений в историческое время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блюдала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Характерна фумарольная дея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5029200" y="685800"/>
            <a:ext cx="3152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Семлячик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600200" y="4114800"/>
            <a:ext cx="290520" cy="304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90360" y="1375560"/>
            <a:ext cx="3810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алый Семлячик активны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ействующий вулкан, состоя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 трех слившихся  кону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олодой кратер Троиц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аполнен кислотным озе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ординаты активного кра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4°с.ш.; 159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бсолютная высота 1560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следнее извержение в 1852-5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4724280" y="3809880"/>
            <a:ext cx="36385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1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191120" y="3581280"/>
            <a:ext cx="4343400" cy="29289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4495680" y="609480"/>
            <a:ext cx="40100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Карымская сопк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1523880" y="4191120"/>
            <a:ext cx="290520" cy="3045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125960" y="1222560"/>
            <a:ext cx="45255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ействующий стратовулк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олодой правильный конус располож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кальде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 вершины: 54°с.ш., 159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ысота конуса 1486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тносится к наиболее активным в мир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за 215 лет произошло 20 извержен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следнее в 200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4952880" y="609480"/>
            <a:ext cx="30290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Дзензу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1428840" y="4419720"/>
            <a:ext cx="172800" cy="228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276080" y="1298160"/>
            <a:ext cx="4309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ревний, сильно разрушен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ействующий вулк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 вершины: 53°с.ш., 160°в.д.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ысота 1635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Сведений об извержениях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блюдается фумарольная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гидротермальная дея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3962520" y="3505320"/>
            <a:ext cx="476568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20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343400" y="3581280"/>
            <a:ext cx="4191120" cy="28004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343400" y="609480"/>
            <a:ext cx="42958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Жупановская сопк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 flipH="1">
            <a:off x="1447560" y="4419720"/>
            <a:ext cx="290520" cy="304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424040" y="1373760"/>
            <a:ext cx="4115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ный, действующий вулк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бразован четырьмя слившими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нус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: 53°с.ш., 159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бсолютная высота 2958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следнее извержение в 1956–1957 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 rot="5400000">
            <a:off x="6123960" y="2790720"/>
            <a:ext cx="3448080" cy="2133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хе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улка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разрез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66294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267080" y="3492360"/>
            <a:ext cx="4267440" cy="31464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4343400" y="609480"/>
            <a:ext cx="43527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Корякская сопк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1365120" y="464832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597560" y="1298880"/>
            <a:ext cx="3914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ный, действующ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: 53°с.ш., 158°в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бсолютная высота 3456 ме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следнее крупное извержение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956–1957 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 образовавшейся трещи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тмечаются три выхода фумаро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20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419720" y="609480"/>
            <a:ext cx="41907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Авачинская соп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1441440" y="4724280"/>
            <a:ext cx="144360" cy="152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352760" y="1371600"/>
            <a:ext cx="4283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ктивный, действующий, «домашн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улкан, типа Сомма-Везув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ординаты: 53*сш, 159*в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следнее извержение в 1991 г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сота 2751 мет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зван по одноименной реке Авача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большая во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4572000" y="3505320"/>
            <a:ext cx="3867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20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4648320" y="609480"/>
            <a:ext cx="40384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Мутновская соп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1143000" y="5105520"/>
            <a:ext cx="290520" cy="3045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971880" y="1375200"/>
            <a:ext cx="4859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ный, действующий, имеет четыр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слившихся конуса, протяженность крат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коло 4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: 52°с.ш., 158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бсолютная высота 2323 ме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следнее извержение в 1960–1961 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зван по одноименной реке, мутной о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серы, попадающей со склонов соп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4267080" y="3683160"/>
            <a:ext cx="4095720" cy="27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864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4876920" y="609480"/>
            <a:ext cx="35812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сопка Горелая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 flipH="1">
            <a:off x="1142640" y="533412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731480" y="1222560"/>
            <a:ext cx="3879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ный, действующий вулк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:  52°с.ш., 158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ысота 1829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рупное извержение в 1986 г.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изация в 2012 году прив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 исчезновению кислотного оз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крате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зван по цвету слагающих пор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5562720" y="3352680"/>
            <a:ext cx="22669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5257800" y="685800"/>
            <a:ext cx="25527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Ксудач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911160" y="563868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196520" y="1374480"/>
            <a:ext cx="4507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ктивный, действующий вулк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льдерного тип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ординаты молодого конуса Штюбе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1°с.ш., 157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сота 1079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зрывное извержение 1907 г. образовал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ощный покров пемзовых отлож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4114800" y="3683160"/>
            <a:ext cx="4705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" dur="2000" fill="hold"/>
                                        <p:tgtEl>
                                          <p:spTgt spid="2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53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562720" y="762120"/>
            <a:ext cx="23241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Опал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762120" y="525780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732200" y="1602000"/>
            <a:ext cx="3640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ный, действующий вулк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центре Южной Камча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:  52°с.ш., 157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ысота 2475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следнее извержение в 189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4419720" y="3429000"/>
            <a:ext cx="411480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2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343400" y="685800"/>
            <a:ext cx="44388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Желтовская соп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822240" y="5715000"/>
            <a:ext cx="244440" cy="304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522680" y="1297800"/>
            <a:ext cx="4018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ктивный, действую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ратовулкан с соммой на верши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ординаты: 52°с.ш., 157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амой высокой точкой явля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нтрузия  на высоте 1953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следнее извержение в 192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4495680" y="3809880"/>
            <a:ext cx="396252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2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800600" y="685800"/>
            <a:ext cx="37051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Ильинская сопка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685800" y="5715000"/>
            <a:ext cx="363600" cy="3808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428720" y="1449720"/>
            <a:ext cx="4309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ный стратовулкан располож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 берегу Курильского оз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 вершины: 51°с.ш., 157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ысота 1578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следнее извержение в 190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4267080" y="3276720"/>
            <a:ext cx="424836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9" dur="2000" fill="hold"/>
                                        <p:tgtEl>
                                          <p:spTgt spid="2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495680" y="762120"/>
            <a:ext cx="42004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Камбальная сопка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682560" y="594360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42960" y="1464480"/>
            <a:ext cx="4463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ктивный, потенциально действующ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улкан на юге полуостр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ординаты: 51°с.ш., 156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бсолютная высота 2156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следнее извержение в 176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ядом находится Паужетская ГеоТЭ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4038480" y="3352680"/>
            <a:ext cx="44769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5105520" y="762120"/>
            <a:ext cx="31622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Кошелев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6600" y="586728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580280" y="1648080"/>
            <a:ext cx="3819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ный, действую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улканический массив, сложен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из пяти конусов с кратерами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альдер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: 51°с.ш., 157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ысота 1812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следнее извержение в 169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4191120" y="4038480"/>
            <a:ext cx="424800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1" dur="2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265640" y="1447920"/>
            <a:ext cx="4524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амчатка входит в Курил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амчатскую остров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улканическую дуг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ихоокеанского огненного поя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сего насчитывается око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00 вулкан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ействующих – 2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осредоточены  он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осточном и Средин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горных хреб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800600" y="685800"/>
            <a:ext cx="39337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Ичинская сопка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1298160"/>
            <a:ext cx="4648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динственный действующий вулкан в Срединном хреб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ординаты: 55°40'; 157°43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сота над уровнем моря 3621 мет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вергался примерно 300–400 лет наза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зван по одноименной реке  Ича (березова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191120" y="3581280"/>
            <a:ext cx="4552920" cy="3017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36392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914400" y="2895480"/>
            <a:ext cx="2905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2" dur="2000" fill="hold"/>
                                        <p:tgtEl>
                                          <p:spTgt spid="2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914400" y="2971800"/>
            <a:ext cx="290520" cy="3049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1981080" y="2666880"/>
            <a:ext cx="362160" cy="3812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2057400" y="297180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2133720" y="289548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2209680" y="281952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7"/>
          <a:stretch/>
        </p:blipFill>
        <p:spPr>
          <a:xfrm>
            <a:off x="2438280" y="236232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8"/>
          <a:stretch/>
        </p:blipFill>
        <p:spPr>
          <a:xfrm>
            <a:off x="1371600" y="464832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9"/>
          <a:stretch/>
        </p:blipFill>
        <p:spPr>
          <a:xfrm>
            <a:off x="2133720" y="365760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0"/>
          <a:stretch/>
        </p:blipFill>
        <p:spPr>
          <a:xfrm>
            <a:off x="1905120" y="350532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1"/>
          <a:stretch/>
        </p:blipFill>
        <p:spPr>
          <a:xfrm>
            <a:off x="1523880" y="449568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2"/>
          <a:stretch/>
        </p:blipFill>
        <p:spPr>
          <a:xfrm>
            <a:off x="1295280" y="457200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3"/>
          <a:stretch/>
        </p:blipFill>
        <p:spPr>
          <a:xfrm>
            <a:off x="609480" y="571500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4"/>
          <a:stretch/>
        </p:blipFill>
        <p:spPr>
          <a:xfrm>
            <a:off x="1676520" y="411480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5"/>
          <a:stretch/>
        </p:blipFill>
        <p:spPr>
          <a:xfrm>
            <a:off x="1828800" y="327672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6"/>
          <a:stretch/>
        </p:blipFill>
        <p:spPr>
          <a:xfrm>
            <a:off x="2057400" y="304812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7"/>
          <a:stretch/>
        </p:blipFill>
        <p:spPr>
          <a:xfrm>
            <a:off x="609480" y="586728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8"/>
          <a:stretch/>
        </p:blipFill>
        <p:spPr>
          <a:xfrm>
            <a:off x="1676520" y="3733920"/>
            <a:ext cx="288720" cy="3045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9"/>
          <a:stretch/>
        </p:blipFill>
        <p:spPr>
          <a:xfrm>
            <a:off x="685800" y="502920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0"/>
          <a:stretch/>
        </p:blipFill>
        <p:spPr>
          <a:xfrm>
            <a:off x="1066680" y="510552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1"/>
          <a:stretch/>
        </p:blipFill>
        <p:spPr>
          <a:xfrm>
            <a:off x="1143000" y="518148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2"/>
          <a:stretch/>
        </p:blipFill>
        <p:spPr>
          <a:xfrm>
            <a:off x="1371600" y="441972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3"/>
          <a:stretch/>
        </p:blipFill>
        <p:spPr>
          <a:xfrm>
            <a:off x="1828800" y="388620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4"/>
          <a:stretch/>
        </p:blipFill>
        <p:spPr>
          <a:xfrm>
            <a:off x="762120" y="586728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5"/>
          <a:stretch/>
        </p:blipFill>
        <p:spPr>
          <a:xfrm>
            <a:off x="762120" y="579132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6"/>
          <a:stretch/>
        </p:blipFill>
        <p:spPr>
          <a:xfrm>
            <a:off x="990720" y="541008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7"/>
          <a:stretch/>
        </p:blipFill>
        <p:spPr>
          <a:xfrm>
            <a:off x="1600200" y="380988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8"/>
          <a:stretch/>
        </p:blipFill>
        <p:spPr>
          <a:xfrm>
            <a:off x="1523880" y="396252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9"/>
          <a:stretch/>
        </p:blipFill>
        <p:spPr>
          <a:xfrm>
            <a:off x="2133720" y="3276720"/>
            <a:ext cx="217440" cy="2286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0"/>
          <a:stretch/>
        </p:blipFill>
        <p:spPr>
          <a:xfrm>
            <a:off x="2286000" y="350532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648320" y="914400"/>
            <a:ext cx="3319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пользуемые ресурсы: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1523880"/>
            <a:ext cx="52578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Атлас «Люби и знай свой край», Роскартография, 1995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.М.Шуматова, Т.М.Яньшина «Камчатка: от открытия до наших дней», справ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.Семенов «По вулканам и горячим источникам Камчатки», 197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Н.Рудич «Каменные факелы Камчатки», Новосибирск, 197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.И.Воскобойников «Слово на карте», КОИУУ, 1962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.Мархинин «Вулканы Камчатки», Дальневосточное изд-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Фотоальбом «Кроноцкий заповедни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Фото И. Шпиле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Фото М.Жу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Фото из архива ИВ  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Фото ав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45560" y="5257800"/>
            <a:ext cx="450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езентация выполн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чителем географии МБОУ СОШ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.Елизова, Камчат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иконовой З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3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7" dur="2000" fill="hold"/>
                                        <p:tgtEl>
                                          <p:spTgt spid="2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2000" fill="hold"/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5" dur="2000" fill="hold"/>
                                        <p:tgtEl>
                                          <p:spTgt spid="2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9" dur="2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3" dur="2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7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1" dur="2000" fill="hold"/>
                                        <p:tgtEl>
                                          <p:spTgt spid="2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5" dur="2000" fill="hold"/>
                                        <p:tgtEl>
                                          <p:spTgt spid="2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9" dur="2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3" dur="2000" fill="hold"/>
                                        <p:tgtEl>
                                          <p:spTgt spid="2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2000" fill="hold"/>
                                        <p:tgtEl>
                                          <p:spTgt spid="2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1" dur="2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5" dur="2000" fill="hold"/>
                                        <p:tgtEl>
                                          <p:spTgt spid="2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9" dur="2000" fill="hold"/>
                                        <p:tgtEl>
                                          <p:spTgt spid="2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3" dur="2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7" dur="2000" fill="hold"/>
                                        <p:tgtEl>
                                          <p:spTgt spid="2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2000" fill="hold"/>
                                        <p:tgtEl>
                                          <p:spTgt spid="2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5" dur="2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9" dur="2000" fill="hold"/>
                                        <p:tgtEl>
                                          <p:spTgt spid="2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3" dur="2000" fill="hold"/>
                                        <p:tgtEl>
                                          <p:spTgt spid="2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2000" fill="hold"/>
                                        <p:tgtEl>
                                          <p:spTgt spid="2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1" dur="2000" fill="hold"/>
                                        <p:tgtEl>
                                          <p:spTgt spid="2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5" dur="2000" fill="hold"/>
                                        <p:tgtEl>
                                          <p:spTgt spid="2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9" dur="2000" fill="hold"/>
                                        <p:tgtEl>
                                          <p:spTgt spid="2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3" dur="2000" fill="hold"/>
                                        <p:tgtEl>
                                          <p:spTgt spid="2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2000" fill="hold"/>
                                        <p:tgtEl>
                                          <p:spTgt spid="2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1" dur="2000" fill="hold"/>
                                        <p:tgtEl>
                                          <p:spTgt spid="2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5" dur="2000" fill="hold"/>
                                        <p:tgtEl>
                                          <p:spTgt spid="2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038480" y="3276720"/>
            <a:ext cx="4800600" cy="3208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2943360" y="3137040"/>
            <a:ext cx="32572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no Pro Smbd Caption"/>
              </a:rPr>
              <a:t>вулкан Шивелуч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no Pro Smbd Caption"/>
              <a:ea typeface="Arno Pro Smbd Captio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876920" y="609480"/>
            <a:ext cx="30477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Шивелуч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2362320" y="2362320"/>
            <a:ext cx="284040" cy="247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114800" y="1297080"/>
            <a:ext cx="5029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амый северный, действующий вулка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ординаты:  56° с.ш.; 161°в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бсолютная высота 3283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следнее крупное изверж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оизошло в 2007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038480" y="3048120"/>
            <a:ext cx="464832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876920" y="533520"/>
            <a:ext cx="3457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Ушковски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2057400" y="274320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343400" y="1144800"/>
            <a:ext cx="4648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ный, действующий стратовулкан, на вершине расположена кальд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:  56°с.ш., 160°в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ысота 3943 ме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следнее извержение в 189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4800600" cy="3195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267080" y="533520"/>
            <a:ext cx="44960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Ключевская сопк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133720" y="281952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86200" y="1145160"/>
            <a:ext cx="54864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ктивный, действующий страт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улкан с конусом правильной фор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ординаты: 56°с.ш.,160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бсолютная высота 4750 ме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следнее крупное извержение в 2007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звание связано с ключами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текающими из под н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962520" y="3267000"/>
            <a:ext cx="4572000" cy="2963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648320" y="609480"/>
            <a:ext cx="3857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Безымянны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2133720" y="297180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27640" y="1222200"/>
            <a:ext cx="4030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ктивный, действующий страт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улкан, на вершине глубо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ратер, склоны покрыты лавов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то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ординаты:56°с.ш.; 161*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следнее извержение в 2007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 извержений названия не им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419720" y="609480"/>
            <a:ext cx="4381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Толбачинская соп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054160" y="3048120"/>
            <a:ext cx="144360" cy="152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02520" y="1221480"/>
            <a:ext cx="4012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ный, действующий вулк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: 55°с.ш; 160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бсолютная высота 3085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рупнейшее трещинное изверж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1975-76 год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следнее извержение в 2012-1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4495680" y="3657600"/>
            <a:ext cx="419112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4164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86200" y="3276720"/>
            <a:ext cx="4800600" cy="3182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952880" y="609480"/>
            <a:ext cx="2981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улкан Кизимен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752480" y="327672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656600" y="1450080"/>
            <a:ext cx="3696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ный, действующий вулк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оординаты: 55°с.ш.; 160°в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бсолютная высота 2485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оследнее крупное извер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1928–1929 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Активизировался в 200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3-04-03T12:13:41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