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63.png" ContentType="image/png"/>
  <Override PartName="/ppt/media/image41.png" ContentType="image/png"/>
  <Override PartName="/ppt/media/image3.jpeg" ContentType="image/jpeg"/>
  <Override PartName="/ppt/media/image38.jpeg" ContentType="image/jpeg"/>
  <Override PartName="/ppt/media/image72.png" ContentType="image/png"/>
  <Override PartName="/ppt/media/image36.png" ContentType="image/png"/>
  <Override PartName="/ppt/media/image47.png" ContentType="image/png"/>
  <Override PartName="/ppt/media/image35.jpeg" ContentType="image/jpeg"/>
  <Override PartName="/ppt/media/image32.jpeg" ContentType="image/jpeg"/>
  <Override PartName="/ppt/media/image6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73.jpeg" ContentType="image/jpeg"/>
  <Override PartName="/ppt/media/image9.gif" ContentType="image/gif"/>
  <Override PartName="/ppt/media/image16.jpeg" ContentType="image/jpeg"/>
  <Override PartName="/ppt/media/image2.jpeg" ContentType="image/jpeg"/>
  <Override PartName="/ppt/media/image19.jpeg" ContentType="image/jpeg"/>
  <Override PartName="/ppt/media/image27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87.png" ContentType="image/png"/>
  <Override PartName="/ppt/media/image5.jpeg" ContentType="image/jpeg"/>
  <Override PartName="/ppt/media/image70.jpeg" ContentType="image/jpeg"/>
  <Override PartName="/ppt/media/image81.png" ContentType="image/png"/>
  <Override PartName="/ppt/media/image60.png" ContentType="image/png"/>
  <Override PartName="/ppt/media/image6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22.jpeg" ContentType="image/jpeg"/>
  <Override PartName="/ppt/media/image75.png" ContentType="image/png"/>
  <Override PartName="/ppt/media/image77.jpeg" ContentType="image/jpeg"/>
  <Override PartName="/ppt/media/image68.png" ContentType="image/png"/>
  <Override PartName="/ppt/media/image71.jpeg" ContentType="image/jpeg"/>
  <Override PartName="/ppt/media/image69.png" ContentType="image/png"/>
  <Override PartName="/ppt/media/image67.jpeg" ContentType="image/jpeg"/>
  <Override PartName="/ppt/media/image66.png" ContentType="image/png"/>
  <Override PartName="/ppt/media/image64.jpeg" ContentType="image/jpeg"/>
  <Override PartName="/ppt/media/image15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9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86.jpeg" ContentType="image/jpeg"/>
  <Override PartName="/ppt/media/image10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85.png" ContentType="image/png"/>
  <Override PartName="/ppt/media/image8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65A8-5BB8-4AAA-891D-B8FFE822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9E53-1948-4B0D-B719-25E4914B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67BE-B916-451F-AD11-C2B5CD30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622B-7807-4F57-AFDD-7F109234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03A-00DC-4BBD-B4EE-7868AC99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C54D-2AB3-4637-BD71-076C826F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8FEF-41CF-499D-BA6A-673F218B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2F1-C5BD-4D73-98A7-24D1277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5A6-0C06-4617-BC7D-FF57586F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5BB-EFA4-4F01-B270-79ED15C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BAC9-8BD9-4F71-81B1-D0AE1755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6D17-F7AF-47D2-84DB-3D4CDCDD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A489-B019-45F5-AD41-C70A160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98DE-C074-4963-B81D-7F1D0DE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74A3-A9C6-4BE9-AD5E-C749339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AD0E-3172-45F0-88E1-0822ED1F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D87-6376-4077-9592-D96AB244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F3FB-9D99-4CE1-BC2B-3F07C9D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B78F-091F-4334-8F26-6E9DF0AF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06D1-9AD0-4F12-922A-F6D68059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130D-CF95-486E-A6E9-EBEBE1FB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14C7-5D16-47F1-9678-2BEAB01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08EC-4701-4DAF-8296-973694E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3CD4-F3A1-414A-BBE8-3024B23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F3CA-EF4B-4853-BA61-EB2BF0134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345-4839-491C-984B-D2CFF9377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9.gif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9.gif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9.gif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9.gif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9.gif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9.gif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2.png"/><Relationship Id="rId4" Type="http://schemas.openxmlformats.org/officeDocument/2006/relationships/image" Target="../media/image9.gif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9.gif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image" Target="../media/image78.png"/><Relationship Id="rId4" Type="http://schemas.openxmlformats.org/officeDocument/2006/relationships/image" Target="../media/image9.gif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9.gif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image" Target="../media/image85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87.png"/><Relationship Id="rId32" Type="http://schemas.openxmlformats.org/officeDocument/2006/relationships/image" Target="../media/image87.png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9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952880" y="2438280"/>
            <a:ext cx="367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тра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дыщащих гор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9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496040" cy="3070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724280" y="609480"/>
            <a:ext cx="3238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омар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209680" y="32767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86200" y="1222560"/>
            <a:ext cx="525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носится к действующ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меет сложную постройку из кальдеры, сдвоенного конуса с потоками лавы и двумя кратерами, экструзивных купо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5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2070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в честь академика В.Л. Комарова -исследователя камчатской фл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400640" cy="2917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105520" y="533520"/>
            <a:ext cx="272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Гамче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206800" y="3352680"/>
            <a:ext cx="2901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9040" y="1222200"/>
            <a:ext cx="4143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ложен четырьмя стратовулка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5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576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едений об извержениях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настоящее время наблюд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умарольная де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4171680" cy="271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419720" y="609480"/>
            <a:ext cx="4190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роноц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054160" y="3657600"/>
            <a:ext cx="2905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28720" y="1298880"/>
            <a:ext cx="4163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ической формы, у поднож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асивое одноименное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 кратера: 54°с.ш., 160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3528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922–1923 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ие произошло от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онок-соб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343400" y="3759120"/>
            <a:ext cx="42480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343400" y="609480"/>
            <a:ext cx="4343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рашенинник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978200" y="380988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01560" y="1147680"/>
            <a:ext cx="4528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, представл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вумя слившимися конусами, на верш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льдера, из кратера которой раст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овый лавовый кон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4°с.ш.,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856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вергался предположительно 400 л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в честь исследователя Степ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етровича Крашенинник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3943080" cy="2951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105520" y="533520"/>
            <a:ext cx="272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льдера Узо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673280" y="3962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75720" y="1222560"/>
            <a:ext cx="458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йствующий вулкан кальдерн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4°с.ш.;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но кальдеры находится на уровне 700 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шая точка кальдеры-пик Бара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1591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является активная газ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дротермальная деятельнос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арактерным рудопрояв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267080" y="3521160"/>
            <a:ext cx="4267440" cy="2693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800600" y="609480"/>
            <a:ext cx="332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ихпиныч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825560" y="3962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52520" y="1371600"/>
            <a:ext cx="4649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носится к действующ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ложен несколькими конусами различ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54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вержений в историческое время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блюдал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Характерна фумарольн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5029200" y="685800"/>
            <a:ext cx="3152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Семлячи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4114800"/>
            <a:ext cx="2905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90360" y="1375560"/>
            <a:ext cx="3810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лый Семлячик актив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йствующий вулкан, состоя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трех слившихся  кону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лодой кратер Троиц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полнен кислотным оз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 активного кра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4°с.ш.;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1560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852-5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638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191120" y="3581280"/>
            <a:ext cx="4343400" cy="292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495680" y="609480"/>
            <a:ext cx="4010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арым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523880" y="4191120"/>
            <a:ext cx="29052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25960" y="1222560"/>
            <a:ext cx="4525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ействующий страто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лодой правильный конус распо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альд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 54°с.ш.,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конуса 1486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носится к наиболее активным в мир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 215 лет произошло 20 изверже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в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952880" y="609480"/>
            <a:ext cx="3029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Дзензу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428840" y="4419720"/>
            <a:ext cx="172800" cy="228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76080" y="1298160"/>
            <a:ext cx="4309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ревний, сильно разрушен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 53°с.ш., 160°в.д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63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едений об извержениях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блюдается фумарольна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идротермальн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962520" y="3505320"/>
            <a:ext cx="47656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191120" cy="2800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343400" y="609480"/>
            <a:ext cx="4295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Жупано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 flipH="1">
            <a:off x="1447560" y="4419720"/>
            <a:ext cx="29052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24040" y="1373760"/>
            <a:ext cx="411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бразован четырьмя слившими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ну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3°с.ш.,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958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956–1957 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5400000">
            <a:off x="6123960" y="2790720"/>
            <a:ext cx="344808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х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улк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азрез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66294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67080" y="3492360"/>
            <a:ext cx="4267440" cy="3146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343400" y="609480"/>
            <a:ext cx="4352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оряк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365120" y="46483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97560" y="1298880"/>
            <a:ext cx="3914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3°с.ш., 158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3456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956–1957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образовавшейся трещ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мечаются три выхода фумар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419720" y="609480"/>
            <a:ext cx="4190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Авачин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441440" y="4724280"/>
            <a:ext cx="144360" cy="152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352760" y="1371600"/>
            <a:ext cx="428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, «домаш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, типа Сомма-Везу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3*сш, 159*в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991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2751 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 по одноименной реке Авач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572000" y="3505320"/>
            <a:ext cx="3867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48320" y="609480"/>
            <a:ext cx="4038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Мутно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143000" y="5105520"/>
            <a:ext cx="290520" cy="30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71880" y="1375200"/>
            <a:ext cx="485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, имеет четы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лившихся конуса, протяженность крат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коло 4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2°с.ш., 158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323 ме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960–1961 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по одноименной реке, мутной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еры, попадающей со склонов со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267080" y="3683160"/>
            <a:ext cx="4095720" cy="27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876920" y="609480"/>
            <a:ext cx="3581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сопка Горелая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 flipH="1">
            <a:off x="1142640" y="533412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31480" y="1222560"/>
            <a:ext cx="3879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2°с.ш., 158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829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рупное извержение в 1986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изация в 2012 году прив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 исчезновению кислотного оз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рат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по цвету слагающих пор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2266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257800" y="685800"/>
            <a:ext cx="2552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су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911160" y="563868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6520" y="1374480"/>
            <a:ext cx="4507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льдерн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 молодого конуса Штюб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1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1079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зрывное извержение 1907 г. образов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щный покров пемзовых от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114800" y="3683160"/>
            <a:ext cx="470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562720" y="762120"/>
            <a:ext cx="23241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Опа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32200" y="1602000"/>
            <a:ext cx="364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центре Южной Камч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2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247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89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419720" y="3429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343400" y="685800"/>
            <a:ext cx="4438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Желто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822240" y="5715000"/>
            <a:ext cx="24444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22680" y="1297800"/>
            <a:ext cx="401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атовулкан с соммой на верш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2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ой высокой точкой 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рузия  на высоте 1953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92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495680" y="3809880"/>
            <a:ext cx="39625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800600" y="685800"/>
            <a:ext cx="37051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Ильинская сопка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85800" y="5715000"/>
            <a:ext cx="363600" cy="380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28720" y="1449720"/>
            <a:ext cx="430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 стратовулкан распо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берегу Курильского оз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 51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578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9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42483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495680" y="762120"/>
            <a:ext cx="4200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амбальная сопка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82560" y="59436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42960" y="1464480"/>
            <a:ext cx="446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потенциально действу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 на юге полуостр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1°с.ш., 156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2156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76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ядом находится Паужетская ГеоТЭ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4038480" y="3352680"/>
            <a:ext cx="44769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105520" y="762120"/>
            <a:ext cx="31622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ошелев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6600" y="586728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80280" y="1648080"/>
            <a:ext cx="381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улканический массив, слож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 пяти конусов с кратерам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льд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1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812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6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42480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5640" y="1447920"/>
            <a:ext cx="4524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мчатка входит в Курил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мчатскую остров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улканическую ду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ихоокеанского огненного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го насчитывается око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00 вулка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йствующих – 2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средоточены  он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сточном и Среди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орных хреб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00600" y="685800"/>
            <a:ext cx="3933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Ичинская сопк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1298160"/>
            <a:ext cx="464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динственный действующий вулкан в Срединном хреб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5°40'; 157°43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над уровнем моря 3621 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вергался примерно 300–400 лет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 по одноименной реке  Ича (березов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191120" y="3581280"/>
            <a:ext cx="4552920" cy="3017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290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2905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981080" y="2666880"/>
            <a:ext cx="362160" cy="381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057400" y="29718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2133720" y="28954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209680" y="28195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2438280" y="2362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1371600" y="4648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2133720" y="36576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1905120" y="3505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1523880" y="44956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1295280" y="45720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609480" y="57150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4"/>
          <a:stretch/>
        </p:blipFill>
        <p:spPr>
          <a:xfrm>
            <a:off x="1676520" y="41148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5"/>
          <a:stretch/>
        </p:blipFill>
        <p:spPr>
          <a:xfrm>
            <a:off x="1828800" y="32767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6"/>
          <a:stretch/>
        </p:blipFill>
        <p:spPr>
          <a:xfrm>
            <a:off x="2057400" y="30481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7"/>
          <a:stretch/>
        </p:blipFill>
        <p:spPr>
          <a:xfrm>
            <a:off x="609480" y="58672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8"/>
          <a:stretch/>
        </p:blipFill>
        <p:spPr>
          <a:xfrm>
            <a:off x="1676520" y="3733920"/>
            <a:ext cx="2887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9"/>
          <a:stretch/>
        </p:blipFill>
        <p:spPr>
          <a:xfrm>
            <a:off x="685800" y="50292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0"/>
          <a:stretch/>
        </p:blipFill>
        <p:spPr>
          <a:xfrm>
            <a:off x="1066680" y="51055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1"/>
          <a:stretch/>
        </p:blipFill>
        <p:spPr>
          <a:xfrm>
            <a:off x="1143000" y="51814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2"/>
          <a:stretch/>
        </p:blipFill>
        <p:spPr>
          <a:xfrm>
            <a:off x="1371600" y="44197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3"/>
          <a:stretch/>
        </p:blipFill>
        <p:spPr>
          <a:xfrm>
            <a:off x="1828800" y="38862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4"/>
          <a:stretch/>
        </p:blipFill>
        <p:spPr>
          <a:xfrm>
            <a:off x="762120" y="58672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5"/>
          <a:stretch/>
        </p:blipFill>
        <p:spPr>
          <a:xfrm>
            <a:off x="762120" y="5791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6"/>
          <a:stretch/>
        </p:blipFill>
        <p:spPr>
          <a:xfrm>
            <a:off x="990720" y="54100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7"/>
          <a:stretch/>
        </p:blipFill>
        <p:spPr>
          <a:xfrm>
            <a:off x="1600200" y="38098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8"/>
          <a:stretch/>
        </p:blipFill>
        <p:spPr>
          <a:xfrm>
            <a:off x="1523880" y="39625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9"/>
          <a:stretch/>
        </p:blipFill>
        <p:spPr>
          <a:xfrm>
            <a:off x="2133720" y="32767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0"/>
          <a:stretch/>
        </p:blipFill>
        <p:spPr>
          <a:xfrm>
            <a:off x="2286000" y="35053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48320" y="914400"/>
            <a:ext cx="3319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ые ресурсы: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1523880"/>
            <a:ext cx="52578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тлас «Люби и знай свой край», Роскартография, 199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.М.Шуматова, Т.М.Яньшина «Камчатка: от открытия до наших дней», справ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.Семенов «По вулканам и горячим источникам Камчатки», 197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Н.Рудич «Каменные факелы Камчатки», Новосибирск, 197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.И.Воскобойников «Слово на карте», КОИУУ, 196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.Мархинин «Вулканы Камчатки», Дальневосточное изд-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Фотоальбом «Кроноцкий запове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Фото И. Шпил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Фото М.Жу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Фото из архива ИВ 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Фото ав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5560" y="5257800"/>
            <a:ext cx="45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зентация выполн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ителем географии МБОУ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.Елизова, Камчат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иконовой З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4800600" cy="3208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943360" y="3137040"/>
            <a:ext cx="32572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no Pro Smbd Caption"/>
              </a:rPr>
              <a:t>вулкан Шивелуч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no Pro Smbd Caption"/>
              <a:ea typeface="Arno Pro Smbd Captio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609480"/>
            <a:ext cx="3047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Шивелуч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362320" y="2362320"/>
            <a:ext cx="284040" cy="247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14800" y="1297080"/>
            <a:ext cx="50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й северный, действующий вулк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 56° с.ш.; 161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3283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изошло в 200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38480" y="3048120"/>
            <a:ext cx="464832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876920" y="533520"/>
            <a:ext cx="3457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Ушковск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057400" y="27432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43400" y="1144800"/>
            <a:ext cx="4648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стратовулкан, на вершине расположена кальд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6°с.ш., 160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3943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8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800600" cy="319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67080" y="533520"/>
            <a:ext cx="4496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люче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133720" y="2819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1145160"/>
            <a:ext cx="5486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страт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 с конусом правильной фо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6°с.ш.,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475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 в 2007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ие связано с ключами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текающими из под 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2520" y="3267000"/>
            <a:ext cx="4572000" cy="296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648320" y="609480"/>
            <a:ext cx="38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Безымянны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133720" y="29718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7640" y="1222200"/>
            <a:ext cx="4030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страт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, на вершине глубо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атер, склоны покрыты лаво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то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56°с.ш.; 161*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2007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 извержений названия не им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419720" y="609480"/>
            <a:ext cx="4381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Толбачин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054160" y="3048120"/>
            <a:ext cx="14436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02520" y="1221480"/>
            <a:ext cx="401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5°с.ш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308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рупнейшее трещинное извер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1975-76 г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2012-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41911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800600" cy="3182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952880" y="609480"/>
            <a:ext cx="2981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изиме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752480" y="32767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56600" y="1450080"/>
            <a:ext cx="369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5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48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1928–1929 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изировался в 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3-04-03T12:13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