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CC7-3B34-4FD6-883B-0635B742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788-4435-49B5-B18B-A212183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3C4-1FF9-404A-968E-6F5A0816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6EF-F01F-4D92-BA9A-EFD0D6B0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F14-BEFE-4306-A57F-97469171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A0C-DE3B-48B9-9820-194255CD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DB7-AA2C-4672-942D-D995F0BA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014-3AB2-4567-89E9-9C59A57A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457-8333-42DB-B5AE-7A95EA14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835-0CA4-4F1C-9690-5E72DFD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F95-2CBD-4B5E-83F8-46A4D22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C9D-56A3-44A5-BFE4-28E8A2E3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EEAA-4923-468E-9E8B-652EC9193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0942" t="0" r="7817" b="4219"/>
          <a:stretch/>
        </p:blipFill>
        <p:spPr>
          <a:xfrm>
            <a:off x="533520" y="1523880"/>
            <a:ext cx="2590560" cy="4038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2520" y="1752480"/>
            <a:ext cx="4952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Халиуллина Свет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Магнави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МБОУ – Гимназия с. Чекмагу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Чекмагушев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Республики Башкортост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87488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Мама купила торты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flipH="1">
            <a:off x="2818800" y="16002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533520"/>
            <a:ext cx="85345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Съешь-ка еще кусочек тОрта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Куда не посмотришь, всюду тОрты, тОрты, тОрты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21932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1.  Упражнение 2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.  К модели подобрать 3 слова      из орфоэпического слова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3. Сочинить сказку об ударен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</cp:lastModifiedBy>
  <dcterms:modified xsi:type="dcterms:W3CDTF">2013-04-03T05:34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