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C07-C960-4874-92A9-02145C37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F6CB-82DA-4FD0-AF56-D4B17952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86B-C831-473D-8577-35D78138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930F-8452-4D2A-8F92-2A41C3CA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E5E-7663-4C14-BBAE-890A3427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DCE-20FF-420E-AD4B-A3BAB2A2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FED-EAC2-4ACF-9307-944C8DF5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87F-4595-4963-B0B0-6A596FA9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F01-CFAB-4B48-A99C-7345BB98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C28-DC71-462C-9ECD-E91163A1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772-1182-4EA4-8BC8-DF73D20B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A53-2876-4845-9E90-1110E0C8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767C-F99E-4E30-970D-93990A627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0942" t="0" r="7817" b="4219"/>
          <a:stretch/>
        </p:blipFill>
        <p:spPr>
          <a:xfrm>
            <a:off x="533520" y="1523880"/>
            <a:ext cx="2590560" cy="4038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62520" y="1752480"/>
            <a:ext cx="4952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Халиуллина Свет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Магнави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МБОУ – Гимназия с. Чекмагу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Чекмагушев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Республики Башкортост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187488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Мама купила торты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flipH="1">
            <a:off x="2818800" y="16002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533520"/>
            <a:ext cx="853452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Съешь-ка еще кусочек тОрта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Куда не посмотришь, всюду тОрты, тОрты, тОрты</a:t>
            </a:r>
            <a:r>
              <a:rPr b="0" lang="ru-RU" sz="6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219320"/>
            <a:ext cx="86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1.  Упражнение 2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.  К модели подобрать 3 слова      из орфоэпического словар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. Сочинить сказку об ударен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</cp:lastModifiedBy>
  <dcterms:modified xsi:type="dcterms:W3CDTF">2013-04-03T05:34:2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