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31.jpeg" ContentType="image/jpeg"/>
  <Override PartName="/ppt/media/image2.png" ContentType="image/png"/>
  <Override PartName="/ppt/media/image4.jpeg" ContentType="image/jpeg"/>
  <Override PartName="/ppt/media/image8.wmf" ContentType="image/x-wmf"/>
  <Override PartName="/ppt/media/image12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7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755-7BF6-4310-9659-054AF900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2BA-A8E1-4D99-AB9E-FC19A3B1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390-4CB4-47E1-8CD8-D2587D3B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8F4-06C7-4B89-AEF6-67BE629B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A8A6-9458-487C-8D74-01D3E6A1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C393-931B-4FA5-A9F9-08EBF840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0A96-97E8-4BE2-AB8B-F298B09C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098F-377B-4DD6-8032-6B34E61B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5974-5367-491A-8174-4BA532BA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DCA0-8A8B-437A-985C-F45A8D1D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E6FA-9C5F-46AF-AF6C-A4A885AA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FAA-2100-453B-ADFC-54EC900F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4F30-7F91-432C-A2DF-DA3CAF57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66C2-9085-4BC3-9427-7AE5A9EE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30A2-4328-41B1-88FF-3E3EA2EF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F54B-A913-4520-B79A-8804E4A2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8956-99D8-46F1-AB65-30AB60D9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D21-4A35-47A7-9FFA-19D76ADE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A52-A237-43E6-8453-4905B97D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221-51AF-4023-8CA9-6D083A6F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E3B-015A-4877-AFE3-A472DEB5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DA0-ACCA-4FA3-B40A-4DCDD1BC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D9A-473E-42C6-B863-913022E0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D4D-E070-4E4F-A417-2EC255AB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Picture 4" descr="C:\abitbetter\MS-039\graphics\hokusai2.GIF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A1E5-A3AC-4ACF-93B7-CB96E2D3FA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Picture 4" descr="C:\abitbetter\MS-039\graphics\hokusai2.GIF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E2F9-3CC4-4A41-B0EB-1E4B75FE27F0}" type="slidenum">
              <a:rPr b="0" lang="ru-RU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7491600" cy="15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1c62"/>
                </a:solidFill>
                <a:latin typeface="Times New Roman"/>
              </a:rPr>
              <a:t>Внеклассное мероприятие</a:t>
            </a:r>
            <a:endParaRPr b="0" lang="en-US" sz="2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d688"/>
                </a:solidFill>
                <a:latin typeface="Times New Roman"/>
                <a:ea typeface="Times New Roman"/>
              </a:rPr>
              <a:t>ДРУЖИ С ВОДОЙ.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8d688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d8d688"/>
                </a:solidFill>
                <a:latin typeface="Times New Roman"/>
              </a:rPr>
              <a:t>Выполнила: Чернова Прасковья Николаевна – учитель начальных  классов  МБОУ «Юхмачинская СОШ»Алькеевского района РТ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ВОДА - растворитель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97080" y="1981080"/>
            <a:ext cx="36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ода – растворитель, но не все вещества в ней растворяются. Очистить от них воду можно с помощью фильтра. Не растворившиеся вещества остаются на фильтре, а вода проходит через него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Проведём опыт: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1.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Насыпь в один стакан с водой соли, а в другой столько же глины.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2.    Помешай воду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3.   Пропусти через фильтр.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4. Сделай вывод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26" name="Picture 6" descr="A:\9-1.JPG"/>
          <p:cNvPicPr/>
          <p:nvPr/>
        </p:nvPicPr>
        <p:blipFill>
          <a:blip r:embed="rId1"/>
          <a:stretch/>
        </p:blipFill>
        <p:spPr>
          <a:xfrm>
            <a:off x="152280" y="2133720"/>
            <a:ext cx="3886200" cy="35049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7500960" y="285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0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6143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1c62"/>
                </a:solidFill>
                <a:latin typeface="Times New Roman"/>
              </a:rPr>
              <a:t>Круговорот воды в природе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29" name="Picture 4" descr="C:\Documents and Settings\Ирина\Рабочий стол\МАМИНЫ ДОКУМЕНТЫ\Дружи с водой\567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195560" y="1928880"/>
            <a:ext cx="5965560" cy="38574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7429680" y="1429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1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70009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1c62"/>
                </a:solidFill>
                <a:latin typeface="Times New Roman"/>
              </a:rPr>
              <a:t>ВОДА – ИСТОЧНИК ЖИЗНИ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4200" y="1981080"/>
            <a:ext cx="36338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Без воды засохли бы растения. Животные, если лишить их воды, быстро погибают: например, упитанная собака может прожить без воды-менее10 дней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Человек без пищи может прожить больше месяца, без воды-всего лишь несколько дней. Потребность человека в воде:3-6 л в сутки. Пейте чистую воду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33" name="Picture 2" descr="C:\Documents and Settings\Ирина\Рабочий стол\МАМИНЫ ДОКУМЕНТЫ\Дружи с водой\ара.bmp"/>
          <p:cNvPicPr/>
          <p:nvPr/>
        </p:nvPicPr>
        <p:blipFill>
          <a:blip r:embed="rId1"/>
          <a:stretch/>
        </p:blipFill>
        <p:spPr>
          <a:xfrm>
            <a:off x="4643280" y="350028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643880" y="214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7429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1c62"/>
                </a:solidFill>
                <a:latin typeface="Times New Roman"/>
              </a:rPr>
              <a:t>ВОДА-ИСТОЧНИК ЧИСТОТЫ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36194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Вода нужна для умывания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Плохо быть грязнулей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Грязные уши-человек плохо слышит. Грязная кожа-организм плохо дышит. Грязные руки - поселятся микробы. Микробы – причина болезни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А как разные животные умываются и ухаживают за собой?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37" name="Picture 2" descr="C:\Documents and Settings\Ирина\Рабочий стол\МАМИНЫ ДОКУМЕНТЫ\Дружи с водой\192052388.jpg"/>
          <p:cNvPicPr/>
          <p:nvPr/>
        </p:nvPicPr>
        <p:blipFill>
          <a:blip r:embed="rId1"/>
          <a:stretch/>
        </p:blipFill>
        <p:spPr>
          <a:xfrm>
            <a:off x="4071960" y="1714680"/>
            <a:ext cx="1571760" cy="1428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Ирина\Рабочий стол\МАМИНЫ ДОКУМЕНТЫ\Дружи с водой\87.jpg"/>
          <p:cNvPicPr/>
          <p:nvPr/>
        </p:nvPicPr>
        <p:blipFill>
          <a:blip r:embed="rId2"/>
          <a:stretch/>
        </p:blipFill>
        <p:spPr>
          <a:xfrm>
            <a:off x="3714840" y="5143680"/>
            <a:ext cx="1892160" cy="1571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Ирина\Рабочий стол\МАМИНЫ ДОКУМЕНТЫ\Дружи с водой\689.jpg"/>
          <p:cNvPicPr/>
          <p:nvPr/>
        </p:nvPicPr>
        <p:blipFill>
          <a:blip r:embed="rId3"/>
          <a:stretch/>
        </p:blipFill>
        <p:spPr>
          <a:xfrm>
            <a:off x="6143760" y="4857840"/>
            <a:ext cx="1428480" cy="1643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Documents and Settings\Ирина\Рабочий стол\МАМИНЫ ДОКУМЕНТЫ\Дружи с водой\987.jpg"/>
          <p:cNvPicPr/>
          <p:nvPr/>
        </p:nvPicPr>
        <p:blipFill>
          <a:blip r:embed="rId4"/>
          <a:stretch/>
        </p:blipFill>
        <p:spPr>
          <a:xfrm>
            <a:off x="1000080" y="5429160"/>
            <a:ext cx="18576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:\Documents and Settings\Ирина\Рабочий стол\МАМИНЫ ДОКУМЕНТЫ\Дружи с водой\8.jpg"/>
          <p:cNvPicPr/>
          <p:nvPr/>
        </p:nvPicPr>
        <p:blipFill>
          <a:blip r:embed="rId5"/>
          <a:stretch/>
        </p:blipFill>
        <p:spPr>
          <a:xfrm>
            <a:off x="5286240" y="3357720"/>
            <a:ext cx="1857600" cy="1434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C:\Documents and Settings\Ирина\Рабочий стол\МАМИНЫ ДОКУМЕНТЫ\Дружи с водой\90.jpg"/>
          <p:cNvPicPr/>
          <p:nvPr/>
        </p:nvPicPr>
        <p:blipFill>
          <a:blip r:embed="rId6"/>
          <a:stretch/>
        </p:blipFill>
        <p:spPr>
          <a:xfrm>
            <a:off x="5929200" y="1285920"/>
            <a:ext cx="1357560" cy="14288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0"/>
          <p:cNvSpPr/>
          <p:nvPr/>
        </p:nvSpPr>
        <p:spPr>
          <a:xfrm>
            <a:off x="7786800" y="285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62863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1c62"/>
                </a:solidFill>
                <a:latin typeface="Times New Roman"/>
              </a:rPr>
              <a:t>ВОДА-ИСТОЧНИК ЗДОРОВЬЯ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ЗАКАЛИВАНИЕ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КУПАНИЕ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ДУШ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ОБЛИВАНИЕ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ОБТИРАНИЕ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6" name="Клип 3"/>
          <p:cNvSpPr/>
          <p:nvPr/>
        </p:nvSpPr>
        <p:spPr>
          <a:xfrm>
            <a:off x="4143240" y="4643280"/>
            <a:ext cx="36198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7" name="Клип 3"/>
          <p:cNvSpPr/>
          <p:nvPr/>
        </p:nvSpPr>
        <p:spPr>
          <a:xfrm>
            <a:off x="6143760" y="2071800"/>
            <a:ext cx="16905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8" name="Клип 3"/>
          <p:cNvSpPr/>
          <p:nvPr/>
        </p:nvSpPr>
        <p:spPr>
          <a:xfrm flipV="1">
            <a:off x="5286240" y="2356920"/>
            <a:ext cx="36198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49" name="Picture 3" descr="C:\Documents and Settings\Ирина\Рабочий стол\МАМИНЫ ДОКУМЕНТЫ\Дружи с водой\56.jpg"/>
          <p:cNvPicPr/>
          <p:nvPr/>
        </p:nvPicPr>
        <p:blipFill>
          <a:blip r:embed="rId1"/>
          <a:stretch/>
        </p:blipFill>
        <p:spPr>
          <a:xfrm>
            <a:off x="4500720" y="1857240"/>
            <a:ext cx="3286080" cy="3286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9"/>
          <p:cNvSpPr/>
          <p:nvPr/>
        </p:nvSpPr>
        <p:spPr>
          <a:xfrm>
            <a:off x="7858080" y="285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костя\Рабочий стол\baby_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Закаливание – активный творческий процесс, предусматривающий сознательное использование неблагоприятных внешних воздействий для тренировки организма.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Times New Roman"/>
              </a:rPr>
              <a:t>ЗАКАЛИВАНИЕ</a:t>
            </a:r>
            <a:endParaRPr b="0" lang="en-US" sz="6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7715160" y="357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костя\Рабочий стол\219067b_conte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642960" y="1143000"/>
            <a:ext cx="8229600" cy="61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Плавание в открытых водоемах – лучший способ закаливания школьников. Желательно купаться в утренние и вечерние часы. Главная заповедь во время купания – интенсивные, активные движения.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ff00"/>
                </a:solidFill>
                <a:latin typeface="Times New Roman"/>
              </a:rPr>
              <a:t>КУПАНИЕ</a:t>
            </a:r>
            <a:endParaRPr b="0" lang="en-US" sz="6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7786800" y="285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600"/>
                            </p:stCondLst>
                            <p:childTnLst>
                              <p:par>
                                <p:cTn id="4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костя\Рабочий стол\ДУШ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Times New Roman"/>
              </a:rPr>
              <a:t>ДУШ</a:t>
            </a:r>
            <a:endParaRPr b="0" lang="en-US" sz="8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" y="1980720"/>
            <a:ext cx="739152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Times New Roman"/>
              </a:rPr>
              <a:t>Начальная температура + 30, продолжительность – не более 1 мин. В ходе занятий температуру снижают до + 20, а время процедуры сохраняют прежним. 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2" name="Прямоугольник 4"/>
          <p:cNvSpPr/>
          <p:nvPr/>
        </p:nvSpPr>
        <p:spPr>
          <a:xfrm>
            <a:off x="7572240" y="2858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костя\Рабочий стол\облив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000"/>
                </a:solidFill>
                <a:latin typeface="Times New Roman"/>
              </a:rPr>
              <a:t>ОБЛИВАНИЕ</a:t>
            </a:r>
            <a:endParaRPr b="0" lang="en-US" sz="6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1" i="1" lang="ru-RU" sz="3500" spc="-1" strike="noStrike">
                <a:solidFill>
                  <a:srgbClr val="ff0000"/>
                </a:solidFill>
                <a:latin typeface="Times New Roman"/>
              </a:rPr>
              <a:t>Обливание осуществляется при помощи кувшина или шланга. На первых порах после обливания тело энергично растирают полотенцем. В дальнейшем здоровые и физически развитые школьники могут ограничиться лишь обычным вытиранием кожи досуха, без растирания. Такая мера позволит в ещё большей степени повысить закаливающий эффект.</a:t>
            </a:r>
            <a:endParaRPr b="0" i="1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6" name="Прямоугольник 4"/>
          <p:cNvSpPr/>
          <p:nvPr/>
        </p:nvSpPr>
        <p:spPr>
          <a:xfrm>
            <a:off x="7715160" y="285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костя\Рабочий стол\рука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Times New Roman"/>
              </a:rPr>
              <a:t>ОБТИРАНИЕ</a:t>
            </a:r>
            <a:endParaRPr b="0" lang="en-US" sz="8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Обтирание выполняется полотенцем, губкой или рукой, смоченной в воде. Первые две недели обтираются по пояс, затем переходят к обтиранию всего тела в такой последовательности: шея, грудь, руки, спина, ноги. Направление движений – от периферии к центру.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7572240" y="214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Можно ли прожить без воды?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72240" y="70920"/>
            <a:ext cx="121464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2" name="Picture 4" descr="C:\Documents and Settings\Ирина\Мои документы\Мои рисунки\creek_1.jpg"/>
          <p:cNvPicPr/>
          <p:nvPr/>
        </p:nvPicPr>
        <p:blipFill>
          <a:blip r:embed="rId1"/>
          <a:stretch/>
        </p:blipFill>
        <p:spPr>
          <a:xfrm>
            <a:off x="1000080" y="2297160"/>
            <a:ext cx="6372360" cy="38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Распространение воды в природе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оды на Земле много, и в то же время ее мало. Ее основная часть находится в морях и океанах. Морская вода непригодная для питья, а также для сельского хозяйства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На пресную воду приходится очень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н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ебольшая часть. Основные запасы пресной воды находятся в твердом состоянии в виде снега и льда в Арктике и Антарктиде.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73" name="Picture 6" descr="A:\LAKE11.GIF"/>
          <p:cNvPicPr/>
          <p:nvPr/>
        </p:nvPicPr>
        <p:blipFill>
          <a:blip r:embed="rId1"/>
          <a:stretch/>
        </p:blipFill>
        <p:spPr>
          <a:xfrm>
            <a:off x="3886200" y="2133720"/>
            <a:ext cx="3809880" cy="40384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7786800" y="2858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ЗНАЧЕНИЕ ВОДОЁМОВ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Значение водоемов в природе велико. Водоемы – это хранилища воды, которая необходима всему живому. А для тех растений и животных, это – единственный дом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77" name="Picture 6" descr="A:\REEF_01.JPG"/>
          <p:cNvPicPr/>
          <p:nvPr/>
        </p:nvPicPr>
        <p:blipFill>
          <a:blip r:embed="rId1"/>
          <a:stretch/>
        </p:blipFill>
        <p:spPr>
          <a:xfrm>
            <a:off x="152280" y="213372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4"/>
          <p:cNvSpPr/>
          <p:nvPr/>
        </p:nvSpPr>
        <p:spPr>
          <a:xfrm>
            <a:off x="7643880" y="214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1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Значение водоёмов в жизни людей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елико значение водоёмов и в жизни людей. Они украшают Землю. Люди здесь отдыхают. По воде на судах путешествуют и перевозят грузы. Из водоёмов берут воду, без которой не могут обойтись ни в быту, ни на производстве.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81" name="Picture 6" descr="A:\9-3.JPG"/>
          <p:cNvPicPr/>
          <p:nvPr/>
        </p:nvPicPr>
        <p:blipFill>
          <a:blip r:embed="rId1"/>
          <a:stretch/>
        </p:blipFill>
        <p:spPr>
          <a:xfrm>
            <a:off x="3886200" y="2590920"/>
            <a:ext cx="3809880" cy="29718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7786800" y="214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2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ОХРАНА ВОДОЁМОВ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97080" y="1981080"/>
            <a:ext cx="36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одоёмы должны быть чистыми!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 водоёмы не должны попадать сточные воды заводов, ферм, удобрения и ядохимикаты с полей, бензин и смазочное масло, различный мусор.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85" name="Picture 6" descr="A:\IMG0008.JPG"/>
          <p:cNvPicPr/>
          <p:nvPr/>
        </p:nvPicPr>
        <p:blipFill>
          <a:blip r:embed="rId1"/>
          <a:stretch/>
        </p:blipFill>
        <p:spPr>
          <a:xfrm>
            <a:off x="668160" y="1981080"/>
            <a:ext cx="3141720" cy="365760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4"/>
          <p:cNvSpPr/>
          <p:nvPr/>
        </p:nvSpPr>
        <p:spPr>
          <a:xfrm>
            <a:off x="7929720" y="2858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3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ОХРАНА ВОДОЁМОВ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Школьники могут оказать большую помощь взрослым в охране водоёмов: следить за чистотой воды, расчищать родники и ручьи, оберегать растения и животных.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89" name="Picture 6" descr="A:\9-4.JPG"/>
          <p:cNvPicPr/>
          <p:nvPr/>
        </p:nvPicPr>
        <p:blipFill>
          <a:blip r:embed="rId1"/>
          <a:stretch/>
        </p:blipFill>
        <p:spPr>
          <a:xfrm>
            <a:off x="3809880" y="2209680"/>
            <a:ext cx="3810240" cy="358164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4"/>
          <p:cNvSpPr/>
          <p:nvPr/>
        </p:nvSpPr>
        <p:spPr>
          <a:xfrm>
            <a:off x="7715160" y="2142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4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САМОЕ СОЛЁНОЕ МОРЕ.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Если хлебнуть глоток воды из Мертвого моря, она жжёт, как едкая жидкость. Если войти в него по колени, то очень трудно передвигать ногами – так тяжела его вода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 давние времена римский император из любопытства приказал бросить в его воды рабов, скованных железными цепями, но они не утонули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Своей исключительной солёностью Мёртвое море обязано засушливому климату и сильному испарению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7858080" y="214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5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САМОЕ ГЛУБОКОЕ ОЗЕРО – БАЙКАЛ.</a:t>
            </a: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Его глубина более 1740 метров. Оно вмещает пятую часть всей пресной воды планеты. Более 300 рек и речек впадает в озеро. А вытекает одна – величественная Ангара.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елик и разнообразен его водный мир: омуль, хариус, остер, нерпа, голомянка и многие другие.</a:t>
            </a:r>
            <a:r>
              <a:rPr b="0" i="1" lang="ru-RU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7715160" y="285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6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52149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1c62"/>
                </a:solidFill>
                <a:latin typeface="Times New Roman"/>
              </a:rPr>
              <a:t>ВЫВОДЫ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" y="1142640"/>
            <a:ext cx="7391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Мы выяснили, что вода очень важна для человека и других обитателей планеты. С водой нужно дружить.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                                   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Без чего, мы скажем прямо,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Человеку умирать?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Если руки ваши в ваксе,           Чтобы лился дождик  неба,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Если на нос сели кляксы,          Чтоб росли колосья хлеба,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Кто тогда нам первый друг,   Чтобы плыли корабли,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Снимет грязь с лица и рук?     Чтоб варились кисели,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Без чего не может мама          Чтобы не было беды -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Ни готовить, ни стирать?     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                           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Жить нельзя нам без воды.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        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                              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7858080" y="1429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525"/>
                </a:solidFill>
                <a:latin typeface="Times New Roman"/>
              </a:rPr>
              <a:t>Слайд 2</a:t>
            </a:r>
            <a:r>
              <a:rPr b="1" lang="en-US" sz="1800" spc="-1" strike="noStrike">
                <a:solidFill>
                  <a:srgbClr val="2d2525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1285920"/>
            <a:ext cx="73915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d688"/>
                </a:solidFill>
                <a:latin typeface="Times New Roman"/>
              </a:rPr>
              <a:t>ЛИТЕРАТУРА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d688"/>
                </a:solidFill>
                <a:latin typeface="Times New Roman"/>
              </a:rPr>
              <a:t>«Путешествия в страну здоровья», автор Т.Н.Максимова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d688"/>
                </a:solidFill>
                <a:latin typeface="Times New Roman"/>
              </a:rPr>
              <a:t>Мастерская учителя «Школа докторов природы»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d688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d8d688"/>
                </a:solidFill>
                <a:latin typeface="Times New Roman"/>
              </a:rPr>
              <a:t>автор Л.А.Обухова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7715160" y="2142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6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6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1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56433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4df1"/>
                </a:solidFill>
                <a:latin typeface="Times New Roman"/>
              </a:rPr>
              <a:t>Цель:</a:t>
            </a:r>
            <a:br>
              <a:rPr sz="4400"/>
            </a:br>
            <a:r>
              <a:rPr b="0" lang="ru-RU" sz="1800" spc="-1" strike="noStrike">
                <a:solidFill>
                  <a:srgbClr val="194df1"/>
                </a:solidFill>
                <a:latin typeface="Times New Roman"/>
              </a:rPr>
              <a:t>Определить влияние воды на жизнь и здоровье человека.</a:t>
            </a:r>
            <a:endParaRPr b="0" lang="en-US" sz="18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4200" y="3000240"/>
            <a:ext cx="604368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4df1"/>
                </a:solidFill>
                <a:latin typeface="Times New Roman"/>
              </a:rPr>
              <a:t>Задачи: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4df1"/>
                </a:solidFill>
                <a:latin typeface="Times New Roman"/>
              </a:rPr>
              <a:t>* Выяснить, что такое вода и в каком состоянии она бывает. 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4df1"/>
                </a:solidFill>
                <a:latin typeface="Times New Roman"/>
              </a:rPr>
              <a:t>* Узнать о значении воды в природе.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4df1"/>
                </a:solidFill>
                <a:latin typeface="Times New Roman"/>
              </a:rPr>
              <a:t>* Оценить важность воды для человека</a:t>
            </a:r>
            <a:r>
              <a:rPr b="0" lang="ru-RU" sz="1800" spc="-1" strike="noStrike">
                <a:solidFill>
                  <a:srgbClr val="2d2525"/>
                </a:solidFill>
                <a:latin typeface="Times New Roman"/>
              </a:rPr>
              <a:t>.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7643880" y="2142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1360" y="272520"/>
            <a:ext cx="61434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1c62"/>
                </a:solidFill>
                <a:latin typeface="Times New Roman"/>
              </a:rPr>
              <a:t>Загадка.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0040" y="1500120"/>
            <a:ext cx="3214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Зимой падает, весной журчит, летом шумит, осенью </a:t>
            </a:r>
            <a:r>
              <a:rPr b="0" i="1" lang="ru-RU" sz="3200" spc="-1" strike="noStrike">
                <a:solidFill>
                  <a:srgbClr val="2d2525"/>
                </a:solidFill>
                <a:latin typeface="Times New Roman"/>
              </a:rPr>
              <a:t>капает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28760" y="2714400"/>
            <a:ext cx="24289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d2525"/>
                </a:solidFill>
                <a:latin typeface="Times New Roman"/>
              </a:rPr>
              <a:t>Это ВОДА.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9" name="Содержимое 10" descr="greenfalls.jpg"/>
          <p:cNvPicPr/>
          <p:nvPr/>
        </p:nvPicPr>
        <p:blipFill>
          <a:blip r:embed="rId1"/>
          <a:stretch/>
        </p:blipFill>
        <p:spPr>
          <a:xfrm>
            <a:off x="357120" y="3786120"/>
            <a:ext cx="3327480" cy="24289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7500960" y="1429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Вода необходима всем живым организм</a:t>
            </a:r>
            <a:r>
              <a:rPr b="0" lang="ru-RU" sz="2400" spc="-1" strike="noStrike">
                <a:solidFill>
                  <a:srgbClr val="061c62"/>
                </a:solidFill>
                <a:latin typeface="Times New Roman"/>
              </a:rPr>
              <a:t>ам</a:t>
            </a: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растениям, животным и  человеку.</a:t>
            </a:r>
            <a:br>
              <a:rPr sz="2400"/>
            </a:b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Без воды нет жизни.</a:t>
            </a:r>
            <a:br>
              <a:rPr sz="2400"/>
            </a:b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Вода – одно из самых главных богатств Земли.</a:t>
            </a: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29718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3" name="Picture 6" descr="A:\Dolphins of the Rainbow.jpg"/>
          <p:cNvPicPr/>
          <p:nvPr/>
        </p:nvPicPr>
        <p:blipFill>
          <a:blip r:embed="rId1"/>
          <a:stretch/>
        </p:blipFill>
        <p:spPr>
          <a:xfrm>
            <a:off x="228600" y="25909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7500960" y="1429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6900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c62"/>
                </a:solidFill>
                <a:latin typeface="Times New Roman"/>
              </a:rPr>
              <a:t>Где в природе можно встретить воду?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5480" y="4571640"/>
            <a:ext cx="285732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Что за странный звездопад: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Звезды белые летят?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Покружатся, а потом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Устилают сад ковром.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499760"/>
            <a:ext cx="2328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Побежали по дорожке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Серебристых нитей ножки.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5840" y="2714760"/>
            <a:ext cx="25718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Ты в летний полдень, в тишь и зной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Их не увидишь над собой.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А иногда, белы как вата,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Они плывут, спешат куда - то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9" name="Picture 7" descr="C:\Documents and Settings\Ирина\Рабочий стол\МАМИНЫ ДОКУМЕНТЫ\доп_картинки\Рисунок7.gif"/>
          <p:cNvPicPr/>
          <p:nvPr/>
        </p:nvPicPr>
        <p:blipFill>
          <a:blip r:embed="rId1"/>
          <a:stretch/>
        </p:blipFill>
        <p:spPr>
          <a:xfrm>
            <a:off x="4929120" y="1357200"/>
            <a:ext cx="1544760" cy="10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Ирина\Рабочий стол\МАМИНЫ ДОКУМЕНТЫ\доп_картинки\Рисунок10.gif"/>
          <p:cNvPicPr/>
          <p:nvPr/>
        </p:nvPicPr>
        <p:blipFill>
          <a:blip r:embed="rId2"/>
          <a:stretch/>
        </p:blipFill>
        <p:spPr>
          <a:xfrm>
            <a:off x="5072040" y="5000760"/>
            <a:ext cx="1857240" cy="121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C:\Documents and Settings\Ирина\Рабочий стол\МАМИНЫ ДОКУМЕНТЫ\PUB60COR\NA01680_.WMF"/>
          <p:cNvPicPr/>
          <p:nvPr/>
        </p:nvPicPr>
        <p:blipFill>
          <a:blip r:embed="rId3"/>
          <a:stretch/>
        </p:blipFill>
        <p:spPr>
          <a:xfrm>
            <a:off x="5000760" y="2857680"/>
            <a:ext cx="1699920" cy="1214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7715160" y="142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99680"/>
            <a:ext cx="739152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Вода – самое удивительное вещество на Земле. В природе она встречается в разных состояниях: в жидком, твердом, в виде газа – пара.</a:t>
            </a:r>
            <a:br>
              <a:rPr sz="2400"/>
            </a:br>
            <a:endParaRPr b="0" lang="en-US" sz="2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4" name="Picture 5" descr="A:\9-5.JPG"/>
          <p:cNvPicPr/>
          <p:nvPr/>
        </p:nvPicPr>
        <p:blipFill>
          <a:blip r:embed="rId1"/>
          <a:stretch/>
        </p:blipFill>
        <p:spPr>
          <a:xfrm>
            <a:off x="228600" y="3124080"/>
            <a:ext cx="7391520" cy="2286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 flipH="1">
            <a:off x="7643880" y="1429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7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СОСТОЯНИЯ ВОДЫ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3619440"/>
                <a:tab algn="l" pos="7238880"/>
                <a:tab algn="l" pos="1085868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Одно из замечательных свойств воды мы можем наблюдать зимой на реке, на озере или на пруду. Мы видим там лед, то есть твердую воду. Подо льдом -  жидкая вода. Надо льдом – водяной пар, он всегда есть в воздухе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3619440"/>
                <a:tab algn="l" pos="7238880"/>
                <a:tab algn="l" pos="1085868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ода – единственное на земле вещество, которое может в природных условиях находиться одно временно во всех трех состояниях: твердом, жидком и газообразном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8" name="Picture 6" descr="A:\9-2.JPG"/>
          <p:cNvPicPr/>
          <p:nvPr/>
        </p:nvPicPr>
        <p:blipFill>
          <a:blip r:embed="rId1"/>
          <a:stretch/>
        </p:blipFill>
        <p:spPr>
          <a:xfrm>
            <a:off x="5334120" y="2971800"/>
            <a:ext cx="1979640" cy="22096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7429680" y="21420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8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СВОЙСТВА ВОДЫ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36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Wingdings"/>
                <a:ea typeface="Wingdings"/>
              </a:rPr>
              <a:t>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   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ода – прозрачная, бесцветная жидкость, не имеет запаха.</a:t>
            </a:r>
            <a:br>
              <a:rPr sz="2400"/>
            </a:b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Wingdings"/>
                <a:ea typeface="Wingdings"/>
              </a:rPr>
              <a:t>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   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При нагревании вода расширяется, а при охлаждении сжимается.</a:t>
            </a:r>
            <a:br>
              <a:rPr sz="2400"/>
            </a:b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22" name="Picture 8" descr="A:\9.JPG"/>
          <p:cNvPicPr/>
          <p:nvPr/>
        </p:nvPicPr>
        <p:blipFill>
          <a:blip r:embed="rId1"/>
          <a:stretch/>
        </p:blipFill>
        <p:spPr>
          <a:xfrm>
            <a:off x="3997440" y="3657600"/>
            <a:ext cx="3774960" cy="16765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7500960" y="2142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9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06:17:56Z</dcterms:created>
  <dc:creator>CPUMain</dc:creator>
  <dc:description/>
  <dc:language>en-US</dc:language>
  <cp:lastModifiedBy>Nabster</cp:lastModifiedBy>
  <dcterms:modified xsi:type="dcterms:W3CDTF">2013-04-03T16:16:32Z</dcterms:modified>
  <cp:revision>88</cp:revision>
  <dc:subject/>
  <dc:title>Урок  Природоведения в 3 классе </dc:title>
</cp:coreProperties>
</file>