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31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12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441-8BF6-4AAA-8034-FE1E22C4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863-FDF3-414C-9CB8-93F68035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745-D012-4179-AA4B-A7E3C43B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8BF-461E-4066-924F-02E70F41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4842-EC74-4030-B072-D9B31BEC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A3C2-0DFA-4B54-95AE-99E3E43D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869B-6B2D-4C89-889B-D8D376C8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968-D80C-4801-A5A4-8C3A711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0EC9-83A5-4B0D-81CF-C3E841B5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9A08-4D59-40D7-85F9-C1CE798B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D48-53CC-403B-9AA3-11733A1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C77-FD2F-4AB0-A172-B4C8BFD8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5BF-2B55-4ED9-BA86-F18E2E4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EF7C-5628-4031-9854-AEA2CE5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2D6-CF3A-46F8-B390-94A11549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032E-3DD5-422C-B875-7EA7E7D5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681D-7DC0-4767-A3D7-FEEF2D6E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CB4-5D10-4572-A8D5-C6D7393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6E0-9828-44A7-BE37-34835DA1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501-6B84-4EE7-B06D-BF86B4B5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B3-F8A7-4AA1-80E4-327CB47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816-B7B1-4CAA-9363-A05001F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347-EB41-4B1F-979F-86F98A3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E41-90F0-4CA6-84F4-ABCFF0D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438C-8C3C-49F3-835F-6B3E00DE64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FE0C-C054-42C6-8BC5-886EC252E507}" type="slidenum">
              <a:rPr b="0" lang="ru-RU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491600" cy="15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1c62"/>
                </a:solidFill>
                <a:latin typeface="Times New Roman"/>
              </a:rPr>
              <a:t>Внеклассное мероприятие</a:t>
            </a:r>
            <a:endParaRPr b="0" lang="en-US" sz="2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d688"/>
                </a:solidFill>
                <a:latin typeface="Times New Roman"/>
                <a:ea typeface="Times New Roman"/>
              </a:rPr>
              <a:t>ДРУЖИ С ВОДОЙ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8d688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d8d688"/>
                </a:solidFill>
                <a:latin typeface="Times New Roman"/>
              </a:rPr>
              <a:t>Выполнила: Чернова Прасковья Николаевна – учитель начальных  классов  МБОУ «Юхмачинская СОШ»Алькеевского района РТ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ВОДА - растворитель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9708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растворитель, но не все вещества в ней растворяются. Очистить от них воду можно с помощью фильтра. Не растворившиеся вещества остаются на фильтре, а вода проходит через него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Проведём опыт: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1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Насыпь в один стакан с водой соли, а в другой столько же глины.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2.    Помешай воду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3.   Пропусти через фильтр.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4. Сделай вывод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6" name="Picture 6" descr="A:\9-1.JPG"/>
          <p:cNvPicPr/>
          <p:nvPr/>
        </p:nvPicPr>
        <p:blipFill>
          <a:blip r:embed="rId1"/>
          <a:stretch/>
        </p:blipFill>
        <p:spPr>
          <a:xfrm>
            <a:off x="152280" y="2133720"/>
            <a:ext cx="388620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75009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0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143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Круговорот воды в природе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9" name="Picture 4" descr="C:\Documents and Settings\Ирина\Рабочий стол\МАМИНЫ ДОКУМЕНТЫ\Дружи с водой\56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195560" y="1928880"/>
            <a:ext cx="5965560" cy="38574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7429680" y="142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1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7000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 – ИСТОЧНИК ЖИЗНИ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4200" y="1981080"/>
            <a:ext cx="36338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воды засохли бы растения. Животные, если лишить их воды, быстро погибают: например, упитанная собака может прожить без воды-менее10 дней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Человек без пищи может прожить больше месяца, без воды-всего лишь несколько дней. Потребность человека в воде:3-6 л в сутки. Пейте чистую воду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3" name="Picture 2" descr="C:\Documents and Settings\Ирина\Рабочий стол\МАМИНЫ ДОКУМЕНТЫ\Дружи с водой\ара.bmp"/>
          <p:cNvPicPr/>
          <p:nvPr/>
        </p:nvPicPr>
        <p:blipFill>
          <a:blip r:embed="rId1"/>
          <a:stretch/>
        </p:blipFill>
        <p:spPr>
          <a:xfrm>
            <a:off x="4643280" y="350028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64388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429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-ИСТОЧНИК ЧИСТОТЫ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36194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Вода нужна для умывания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Плохо быть грязнулей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Грязные уши-человек плохо слышит. Грязная кожа-организм плохо дышит. Грязные руки - поселятся микробы. Микробы – причина болезни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А как разные животные умываются и ухаживают за собой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7" name="Picture 2" descr="C:\Documents and Settings\Ирина\Рабочий стол\МАМИНЫ ДОКУМЕНТЫ\Дружи с водой\192052388.jpg"/>
          <p:cNvPicPr/>
          <p:nvPr/>
        </p:nvPicPr>
        <p:blipFill>
          <a:blip r:embed="rId1"/>
          <a:stretch/>
        </p:blipFill>
        <p:spPr>
          <a:xfrm>
            <a:off x="4071960" y="1714680"/>
            <a:ext cx="1571760" cy="142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Ирина\Рабочий стол\МАМИНЫ ДОКУМЕНТЫ\Дружи с водой\87.jpg"/>
          <p:cNvPicPr/>
          <p:nvPr/>
        </p:nvPicPr>
        <p:blipFill>
          <a:blip r:embed="rId2"/>
          <a:stretch/>
        </p:blipFill>
        <p:spPr>
          <a:xfrm>
            <a:off x="3714840" y="5143680"/>
            <a:ext cx="189216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Ирина\Рабочий стол\МАМИНЫ ДОКУМЕНТЫ\Дружи с водой\689.jpg"/>
          <p:cNvPicPr/>
          <p:nvPr/>
        </p:nvPicPr>
        <p:blipFill>
          <a:blip r:embed="rId3"/>
          <a:stretch/>
        </p:blipFill>
        <p:spPr>
          <a:xfrm>
            <a:off x="6143760" y="4857840"/>
            <a:ext cx="1428480" cy="164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Ирина\Рабочий стол\МАМИНЫ ДОКУМЕНТЫ\Дружи с водой\987.jpg"/>
          <p:cNvPicPr/>
          <p:nvPr/>
        </p:nvPicPr>
        <p:blipFill>
          <a:blip r:embed="rId4"/>
          <a:stretch/>
        </p:blipFill>
        <p:spPr>
          <a:xfrm>
            <a:off x="1000080" y="5429160"/>
            <a:ext cx="18576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C:\Documents and Settings\Ирина\Рабочий стол\МАМИНЫ ДОКУМЕНТЫ\Дружи с водой\8.jpg"/>
          <p:cNvPicPr/>
          <p:nvPr/>
        </p:nvPicPr>
        <p:blipFill>
          <a:blip r:embed="rId5"/>
          <a:stretch/>
        </p:blipFill>
        <p:spPr>
          <a:xfrm>
            <a:off x="5286240" y="3357720"/>
            <a:ext cx="1857600" cy="1434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C:\Documents and Settings\Ирина\Рабочий стол\МАМИНЫ ДОКУМЕНТЫ\Дружи с водой\90.jpg"/>
          <p:cNvPicPr/>
          <p:nvPr/>
        </p:nvPicPr>
        <p:blipFill>
          <a:blip r:embed="rId6"/>
          <a:stretch/>
        </p:blipFill>
        <p:spPr>
          <a:xfrm>
            <a:off x="5929200" y="1285920"/>
            <a:ext cx="1357560" cy="14288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0"/>
          <p:cNvSpPr/>
          <p:nvPr/>
        </p:nvSpPr>
        <p:spPr>
          <a:xfrm>
            <a:off x="7786800" y="285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62863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ОДА-ИСТОЧНИК ЗДОРОВЬЯ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ЗАКАЛИВ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КУП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ДУШ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ОБЛИВ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ОБТИРАНИЕ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6" name="Клип 3"/>
          <p:cNvSpPr/>
          <p:nvPr/>
        </p:nvSpPr>
        <p:spPr>
          <a:xfrm>
            <a:off x="4143240" y="4643280"/>
            <a:ext cx="36198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7" name="Клип 3"/>
          <p:cNvSpPr/>
          <p:nvPr/>
        </p:nvSpPr>
        <p:spPr>
          <a:xfrm>
            <a:off x="6143760" y="2071800"/>
            <a:ext cx="1690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8" name="Клип 3"/>
          <p:cNvSpPr/>
          <p:nvPr/>
        </p:nvSpPr>
        <p:spPr>
          <a:xfrm flipV="1">
            <a:off x="5286240" y="2356920"/>
            <a:ext cx="36198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49" name="Picture 3" descr="C:\Documents and Settings\Ирина\Рабочий стол\МАМИНЫ ДОКУМЕНТЫ\Дружи с водой\56.jpg"/>
          <p:cNvPicPr/>
          <p:nvPr/>
        </p:nvPicPr>
        <p:blipFill>
          <a:blip r:embed="rId1"/>
          <a:stretch/>
        </p:blipFill>
        <p:spPr>
          <a:xfrm>
            <a:off x="4500720" y="1857240"/>
            <a:ext cx="3286080" cy="3286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7858080" y="285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костя\Рабочий стол\baby_wa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Закаливание – активный творческий процесс, предусматривающий сознательное использование неблагоприятных внешних воздействий для тренировки организма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ЗАКАЛИВ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7715160" y="357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костя\Рабочий стол\219067b_conte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642960" y="1143000"/>
            <a:ext cx="8229600" cy="619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Плавание в открытых водоемах – лучший способ закаливания школьников. Желательно купаться в утренние и вечерние часы. Главная заповедь во время купания – интенсивные, активные движения.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ff00"/>
                </a:solidFill>
                <a:latin typeface="Times New Roman"/>
              </a:rPr>
              <a:t>КУП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7786800" y="285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600"/>
                            </p:stCondLst>
                            <p:childTnLst>
                              <p:par>
                                <p:cTn id="4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костя\Рабочий стол\ДУ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</a:rPr>
              <a:t>ДУШ</a:t>
            </a:r>
            <a:endParaRPr b="0" lang="en-US" sz="8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980720"/>
            <a:ext cx="739152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Times New Roman"/>
              </a:rPr>
              <a:t>Начальная температура + 30, продолжительность – не более 1 мин. В ходе занятий температуру снижают до + 20, а время процедуры сохраняют прежним. 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7572240" y="2858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костя\Рабочий стол\облив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000"/>
                </a:solidFill>
                <a:latin typeface="Times New Roman"/>
              </a:rPr>
              <a:t>ОБЛИВАНИЕ</a:t>
            </a:r>
            <a:endParaRPr b="0" lang="en-US" sz="6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1" i="1" lang="ru-RU" sz="3500" spc="-1" strike="noStrike">
                <a:solidFill>
                  <a:srgbClr val="ff0000"/>
                </a:solidFill>
                <a:latin typeface="Times New Roman"/>
              </a:rPr>
              <a:t>Обливание осуществляется при помощи кувшина или шланга. На первых порах после обливания тело энергично растирают полотенцем. В дальнейшем здоровые и физически развитые школьники могут ограничиться лишь обычным вытиранием кожи досуха, без растирания. Такая мера позволит в ещё большей степени повысить закаливающий эффект.</a:t>
            </a:r>
            <a:endParaRPr b="0" i="1" lang="en-US" sz="35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1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Documents and Settings\костя\Рабочий стол\рука"/>
          <p:cNvPicPr/>
          <p:nvPr/>
        </p:nvPicPr>
        <p:blipFill>
          <a:blip r:embed="rId1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Times New Roman"/>
              </a:rPr>
              <a:t>ОБТИРАНИЕ</a:t>
            </a:r>
            <a:endParaRPr b="0" lang="en-US" sz="8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Обтирание выполняется полотенцем, губкой или рукой, смоченной в воде. Первые две недели обтираются по пояс, затем переходят к обтиранию всего тела в такой последовательности: шея, грудь, руки, спина, ноги. Направление движений – от периферии к центру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757224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64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Можно ли прожить без воды?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72240" y="70920"/>
            <a:ext cx="1214640" cy="4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2" name="Picture 4" descr="C:\Documents and Settings\Ирина\Мои документы\Мои рисунки\creek_1.jpg"/>
          <p:cNvPicPr/>
          <p:nvPr/>
        </p:nvPicPr>
        <p:blipFill>
          <a:blip r:embed="rId1"/>
          <a:stretch/>
        </p:blipFill>
        <p:spPr>
          <a:xfrm>
            <a:off x="1000080" y="2297160"/>
            <a:ext cx="6372360" cy="38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Распространение воды в природе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ы на Земле много, и в то же время ее мало. Ее основная часть находится в морях и океанах. Морская вода непригодная для питья, а также для сельского хозяйства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На пресную воду приходится очень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н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большая часть. Основные запасы пресной воды находятся в твердом состоянии в виде снега и льда в Арктике и Антарктиде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73" name="Picture 6" descr="A:\LAKE11.GIF"/>
          <p:cNvPicPr/>
          <p:nvPr/>
        </p:nvPicPr>
        <p:blipFill>
          <a:blip r:embed="rId1"/>
          <a:stretch/>
        </p:blipFill>
        <p:spPr>
          <a:xfrm>
            <a:off x="3886200" y="21337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7786800" y="285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ЗНАЧЕНИЕ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Значение водоемов в природе велико. Водоемы – это хранилища воды, которая необходима всему живому. А для тех растений и животных, это – единственный дом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77" name="Picture 6" descr="A:\REEF_01.JPG"/>
          <p:cNvPicPr/>
          <p:nvPr/>
        </p:nvPicPr>
        <p:blipFill>
          <a:blip r:embed="rId1"/>
          <a:stretch/>
        </p:blipFill>
        <p:spPr>
          <a:xfrm>
            <a:off x="152280" y="21337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7643880" y="214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1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Значение водоёмов в жизни людей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елико значение водоёмов и в жизни людей. Они украшают Землю. Люди здесь отдыхают. По воде на судах путешествуют и перевозят грузы. Из водоёмов берут воду, без которой не могут обойтись ни в быту, ни на производстве.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1" name="Picture 6" descr="A:\9-3.JPG"/>
          <p:cNvPicPr/>
          <p:nvPr/>
        </p:nvPicPr>
        <p:blipFill>
          <a:blip r:embed="rId1"/>
          <a:stretch/>
        </p:blipFill>
        <p:spPr>
          <a:xfrm>
            <a:off x="3886200" y="259092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7786800" y="214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2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708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оёмы должны быть чистыми!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 водоёмы не должны попадать сточные воды заводов, ферм, удобрения и ядохимикаты с полей, бензин и смазочное масло, различный мусор.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5" name="Picture 6" descr="A:\IMG0008.JPG"/>
          <p:cNvPicPr/>
          <p:nvPr/>
        </p:nvPicPr>
        <p:blipFill>
          <a:blip r:embed="rId1"/>
          <a:stretch/>
        </p:blipFill>
        <p:spPr>
          <a:xfrm>
            <a:off x="668160" y="1981080"/>
            <a:ext cx="314172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4"/>
          <p:cNvSpPr/>
          <p:nvPr/>
        </p:nvSpPr>
        <p:spPr>
          <a:xfrm>
            <a:off x="7929720" y="2858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ОХРАНА ВОДОЁМОВ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Школьники могут оказать большую помощь взрослым в охране водоёмов: следить за чистотой воды, расчищать родники и ручьи, оберегать растения и животных.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89" name="Picture 6" descr="A:\9-4.JPG"/>
          <p:cNvPicPr/>
          <p:nvPr/>
        </p:nvPicPr>
        <p:blipFill>
          <a:blip r:embed="rId1"/>
          <a:stretch/>
        </p:blipFill>
        <p:spPr>
          <a:xfrm>
            <a:off x="3809880" y="2209680"/>
            <a:ext cx="3810240" cy="358164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7715160" y="214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САМОЕ СОЛЁНОЕ МОРЕ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сли хлебнуть глоток воды из Мертвого моря, она жжёт, как едкая жидкость. Если войти в него по колени, то очень трудно передвигать ногами – так тяжела его вода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 давние времена римский император из любопытства приказал бросить в его воды рабов, скованных железными цепями, но они не утонули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Своей исключительной солёностью Мёртвое море обязано засушливому климату и сильному испарению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7858080" y="214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САМОЕ ГЛУБОКОЕ ОЗЕРО – БАЙКАЛ.</a:t>
            </a: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Его глубина более 1740 метров. Оно вмещает пятую часть всей пресной воды планеты. Более 300 рек и речек впадает в озеро. А вытекает одна – величественная Ангара.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елик и разнообразен его водный мир: омуль, хариус, остер, нерпа, голомянка и многие другие.</a:t>
            </a:r>
            <a:r>
              <a:rPr b="0" i="1" lang="ru-RU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52149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1c62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142640"/>
            <a:ext cx="7391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Мы выяснили, что вода очень важна для человека и других обитателей планеты. С водой нужно дружить.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                                   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чего, мы скажем прямо,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Человеку умирать?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Если руки ваши в ваксе,           Чтобы лился дождик  неба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Если на нос сели кляксы,          Чтоб росли колосья хлеба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Кто тогда нам первый друг,   Чтобы плыли корабли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Снимет грязь с лица и рук?     Чтоб варились кисели,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Без чего не может мама          Чтобы не было беды -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Ни готовить, ни стирать?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</a:t>
            </a: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Жить нельзя нам без воды.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                          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</a:rPr>
              <a:t>    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785808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r>
              <a:rPr b="1" lang="en-US" sz="1800" spc="-1" strike="noStrike">
                <a:solidFill>
                  <a:srgbClr val="2d2525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285920"/>
            <a:ext cx="7391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ЛИТЕРАТУРА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«Путешествия в страну здоровья», автор Т.Н.Максимова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Мастерская учителя «Школа докторов природы»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d8d688"/>
                </a:solidFill>
                <a:latin typeface="Times New Roman"/>
              </a:rPr>
              <a:t>автор Л.А.Обухова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7715160" y="2142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2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56433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4df1"/>
                </a:solidFill>
                <a:latin typeface="Times New Roman"/>
              </a:rPr>
              <a:t>Цель:</a:t>
            </a:r>
            <a:br>
              <a:rPr sz="4400"/>
            </a:b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Определить влияние воды на жизнь и здоровье человека.</a:t>
            </a:r>
            <a:endParaRPr b="0" lang="en-US" sz="1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4200" y="3000240"/>
            <a:ext cx="6043680" cy="18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4df1"/>
                </a:solidFill>
                <a:latin typeface="Times New Roman"/>
              </a:rPr>
              <a:t>Задачи:</a:t>
            </a:r>
            <a:endParaRPr b="0" i="1" lang="en-US" sz="44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Выяснить, что такое вода и в каком состоянии она бывает.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Узнать о значении воды в природе.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4df1"/>
                </a:solidFill>
                <a:latin typeface="Times New Roman"/>
              </a:rPr>
              <a:t>* Оценить важность воды для человека</a:t>
            </a:r>
            <a:r>
              <a:rPr b="0" lang="ru-RU" sz="1800" spc="-1" strike="noStrike">
                <a:solidFill>
                  <a:srgbClr val="2d2525"/>
                </a:solidFill>
                <a:latin typeface="Times New Roman"/>
              </a:rPr>
              <a:t>.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7643880" y="2142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1360" y="272520"/>
            <a:ext cx="6143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1c62"/>
                </a:solidFill>
                <a:latin typeface="Times New Roman"/>
              </a:rPr>
              <a:t>Загадка.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0040" y="1500120"/>
            <a:ext cx="321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d2525"/>
                </a:solidFill>
                <a:latin typeface="Times New Roman"/>
              </a:rPr>
              <a:t>Зимой падает, весной журчит, летом шумит, осенью </a:t>
            </a:r>
            <a:r>
              <a:rPr b="0" i="1" lang="ru-RU" sz="3200" spc="-1" strike="noStrike">
                <a:solidFill>
                  <a:srgbClr val="2d2525"/>
                </a:solidFill>
                <a:latin typeface="Times New Roman"/>
              </a:rPr>
              <a:t>капает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8760" y="2714400"/>
            <a:ext cx="24289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d2525"/>
                </a:solidFill>
                <a:latin typeface="Times New Roman"/>
              </a:rPr>
              <a:t>Это ВОДА.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9" name="Содержимое 10" descr="greenfalls.jpg"/>
          <p:cNvPicPr/>
          <p:nvPr/>
        </p:nvPicPr>
        <p:blipFill>
          <a:blip r:embed="rId1"/>
          <a:stretch/>
        </p:blipFill>
        <p:spPr>
          <a:xfrm>
            <a:off x="357120" y="3786120"/>
            <a:ext cx="3327480" cy="24289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750096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необходима всем живым организм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</a:rPr>
              <a:t>ам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растениям, животным и  человеку.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Без воды нет жизни.</a:t>
            </a:r>
            <a:br>
              <a:rPr sz="2400"/>
            </a:b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– одно из самых главных богатств Земли.</a:t>
            </a: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	</a:t>
            </a: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3" name="Picture 6" descr="A:\Dolphins of the Rainbow.jpg"/>
          <p:cNvPicPr/>
          <p:nvPr/>
        </p:nvPicPr>
        <p:blipFill>
          <a:blip r:embed="rId1"/>
          <a:stretch/>
        </p:blipFill>
        <p:spPr>
          <a:xfrm>
            <a:off x="228600" y="25909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7500960" y="142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69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c62"/>
                </a:solidFill>
                <a:latin typeface="Times New Roman"/>
              </a:rPr>
              <a:t>Где в природе можно встретить воду?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4571640"/>
            <a:ext cx="285732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Что за странный звездопад: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Звезды белые летят?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Покружатся, а потом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Устилают сад ковром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99760"/>
            <a:ext cx="23288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Побежали по дорожке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Серебристых нитей ножки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5840" y="2714760"/>
            <a:ext cx="25718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Ты в летний полдень, в тишь и зной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Их не увидишь над собой.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А иногда, белы как вата,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525"/>
                </a:solidFill>
                <a:latin typeface="Times New Roman"/>
              </a:rPr>
              <a:t>Они плывут, спешат куда - то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9" name="Picture 7" descr="C:\Documents and Settings\Ирина\Рабочий стол\МАМИНЫ ДОКУМЕНТЫ\доп_картинки\Рисунок7.gif"/>
          <p:cNvPicPr/>
          <p:nvPr/>
        </p:nvPicPr>
        <p:blipFill>
          <a:blip r:embed="rId1"/>
          <a:stretch/>
        </p:blipFill>
        <p:spPr>
          <a:xfrm>
            <a:off x="4929120" y="1357200"/>
            <a:ext cx="1544760" cy="10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Ирина\Рабочий стол\МАМИНЫ ДОКУМЕНТЫ\доп_картинки\Рисунок10.gif"/>
          <p:cNvPicPr/>
          <p:nvPr/>
        </p:nvPicPr>
        <p:blipFill>
          <a:blip r:embed="rId2"/>
          <a:stretch/>
        </p:blipFill>
        <p:spPr>
          <a:xfrm>
            <a:off x="5072040" y="5000760"/>
            <a:ext cx="1857240" cy="121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C:\Documents and Settings\Ирина\Рабочий стол\МАМИНЫ ДОКУМЕНТЫ\PUB60COR\NA01680_.WMF"/>
          <p:cNvPicPr/>
          <p:nvPr/>
        </p:nvPicPr>
        <p:blipFill>
          <a:blip r:embed="rId3"/>
          <a:stretch/>
        </p:blipFill>
        <p:spPr>
          <a:xfrm>
            <a:off x="5000760" y="2857680"/>
            <a:ext cx="1699920" cy="1214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7715160" y="142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</a:t>
            </a:r>
            <a:r>
              <a:rPr b="1" i="1" lang="en-US" sz="1800" spc="-1" strike="noStrike">
                <a:solidFill>
                  <a:srgbClr val="2d2525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99680"/>
            <a:ext cx="739152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Вода – самое удивительное вещество на Земле. В природе она встречается в разных состояниях: в жидком, твердом, в виде газа – пара.</a:t>
            </a:r>
            <a:br>
              <a:rPr sz="2400"/>
            </a:b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4" name="Picture 5" descr="A:\9-5.JPG"/>
          <p:cNvPicPr/>
          <p:nvPr/>
        </p:nvPicPr>
        <p:blipFill>
          <a:blip r:embed="rId1"/>
          <a:stretch/>
        </p:blipFill>
        <p:spPr>
          <a:xfrm>
            <a:off x="228600" y="3124080"/>
            <a:ext cx="739152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 flipH="1">
            <a:off x="764388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7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СОСТОЯНИЯ ВОДЫ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3619440"/>
                <a:tab algn="l" pos="7238880"/>
                <a:tab algn="l" pos="1085868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Одно из замечательных свойств воды мы можем наблюдать зимой на реке, на озере или на пруду. Мы видим там лед, то есть твердую воду. Подо льдом -  жидкая вода. Надо льдом – водяной пар, он всегда есть в воздухе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3619440"/>
                <a:tab algn="l" pos="7238880"/>
                <a:tab algn="l" pos="10858680"/>
              </a:tabLst>
            </a:pP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единственное на земле вещество, которое может в природных условиях находиться одно временно во всех трех состояниях: твердом, жидком и газообразном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8" name="Picture 6" descr="A:\9-2.JPG"/>
          <p:cNvPicPr/>
          <p:nvPr/>
        </p:nvPicPr>
        <p:blipFill>
          <a:blip r:embed="rId1"/>
          <a:stretch/>
        </p:blipFill>
        <p:spPr>
          <a:xfrm>
            <a:off x="5334120" y="2971800"/>
            <a:ext cx="1979640" cy="22096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7429680" y="2142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8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61c62"/>
                </a:solidFill>
                <a:latin typeface="Times New Roman"/>
              </a:rPr>
              <a:t>СВОЙСТВА ВОДЫ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36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Wingdings"/>
                <a:ea typeface="Wingdings"/>
              </a:rPr>
              <a:t>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  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Вода – прозрачная, бесцветная жидкость, не имеет запаха.</a:t>
            </a: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Wingdings"/>
                <a:ea typeface="Wingdings"/>
              </a:rPr>
              <a:t>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   </a:t>
            </a:r>
            <a:r>
              <a:rPr b="0" i="1" lang="ru-RU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При нагревании вода расширяется, а при охлаждении сжимается.</a:t>
            </a: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2" name="Picture 8" descr="A:\9.JPG"/>
          <p:cNvPicPr/>
          <p:nvPr/>
        </p:nvPicPr>
        <p:blipFill>
          <a:blip r:embed="rId1"/>
          <a:stretch/>
        </p:blipFill>
        <p:spPr>
          <a:xfrm>
            <a:off x="3997440" y="3657600"/>
            <a:ext cx="3774960" cy="16765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7500960" y="2142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d2525"/>
                </a:solidFill>
                <a:latin typeface="Times New Roman"/>
              </a:rPr>
              <a:t>Слайд 9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6:17:56Z</dcterms:created>
  <dc:creator>CPUMain</dc:creator>
  <dc:description/>
  <dc:language>en-US</dc:language>
  <cp:lastModifiedBy>Nabster</cp:lastModifiedBy>
  <dcterms:modified xsi:type="dcterms:W3CDTF">2013-04-03T16:16:32Z</dcterms:modified>
  <cp:revision>88</cp:revision>
  <dc:subject/>
  <dc:title>Урок  Природоведения в 3 классе </dc:title>
</cp:coreProperties>
</file>