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47E-EC85-4402-BCC3-37932494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52F-A029-461E-BB40-9F79A60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1C1-695D-4407-BC69-F33D6C45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140-BDFF-4822-99B7-125ED021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5AA-DC03-45D2-91B8-D2A44FF3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6425-E980-4E46-81D3-D2000AA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0D6-2F91-4651-8D36-DED9A5D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9F8E-CA3D-4623-81A7-9F6D1E8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733-2C9D-4215-ABB4-085780F2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F34A-069E-44F8-90E1-1F5ACF01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852D-4160-4D35-B66B-097415B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990-2DD5-4CDB-9BF2-C505C3E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6D6F-D3DA-4441-A12A-BD0766E3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A30-A958-4D3E-A11F-93A097D4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DAA-FAA5-428E-A391-E8CB5EA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8B4-D759-45CB-8888-F1BBEA88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2BC4-8E0F-42F7-934A-BE2B252B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5E6-80C3-44A9-8AC2-6CD8ED1F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527-5B93-4843-93D5-9251E6B9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D0E-AAC1-4E5A-A972-E2290680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C23-073D-4355-AAF0-414EFE84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3D1-FBE3-40E2-90B7-8B4D3AC3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139-CAC5-48AF-A514-F87685D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C2E-6C64-4814-9844-08815D8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98B-A017-4F07-B25A-D868DACA46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865-227C-4710-AA6E-AF8DDC41F6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066680" y="3276720"/>
            <a:ext cx="70866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омендаци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родителей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совместном выполнени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го задани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4120" y="30492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: Смолина Н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СОШ №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00240"/>
            <a:ext cx="8153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"Эмоциональная поддержка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авное для ребёнка - эмоциональное участие взрослого, одобрительная оценка действий ребёнка со стороны взрослого, поощрение самостоятельного действия, высказывание похвалы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ример: "Посмотри, в том ж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мере у тебя получилось"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8915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арайтесь эмоциона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держивать своего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говорите ему: «Другие дети могу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ты – неспособны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ажите ему, что у него получается неплохо, хотя есть и отдельные недостатки. Но ведь он для того и учится, чтобы получилось замечательно. Обязательно отмечайте его успехи. Покажите ему, что Вы «с ним вместе». Подчеркивайте его позицию школьника,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зросл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е старайтесь выполнить за ребен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го задание: ему нужно постепенн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учиться работать самому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едлагайте ему оценить результаты ег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аботы самому. Это очень важное умение – научиться оценивать свою работу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он сделал ошибки, пусть попробуе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ти их самостоятельно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ребенок испытывает затруднения, помогите ему (по принципу «горячо–холодно»)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Если Вы видите, что Ваш малыш увлечен работой – отойдите от него на время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Но в конце обязательно совместно с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         ним оцените его труд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авила, которыми стоит пользовать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№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вмешивайтесь в дело, которым занят ребенок, если он не просит помощ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оим невмешательством вы будете сообщать ему : «С тобой всё в порядке! Ты конечно справишься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Правило №2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Если ребёнку трудно и он готов принять вашу помощь, обязательн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могите ему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чень хорошо начать со слов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Давай подумаем вместе»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25596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мните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ительность занятий с ребе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о втором кла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должна превышать 20-30 мин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кажды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10-15 минутным  переры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тренировке чтения необходи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ребенок читал по 20-25 минут, но каждый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-31680"/>
            <a:ext cx="7239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выполнении задания по русскому язы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ажно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чтобы ребенок после прочтения задания в учебнике сумел своими словами рассказать пошагово предстоящую раб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чтобы ребенок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сал с комментированием. Пусть он бубнит» – это полезный навык в обучении безошибочному пис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ыполнять все задания, 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ом чи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 дополн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3T12:48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