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D51-A79B-4710-9830-9748F484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E86-2925-4D13-B523-5B866C75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5E3-8349-4569-B931-CF65A675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1C2-31A2-4B27-9654-6C09234C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CB93-0727-48C6-9820-828106ED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4DF3-88AF-4867-B720-A3436257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4D60-90FE-43E0-A728-D84C5F08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EE85-206E-4C71-9B2D-E4CF7AC6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DDAC-327D-4E27-82C3-C94D7B50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6D77-AEEC-44BB-A853-96C33ECD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F0B0-CF58-441B-8E40-9E0F79AC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227-15D4-44EE-9288-F6F788D2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995C-ECC9-4F34-BE60-5F6F0A9C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17CA-12CB-4411-9409-A3A66701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5300-9727-4F1F-B01D-AA7281BC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48BD-A522-42AC-9BAD-3D8CDAF7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EFCD-5853-41CD-B01E-287E22D4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E6B-A395-4A9D-B980-96F88F80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665-801A-4497-939F-5EEB6C99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B7C-283F-484B-9E0E-E1838959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8C8-162E-435E-9E4A-A3B42298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A7C-2AC7-4E8F-9967-D0DC7FC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5D6-A6CD-42BA-86EC-EC6D4C7B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3CD-238B-4C3B-8EDF-5591017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45E1-2544-4CBC-B39E-307C3EE1CC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470A-0803-430D-A339-A5062DF4DA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066680" y="3276720"/>
            <a:ext cx="70866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омендаци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родителей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 совместном выполнени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го задани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4120" y="30492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: Смолина Н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КОУ СОШ №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300240"/>
            <a:ext cx="8153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"Эмоциональная поддержка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лавное для ребёнка - эмоциональное участие взрослого, одобрительная оценка действий ребёнка со стороны взрослого, поощрение самостоятельного действия, высказывание похвалы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ример: "Посмотри, в том ж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мере у тебя получилось"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8915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арайтесь эмоциональ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держивать своего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говорите ему: «Другие дети мог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ты – неспособны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ажите ему, что у него получается неплохо, хотя есть и отдельные недостатки. Но ведь он для того и учится, чтобы получилось замечательно. Обязательно отмечайте его успехи. Покажите ему, что Вы «с ним вместе». Подчеркивайте его позицию школьника,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зросл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е старайтесь выполнить за ребенк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го задание: ему нужно постепенн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учиться работать самому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едлагайте ему оценить результаты ег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боты самому. Это очень важное умение – научиться оценивать свою работу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он сделал ошибки, пусть попробуе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йти их самостоятельно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ребенок испытывает затруднения, помогите ему (по принципу «горячо–холодно»)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Вы видите, что Ваш малыш увлечен работой – отойдите от него на время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Но в конце обязательно совместно с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ним оцените его труд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авила, которыми стоит пользоватьс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№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вмешивайтесь в дело, которым занят ребенок, если он не просит помощ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им невмешательством вы будете сообщать ему : «С тобой всё в порядке! Ты конечно справишься!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№2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Если ребёнку трудно и он готов принять вашу помощь, обязательн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могите ему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чень хорошо начать со слов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Давай подумаем вместе»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25596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мните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ительность занятий с ребен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 втором клас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должна превышать 20-30 мин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каждый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10-15 минутным  переры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тренировке чтения необходим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ребенок читал по 20-25 минут, но каждый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-31680"/>
            <a:ext cx="7239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выполнении задания по русскому языку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ажно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чтобы ребенок после прочтения задания в учебнике сумел своими словами рассказать пошагово предстоящую раб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чтобы ребено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исал с комментированием. Пусть он бубнит» – это полезный навык в обучении безошибочному пис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выполнять все задания, 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ом чис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 дополн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03T12:48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