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1.jpeg" ContentType="image/jpeg"/>
  <Override PartName="/ppt/media/image29.png" ContentType="image/png"/>
  <Override PartName="/ppt/media/image16.jpeg" ContentType="image/jpeg"/>
  <Override PartName="/ppt/media/image39.gif" ContentType="image/gif"/>
  <Override PartName="/ppt/media/image15.jpeg" ContentType="image/jpeg"/>
  <Override PartName="/ppt/media/image10.png" ContentType="image/png"/>
  <Override PartName="/ppt/media/image1.jpeg" ContentType="image/jpeg"/>
  <Override PartName="/ppt/media/image22.gif" ContentType="image/gif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3.gif" ContentType="image/gif"/>
  <Override PartName="/ppt/media/image49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7.gif" ContentType="image/gif"/>
  <Override PartName="/ppt/media/image51.jpeg" ContentType="image/jpeg"/>
  <Override PartName="/ppt/media/image4.gif" ContentType="image/gif"/>
  <Override PartName="/ppt/media/image28.gif" ContentType="image/gif"/>
  <Override PartName="/ppt/media/image14.jpeg" ContentType="image/jpeg"/>
  <Override PartName="/ppt/media/image41.jpeg" ContentType="image/jpeg"/>
  <Override PartName="/ppt/media/image5.gif" ContentType="image/gif"/>
  <Override PartName="/ppt/media/image7.jpeg" ContentType="image/jpeg"/>
  <Override PartName="/ppt/media/image42.png" ContentType="image/png"/>
  <Override PartName="/ppt/media/image19.jpeg" ContentType="image/jpeg"/>
  <Override PartName="/ppt/media/image37.png" ContentType="image/png"/>
  <Override PartName="/ppt/media/image44.jpeg" ContentType="image/jpeg"/>
  <Override PartName="/ppt/media/image34.png" ContentType="image/png"/>
  <Override PartName="/ppt/media/image46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52.png" ContentType="image/png"/>
  <Override PartName="/ppt/media/image54.jpeg" ContentType="image/jpeg"/>
  <Override PartName="/ppt/media/image55.jpeg" ContentType="image/jpeg"/>
  <Override PartName="/ppt/media/image35.png" ContentType="image/png"/>
  <Override PartName="/ppt/media/image31.jpeg" ContentType="image/jpeg"/>
  <Override PartName="/ppt/media/image30.png" ContentType="image/png"/>
  <Override PartName="/ppt/media/image12.png" ContentType="image/png"/>
  <Override PartName="/ppt/media/image40.jpeg" ContentType="image/jpeg"/>
  <Override PartName="/ppt/media/image13.jpeg" ContentType="image/jpeg"/>
  <Override PartName="/ppt/media/image8.jpeg" ContentType="image/jpeg"/>
  <Override PartName="/ppt/media/image38.png" ContentType="image/png"/>
  <Override PartName="/ppt/media/image25.gif" ContentType="image/gif"/>
  <Override PartName="/ppt/media/image18.png" ContentType="image/png"/>
  <Override PartName="/ppt/media/image36.png" ContentType="image/png"/>
  <Override PartName="/ppt/media/image6.png" ContentType="image/png"/>
  <Override PartName="/ppt/media/image20.jpeg" ContentType="image/jpe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A86-C321-44A2-BA1E-1E63F450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826-5299-4BB3-AAB2-0D28398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935-399B-4ED5-9CED-CC3667BD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491-CD86-4FC8-BA3B-092F6BA9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E18-12FE-472B-B716-9FC722FC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089-F252-4081-960E-41592BA1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BC4-8766-4ED1-A2F8-EE049A70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B4B-80F6-4F6A-862B-B78F3090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956-7840-4613-B92D-6594D8D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732-66C1-4647-8CA2-F1F765B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02B-86C3-4D0C-989A-47F9D59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584-B609-45D0-BD21-39A84E5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C9F6-A72D-4F75-A603-8F36908A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C45-17"/>
          <p:cNvPicPr/>
          <p:nvPr/>
        </p:nvPicPr>
        <p:blipFill>
          <a:blip r:embed="rId1"/>
          <a:stretch/>
        </p:blipFill>
        <p:spPr>
          <a:xfrm>
            <a:off x="1187280" y="0"/>
            <a:ext cx="654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124000" y="981000"/>
            <a:ext cx="65516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 сгубишь -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3068640"/>
            <a:ext cx="67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вое не купишь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C03-36"/>
          <p:cNvPicPr/>
          <p:nvPr/>
        </p:nvPicPr>
        <p:blipFill>
          <a:blip r:embed="rId2"/>
          <a:stretch/>
        </p:blipFill>
        <p:spPr>
          <a:xfrm>
            <a:off x="0" y="0"/>
            <a:ext cx="1692360" cy="160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44-07"/>
          <p:cNvPicPr/>
          <p:nvPr/>
        </p:nvPicPr>
        <p:blipFill>
          <a:blip r:embed="rId3"/>
          <a:stretch/>
        </p:blipFill>
        <p:spPr>
          <a:xfrm>
            <a:off x="6775560" y="3933720"/>
            <a:ext cx="2368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8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11268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м произведении М. Твена описан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опыт «приобщения» ребенка к табачному зелью: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«...курильщики стали сплевывать что-то уж очень часто. За щеками у них образовались как будто фонтаны, под языком было сущее наводнение, только успевай откачивать; заливало даже в горло, несмотря на все старания, и все время подкатывала тошнота. Оба мальчика побледнели, и вид у них был самый жалкий. Трубка выпала из ослабевших пальцев Джо Гарнера. То же самое случилось и с Том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81360" y="333360"/>
            <a:ext cx="456264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0" y="6123960"/>
            <a:ext cx="93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Приключения Тома Сойера и Гекльберри Финна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333360"/>
            <a:ext cx="42354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9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9079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Руси говорили: «Безделье — мать все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роков». Именно труд наполняет человеческу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знь смыслом.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Знаете ли вы пословицы о труде? Отгадайте окончание следующих послови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588000" y="314100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о обеда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20" y="3191040"/>
            <a:ext cx="64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пеняй на соседа, когда спишь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600" y="393372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рпение и труд — вс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716360" y="3933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еретру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880" y="4581360"/>
            <a:ext cx="56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учен день до вечера, коли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5580000" y="4580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елать нечего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600" y="530064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з дела жить — только небо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5651640" y="52999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коптит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003640" y="594936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дае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20" y="595008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рано встает, тому Бог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10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72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организме какого животного, доживающего до 300 лет, не происходит ни одного старческого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вл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908000" y="3448080"/>
            <a:ext cx="4967640" cy="3409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564000" y="587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Черепах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47640" y="404640"/>
            <a:ext cx="34419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3423600" y="3499560"/>
            <a:ext cx="4757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цени себя сам”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1905120" cy="173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4360" y="4021200"/>
            <a:ext cx="2232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11240" y="387000"/>
            <a:ext cx="7122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положение подходит к вам, ставьте «+», если нет  « -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икогда не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всегда завтрак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ем не спе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е переед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икогда не злоупотребляю алкого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сплю не менее 8 часов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поддерживаю нормальную массу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знаю показатели своего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ежедневно хожу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никогда не раздражаюсь и не выхожу из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считайте, сколько вы набрали «+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32480" y="957960"/>
            <a:ext cx="60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0 -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ы хорошо заботитесь о своем здоровь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91340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7-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ы что-то не умеете дел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йте себе слово, что обязательно научитесь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ете выполнять «золотые правила ЗОЖ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щайте спортивные секции, больше гуля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вежем воздухе, правильно питай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77560" y="3788280"/>
            <a:ext cx="77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атастрофа срочно займитесь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ничего не изменить, то отсут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я перечеркнет все ваши планы на счастливое будущ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68360" y="1268280"/>
            <a:ext cx="5328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96000" y="4886280"/>
            <a:ext cx="2278080" cy="140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94292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.Почему могут быть опасны для здоровья консервированные продукты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2.При сжигании в городе мусора воздух загрязняется ядовитыми веществами. Назовите 4 опасных вещества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3.Несколько приемов удаления нитратов из овощей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4.Табачный дым содержит много химических соединений, веществ и элементов. Назовите их примерное количество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5078160" y="155736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Можно отравиться ботули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276720" y="2852640"/>
            <a:ext cx="4680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Доиксины, канцерогены, радионукли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вуокись С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053800" y="4221000"/>
            <a:ext cx="4850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Вымачивание, отваривание, марин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98160" y="5589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4 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50920" y="333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5. Среди них в табачном дыму содержится аммиак, ацетон,    пропилен, никотин, пиридин и другие вещества. Назовите вещество,  вызывающее привыкание к курению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6. Сколько процентов вредных веществ получает пассивный курильщик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7. Водопроводную воду перед употреблением лучше отстаивать. Почему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8.Назовите вещество, которое полностью нейтрализует действие нитратов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212360" y="14842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142520" y="256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563280" y="364500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Чтобы избавиться от хлора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летучивается через 2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652720" y="5157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76360" y="1557360"/>
            <a:ext cx="59752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52360" y="260280"/>
            <a:ext cx="4354560" cy="182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32720" y="4221000"/>
            <a:ext cx="2190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79280" y="69228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9. Из повседневных продуктов питания, какие самые опасные для здоровья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0. Назовите принципы закаливания – три П.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1. Какая поговорка учит нас правильному режиму п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Bookman Old Style"/>
              </a:rPr>
              <a:t>12. Какими видами спорта следует заниматься для формирования осанки?</a:t>
            </a: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213080" y="1125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Соль и сах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055600" y="2276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Постоянно, последовательно, постеп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195640" y="342900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Завтрак съешь сам, обед раздели с дру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жин отдай вра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284720" y="486900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Плавание, гимнастика, легкая атл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76720" y="692280"/>
            <a:ext cx="44640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ту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177920" cy="1528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020000" y="4581360"/>
            <a:ext cx="17334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ие условия ты считаешь наиболее важными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ля счастливой жиз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приведенном перечне отметь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 наиболее важны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для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112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много ден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 знать и у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ть здоро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любимую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интересных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ть красивым, привлек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ыть самостоятельным (самому решать, что делать и самому обеспечивать себ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ть в счастливо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8" dur="2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2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 для сохранения здоровь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ты считаешь наиболее важн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иведенном перечне отметь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наиболее важ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гулярные занятия спор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я о том, как заботиться о своем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е природные условия (чистый воздух, вода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лечиться у хорошего вр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ьги, чтобы хорошо питаться, отдыхать, посещать тренажерный зал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жедневное выполнение правил здорового образа жизни (соблюдение режима дня, регулярное питание, занятия физкультурой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ь, что ты приехал в летний лагерь. Твой лучший друг, который приехал вместе с тобой, забыл дома сумку с вещами и просит тебя пом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ми из перечисленных предметов не стоит делиться даже с лучшим друг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бная щ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тенце для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оч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бная п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Шамп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а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тенце для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7" dur="2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4335E-006 L 0.00139 0.30336 E">
                                      <p:cBhvr>
                                        <p:cTn id="350" dur="2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53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бята не могут решить – сколько раз в день нужно чистить зубы. Как ты думаешь, кто из них пр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ь тот ответ, который тебе кажется вер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убы нужно чистить по вечерам, чтобы удалить изо рта все скопившиеся за день остатки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убы нужно чистить по утрам, чтобы дыхание было свежим весь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убы нужно чистить утром и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17919E-006 L -0.00174 0.14821 E">
                                      <p:cBhvr>
                                        <p:cTn id="35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часто ты посоветуешь своим друзьям принимать душ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жд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-три раз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раз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5896E-006 L -0.00226 0.5059 E">
                                      <p:cBhvr>
                                        <p:cTn id="36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дверях в столовой вывесили два расписания приема пищи – одно из них правильное, а другое содержит оши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тметь правильное распис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трак         8.00              9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д            13.00             1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дник       16.00            18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жин             19.00            2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втрак         8.00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ед            1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лдник       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жин             19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мясные и/или рыбные продук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0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исливочное мас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09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1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4000" y="1627560"/>
            <a:ext cx="82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процессы старения живых организмов, в том числе и старени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32126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еронт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220720" y="321300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ене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45-03"/>
          <p:cNvPicPr/>
          <p:nvPr/>
        </p:nvPicPr>
        <p:blipFill>
          <a:blip r:embed="rId3"/>
          <a:stretch/>
        </p:blipFill>
        <p:spPr>
          <a:xfrm>
            <a:off x="900000" y="4149720"/>
            <a:ext cx="2362320" cy="270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C45-07"/>
          <p:cNvPicPr/>
          <p:nvPr/>
        </p:nvPicPr>
        <p:blipFill>
          <a:blip r:embed="rId4"/>
          <a:stretch/>
        </p:blipFill>
        <p:spPr>
          <a:xfrm>
            <a:off x="5076720" y="3933720"/>
            <a:ext cx="2441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молоко и молочные продукт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1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рукты, овощи и яго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2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часто в течение недели нужно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потреблять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макаронные, крупяные и хлебобулочные издел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ый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о (4-5 ра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гда (2-3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о или не употребля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56069E-006 L -0.00104 0.49387 E">
                                      <p:cBhvr>
                                        <p:cTn id="435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в течение дня нужно пит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раза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4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6744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 чего должен состоять завтр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ша и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ясное блюдо и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6185E-006 L -0.00174 0.52162 E">
                                      <p:cBhvr>
                                        <p:cTn id="44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асто ли нужно перекусывать между завтраком и обедом, обедом и ужи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  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-два раза в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раза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5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571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часто нужно заниматься физическими упражн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71600" y="304920"/>
            <a:ext cx="6896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"Ты и твое здоровье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е раза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-три раза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ин раз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27746E-006 L -0.00191 0.55699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743200" y="297144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меете ли Вы вести здоровый образ жиз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92360" y="549360"/>
            <a:ext cx="403848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12" name="_s58372"/>
            <p:cNvCxnSpPr>
              <a:stCxn id="213" idx="0"/>
              <a:endCxn id="214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5" name="_s58373"/>
            <p:cNvCxnSpPr>
              <a:stCxn id="216" idx="0"/>
              <a:endCxn id="214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7" name="_s58374"/>
            <p:cNvCxnSpPr>
              <a:stCxn id="218" idx="0"/>
              <a:endCxn id="214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14" name="_s58375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Если утр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уж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тать пораньше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58376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вод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удильни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58377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веря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нутреннем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олос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8378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агаете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 случ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Рисунок 1" descr="C:\Program Files\Microsoft Office\CLIPART\PUB60COR\AG00040_.GIF"/>
          <p:cNvPicPr/>
          <p:nvPr/>
        </p:nvPicPr>
        <p:blipFill>
          <a:blip r:embed="rId1"/>
          <a:stretch/>
        </p:blipFill>
        <p:spPr>
          <a:xfrm>
            <a:off x="457200" y="1143000"/>
            <a:ext cx="1852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21" name="_s59396"/>
            <p:cNvCxnSpPr>
              <a:stCxn id="222" idx="0"/>
              <a:endCxn id="223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4" name="_s59397"/>
            <p:cNvCxnSpPr>
              <a:stCxn id="225" idx="0"/>
              <a:endCxn id="223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26" name="_s59398"/>
            <p:cNvCxnSpPr>
              <a:stCxn id="227" idx="0"/>
              <a:endCxn id="223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23" name="_s59399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Проснувш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тром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59400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раз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тае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59401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таете 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еша, за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сти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59402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ещ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множк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житесь п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деял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2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24000" y="153684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й русский ученый за труды по проблеме старения был удостоен Нобелевской премии в 1908 го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6338160"/>
            <a:ext cx="44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ван Петрович Пав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932360" y="63388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лья Ильич М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529080" cy="247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315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29" name="_s60420"/>
            <p:cNvCxnSpPr>
              <a:stCxn id="230" idx="0"/>
              <a:endCxn id="231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2" name="_s60421"/>
            <p:cNvCxnSpPr>
              <a:stCxn id="233" idx="0"/>
              <a:endCxn id="231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34" name="_s60422"/>
            <p:cNvCxnSpPr>
              <a:stCxn id="235" idx="0"/>
              <a:endCxn id="231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1" name="_s60423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Ваш завтрак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60424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фе 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ай 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утерброд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60425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мясно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людо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ча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60426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втракае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 дома, 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шко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37" name="_s61444"/>
            <p:cNvCxnSpPr>
              <a:stCxn id="238" idx="0"/>
              <a:endCxn id="239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0" name="_s61445"/>
            <p:cNvCxnSpPr>
              <a:stCxn id="241" idx="0"/>
              <a:endCxn id="239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2" name="_s61446"/>
            <p:cNvCxnSpPr>
              <a:stCxn id="243" idx="0"/>
              <a:endCxn id="239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39" name="_s61447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Как Вы разреша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нфлик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туаци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61448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лг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скуссия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61449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ходите 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о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61450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сно излагае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ою позиц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 уходите 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о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45" name="_s62468"/>
            <p:cNvCxnSpPr>
              <a:stCxn id="246" idx="0"/>
              <a:endCxn id="247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48" name="_s62469"/>
            <p:cNvCxnSpPr>
              <a:stCxn id="249" idx="0"/>
              <a:endCxn id="247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50" name="_s62470"/>
            <p:cNvCxnSpPr>
              <a:stCxn id="251" idx="0"/>
              <a:endCxn id="247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47" name="_s62471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. Чему Вы обыч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свяща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вобод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ремя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62472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бществен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62473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хобб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62474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машни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53" name="_s63492"/>
            <p:cNvCxnSpPr>
              <a:stCxn id="254" idx="0"/>
              <a:endCxn id="255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56" name="_s63493"/>
            <p:cNvCxnSpPr>
              <a:stCxn id="257" idx="0"/>
              <a:endCxn id="255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58" name="_s63494"/>
            <p:cNvCxnSpPr>
              <a:stCxn id="259" idx="0"/>
              <a:endCxn id="255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55" name="_s63495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. Когда В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ложитесь спать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63496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егд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одно врем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63497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строе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63498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кончан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сех д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61" name="_s64516"/>
            <p:cNvCxnSpPr>
              <a:stCxn id="262" idx="0"/>
              <a:endCxn id="263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64" name="_s64517"/>
            <p:cNvCxnSpPr>
              <a:stCxn id="265" idx="0"/>
              <a:endCxn id="263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66" name="_s64518"/>
            <p:cNvCxnSpPr>
              <a:stCxn id="267" idx="0"/>
              <a:endCxn id="263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63" name="_s64519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. Какое мест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нимает спор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Вашей жизни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64520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о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олельщ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64521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елае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ряд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64522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остаточ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абочей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зическ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гру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269" name="_s65540"/>
            <p:cNvCxnSpPr>
              <a:stCxn id="270" idx="0"/>
              <a:endCxn id="271" idx="3"/>
            </p:cNvCxnSpPr>
            <p:nvPr/>
          </p:nvCxnSpPr>
          <p:spPr>
            <a:xfrm flipV="1" rot="16200000">
              <a:off x="5821560" y="2586960"/>
              <a:ext cx="905400" cy="25495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72" name="_s65541"/>
            <p:cNvCxnSpPr>
              <a:stCxn id="273" idx="0"/>
              <a:endCxn id="271" idx="3"/>
            </p:cNvCxnSpPr>
            <p:nvPr/>
          </p:nvCxnSpPr>
          <p:spPr>
            <a:xfrm flipH="1" flipV="1" rot="5400000">
              <a:off x="4381560" y="3696120"/>
              <a:ext cx="905400" cy="3315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74" name="_s65542"/>
            <p:cNvCxnSpPr>
              <a:stCxn id="275" idx="0"/>
              <a:endCxn id="271" idx="3"/>
            </p:cNvCxnSpPr>
            <p:nvPr/>
          </p:nvCxnSpPr>
          <p:spPr>
            <a:xfrm flipH="1" flipV="1" rot="5400000">
              <a:off x="2941560" y="2256120"/>
              <a:ext cx="905400" cy="32119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71" name="_s65543"/>
            <p:cNvSpPr/>
            <p:nvPr/>
          </p:nvSpPr>
          <p:spPr>
            <a:xfrm>
              <a:off x="3337200" y="1600200"/>
              <a:ext cx="352044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. За послед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4 дне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 хотя бы раз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65544"/>
            <p:cNvSpPr/>
            <p:nvPr/>
          </p:nvSpPr>
          <p:spPr>
            <a:xfrm>
              <a:off x="45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анцев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65545"/>
            <p:cNvSpPr/>
            <p:nvPr/>
          </p:nvSpPr>
          <p:spPr>
            <a:xfrm>
              <a:off x="333720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занимали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порт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65546"/>
            <p:cNvSpPr/>
            <p:nvPr/>
          </p:nvSpPr>
          <p:spPr>
            <a:xfrm>
              <a:off x="6217560" y="4314960"/>
              <a:ext cx="2468520" cy="180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ош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шк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дряд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е менее 14 к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уя таблицу, подсчитайте сумму очков. Чем больше Ваш результат, тем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доровее Ваш образ жизн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1600200"/>
          <a:ext cx="8229600" cy="4870440"/>
        </p:xfrm>
        <a:graphic>
          <a:graphicData uri="http://schemas.openxmlformats.org/drawingml/2006/table">
            <a:tbl>
              <a:tblPr/>
              <a:tblGrid>
                <a:gridCol w="1143000"/>
                <a:gridCol w="2438280"/>
                <a:gridCol w="2590920"/>
                <a:gridCol w="20574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б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бъект WordArt 19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1" name="Прямоуг. 28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30" descr="no_smoking_j2"/>
          <p:cNvPicPr/>
          <p:nvPr/>
        </p:nvPicPr>
        <p:blipFill>
          <a:blip r:embed="rId1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бъект WordArt 7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6" name="Рисунок 9" descr="60c473449a9492364b5cb066d44da1d1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0" descr=""/>
          <p:cNvPicPr/>
          <p:nvPr/>
        </p:nvPicPr>
        <p:blipFill>
          <a:blip r:embed="rId1"/>
          <a:stretch/>
        </p:blipFill>
        <p:spPr>
          <a:xfrm>
            <a:off x="5018040" y="2062080"/>
            <a:ext cx="3657600" cy="3594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9" name="Объект WordArt 35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876560" y="1530360"/>
            <a:ext cx="3809880" cy="69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3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24000" y="153684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у из древних принадлежит мудрое высказывание: «Пьянство есть упражнение в безумии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95280" y="594936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фагор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796000" y="5950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о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2198520" cy="25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2338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25448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бъект WordArt 7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93" name="Рисунок 17" descr="CA7U2X7F"/>
          <p:cNvPicPr/>
          <p:nvPr/>
        </p:nvPicPr>
        <p:blipFill>
          <a:blip r:embed="rId1"/>
          <a:stretch/>
        </p:blipFill>
        <p:spPr>
          <a:xfrm>
            <a:off x="6083280" y="2779560"/>
            <a:ext cx="2173320" cy="182592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. 18"/>
          <p:cNvSpPr/>
          <p:nvPr/>
        </p:nvSpPr>
        <p:spPr>
          <a:xfrm>
            <a:off x="755640" y="4437000"/>
            <a:ext cx="4896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5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00ff"/>
                </a:solidFill>
                <a:latin typeface="Arial"/>
              </a:rPr>
              <a:t>Гигиена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а детей и подрост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а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уналь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иена труда или профессиональная гиги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23" descr="ph10_rd6"/>
          <p:cNvPicPr/>
          <p:nvPr/>
        </p:nvPicPr>
        <p:blipFill>
          <a:blip r:embed="rId1"/>
          <a:stretch/>
        </p:blipFill>
        <p:spPr>
          <a:xfrm>
            <a:off x="4863960" y="1916280"/>
            <a:ext cx="3029040" cy="190476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24" descr="ph02_general_rd6"/>
          <p:cNvPicPr/>
          <p:nvPr/>
        </p:nvPicPr>
        <p:blipFill>
          <a:blip r:embed="rId2"/>
          <a:stretch/>
        </p:blipFill>
        <p:spPr>
          <a:xfrm>
            <a:off x="5076720" y="411804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3670200" cy="6955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Arial"/>
              </a:rPr>
              <a:t>Физкультур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9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273528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6120" y="358920"/>
            <a:ext cx="3884400" cy="1008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Закал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7" descr=""/>
          <p:cNvPicPr/>
          <p:nvPr/>
        </p:nvPicPr>
        <p:blipFill>
          <a:blip r:embed="rId1"/>
          <a:stretch/>
        </p:blipFill>
        <p:spPr>
          <a:xfrm>
            <a:off x="5092560" y="2494080"/>
            <a:ext cx="343224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Правильное 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8" descr="img-d8c3a"/>
          <p:cNvPicPr/>
          <p:nvPr/>
        </p:nvPicPr>
        <p:blipFill>
          <a:blip r:embed="rId1"/>
          <a:stretch/>
        </p:blipFill>
        <p:spPr>
          <a:xfrm>
            <a:off x="822240" y="1628640"/>
            <a:ext cx="3202200" cy="215928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9" descr="fasol"/>
          <p:cNvPicPr/>
          <p:nvPr/>
        </p:nvPicPr>
        <p:blipFill>
          <a:blip r:embed="rId2"/>
          <a:stretch/>
        </p:blipFill>
        <p:spPr>
          <a:xfrm>
            <a:off x="5168880" y="1628640"/>
            <a:ext cx="2973240" cy="20718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0" descr="banan"/>
          <p:cNvPicPr/>
          <p:nvPr/>
        </p:nvPicPr>
        <p:blipFill>
          <a:blip r:embed="rId3"/>
          <a:stretch/>
        </p:blipFill>
        <p:spPr>
          <a:xfrm>
            <a:off x="3203640" y="4076640"/>
            <a:ext cx="2952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son"/>
          <p:cNvPicPr/>
          <p:nvPr/>
        </p:nvPicPr>
        <p:blipFill>
          <a:blip r:embed="rId1"/>
          <a:stretch/>
        </p:blipFill>
        <p:spPr>
          <a:xfrm>
            <a:off x="1763640" y="1828800"/>
            <a:ext cx="48420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final_RF5060220"/>
          <p:cNvPicPr/>
          <p:nvPr/>
        </p:nvPicPr>
        <p:blipFill>
          <a:blip r:embed="rId1"/>
          <a:stretch/>
        </p:blipFill>
        <p:spPr>
          <a:xfrm>
            <a:off x="324000" y="1341360"/>
            <a:ext cx="4752720" cy="3373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final_RF5059753"/>
          <p:cNvPicPr/>
          <p:nvPr/>
        </p:nvPicPr>
        <p:blipFill>
          <a:blip r:embed="rId2"/>
          <a:stretch/>
        </p:blipFill>
        <p:spPr>
          <a:xfrm>
            <a:off x="4067280" y="3357720"/>
            <a:ext cx="493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final_RF5317282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final_RF5328035"/>
          <p:cNvPicPr/>
          <p:nvPr/>
        </p:nvPicPr>
        <p:blipFill>
          <a:blip r:embed="rId2"/>
          <a:stretch/>
        </p:blipFill>
        <p:spPr>
          <a:xfrm>
            <a:off x="0" y="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5715000" y="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Прогулки на свежем воздух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0" y="44290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залог здоровья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-main-pic" descr="Картинка 19 из 247"/>
          <p:cNvPicPr/>
          <p:nvPr/>
        </p:nvPicPr>
        <p:blipFill>
          <a:blip r:embed="rId1"/>
          <a:stretch/>
        </p:blipFill>
        <p:spPr>
          <a:xfrm>
            <a:off x="5003640" y="1484280"/>
            <a:ext cx="3889440" cy="507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«Здоровье до того превышает все остальные блага жизни, что поистине: здоровый нищий счастливее больного короля»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        (Артур Шопенгауэ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 rot="20842800">
            <a:off x="-422280" y="2412720"/>
            <a:ext cx="611352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Е ПЕРЕЧЕРКНИ СВОЮ ЖИЗНЬ КУРЕНИЕМ, АЛКОГОЛЕМ И НАРКОТИКАМ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9250"/>
                            </p:stCondLst>
                            <p:childTnLst>
                              <p:par>
                                <p:cTn id="47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25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4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95280" y="119664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ое продолжение пословицы: «Что у трезвого на уме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47640" y="227592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...то у пьяного на язык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2butylki[1]"/>
          <p:cNvPicPr/>
          <p:nvPr/>
        </p:nvPicPr>
        <p:blipFill>
          <a:blip r:embed="rId3"/>
          <a:stretch/>
        </p:blipFill>
        <p:spPr>
          <a:xfrm>
            <a:off x="2124000" y="2879640"/>
            <a:ext cx="49467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5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24000" y="1125360"/>
            <a:ext cx="828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 из русских царей ввел изготовление «медали» для пьяниц весом в 4 кг? Медаль эту пьяница должен был длительное время носить на 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26920" y="62161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тр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5150880" y="6021000"/>
            <a:ext cx="34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ван Гроз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249228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5508720" y="3068640"/>
            <a:ext cx="2778120" cy="287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:\здоровье\медаль.jpg"/>
          <p:cNvPicPr/>
          <p:nvPr/>
        </p:nvPicPr>
        <p:blipFill>
          <a:blip r:embed="rId5"/>
          <a:stretch/>
        </p:blipFill>
        <p:spPr>
          <a:xfrm>
            <a:off x="5003640" y="2997360"/>
            <a:ext cx="3573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6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24000" y="105264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му из писателей принадлежат эти стро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«Ест Федька с водкой редьку, Ест водка с редькой Федьку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580000" y="621612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. А. Крыл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2720" y="621612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2558880" cy="2808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26416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692360" y="476280"/>
            <a:ext cx="568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   7</a:t>
            </a:r>
            <a:endParaRPr b="0" lang="en-US" sz="1800" spc="1" strike="noStrike">
              <a:ln w="2232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95280" y="1126080"/>
            <a:ext cx="828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ой какой повести Л. Н. Толстого так рас­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азывает о последствиях своего первого опыта курения: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«Едва я успел упасть на диван, как почувствовал такую тошноту и такую слабость, что вообразил себе, что трубка для меня смертельна, мне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оказалось, что я умира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843280" y="49712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Отро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202560" y="4291560"/>
            <a:ext cx="23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Детство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132000" y="55155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Ю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22:17Z</dcterms:created>
  <dc:creator>Татьяна</dc:creator>
  <dc:description/>
  <dc:language>en-US</dc:language>
  <cp:lastModifiedBy>XP GAME 2008</cp:lastModifiedBy>
  <dcterms:modified xsi:type="dcterms:W3CDTF">2013-04-03T19:22:54Z</dcterms:modified>
  <cp:revision>10</cp:revision>
  <dc:subject/>
  <dc:title>Слайд 1</dc:title>
</cp:coreProperties>
</file>