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gif" ContentType="image/gif"/>
  <Override PartName="/ppt/media/image17.png" ContentType="image/png"/>
  <Override PartName="/ppt/media/image21.jpeg" ContentType="image/jpeg"/>
  <Override PartName="/ppt/media/image29.png" ContentType="image/png"/>
  <Override PartName="/ppt/media/image16.jpeg" ContentType="image/jpeg"/>
  <Override PartName="/ppt/media/image39.gif" ContentType="image/gif"/>
  <Override PartName="/ppt/media/image15.jpeg" ContentType="image/jpeg"/>
  <Override PartName="/ppt/media/image10.png" ContentType="image/png"/>
  <Override PartName="/ppt/media/image1.jpeg" ContentType="image/jpeg"/>
  <Override PartName="/ppt/media/image22.gif" ContentType="image/gif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3.gif" ContentType="image/gif"/>
  <Override PartName="/ppt/media/image49.jpeg" ContentType="image/jpeg"/>
  <Override PartName="/ppt/media/image3.png" ContentType="image/png"/>
  <Override PartName="/ppt/media/image33.png" ContentType="image/png"/>
  <Override PartName="/ppt/media/image56.jpeg" ContentType="image/jpeg"/>
  <Override PartName="/ppt/media/image27.gif" ContentType="image/gif"/>
  <Override PartName="/ppt/media/image51.jpeg" ContentType="image/jpeg"/>
  <Override PartName="/ppt/media/image4.gif" ContentType="image/gif"/>
  <Override PartName="/ppt/media/image28.gif" ContentType="image/gif"/>
  <Override PartName="/ppt/media/image14.jpeg" ContentType="image/jpeg"/>
  <Override PartName="/ppt/media/image41.jpeg" ContentType="image/jpeg"/>
  <Override PartName="/ppt/media/image5.gif" ContentType="image/gif"/>
  <Override PartName="/ppt/media/image7.jpeg" ContentType="image/jpeg"/>
  <Override PartName="/ppt/media/image42.png" ContentType="image/png"/>
  <Override PartName="/ppt/media/image19.jpeg" ContentType="image/jpeg"/>
  <Override PartName="/ppt/media/image37.png" ContentType="image/png"/>
  <Override PartName="/ppt/media/image44.jpeg" ContentType="image/jpeg"/>
  <Override PartName="/ppt/media/image34.png" ContentType="image/png"/>
  <Override PartName="/ppt/media/image46.jpeg" ContentType="image/jpeg"/>
  <Override PartName="/ppt/media/image57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45.jpeg" ContentType="image/jpeg"/>
  <Override PartName="/ppt/media/image50.jpeg" ContentType="image/jpeg"/>
  <Override PartName="/ppt/media/image52.png" ContentType="image/png"/>
  <Override PartName="/ppt/media/image54.jpeg" ContentType="image/jpeg"/>
  <Override PartName="/ppt/media/image55.jpeg" ContentType="image/jpeg"/>
  <Override PartName="/ppt/media/image35.png" ContentType="image/png"/>
  <Override PartName="/ppt/media/image31.jpeg" ContentType="image/jpeg"/>
  <Override PartName="/ppt/media/image30.png" ContentType="image/png"/>
  <Override PartName="/ppt/media/image12.png" ContentType="image/png"/>
  <Override PartName="/ppt/media/image40.jpeg" ContentType="image/jpeg"/>
  <Override PartName="/ppt/media/image13.jpeg" ContentType="image/jpeg"/>
  <Override PartName="/ppt/media/image8.jpeg" ContentType="image/jpeg"/>
  <Override PartName="/ppt/media/image38.png" ContentType="image/png"/>
  <Override PartName="/ppt/media/image25.gif" ContentType="image/gif"/>
  <Override PartName="/ppt/media/image18.png" ContentType="image/png"/>
  <Override PartName="/ppt/media/image36.png" ContentType="image/png"/>
  <Override PartName="/ppt/media/image6.png" ContentType="image/png"/>
  <Override PartName="/ppt/media/image20.jpeg" ContentType="image/jpeg"/>
  <Override PartName="/ppt/media/image2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FBCD-8336-4DCA-9047-26676B197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CD66-6CF2-4C34-8491-C3FC7D7D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987C-8D7F-4198-85E7-1E687DD53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2EB4-3954-4C8B-A93A-E35C0F8CC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92CA-32E4-485A-824F-BBCD2A6E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9F16-C7A9-4D4D-8E84-D3AF4A17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31DB-3B97-4014-8CA5-8BCCABC9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9237-3646-48D5-87CD-D6144516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3A9E-6C73-4ECF-8EA7-BBA4CBF6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E88C-ABC6-43AD-80FF-F276BB15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62AE-846E-42FC-8E6F-58034D32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590B-11DD-4822-9BE5-D4A09DCE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6265-B2C3-4537-B9B4-5BB8D0E6A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C45-17"/>
          <p:cNvPicPr/>
          <p:nvPr/>
        </p:nvPicPr>
        <p:blipFill>
          <a:blip r:embed="rId1"/>
          <a:stretch/>
        </p:blipFill>
        <p:spPr>
          <a:xfrm>
            <a:off x="1187280" y="0"/>
            <a:ext cx="65487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2124000" y="981000"/>
            <a:ext cx="655164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доровье сгубишь -</a:t>
            </a:r>
            <a:endParaRPr b="1" lang="en-US" sz="1800" spc="1" strike="noStrike">
              <a:ln w="2232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250920" y="3068640"/>
            <a:ext cx="673236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новое не купишь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Picture 6" descr="C03-36"/>
          <p:cNvPicPr/>
          <p:nvPr/>
        </p:nvPicPr>
        <p:blipFill>
          <a:blip r:embed="rId2"/>
          <a:stretch/>
        </p:blipFill>
        <p:spPr>
          <a:xfrm>
            <a:off x="0" y="0"/>
            <a:ext cx="1692360" cy="1601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C44-07"/>
          <p:cNvPicPr/>
          <p:nvPr/>
        </p:nvPicPr>
        <p:blipFill>
          <a:blip r:embed="rId3"/>
          <a:stretch/>
        </p:blipFill>
        <p:spPr>
          <a:xfrm>
            <a:off x="6775560" y="3933720"/>
            <a:ext cx="23684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692360" y="476280"/>
            <a:ext cx="568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66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прос   8</a:t>
            </a:r>
            <a:endParaRPr b="0" lang="en-US" sz="1800" spc="1" strike="noStrike">
              <a:ln w="22320">
                <a:solidFill>
                  <a:srgbClr val="ff66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112680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аком произведении М. Твена описан е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ин опыт «приобщения» ребенка к табачному зелью: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«...курильщики стали сплевывать что-то уж очень часто. За щеками у них образовались как будто фонтаны, под языком было сущее наводнение, только успевай откачивать; заливало даже в горло, несмотря на все старания, и все время подкатывала тошнота. Оба мальчика побледнели, и вид у них был самый жалкий. Трубка выпала из ослабевших пальцев Джо Гарнера. То же самое случилось и с Томо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4581360" y="333360"/>
            <a:ext cx="4562640" cy="58053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0" y="6123960"/>
            <a:ext cx="93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Приключения Тома Сойера и Гекльберри Финна»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2"/>
          <a:stretch/>
        </p:blipFill>
        <p:spPr>
          <a:xfrm>
            <a:off x="0" y="333360"/>
            <a:ext cx="423540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1692360" y="476280"/>
            <a:ext cx="568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66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прос   9</a:t>
            </a:r>
            <a:endParaRPr b="0" lang="en-US" sz="1800" spc="1" strike="noStrike">
              <a:ln w="22320">
                <a:solidFill>
                  <a:srgbClr val="ff66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0" y="90792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Руси говорили: «Безделье — мать всех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роков». Именно труд наполняет человеческую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жизнь смыслом.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Знаете ли вы пословицы о труде? Отгадайте окончание следующих послови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6588000" y="3141000"/>
            <a:ext cx="19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до обеда.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520" y="3191040"/>
            <a:ext cx="64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 пеняй на соседа, когда спишь.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600" y="3933720"/>
            <a:ext cx="46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рпение и труд — все.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4716360" y="3933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перетрут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880" y="4581360"/>
            <a:ext cx="56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кучен день до вечера, коли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5580000" y="458064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делать нечего.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3600" y="5300640"/>
            <a:ext cx="58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ез дела жить — только небо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5651640" y="5299920"/>
            <a:ext cx="19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коптит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5003640" y="5949360"/>
            <a:ext cx="19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подает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6120" y="5950080"/>
            <a:ext cx="515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то рано встает, тому Бог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1692360" y="476280"/>
            <a:ext cx="568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66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прос  10</a:t>
            </a:r>
            <a:endParaRPr b="0" lang="en-US" sz="1800" spc="1" strike="noStrike">
              <a:ln w="22320">
                <a:solidFill>
                  <a:srgbClr val="ff66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24000" y="1125720"/>
            <a:ext cx="82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 организме какого животного, доживающего до 300 лет, не происходит ни одного старческого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явления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1908000" y="3448080"/>
            <a:ext cx="4967640" cy="34099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3564000" y="5876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Черепах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547640" y="404640"/>
            <a:ext cx="344196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ст 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/>
          <p:nvPr/>
        </p:nvSpPr>
        <p:spPr>
          <a:xfrm>
            <a:off x="3423600" y="3499560"/>
            <a:ext cx="4757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Оцени себя сам”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796000" y="692280"/>
            <a:ext cx="1905120" cy="1733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84360" y="4021200"/>
            <a:ext cx="223200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11240" y="387000"/>
            <a:ext cx="712296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Если положение подходит к вам, ставьте «+», если нет  « - 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Я никогда не кур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Я всегда завтрак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Я ем не спе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Я не переед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Я никогда не злоупотребляю алкого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Я сплю не менее 8 часов в су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Я поддерживаю нормальную массу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Я знаю показатели своего здоро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Я ежедневно хожу пеш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Я никогда не раздражаюсь и не выхожу из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дсчитайте, сколько вы набрали «+»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32480" y="957960"/>
            <a:ext cx="603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10 - 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вы хорошо заботитесь о своем здоровь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ЛОДЦЫ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1913400"/>
            <a:ext cx="626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7- 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Вы что-то не умеете делать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йте себе слово, что обязательно научитесь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удете выполнять «золотые правила ЗОЖ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ещайте спортивные секции, больше гуля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свежем воздухе, правильно питайте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77560" y="3788280"/>
            <a:ext cx="77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- 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катастрофа срочно займитесь соб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ничего не изменить, то отсутст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доровья перечеркнет все ваши планы на счастливое будуще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268360" y="1268280"/>
            <a:ext cx="532800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 ту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96000" y="4886280"/>
            <a:ext cx="2278080" cy="1401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194292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560" y="119700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Bookman Old Style"/>
              </a:rPr>
              <a:t>1.Почему могут быть опасны для здоровья консервированные продукты?</a:t>
            </a:r>
            <a:r>
              <a:rPr b="0" lang="en-US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Bookman Old Style"/>
              </a:rPr>
              <a:t>2.При сжигании в городе мусора воздух загрязняется ядовитыми веществами. Назовите 4 опасных вещества.</a:t>
            </a:r>
            <a:r>
              <a:rPr b="0" lang="en-US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Bookman Old Style"/>
              </a:rPr>
              <a:t>3.Несколько приемов удаления нитратов из овощей.</a:t>
            </a:r>
            <a:r>
              <a:rPr b="0" lang="en-US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Bookman Old Style"/>
              </a:rPr>
              <a:t>4.Табачный дым содержит много химических соединений, веществ и элементов. Назовите их примерное количество.</a:t>
            </a:r>
            <a:r>
              <a:rPr b="0" lang="en-US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5078160" y="1557360"/>
            <a:ext cx="3529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Можно отравиться ботулино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276720" y="2852640"/>
            <a:ext cx="468000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Доиксины, канцерогены, радионукли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двуокись С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2053800" y="4221000"/>
            <a:ext cx="4850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Вымачивание, отваривание, маринов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3998160" y="55897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4 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250920" y="333360"/>
            <a:ext cx="835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Bookman Old Style"/>
              </a:rPr>
              <a:t>5. Среди них в табачном дыму содержится аммиак, ацетон,    пропилен, никотин, пиридин и другие вещества. Назовите вещество,  вызывающее привыкание к курению.</a:t>
            </a:r>
            <a:r>
              <a:rPr b="0" lang="en-US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Bookman Old Style"/>
              </a:rPr>
              <a:t>6. Сколько процентов вредных веществ получает пассивный курильщик?</a:t>
            </a:r>
            <a:r>
              <a:rPr b="0" lang="en-US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Bookman Old Style"/>
              </a:rPr>
              <a:t>7. Водопроводную воду перед употреблением лучше отстаивать. Почему?</a:t>
            </a:r>
            <a:r>
              <a:rPr b="0" lang="en-US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Bookman Old Style"/>
              </a:rPr>
              <a:t>8.Назовите вещество, которое полностью нейтрализует действие нитратов.</a:t>
            </a:r>
            <a:r>
              <a:rPr b="0" lang="en-US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212360" y="1484280"/>
            <a:ext cx="12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Никоти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4142520" y="25653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563280" y="3645000"/>
            <a:ext cx="426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Чтобы избавиться от хлора, котор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улетучивается через 2 ча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5652720" y="515772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Витамин 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476360" y="1557360"/>
            <a:ext cx="597528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 ту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252360" y="260280"/>
            <a:ext cx="4354560" cy="1824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732720" y="4221000"/>
            <a:ext cx="21906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179280" y="692280"/>
            <a:ext cx="87138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Bookman Old Style"/>
              </a:rPr>
              <a:t>9. Из повседневных продуктов питания, какие самые опасные для здоровья?</a:t>
            </a:r>
            <a:r>
              <a:rPr b="0" lang="en-US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Bookman Old Style"/>
              </a:rPr>
              <a:t>10. Назовите принципы закаливания – три П.</a:t>
            </a:r>
            <a:r>
              <a:rPr b="0" lang="en-US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Bookman Old Style"/>
              </a:rPr>
              <a:t>11. Какая поговорка учит нас правильному режиму пит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Bookman Old Style"/>
              </a:rPr>
              <a:t>12. Какими видами спорта следует заниматься для формирования осанки?</a:t>
            </a:r>
            <a:r>
              <a:rPr b="0" lang="en-US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4213080" y="11253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Соль и саха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2055600" y="2276640"/>
            <a:ext cx="48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Постоянно, последовательно, постепен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2195640" y="3429000"/>
            <a:ext cx="495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Завтрак съешь сам, обед раздели с друг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ужин отдай враг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4284720" y="4869000"/>
            <a:ext cx="455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Плавание, гимнастика, легкая атлети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276720" y="692280"/>
            <a:ext cx="446400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 ту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1177920" cy="1528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020000" y="4581360"/>
            <a:ext cx="173340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560" cy="5716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ие условия ты считаешь наиболее важными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для счастливой жизн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приведенном перечне отметь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3 наиболее важны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для теб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371600" y="304920"/>
            <a:ext cx="6896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кторина "Ты и твое здоровье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91120" y="1599840"/>
            <a:ext cx="49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меть много дене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ного знать и ум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ыть здоров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меть любимую раб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меть интересных друз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ыть красивым, привлекате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ыть самостоятельным (самому решать, что делать и самому обеспечивать себ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ить в счастливой сем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8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1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2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8" dur="2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20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5" dur="20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560" cy="5716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ие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условия для сохранения здоровь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ты считаешь наиболее важным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приведенном перечне отметь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 наиболее важны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371600" y="304920"/>
            <a:ext cx="6896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кторина "Ты и твое здоровье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95680" y="1599840"/>
            <a:ext cx="4648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гулярные занятия спор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роший отд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ния о том, как заботиться о своем здоров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рошие природные условия (чистый воздух, вода и т.п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можность лечиться у хорошего вр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ньги, чтобы хорошо питаться, отдыхать, посещать тренажерный зал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жедневное выполнение правил здорового образа жизни (соблюдение режима дня, регулярное питание, занятия физкультурой и т.п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1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8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5" dur="2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8" dur="2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560" cy="5716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дставь, что ты приехал в летний лагерь. Твой лучший друг, который приехал вместе с тобой, забыл дома сумку с вещами и просит тебя помоч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ими из перечисленных предметов не стоит делиться даже с лучшим друго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Мы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Зубная ще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олотенце для р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Моча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Зубная па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Шампу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Тап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олотенце для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371600" y="304920"/>
            <a:ext cx="6896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кторина "Ты и твое здоровье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344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347" dur="2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000"/>
                            </p:stCondLst>
                            <p:childTnLst>
                              <p:par>
                                <p:cTn id="34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54335E-006 L 0.00139 0.30336 E">
                                      <p:cBhvr>
                                        <p:cTn id="350" dur="2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000"/>
                            </p:stCondLst>
                            <p:childTnLst>
                              <p:par>
                                <p:cTn id="35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353" dur="2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560" cy="5716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бята не могут решить – сколько раз в день нужно чистить зубы. Как ты думаешь, кто из них пра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меть тот ответ, который тебе кажется вер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371600" y="304920"/>
            <a:ext cx="6896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кторина "Ты и твое здоровье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убы нужно чистить по вечерам, чтобы удалить изо рта все скопившиеся за день остатки пищ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убы нужно чистить по утрам, чтобы дыхание было свежим весь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убы нужно чистить утром и вече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17919E-006 L -0.00174 0.14821 E">
                                      <p:cBhvr>
                                        <p:cTn id="359" dur="2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2" dur="2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560" cy="5716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к часто ты посоветуешь своим друзьям принимать душ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371600" y="304920"/>
            <a:ext cx="6896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кторина "Ты и твое здоровье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ждый д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ва-три раза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раз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65896E-006 L -0.00226 0.5059 E">
                                      <p:cBhvr>
                                        <p:cTn id="368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1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560" cy="5716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дверях в столовой вывесили два расписания приема пищи – одно из них правильное, а другое содержит ошиб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Отметь правильное расписани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371600" y="304920"/>
            <a:ext cx="6896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кторина "Ты и твое здоровье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втрак         8.00              9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д            13.00             15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дник       16.00            18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жин             19.00            21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автрак         8.00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Обед            13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лдник       16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Ужин             19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2560" cy="5716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часто в течение недели нужно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употреблять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мясные и/или рыбные продукт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ьный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71600" y="304920"/>
            <a:ext cx="6896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кторина "Ты и твое здоровье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ждый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сто (4-5 раз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огда (2-3 раз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ло или не употреблять совс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27746E-006 L -0.00191 0.55699 E">
                                      <p:cBhvr>
                                        <p:cTn id="401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2560" cy="5716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часто в течение недели нужно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потреблять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 исливочное масл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б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ьный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371600" y="304920"/>
            <a:ext cx="6896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кторина "Ты и твое здоровье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ждый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сто (4-5 раз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огда (2-3 раз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ло или не употреблять совс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27746E-006 L -0.00191 0.55699 E">
                                      <p:cBhvr>
                                        <p:cTn id="409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1692360" y="476280"/>
            <a:ext cx="568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66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прос   1</a:t>
            </a:r>
            <a:endParaRPr b="0" lang="en-US" sz="1800" spc="1" strike="noStrike">
              <a:ln w="22320">
                <a:solidFill>
                  <a:srgbClr val="ff66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24000" y="1627560"/>
            <a:ext cx="828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называется наука, изучающая процессы старения живых организмов, в том числе и старение челове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68360" y="3212640"/>
            <a:ext cx="352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Геронтолог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5220720" y="321300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Гене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C45-03"/>
          <p:cNvPicPr/>
          <p:nvPr/>
        </p:nvPicPr>
        <p:blipFill>
          <a:blip r:embed="rId3"/>
          <a:stretch/>
        </p:blipFill>
        <p:spPr>
          <a:xfrm>
            <a:off x="900000" y="4149720"/>
            <a:ext cx="2362320" cy="2708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C45-07"/>
          <p:cNvPicPr/>
          <p:nvPr/>
        </p:nvPicPr>
        <p:blipFill>
          <a:blip r:embed="rId4"/>
          <a:stretch/>
        </p:blipFill>
        <p:spPr>
          <a:xfrm>
            <a:off x="5076720" y="3933720"/>
            <a:ext cx="24415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9880" y="0"/>
            <a:ext cx="533412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6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52560" cy="5716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часто в течение недели нужно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употреблять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молоко и молочные продукт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ьный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71600" y="304920"/>
            <a:ext cx="6896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кторина "Ты и твое здоровье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ждый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сто (4-5 раз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огда (2-3 раз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ло или не употреблять совс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27746E-006 L -0.00191 0.55699 E">
                                      <p:cBhvr>
                                        <p:cTn id="417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2560" cy="57168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часто в течение недели нужно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употреблять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фрукты, овощи и ягод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ьный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371600" y="304920"/>
            <a:ext cx="6896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кторина "Ты и твое здоровье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ждый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сто (4-5 раз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огда (2-3 раз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ло или не употреблять совс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27746E-006 L -0.00191 0.55699 E">
                                      <p:cBhvr>
                                        <p:cTn id="425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-1080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2560" cy="5716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часто в течение недели нужно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употреблять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макаронные, крупяные и хлебобулочные издели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б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авильный от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371600" y="304920"/>
            <a:ext cx="6896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кторина "Ты и твое здоровье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ждый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сто (4-5 раз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огда (2-3 раз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ло или не употреблять совс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2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56069E-006 L -0.00104 0.49387 E">
                                      <p:cBhvr>
                                        <p:cTn id="435" dur="2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2560" cy="5716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часто в течение дня нужно пита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ьный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371600" y="304920"/>
            <a:ext cx="6896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кторина "Ты и твое здоровье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и раза и бол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ва р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дин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27746E-006 L -0.00191 0.55699 E">
                                      <p:cBhvr>
                                        <p:cTn id="441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3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6744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52560" cy="5716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 чего должен состоять завтр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ьный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71600" y="304920"/>
            <a:ext cx="6896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кторина "Ты и твое здоровье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ша и ч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ясное блюдо и ч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6185E-006 L -0.00174 0.52162 E">
                                      <p:cBhvr>
                                        <p:cTn id="449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2560" cy="5716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асто ли нужно перекусывать между завтраком и обедом, обедом и ужин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ьный   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71600" y="304920"/>
            <a:ext cx="6896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кторина "Ты и твое здоровье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ког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дин-два раза в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и раза и бол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27746E-006 L -0.00191 0.55699 E">
                                      <p:cBhvr>
                                        <p:cTn id="457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9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560" cy="5716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часто нужно заниматься физическими упражнения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ьный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71600" y="304920"/>
            <a:ext cx="6896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кторина "Ты и твое здоровье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тыре раза в нед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ва-три раза в нед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дин раз в нед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ког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27746E-006 L -0.00191 0.55699 E">
                                      <p:cBhvr>
                                        <p:cTn id="465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7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2743200" y="2971440"/>
            <a:ext cx="6400800" cy="23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Умеете ли Вы вести здоровый образ жизн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692360" y="549360"/>
            <a:ext cx="4038480" cy="28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ст 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457200" y="1600200"/>
            <a:ext cx="8228880" cy="4524480"/>
            <a:chOff x="457200" y="1600200"/>
            <a:chExt cx="8228880" cy="4524480"/>
          </a:xfrm>
        </p:grpSpPr>
        <p:cxnSp>
          <p:nvCxnSpPr>
            <p:cNvPr id="212" name="_s58372"/>
            <p:cNvCxnSpPr>
              <a:stCxn id="213" idx="0"/>
              <a:endCxn id="214" idx="3"/>
            </p:cNvCxnSpPr>
            <p:nvPr/>
          </p:nvCxnSpPr>
          <p:spPr>
            <a:xfrm flipV="1" rot="16200000">
              <a:off x="5821560" y="2586960"/>
              <a:ext cx="905400" cy="25495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15" name="_s58373"/>
            <p:cNvCxnSpPr>
              <a:stCxn id="216" idx="0"/>
              <a:endCxn id="214" idx="3"/>
            </p:cNvCxnSpPr>
            <p:nvPr/>
          </p:nvCxnSpPr>
          <p:spPr>
            <a:xfrm flipH="1" flipV="1" rot="5400000">
              <a:off x="4381560" y="3696120"/>
              <a:ext cx="905400" cy="3315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17" name="_s58374"/>
            <p:cNvCxnSpPr>
              <a:stCxn id="218" idx="0"/>
              <a:endCxn id="214" idx="3"/>
            </p:cNvCxnSpPr>
            <p:nvPr/>
          </p:nvCxnSpPr>
          <p:spPr>
            <a:xfrm flipH="1" flipV="1" rot="5400000">
              <a:off x="2941560" y="2256120"/>
              <a:ext cx="905400" cy="32119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214" name="_s58375"/>
            <p:cNvSpPr/>
            <p:nvPr/>
          </p:nvSpPr>
          <p:spPr>
            <a:xfrm>
              <a:off x="3337200" y="1600200"/>
              <a:ext cx="352044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. Если утром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уж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стать пораньше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58376"/>
            <p:cNvSpPr/>
            <p:nvPr/>
          </p:nvSpPr>
          <p:spPr>
            <a:xfrm>
              <a:off x="45720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А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заводит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будильник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58377"/>
            <p:cNvSpPr/>
            <p:nvPr/>
          </p:nvSpPr>
          <p:spPr>
            <a:xfrm>
              <a:off x="333720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Б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оверяет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нутреннему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олос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58378"/>
            <p:cNvSpPr/>
            <p:nvPr/>
          </p:nvSpPr>
          <p:spPr>
            <a:xfrm>
              <a:off x="621756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олагаетес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а случ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9" name="Рисунок 1" descr="C:\Program Files\Microsoft Office\CLIPART\PUB60COR\AG00040_.GIF"/>
          <p:cNvPicPr/>
          <p:nvPr/>
        </p:nvPicPr>
        <p:blipFill>
          <a:blip r:embed="rId1"/>
          <a:stretch/>
        </p:blipFill>
        <p:spPr>
          <a:xfrm>
            <a:off x="457200" y="1143000"/>
            <a:ext cx="185256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457200" y="1600200"/>
            <a:ext cx="8228880" cy="4524480"/>
            <a:chOff x="457200" y="1600200"/>
            <a:chExt cx="8228880" cy="4524480"/>
          </a:xfrm>
        </p:grpSpPr>
        <p:cxnSp>
          <p:nvCxnSpPr>
            <p:cNvPr id="221" name="_s59396"/>
            <p:cNvCxnSpPr>
              <a:stCxn id="222" idx="0"/>
              <a:endCxn id="223" idx="3"/>
            </p:cNvCxnSpPr>
            <p:nvPr/>
          </p:nvCxnSpPr>
          <p:spPr>
            <a:xfrm flipV="1" rot="16200000">
              <a:off x="5821560" y="2586960"/>
              <a:ext cx="905400" cy="25495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24" name="_s59397"/>
            <p:cNvCxnSpPr>
              <a:stCxn id="225" idx="0"/>
              <a:endCxn id="223" idx="3"/>
            </p:cNvCxnSpPr>
            <p:nvPr/>
          </p:nvCxnSpPr>
          <p:spPr>
            <a:xfrm flipH="1" flipV="1" rot="5400000">
              <a:off x="4381560" y="3696120"/>
              <a:ext cx="905400" cy="3315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26" name="_s59398"/>
            <p:cNvCxnSpPr>
              <a:stCxn id="227" idx="0"/>
              <a:endCxn id="223" idx="3"/>
            </p:cNvCxnSpPr>
            <p:nvPr/>
          </p:nvCxnSpPr>
          <p:spPr>
            <a:xfrm flipH="1" flipV="1" rot="5400000">
              <a:off x="2941560" y="2256120"/>
              <a:ext cx="905400" cy="32119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223" name="_s59399"/>
            <p:cNvSpPr/>
            <p:nvPr/>
          </p:nvSpPr>
          <p:spPr>
            <a:xfrm>
              <a:off x="3337200" y="1600200"/>
              <a:ext cx="352044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. Проснувшис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утром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59400"/>
            <p:cNvSpPr/>
            <p:nvPr/>
          </p:nvSpPr>
          <p:spPr>
            <a:xfrm>
              <a:off x="45720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А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разу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стает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59401"/>
            <p:cNvSpPr/>
            <p:nvPr/>
          </p:nvSpPr>
          <p:spPr>
            <a:xfrm>
              <a:off x="333720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Б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стаете н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пеша, зате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имнасти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59402"/>
            <p:cNvSpPr/>
            <p:nvPr/>
          </p:nvSpPr>
          <p:spPr>
            <a:xfrm>
              <a:off x="621756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ещ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емножк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ежитесь п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деяло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2"/>
          <p:cNvSpPr txBox="1"/>
          <p:nvPr/>
        </p:nvSpPr>
        <p:spPr>
          <a:xfrm>
            <a:off x="1692360" y="476280"/>
            <a:ext cx="568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66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прос   2</a:t>
            </a:r>
            <a:endParaRPr b="0" lang="en-US" sz="1800" spc="1" strike="noStrike">
              <a:ln w="22320">
                <a:solidFill>
                  <a:srgbClr val="ff66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24000" y="1536840"/>
            <a:ext cx="828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ой русский ученый за труды по проблеме старения был удостоен Нобелевской премии в 1908 год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6338160"/>
            <a:ext cx="44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Иван Петрович Павл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932360" y="633888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Илья Ильич Меч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3"/>
          <a:stretch/>
        </p:blipFill>
        <p:spPr>
          <a:xfrm>
            <a:off x="395280" y="3789360"/>
            <a:ext cx="3529080" cy="2476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"/>
          <p:cNvPicPr/>
          <p:nvPr/>
        </p:nvPicPr>
        <p:blipFill>
          <a:blip r:embed="rId4"/>
          <a:stretch/>
        </p:blipFill>
        <p:spPr>
          <a:xfrm>
            <a:off x="6012000" y="3645000"/>
            <a:ext cx="2315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457200" y="1600200"/>
            <a:ext cx="8228880" cy="4524480"/>
            <a:chOff x="457200" y="1600200"/>
            <a:chExt cx="8228880" cy="4524480"/>
          </a:xfrm>
        </p:grpSpPr>
        <p:cxnSp>
          <p:nvCxnSpPr>
            <p:cNvPr id="229" name="_s60420"/>
            <p:cNvCxnSpPr>
              <a:stCxn id="230" idx="0"/>
              <a:endCxn id="231" idx="3"/>
            </p:cNvCxnSpPr>
            <p:nvPr/>
          </p:nvCxnSpPr>
          <p:spPr>
            <a:xfrm flipV="1" rot="16200000">
              <a:off x="5821560" y="2586960"/>
              <a:ext cx="905400" cy="25495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32" name="_s60421"/>
            <p:cNvCxnSpPr>
              <a:stCxn id="233" idx="0"/>
              <a:endCxn id="231" idx="3"/>
            </p:cNvCxnSpPr>
            <p:nvPr/>
          </p:nvCxnSpPr>
          <p:spPr>
            <a:xfrm flipH="1" flipV="1" rot="5400000">
              <a:off x="4381560" y="3696120"/>
              <a:ext cx="905400" cy="3315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34" name="_s60422"/>
            <p:cNvCxnSpPr>
              <a:stCxn id="235" idx="0"/>
              <a:endCxn id="231" idx="3"/>
            </p:cNvCxnSpPr>
            <p:nvPr/>
          </p:nvCxnSpPr>
          <p:spPr>
            <a:xfrm flipH="1" flipV="1" rot="5400000">
              <a:off x="2941560" y="2256120"/>
              <a:ext cx="905400" cy="32119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231" name="_s60423"/>
            <p:cNvSpPr/>
            <p:nvPr/>
          </p:nvSpPr>
          <p:spPr>
            <a:xfrm>
              <a:off x="3337200" y="1600200"/>
              <a:ext cx="352044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. Ваш завтрак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60424"/>
            <p:cNvSpPr/>
            <p:nvPr/>
          </p:nvSpPr>
          <p:spPr>
            <a:xfrm>
              <a:off x="45720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А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офе ил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чай 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бутербродо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60425"/>
            <p:cNvSpPr/>
            <p:nvPr/>
          </p:nvSpPr>
          <p:spPr>
            <a:xfrm>
              <a:off x="333720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Б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мясно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блюдо 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ча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60426"/>
            <p:cNvSpPr/>
            <p:nvPr/>
          </p:nvSpPr>
          <p:spPr>
            <a:xfrm>
              <a:off x="621756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завтракает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е дома, 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 школ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457200" y="1600200"/>
            <a:ext cx="8228880" cy="4524480"/>
            <a:chOff x="457200" y="1600200"/>
            <a:chExt cx="8228880" cy="4524480"/>
          </a:xfrm>
        </p:grpSpPr>
        <p:cxnSp>
          <p:nvCxnSpPr>
            <p:cNvPr id="237" name="_s61444"/>
            <p:cNvCxnSpPr>
              <a:stCxn id="238" idx="0"/>
              <a:endCxn id="239" idx="3"/>
            </p:cNvCxnSpPr>
            <p:nvPr/>
          </p:nvCxnSpPr>
          <p:spPr>
            <a:xfrm flipV="1" rot="16200000">
              <a:off x="5821560" y="2586960"/>
              <a:ext cx="905400" cy="25495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40" name="_s61445"/>
            <p:cNvCxnSpPr>
              <a:stCxn id="241" idx="0"/>
              <a:endCxn id="239" idx="3"/>
            </p:cNvCxnSpPr>
            <p:nvPr/>
          </p:nvCxnSpPr>
          <p:spPr>
            <a:xfrm flipH="1" flipV="1" rot="5400000">
              <a:off x="4381560" y="3696120"/>
              <a:ext cx="905400" cy="3315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42" name="_s61446"/>
            <p:cNvCxnSpPr>
              <a:stCxn id="243" idx="0"/>
              <a:endCxn id="239" idx="3"/>
            </p:cNvCxnSpPr>
            <p:nvPr/>
          </p:nvCxnSpPr>
          <p:spPr>
            <a:xfrm flipH="1" flipV="1" rot="5400000">
              <a:off x="2941560" y="2256120"/>
              <a:ext cx="905400" cy="32119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239" name="_s61447"/>
            <p:cNvSpPr/>
            <p:nvPr/>
          </p:nvSpPr>
          <p:spPr>
            <a:xfrm>
              <a:off x="3337200" y="1600200"/>
              <a:ext cx="352044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. Как Вы разрешает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онфликт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итуации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61448"/>
            <p:cNvSpPr/>
            <p:nvPr/>
          </p:nvSpPr>
          <p:spPr>
            <a:xfrm>
              <a:off x="45720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А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олгим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искуссия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61449"/>
            <p:cNvSpPr/>
            <p:nvPr/>
          </p:nvSpPr>
          <p:spPr>
            <a:xfrm>
              <a:off x="333720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Б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уходите о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пор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61450"/>
            <p:cNvSpPr/>
            <p:nvPr/>
          </p:nvSpPr>
          <p:spPr>
            <a:xfrm>
              <a:off x="621756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ясно излагает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вою позиц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 уходите о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пор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457200" y="1600200"/>
            <a:ext cx="8228880" cy="4524480"/>
            <a:chOff x="457200" y="1600200"/>
            <a:chExt cx="8228880" cy="4524480"/>
          </a:xfrm>
        </p:grpSpPr>
        <p:cxnSp>
          <p:nvCxnSpPr>
            <p:cNvPr id="245" name="_s62468"/>
            <p:cNvCxnSpPr>
              <a:stCxn id="246" idx="0"/>
              <a:endCxn id="247" idx="3"/>
            </p:cNvCxnSpPr>
            <p:nvPr/>
          </p:nvCxnSpPr>
          <p:spPr>
            <a:xfrm flipV="1" rot="16200000">
              <a:off x="5821560" y="2586960"/>
              <a:ext cx="905400" cy="25495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48" name="_s62469"/>
            <p:cNvCxnSpPr>
              <a:stCxn id="249" idx="0"/>
              <a:endCxn id="247" idx="3"/>
            </p:cNvCxnSpPr>
            <p:nvPr/>
          </p:nvCxnSpPr>
          <p:spPr>
            <a:xfrm flipH="1" flipV="1" rot="5400000">
              <a:off x="4381560" y="3696120"/>
              <a:ext cx="905400" cy="3315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50" name="_s62470"/>
            <p:cNvCxnSpPr>
              <a:stCxn id="251" idx="0"/>
              <a:endCxn id="247" idx="3"/>
            </p:cNvCxnSpPr>
            <p:nvPr/>
          </p:nvCxnSpPr>
          <p:spPr>
            <a:xfrm flipH="1" flipV="1" rot="5400000">
              <a:off x="2941560" y="2256120"/>
              <a:ext cx="905400" cy="32119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247" name="_s62471"/>
            <p:cNvSpPr/>
            <p:nvPr/>
          </p:nvSpPr>
          <p:spPr>
            <a:xfrm>
              <a:off x="3337200" y="1600200"/>
              <a:ext cx="352044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. Чему Вы обыч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освящает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вободн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ремя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62472"/>
            <p:cNvSpPr/>
            <p:nvPr/>
          </p:nvSpPr>
          <p:spPr>
            <a:xfrm>
              <a:off x="45720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А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бщественно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работ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62473"/>
            <p:cNvSpPr/>
            <p:nvPr/>
          </p:nvSpPr>
          <p:spPr>
            <a:xfrm>
              <a:off x="333720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Б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хобб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62474"/>
            <p:cNvSpPr/>
            <p:nvPr/>
          </p:nvSpPr>
          <p:spPr>
            <a:xfrm>
              <a:off x="621756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омашним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ела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457200" y="1600200"/>
            <a:ext cx="8228880" cy="4524480"/>
            <a:chOff x="457200" y="1600200"/>
            <a:chExt cx="8228880" cy="4524480"/>
          </a:xfrm>
        </p:grpSpPr>
        <p:cxnSp>
          <p:nvCxnSpPr>
            <p:cNvPr id="253" name="_s63492"/>
            <p:cNvCxnSpPr>
              <a:stCxn id="254" idx="0"/>
              <a:endCxn id="255" idx="3"/>
            </p:cNvCxnSpPr>
            <p:nvPr/>
          </p:nvCxnSpPr>
          <p:spPr>
            <a:xfrm flipV="1" rot="16200000">
              <a:off x="5821560" y="2586960"/>
              <a:ext cx="905400" cy="25495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56" name="_s63493"/>
            <p:cNvCxnSpPr>
              <a:stCxn id="257" idx="0"/>
              <a:endCxn id="255" idx="3"/>
            </p:cNvCxnSpPr>
            <p:nvPr/>
          </p:nvCxnSpPr>
          <p:spPr>
            <a:xfrm flipH="1" flipV="1" rot="5400000">
              <a:off x="4381560" y="3696120"/>
              <a:ext cx="905400" cy="3315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58" name="_s63494"/>
            <p:cNvCxnSpPr>
              <a:stCxn id="259" idx="0"/>
              <a:endCxn id="255" idx="3"/>
            </p:cNvCxnSpPr>
            <p:nvPr/>
          </p:nvCxnSpPr>
          <p:spPr>
            <a:xfrm flipH="1" flipV="1" rot="5400000">
              <a:off x="2941560" y="2256120"/>
              <a:ext cx="905400" cy="32119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255" name="_s63495"/>
            <p:cNvSpPr/>
            <p:nvPr/>
          </p:nvSpPr>
          <p:spPr>
            <a:xfrm>
              <a:off x="3337200" y="1600200"/>
              <a:ext cx="352044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. Когда Вы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ложитесь спать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63496"/>
            <p:cNvSpPr/>
            <p:nvPr/>
          </p:nvSpPr>
          <p:spPr>
            <a:xfrm>
              <a:off x="45720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А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сегд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 одно врем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63497"/>
            <p:cNvSpPr/>
            <p:nvPr/>
          </p:nvSpPr>
          <p:spPr>
            <a:xfrm>
              <a:off x="333720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Б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астроен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63498"/>
            <p:cNvSpPr/>
            <p:nvPr/>
          </p:nvSpPr>
          <p:spPr>
            <a:xfrm>
              <a:off x="621756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кончани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сех де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457200" y="1600200"/>
            <a:ext cx="8228880" cy="4524480"/>
            <a:chOff x="457200" y="1600200"/>
            <a:chExt cx="8228880" cy="4524480"/>
          </a:xfrm>
        </p:grpSpPr>
        <p:cxnSp>
          <p:nvCxnSpPr>
            <p:cNvPr id="261" name="_s64516"/>
            <p:cNvCxnSpPr>
              <a:stCxn id="262" idx="0"/>
              <a:endCxn id="263" idx="3"/>
            </p:cNvCxnSpPr>
            <p:nvPr/>
          </p:nvCxnSpPr>
          <p:spPr>
            <a:xfrm flipV="1" rot="16200000">
              <a:off x="5821560" y="2586960"/>
              <a:ext cx="905400" cy="25495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64" name="_s64517"/>
            <p:cNvCxnSpPr>
              <a:stCxn id="265" idx="0"/>
              <a:endCxn id="263" idx="3"/>
            </p:cNvCxnSpPr>
            <p:nvPr/>
          </p:nvCxnSpPr>
          <p:spPr>
            <a:xfrm flipH="1" flipV="1" rot="5400000">
              <a:off x="4381560" y="3696120"/>
              <a:ext cx="905400" cy="3315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66" name="_s64518"/>
            <p:cNvCxnSpPr>
              <a:stCxn id="267" idx="0"/>
              <a:endCxn id="263" idx="3"/>
            </p:cNvCxnSpPr>
            <p:nvPr/>
          </p:nvCxnSpPr>
          <p:spPr>
            <a:xfrm flipH="1" flipV="1" rot="5400000">
              <a:off x="2941560" y="2256120"/>
              <a:ext cx="905400" cy="32119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263" name="_s64519"/>
            <p:cNvSpPr/>
            <p:nvPr/>
          </p:nvSpPr>
          <p:spPr>
            <a:xfrm>
              <a:off x="3337200" y="1600200"/>
              <a:ext cx="352044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. Какое мест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занимает спор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 Вашей жизни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64520"/>
            <p:cNvSpPr/>
            <p:nvPr/>
          </p:nvSpPr>
          <p:spPr>
            <a:xfrm>
              <a:off x="45720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А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рол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болельщи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64521"/>
            <p:cNvSpPr/>
            <p:nvPr/>
          </p:nvSpPr>
          <p:spPr>
            <a:xfrm>
              <a:off x="333720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Б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елает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зарядк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64522"/>
            <p:cNvSpPr/>
            <p:nvPr/>
          </p:nvSpPr>
          <p:spPr>
            <a:xfrm>
              <a:off x="621756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остаточн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рабочей 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физическо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агруз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457200" y="1600200"/>
            <a:ext cx="8228880" cy="4524480"/>
            <a:chOff x="457200" y="1600200"/>
            <a:chExt cx="8228880" cy="4524480"/>
          </a:xfrm>
        </p:grpSpPr>
        <p:cxnSp>
          <p:nvCxnSpPr>
            <p:cNvPr id="269" name="_s65540"/>
            <p:cNvCxnSpPr>
              <a:stCxn id="270" idx="0"/>
              <a:endCxn id="271" idx="3"/>
            </p:cNvCxnSpPr>
            <p:nvPr/>
          </p:nvCxnSpPr>
          <p:spPr>
            <a:xfrm flipV="1" rot="16200000">
              <a:off x="5821560" y="2586960"/>
              <a:ext cx="905400" cy="25495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72" name="_s65541"/>
            <p:cNvCxnSpPr>
              <a:stCxn id="273" idx="0"/>
              <a:endCxn id="271" idx="3"/>
            </p:cNvCxnSpPr>
            <p:nvPr/>
          </p:nvCxnSpPr>
          <p:spPr>
            <a:xfrm flipH="1" flipV="1" rot="5400000">
              <a:off x="4381560" y="3696120"/>
              <a:ext cx="905400" cy="3315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74" name="_s65542"/>
            <p:cNvCxnSpPr>
              <a:stCxn id="275" idx="0"/>
              <a:endCxn id="271" idx="3"/>
            </p:cNvCxnSpPr>
            <p:nvPr/>
          </p:nvCxnSpPr>
          <p:spPr>
            <a:xfrm flipH="1" flipV="1" rot="5400000">
              <a:off x="2941560" y="2256120"/>
              <a:ext cx="905400" cy="32119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271" name="_s65543"/>
            <p:cNvSpPr/>
            <p:nvPr/>
          </p:nvSpPr>
          <p:spPr>
            <a:xfrm>
              <a:off x="3337200" y="1600200"/>
              <a:ext cx="352044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. За последн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4 дне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ы хотя бы раз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65544"/>
            <p:cNvSpPr/>
            <p:nvPr/>
          </p:nvSpPr>
          <p:spPr>
            <a:xfrm>
              <a:off x="45720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А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танцевал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_s65545"/>
            <p:cNvSpPr/>
            <p:nvPr/>
          </p:nvSpPr>
          <p:spPr>
            <a:xfrm>
              <a:off x="333720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Б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занималис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порто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65546"/>
            <p:cNvSpPr/>
            <p:nvPr/>
          </p:nvSpPr>
          <p:spPr>
            <a:xfrm>
              <a:off x="621756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рошл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ешком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одряд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е менее 14 км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ользуя таблицу, подсчитайте сумму очков. Чем больше Ваш результат, тем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доровее Ваш образ жизни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57200" y="1600200"/>
          <a:ext cx="8229600" cy="4870440"/>
        </p:xfrm>
        <a:graphic>
          <a:graphicData uri="http://schemas.openxmlformats.org/drawingml/2006/table">
            <a:tbl>
              <a:tblPr/>
              <a:tblGrid>
                <a:gridCol w="1143000"/>
                <a:gridCol w="2438280"/>
                <a:gridCol w="2590920"/>
                <a:gridCol w="205740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 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 б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 в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Объект WordArt 19"/>
          <p:cNvSpPr txBox="1"/>
          <p:nvPr/>
        </p:nvSpPr>
        <p:spPr>
          <a:xfrm>
            <a:off x="1116000" y="333360"/>
            <a:ext cx="6624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Кур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81" name="Прямоуг. 28"/>
          <p:cNvSpPr/>
          <p:nvPr/>
        </p:nvSpPr>
        <p:spPr>
          <a:xfrm>
            <a:off x="755640" y="1990080"/>
            <a:ext cx="432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йствие никотина особенно опасно в определенные периоды жизни - юность, старческий возраст, когда даже слабое возбуждающее действие нарушает нервную регуляцию. Особенно вреден никотин беременным, так как весом приводит к рождению слабых, с низким детей, и кормящим женщинам, так как повышает заболеваемость и смертность детей в первые годы жизни. Большинство же курильщиков удивительно бесцеремонны по отношению к окружающи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Рисунок 30" descr="no_smoking_j2"/>
          <p:cNvPicPr/>
          <p:nvPr/>
        </p:nvPicPr>
        <p:blipFill>
          <a:blip r:embed="rId1"/>
          <a:stretch/>
        </p:blipFill>
        <p:spPr>
          <a:xfrm>
            <a:off x="6443640" y="278136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зультате систематического потребления алкоголя развивается симтомокомплекс болезненного пристрастия к не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отеря чувства меры и контроля над количеством потребляемого алкого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рушение деятельности центральной и периферической нервной системы (психозы, невриты и т.п.) и функций внутренних орган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Объект WordArt 7"/>
          <p:cNvSpPr txBox="1"/>
          <p:nvPr/>
        </p:nvSpPr>
        <p:spPr>
          <a:xfrm>
            <a:off x="826920" y="549360"/>
            <a:ext cx="75614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лкогол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6" name="Рисунок 9" descr="60c473449a9492364b5cb066d44da1d1"/>
          <p:cNvPicPr/>
          <p:nvPr/>
        </p:nvPicPr>
        <p:blipFill>
          <a:blip r:embed="rId1"/>
          <a:stretch/>
        </p:blipFill>
        <p:spPr>
          <a:xfrm>
            <a:off x="4859280" y="1628640"/>
            <a:ext cx="3809880" cy="4464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потребление наркотиков, помимо психической и физической зависимости, всегда приводит к необратимому грубому нарушению жизнедеятельности организма и со­циальной деградации наркомана. Именно эти последствия составляют наибольшую опасность для здоровья и жизни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Рисунок 30" descr=""/>
          <p:cNvPicPr/>
          <p:nvPr/>
        </p:nvPicPr>
        <p:blipFill>
          <a:blip r:embed="rId1"/>
          <a:stretch/>
        </p:blipFill>
        <p:spPr>
          <a:xfrm>
            <a:off x="5018040" y="2062080"/>
            <a:ext cx="3657600" cy="3594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89" name="Объект WordArt 35"/>
          <p:cNvSpPr txBox="1"/>
          <p:nvPr/>
        </p:nvSpPr>
        <p:spPr>
          <a:xfrm>
            <a:off x="914400" y="27792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ркотик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4876560" y="1530360"/>
            <a:ext cx="3809880" cy="698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>
            <a:off x="1692360" y="476280"/>
            <a:ext cx="568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66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прос   3</a:t>
            </a:r>
            <a:endParaRPr b="0" lang="en-US" sz="1800" spc="1" strike="noStrike">
              <a:ln w="22320">
                <a:solidFill>
                  <a:srgbClr val="ff66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324000" y="1536840"/>
            <a:ext cx="828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му из древних принадлежит мудрое высказывание: «Пьянство есть упражнение в безумии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95280" y="5949360"/>
            <a:ext cx="30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ифагор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5796000" y="5950080"/>
            <a:ext cx="24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лато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3"/>
          <a:stretch/>
        </p:blipFill>
        <p:spPr>
          <a:xfrm>
            <a:off x="395280" y="3500280"/>
            <a:ext cx="2198520" cy="2521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4"/>
          <a:stretch/>
        </p:blipFill>
        <p:spPr>
          <a:xfrm>
            <a:off x="5724360" y="3429000"/>
            <a:ext cx="23385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254480" cy="29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организм получает энергии больше, чем расходует, то есть если мы получаем пищи больше, чем это необходимо для нормального развития человека, для работы и хорошего самочувствия, - мы полне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Объект WordArt 7"/>
          <p:cNvSpPr txBox="1"/>
          <p:nvPr/>
        </p:nvSpPr>
        <p:spPr>
          <a:xfrm>
            <a:off x="1187280" y="333360"/>
            <a:ext cx="712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збыточный ве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93" name="Рисунок 17" descr="CA7U2X7F"/>
          <p:cNvPicPr/>
          <p:nvPr/>
        </p:nvPicPr>
        <p:blipFill>
          <a:blip r:embed="rId1"/>
          <a:stretch/>
        </p:blipFill>
        <p:spPr>
          <a:xfrm>
            <a:off x="6083280" y="2779560"/>
            <a:ext cx="2173320" cy="1825920"/>
          </a:xfrm>
          <a:prstGeom prst="rect">
            <a:avLst/>
          </a:prstGeom>
          <a:ln w="0">
            <a:noFill/>
          </a:ln>
        </p:spPr>
      </p:pic>
      <p:sp>
        <p:nvSpPr>
          <p:cNvPr id="294" name="Прямоуг. 18"/>
          <p:cNvSpPr/>
          <p:nvPr/>
        </p:nvSpPr>
        <p:spPr>
          <a:xfrm>
            <a:off x="755640" y="4437000"/>
            <a:ext cx="489600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йчас более трети нашей страны, включая детей, имеет лишний вес. А причина одна - избыточное питание, что в итоге приводит к атеросклерозу, ишемической болезни сердца, гипертонии, сахарному диабету, целому ряду других неду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56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00ff"/>
                </a:solidFill>
                <a:latin typeface="Arial"/>
              </a:rPr>
              <a:t>Гигиена</a:t>
            </a:r>
            <a:br>
              <a:rPr sz="6300"/>
            </a:b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игиена детей и подрост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игиена 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ммунальная гиги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игиена труда или профессиональная гиги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Рисунок 23" descr="ph10_rd6"/>
          <p:cNvPicPr/>
          <p:nvPr/>
        </p:nvPicPr>
        <p:blipFill>
          <a:blip r:embed="rId1"/>
          <a:stretch/>
        </p:blipFill>
        <p:spPr>
          <a:xfrm>
            <a:off x="4863960" y="1916280"/>
            <a:ext cx="3029040" cy="1904760"/>
          </a:xfrm>
          <a:prstGeom prst="rect">
            <a:avLst/>
          </a:prstGeom>
          <a:ln w="0">
            <a:noFill/>
          </a:ln>
        </p:spPr>
      </p:pic>
      <p:pic>
        <p:nvPicPr>
          <p:cNvPr id="298" name="Рисунок 24" descr="ph02_general_rd6"/>
          <p:cNvPicPr/>
          <p:nvPr/>
        </p:nvPicPr>
        <p:blipFill>
          <a:blip r:embed="rId2"/>
          <a:stretch/>
        </p:blipFill>
        <p:spPr>
          <a:xfrm>
            <a:off x="5076720" y="4118040"/>
            <a:ext cx="29512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3670200" cy="69552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Dot"/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Arial"/>
              </a:rPr>
              <a:t>Физкультура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4960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тимальный двигательный режим - важнейшее условие здорового образа жизни. Его основу составляют систематические занятия физическими упражнениями и спортом, эффективно решающие задачи укрепления здоровья и развития физических способностей молодежи, сохранения здоровья и двигательных навыков, усиления профилактики неблагоприятных возрастных изменений. При этом физическая культура и спорт выступают как важнейшее средство воспитани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Рисунок 9" descr=""/>
          <p:cNvPicPr/>
          <p:nvPr/>
        </p:nvPicPr>
        <p:blipFill>
          <a:blip r:embed="rId1"/>
          <a:stretch/>
        </p:blipFill>
        <p:spPr>
          <a:xfrm>
            <a:off x="5435640" y="4581360"/>
            <a:ext cx="2735280" cy="20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886120" y="358920"/>
            <a:ext cx="3884400" cy="10080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Закали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453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ним из методов закаливания являются водные процедуры. Купание в проруби относится именно к этому виду закаливания. Начинать, разумеется, с него не следует, т.к. это подходит только хорошо закаленным людям, приучившим свое тело к низким температурам. Однако для них купание в проруби очень полезно для организма: холодная вода воздействует на рецепторы кожи, восстанавливает тонус мышц, повышает иммунит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Рисунок 7" descr=""/>
          <p:cNvPicPr/>
          <p:nvPr/>
        </p:nvPicPr>
        <p:blipFill>
          <a:blip r:embed="rId1"/>
          <a:stretch/>
        </p:blipFill>
        <p:spPr>
          <a:xfrm>
            <a:off x="5092560" y="2494080"/>
            <a:ext cx="343224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Правильное пит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Рисунок 8" descr="img-d8c3a"/>
          <p:cNvPicPr/>
          <p:nvPr/>
        </p:nvPicPr>
        <p:blipFill>
          <a:blip r:embed="rId1"/>
          <a:stretch/>
        </p:blipFill>
        <p:spPr>
          <a:xfrm>
            <a:off x="822240" y="1628640"/>
            <a:ext cx="3202200" cy="2159280"/>
          </a:xfrm>
          <a:prstGeom prst="rect">
            <a:avLst/>
          </a:prstGeom>
          <a:ln w="0">
            <a:noFill/>
          </a:ln>
        </p:spPr>
      </p:pic>
      <p:pic>
        <p:nvPicPr>
          <p:cNvPr id="307" name="Рисунок 9" descr="fasol"/>
          <p:cNvPicPr/>
          <p:nvPr/>
        </p:nvPicPr>
        <p:blipFill>
          <a:blip r:embed="rId2"/>
          <a:stretch/>
        </p:blipFill>
        <p:spPr>
          <a:xfrm>
            <a:off x="5168880" y="1628640"/>
            <a:ext cx="2973240" cy="2071800"/>
          </a:xfrm>
          <a:prstGeom prst="rect">
            <a:avLst/>
          </a:prstGeom>
          <a:ln w="0">
            <a:noFill/>
          </a:ln>
        </p:spPr>
      </p:pic>
      <p:pic>
        <p:nvPicPr>
          <p:cNvPr id="308" name="Рисунок 10" descr="banan"/>
          <p:cNvPicPr/>
          <p:nvPr/>
        </p:nvPicPr>
        <p:blipFill>
          <a:blip r:embed="rId3"/>
          <a:stretch/>
        </p:blipFill>
        <p:spPr>
          <a:xfrm>
            <a:off x="3203640" y="4076640"/>
            <a:ext cx="29527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4" descr="son"/>
          <p:cNvPicPr/>
          <p:nvPr/>
        </p:nvPicPr>
        <p:blipFill>
          <a:blip r:embed="rId1"/>
          <a:stretch/>
        </p:blipFill>
        <p:spPr>
          <a:xfrm>
            <a:off x="1763640" y="1828800"/>
            <a:ext cx="48420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ЕМ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6" descr="final_RF5060220"/>
          <p:cNvPicPr/>
          <p:nvPr/>
        </p:nvPicPr>
        <p:blipFill>
          <a:blip r:embed="rId1"/>
          <a:stretch/>
        </p:blipFill>
        <p:spPr>
          <a:xfrm>
            <a:off x="324000" y="1341360"/>
            <a:ext cx="4752720" cy="3373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final_RF5059753"/>
          <p:cNvPicPr/>
          <p:nvPr/>
        </p:nvPicPr>
        <p:blipFill>
          <a:blip r:embed="rId2"/>
          <a:stretch/>
        </p:blipFill>
        <p:spPr>
          <a:xfrm>
            <a:off x="4067280" y="3357720"/>
            <a:ext cx="4932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" descr="final_RF5317282"/>
          <p:cNvPicPr/>
          <p:nvPr/>
        </p:nvPicPr>
        <p:blipFill>
          <a:blip r:embed="rId1"/>
          <a:stretch/>
        </p:blipFill>
        <p:spPr>
          <a:xfrm>
            <a:off x="3429000" y="3048120"/>
            <a:ext cx="5715000" cy="38098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final_RF5328035"/>
          <p:cNvPicPr/>
          <p:nvPr/>
        </p:nvPicPr>
        <p:blipFill>
          <a:blip r:embed="rId2"/>
          <a:stretch/>
        </p:blipFill>
        <p:spPr>
          <a:xfrm>
            <a:off x="0" y="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316" name="Прямоугольник 5"/>
          <p:cNvSpPr/>
          <p:nvPr/>
        </p:nvSpPr>
        <p:spPr>
          <a:xfrm>
            <a:off x="5715000" y="0"/>
            <a:ext cx="3429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Прогулки на свежем воздухе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6"/>
          <p:cNvSpPr/>
          <p:nvPr/>
        </p:nvSpPr>
        <p:spPr>
          <a:xfrm>
            <a:off x="0" y="442908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"/>
              </a:rPr>
              <a:t>залог здоровья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i-main-pic" descr="Картинка 19 из 247"/>
          <p:cNvPicPr/>
          <p:nvPr/>
        </p:nvPicPr>
        <p:blipFill>
          <a:blip r:embed="rId1"/>
          <a:stretch/>
        </p:blipFill>
        <p:spPr>
          <a:xfrm>
            <a:off x="5003640" y="1484280"/>
            <a:ext cx="3889440" cy="507996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6000" y="214200"/>
            <a:ext cx="7827840" cy="17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«Здоровье до того превышает все остальные блага жизни, что поистине: здоровый нищий счастливее больного короля»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                  (Артур Шопенгауэр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 rot="20842800">
            <a:off x="-422280" y="2412720"/>
            <a:ext cx="6113520" cy="33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НЕ ПЕРЕЧЕРКНИ СВОЮ ЖИЗНЬ КУРЕНИЕМ, АЛКОГОЛЕМ И НАРКОТИКАМИ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9250"/>
                            </p:stCondLst>
                            <p:childTnLst>
                              <p:par>
                                <p:cTn id="478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5250"/>
                            </p:stCondLst>
                            <p:childTnLst>
                              <p:par>
                                <p:cTn id="4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2"/>
          <p:cNvSpPr txBox="1"/>
          <p:nvPr/>
        </p:nvSpPr>
        <p:spPr>
          <a:xfrm>
            <a:off x="1692360" y="476280"/>
            <a:ext cx="568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66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прос   4</a:t>
            </a:r>
            <a:endParaRPr b="0" lang="en-US" sz="1800" spc="1" strike="noStrike">
              <a:ln w="22320">
                <a:solidFill>
                  <a:srgbClr val="ff66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395280" y="1196640"/>
            <a:ext cx="828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ое продолжение пословицы: «Что у трезвого на уме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547640" y="2275920"/>
            <a:ext cx="60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...то у пьяного на языке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2butylki[1]"/>
          <p:cNvPicPr/>
          <p:nvPr/>
        </p:nvPicPr>
        <p:blipFill>
          <a:blip r:embed="rId3"/>
          <a:stretch/>
        </p:blipFill>
        <p:spPr>
          <a:xfrm>
            <a:off x="2124000" y="2879640"/>
            <a:ext cx="494676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2"/>
          <p:cNvSpPr txBox="1"/>
          <p:nvPr/>
        </p:nvSpPr>
        <p:spPr>
          <a:xfrm>
            <a:off x="1692360" y="476280"/>
            <a:ext cx="568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66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прос   5</a:t>
            </a:r>
            <a:endParaRPr b="0" lang="en-US" sz="1800" spc="1" strike="noStrike">
              <a:ln w="22320">
                <a:solidFill>
                  <a:srgbClr val="ff66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324000" y="1125360"/>
            <a:ext cx="828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то из русских царей ввел изготовление «медали» для пьяниц весом в 4 кг? Медаль эту пьяница должен был длительное время носить на ш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826920" y="62161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етр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5150880" y="6021000"/>
            <a:ext cx="34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Иван Гроз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395280" y="3068640"/>
            <a:ext cx="2492280" cy="3095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4"/>
          <a:stretch/>
        </p:blipFill>
        <p:spPr>
          <a:xfrm>
            <a:off x="5508720" y="3068640"/>
            <a:ext cx="2778120" cy="2879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:\здоровье\медаль.jpg"/>
          <p:cNvPicPr/>
          <p:nvPr/>
        </p:nvPicPr>
        <p:blipFill>
          <a:blip r:embed="rId5"/>
          <a:stretch/>
        </p:blipFill>
        <p:spPr>
          <a:xfrm>
            <a:off x="5003640" y="2997360"/>
            <a:ext cx="3573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2"/>
          <p:cNvSpPr txBox="1"/>
          <p:nvPr/>
        </p:nvSpPr>
        <p:spPr>
          <a:xfrm>
            <a:off x="1692360" y="476280"/>
            <a:ext cx="568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66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прос   6</a:t>
            </a:r>
            <a:endParaRPr b="0" lang="en-US" sz="1800" spc="1" strike="noStrike">
              <a:ln w="22320">
                <a:solidFill>
                  <a:srgbClr val="ff66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24000" y="1052640"/>
            <a:ext cx="82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му из писателей принадлежат эти стро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«Ест Федька с водкой редьку, Ест водка с редькой Федьку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5580000" y="621612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И. А. Крыл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252720" y="6216120"/>
            <a:ext cx="350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Н. А. Некра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3"/>
          <a:stretch/>
        </p:blipFill>
        <p:spPr>
          <a:xfrm>
            <a:off x="684360" y="3429000"/>
            <a:ext cx="2558880" cy="2808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4"/>
          <a:stretch/>
        </p:blipFill>
        <p:spPr>
          <a:xfrm>
            <a:off x="5724360" y="3284640"/>
            <a:ext cx="264168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2"/>
          <p:cNvSpPr txBox="1"/>
          <p:nvPr/>
        </p:nvSpPr>
        <p:spPr>
          <a:xfrm>
            <a:off x="1692360" y="476280"/>
            <a:ext cx="568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66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прос   7</a:t>
            </a:r>
            <a:endParaRPr b="0" lang="en-US" sz="1800" spc="1" strike="noStrike">
              <a:ln w="22320">
                <a:solidFill>
                  <a:srgbClr val="ff66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395280" y="1126080"/>
            <a:ext cx="8282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ерой какой повести Л. Н. Толстого так рас­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казывает о последствиях своего первого опыта курения: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«Едва я успел упасть на диван, как почувствовал такую тошноту и такую слабость, что вообразил себе, что трубка для меня смертельна, мне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показалось, что я умираю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2843280" y="49712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«Отрочеств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202560" y="4291560"/>
            <a:ext cx="233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«Детство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132000" y="55155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«Юнос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6:22:17Z</dcterms:created>
  <dc:creator>Татьяна</dc:creator>
  <dc:description/>
  <dc:language>en-US</dc:language>
  <cp:lastModifiedBy>XP GAME 2008</cp:lastModifiedBy>
  <dcterms:modified xsi:type="dcterms:W3CDTF">2013-04-03T19:22:54Z</dcterms:modified>
  <cp:revision>10</cp:revision>
  <dc:subject/>
  <dc:title>Слайд 1</dc:title>
</cp:coreProperties>
</file>