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C50-592E-4B8B-976E-5E1F9BEF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BEC-57B4-4F7D-8955-1C922209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BA3-D79F-4181-ABB7-F474F1CE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C17-51E3-4050-8E72-69590D4F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0EE2-E17D-4F68-A2AA-FCD02034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F7AA-C4BB-4D40-9A66-E61AC2FB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E237-5920-421A-A2F1-04708FF0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A66D-4699-4AE6-8B2F-4E34F179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08E6-6AB9-4231-9340-FF4F5423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A7E7-83D3-4D1D-BE6A-A4638D81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1A12-14C6-41EC-AE3A-28153DCE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D02-1EA4-4D84-BD2D-600CD7E9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EA07-D1E8-4C42-94F7-51D2B2C9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2E23-2572-487F-BB2A-F3120CD2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DA6C-E28C-43BA-A4E8-A634E9C1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08C7-861F-4622-857B-C6A918B9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092C-C76A-4980-A7F5-F5681693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54625-D50C-49A4-AAF1-A7E23061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0253F-B62B-4419-A161-D1859269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A78F-FD8E-416B-B041-F7908A41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33D67-DDFA-4214-A498-87BF63A6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1B87A-368D-4A41-BD22-9B74F289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A22-539C-4EC0-959A-03063603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31F4B-935D-4BE8-8D2F-D94B663F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746BC-59BB-4EFA-B6F9-266D4C83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E8764-7EB1-4776-87FE-AE0A6541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D1BCB-98B8-4CC1-8AC7-2627B270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3E653-AFA4-42AD-901C-0A14FFF3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F8904-5595-427B-8C70-22187763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C381-2106-45B0-99F4-3BAC6B1B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EAA97-331B-43FC-88E5-D9034CFE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096BF-94C7-45FA-8A9E-017E19E4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8AD99-CCD4-490E-BD80-D18152C7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983-652D-46A7-B24F-8E10FC14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536C8-4F9F-431C-B961-BD400BB1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B89B1-AC61-4C54-B0EE-E3884544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00104-E457-4858-A170-ABC426AA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DC40-1FED-4C00-8CEE-527CDA1F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B45A8-60C2-4065-90AD-D5E8EB70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B5310-EE45-4A71-9F62-23FF3F44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B6DF5-255D-4A0D-A248-93ABBBC9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81E73-66CD-45D0-98CB-FA07E1F2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013A5-B25E-4CD9-8443-2714CBF8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63D52-F303-49D4-BB0D-3C1045DB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F9E-CE0B-4AE6-88B0-4B9A1C36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462EB-BA06-42ED-BD43-49924FDE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F951F-DBE7-4E3E-A306-FAE71E75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D2E11-AE1B-4325-965C-CDB2CB7D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516B5-56BC-4EC5-866E-CD1AC40B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29833-ED15-4975-BFEF-37C7E87A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9D916-CC87-4EE5-B559-2A2F95C2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B5FCA-00FE-4A04-BF2D-69F339E4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4BA98-DA8E-401A-95FA-F702C7BA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C2353-20D0-4B91-8EFC-C435F95C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7FE1C-813A-4586-9233-B88B86C5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2BC-5E2D-4C22-BFE0-24EC46A0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EC8F9-7F0E-4E8A-9DCA-E12FD603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66E83-4345-4F5B-99CB-7B6F5649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716EC-30E4-4E3A-B3AB-588F0495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4D5D5-E2C8-4BAE-BA78-5AF8C3D2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9F3F1-2F67-48B2-A599-D6CE2607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40814-EA5C-4F72-94C9-97F60EBC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1F124-E4D3-4E1C-9486-20F6AF1F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92E7B-0265-47AE-AEEE-61CD89EF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6392C-CE9F-4FDC-9205-528CCE0E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3854D-D8CE-4BB7-8B4E-EE22E307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C1D-79F6-4429-B7A2-CF652F21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C97F5-A3F6-4A6C-9160-4D1EE453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40E33-3F5C-4A5E-8FAB-BFAEE9E4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2C3BE-D3BE-439B-B4BF-367685D7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84B-589E-42B4-8787-986E8426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C294-92E0-466B-B293-ECC47AF3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05E7-C86D-4A77-9F8B-90D443A7E8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1EEC-9F18-47D4-8A25-1B9596C531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D742-04D2-49A3-83B2-1E3DA1609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0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1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3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5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ADA6-023D-42D1-9CD3-57AD8CC26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0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0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0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7CE2-A601-436B-9D4B-EE020EC928B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7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8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8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9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9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5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8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9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A194-0227-42DD-BF1C-65272D38446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остопримечательн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3352680" y="5791320"/>
            <a:ext cx="5639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дготовил: Рощупкин Егор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2743200" y="2895480"/>
            <a:ext cx="3581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ерма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52280" y="1294920"/>
            <a:ext cx="32004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Озеро Бодензее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38098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зеро Бодензее или Боденское озеро омывает берега Германии, Австрии и Швейцарии. Говоря о Бодензее, имеются в виду три водоёма: Верхнее озеро, Нижнее озеро и река Рейн, которая соединяет два озера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ощадь Бодензее составляет 536 км2, в некоторых местах глубина доходит до 254 м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уровые зимы судоходное Боденское озеро замерзает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ень популярны среди туристов город Линдау, историческая часть которого расположена на одноимённом острове, а также острова Маинау и Райхенау, последний находится в списке Всемирного наследия ЮНЕСК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3733920" y="76320"/>
            <a:ext cx="52959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457200" y="1294920"/>
            <a:ext cx="5105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Ворота Порта Нигра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0" y="3657600"/>
            <a:ext cx="91440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та Нигра являются самыми большими сохранившимися античными воротами во всём мире, они были возведены во II веке.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латыни Порта Нигра означает «чёрные ворота». Такое название они, скорее всего, получили из-за строительного материала. Как известно, песчаник, из которого построены ворота, имеет свойство темнеть со временем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ена Римской империи ворота выполняли функцию городских ворот. Историки и археологи считают, что ворота Порта Нигра никогда не были полностью достроены. По их утверждению подвижный мост перед воротами так никогда и не был прикреплен, и истинной целью строительства ворот было возведение не защитного сооружения, а, вероятнее всего, престижного объекта.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4495680" y="76320"/>
            <a:ext cx="453420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752480" y="2133720"/>
            <a:ext cx="5010120" cy="33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ёльнский собо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-360" y="3352680"/>
            <a:ext cx="9032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ёльнский собор — это не только символ Кёльна, любимец местных жителей и туристов. Кёльнский собор по праву относится к ряду объектов всемирного культурного наследия ЮНЕСКО. С высотой в 157 метров собор был самым высоким зданием мира с 1880 по 1884 го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4495680" y="152280"/>
            <a:ext cx="3657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3733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Бранденбургских воротах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62120" y="35053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961 по 1989 год, когда Восточный и Западный Берлин разделяла Берлинская стена, Бранденбургские ворота были закрыты для жителей обеих частей города. Почти 30 лет лишь пограничники ГДР имели доступ к воротам, показывая их, как правило, государственным гостям ГДР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гие годы Бранденбургские ворота были символом разделенной Германии, а после падения Берлинской стены в ноябре 1989 г. - стали символом воссоединения стран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мцы настолько любят Бранденбургские ворота, что выпускают коллекционные серии почтовых марок с их изображением. Кстати, на денежной купюре 5 немецких марок последней серии, до перехода на евро, можно было встретить Бранденбургские ворота. Сейчас же они украшают монеты евро – 10, 20 и 50 евроцен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4038480" y="152280"/>
            <a:ext cx="4991400" cy="31496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-304920" y="1143000"/>
            <a:ext cx="4343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Двухсотлетнее сооружение имеет достаточно интересную историю. О Бранденбургских воротах экскурсоводы смогут много чего рассказать. К примеру, мало кто знает, что первоначально они назывались Ворота мира, что фасад ворот первоначально был белого цвета, а колесница с богиней Победы Викторией, украшающая фасад ворот, благодаря завоевавшему Берлин Наполеону побывала в Париже. </a:t>
            </a:r>
            <a:br>
              <a:rPr sz="1600"/>
            </a:b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Фрауэнкирхе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33520" y="3657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ее 40 лет церковь оставалась в руинах. В 1990 году жители Дрездена обратились ко всему миру с призывом собрать средства на восстановление церкви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50 лет назад строительство Фрауэнкирхе обошлось в 288 570 талеров и 10 грошей. Восстановление церкви было оценено в сумму 132 миллиона евро. Власти города Дрездена выделили на этот проект 13 миллионов евро, остальную сумму удалось собрать благодаря добровольным пожертвованиям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93 году началось восстановление за оригинальными планами. Торжественное открытие Фрауэнкирхе состоялось в 2005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333540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-152280" y="838080"/>
            <a:ext cx="3886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остроенный в ХVII веке храм был уничтожен во время англо-американских бомбардировок в феврале 1945 года. 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Руины Фрауэнкирхе были сохранены и "законсервированы". Долгое время велась дискуссия: восстановить ли церковь или оставить ее в развалинах. Власти ГДР решили оставить разрушенную Фрауэнкирхе как напоминание потомкам о произошедшем.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600"/>
            </a:b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3733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Гамбургский порт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0" y="39625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амбургский порт является крупнейшим портом в Германии, третьим по размеру в Европе (после портов Роттердама и Антверпена) и одним из девяти крупнейших контейнерных портов в мир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амбургский порт – это более 300 причалов для океанских и морских судов, 200 контейнерных перегружателей и кранов, 7 тысяч рейсов ежегодно во все страны мира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смотря на то, что порт расположен на берегу реки Эльбы, он считается морским. Хотя на самом деле, до Северного моря еще 110 км.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фициальным днем рождения порта считают 7 мая 1189 года, когда Фридрих Барбаросса выдал указ, гарантировавший торговцам из Гамбурга беспошлинный проезд по Нижней Эльбе до самого Северного мор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52959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3200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репость Вартбург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епость Вартбург расположена на горе близ города Эйзенах в Тюрингии, на высоте 441 м над уровнем моря.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первые Вартбургская крепость упоминается в исторических документах еще в далеком 1080 г.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ряд ли какая-нибудь другая крепость занимала такое же значительное место в истории Германии, как Вартбург. Как правило, ее упоминают вместе с именем Мартина Лютера. Именно здесь великий реформатор переводил Новый Завет на немецкий язык.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99 г. крепость Вартбург пополнила Список Всемирного наследия ЮНЕСКО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епость Вартбург настолько красива, что в 2010 году ее снежная копия стала одним из главных аттракционов снежного фестиваля в японском Саппоро. Четырехметровая снежная крепость украшала самый большой город на острове Хоккайд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4076640" y="0"/>
            <a:ext cx="506736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-152640" y="1142640"/>
            <a:ext cx="4267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Памятник Битве народов в Лейпциге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0" y="358092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амятник Битве народов является одной из главных достопримечательностей города Лейпциг, который насчитывает рекордное число памятников в Германии, а именно 15 тысяч.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ник Битве народов воздвигнут в честь победы объединенных войск русских, австрийцев, пруссаков и шведов над французской армией Наполеона. Более полумиллиона солдат сражались в октябре 1813 в окрестностях Лейпцига, более 120 000 человек погибли в ходе боевых действий с 16 по 19 октября. До Первой мировой войны эта битва считалась крупнейшей в истории человечества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ник расположен в центре поля битвы.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нумент располагает собственным хором, который регулярно дает концерты. Акустика внутри сооружения уникальна, эхо может длиться до 10 секунд. Не удивительно, с высотой в 91 м этот памятник является самым крупным памятником Европы.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-360" y="1294920"/>
            <a:ext cx="380988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Городские ворота Хольстентор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1440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родские ворота Хольстенто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также называемые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лштинские воро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огда-то были частью городских укреплений, возведённых ещё в XV веке. Сегодня это оборонительное сооружение с двумя массивными башнями напоминает миниатюрную крепость.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льстентор - это не только самые известные городские ворота эпохи позднего Средневековья в Германии, благодаря архитектурному своеобразию они стали символом Любека - крупнейшего центра Ганзейского союз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етители любекских ворот могут узнать много интересных историй города. Не удивительно, ведь во внутренних помещениях расположен городской исторический музей. 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стные жители настолько любят свой символ города, что изображают его на изделиях своих компаний, к примеру, Хольстентор можно встретить на упаковке любекского марципа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52578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-457560" y="457200"/>
            <a:ext cx="4724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резденский Цвингер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3619440" y="0"/>
            <a:ext cx="5524560" cy="385776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-304920" y="1295280"/>
            <a:ext cx="4343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 средневековье цвингером называли пространство между крепостными стенами, которое должно было обеспечивать большую защиту замку. Дрезденский Цвингер не имел оборонительных функций, но местоположение повлияло на его название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38098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Цвингер строился почти 20 лет при Августе II Сильном, который был курфюрстом Саксонским и немного позже и королем Польским. Возводя Цвингер, Август Сильный преследовал несколько целей. В первую очередь, поблизости своего дворца он хотел видеть место для придворных увеселений: маскарадов и балов. Кроме этого, следуя моде и наследуя французского Короля-Солнца Людовика XIV, он планировал разбить оранжерею для выращивания модных фруктов апельсинов.</a:t>
            </a:r>
            <a:br>
              <a:rPr sz="1400"/>
            </a:b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Желание Августа Сильного создать архитектурное чудо в Дрездене было настолько сильным, что он отправил своего архитектора М.Пёппельманна осмотреть ведущие на то время европейские города: Прагу, Вену, Рим, Флоренцию, Неаполь, Париж…</a:t>
            </a:r>
            <a:br>
              <a:rPr sz="1400"/>
            </a:b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К сожалению, Цвингер часто подвергался разрушениям. В его истории и Семилетняя война (1756–1763), и революционные бои 1849 года, и бомбежка англо-американской авиацией в феврале 1945 года. Кроме того, Цвингер построен из довольно мягкого, подверженного выветриванию камня - песчаника. Поэтому время от времени здесь ведутся реставрационные работы.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5:38:08Z</dcterms:created>
  <dc:creator>REA</dc:creator>
  <dc:description/>
  <dc:language>en-US</dc:language>
  <cp:lastModifiedBy>RAN</cp:lastModifiedBy>
  <dcterms:modified xsi:type="dcterms:W3CDTF">2012-12-17T16:51:4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