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D26-B2D8-469A-825B-BBEE194D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8CCD-9AAF-4FF3-8DFB-140A063C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0789-80A2-4CD6-87AF-A4B365E0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BA1-C9EF-4FB2-AFE9-6E2F429A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5EFB-373F-43C1-B0D6-EBEC162B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CBFB-F451-4F7E-8DFC-89692F93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3889-9783-4CAE-BA46-E171078E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5ACD-4B62-436E-B4D5-6A01560A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AA8D-674A-449E-ABAB-25BCE503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51A4-8296-4564-BC18-9779676F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5A2F-144F-4912-B4EF-E09C3783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9120-B69A-43CF-BE23-E8985433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0FCA-90CB-48C7-9739-A27A1D20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B1C0-65C2-480A-B81E-1F69D19B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18F1-7CEF-4229-8849-3AF2CC04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9230-73B3-45B1-8F12-061E32BD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929A-D1A0-4172-A53B-9AFCD361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241DD-A797-44B1-8102-5FBCB3DA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EE14A-EB57-465C-9C77-0EB8D287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7E2D9-E8A4-4B34-A317-4C220D54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CAAF8-2ED1-4CE0-BF41-0944B069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68BBE-727C-4683-BC1E-370D7F4B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1E0-85C2-4863-8B3F-17DE7106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0180B-8171-46DC-9631-3B8CEEC0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D8361-B2EB-4CD2-B585-9C32A502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8D935-2DAE-49DF-92CA-DABBB4A5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641AE-A056-4E29-8296-27A27A2F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5F48D-2500-4384-9C49-237B53F9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4FE46-0959-493B-B774-BF2D3D86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3D856-FB6E-4AC5-B223-114175A8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776F5-FA9A-43CF-BADB-FBF51BCB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FFE39-B3DC-4B0C-A205-A4903ACC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6C799-D974-4767-A0E2-B627286F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9B3-EC9E-4AEA-9FCF-A7B62C62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6028B-DA49-4656-9CD6-DC0001B2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04603-1B60-4091-82DF-80FC0E3C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B0603-C30B-4261-B8B5-5025B108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EC1FC-F134-4CC5-8844-972A6307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C882B-6E4A-4A60-8990-58CB789E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ACCB7-90A2-47DA-B218-4ABD1607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A40C3-4819-4C25-BF07-1683B424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F7415-8C86-499B-90D1-D0C2B3A6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BC54D-7C94-46B5-AE33-D331452C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3E38E-02EE-4DB3-8FA8-53F305CD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7468-2AAC-484D-986C-50EE9FC3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507D3-72C7-4EB4-8A9A-5BA68486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400C3-1407-43D7-A32B-8B7D3B28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7DDE7-8F81-4B88-BB8F-C66B504B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3EF03-2483-486D-B052-5A49F6FA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FD9F2-FA73-4004-A0C9-D67F6AC7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E0277-2373-4AAB-A06F-E4A44195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78EA0-1F0F-4E3E-A803-35A8FD59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C140F-8F28-47BF-8E62-DE2CD456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C9807-794E-4D9F-8B48-A8C0DD0C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8781B-FB22-476C-9D1F-4B4F6C50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8385-198A-4B37-8607-CDD18D77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AB4E7-585C-474F-9A56-1094EE9F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663CA-D39C-4618-9049-C931886A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A0DCD-F688-4475-829D-0E261CF2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6914A-BA21-4BB9-A8A8-4D7BD66B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A30FF-0FEC-49F8-AA53-DE5B90FC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AD727-9499-41AD-B514-90093FED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44931-5B12-4674-B7F9-3ACD4735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DCBA9-E4AB-451C-95A4-09A2AE42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935A2-048E-4D99-9151-88CED4EA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09463-E8E1-4F19-A4A4-B10FE6B2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CEAC-3833-4A0E-9162-D44CDA20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172BC-41DB-4C2F-BF07-E90FDC8C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38DF2-2AE0-492F-91B3-6D75E428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94D61-8738-4F1D-99A3-083BD9FE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B6C-993A-4298-93CB-6ECC72F8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28C2-47E5-45D8-ACBB-49B168E8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9227-B595-4F5D-83D1-B759D4B654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D742-0E8B-4FE4-AC54-B6326CCE97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8857-022F-42D9-ADC5-DB65578F4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9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0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1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3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5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E9FE-F610-4B79-BE35-0DE8FA74A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0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0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0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1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grpSp>
              <p:nvGrpSpPr>
                <p:cNvPr id="38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A8C4-25BE-4740-B91A-1324BE0273E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7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8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8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8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8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9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9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0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0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3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5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6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7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8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8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9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C77F-3665-4D47-955E-A8810F31BA4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остопримечательн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3352680" y="5791320"/>
            <a:ext cx="5639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одготовил: Рощупкин Егор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2743200" y="2895480"/>
            <a:ext cx="3581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Герман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52280" y="1294920"/>
            <a:ext cx="32004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Озеро Бодензее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0" y="3809880"/>
            <a:ext cx="9144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зеро Бодензее или Боденское озеро омывает берега Германии, Австрии и Швейцарии. Говоря о Бодензее, имеются в виду три водоёма: Верхнее озеро, Нижнее озеро и река Рейн, которая соединяет два озера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ощадь Бодензее составляет 536 км2, в некоторых местах глубина доходит до 254 м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уровые зимы судоходное Боденское озеро замерзает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чень популярны среди туристов город Линдау, историческая часть которого расположена на одноимённом острове, а также острова Маинау и Райхенау, последний находится в списке Всемирного наследия ЮНЕСК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3733920" y="76320"/>
            <a:ext cx="529596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-457200" y="1294920"/>
            <a:ext cx="51055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орота Порта Нигра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0" y="3657600"/>
            <a:ext cx="91440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та Нигра являются самыми большими сохранившимися античными воротами во всём мире, они были возведены во II веке.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латыни Порта Нигра означает «чёрные ворота». Такое название они, скорее всего, получили из-за строительного материала. Как известно, песчаник, из которого построены ворота, имеет свойство темнеть со временем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ена Римской империи ворота выполняли функцию городских ворот. Историки и археологи считают, что ворота Порта Нигра никогда не были полностью достроены. По их утверждению подвижный мост перед воротами так никогда и не был прикреплен, и истинной целью строительства ворот было возведение не защитного сооружения, а, вероятнее всего, престижного объекта.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4495680" y="76320"/>
            <a:ext cx="453420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752480" y="2133720"/>
            <a:ext cx="5010120" cy="33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ЕЦ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3657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ёльнский собо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-360" y="3352680"/>
            <a:ext cx="9032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ёльнский собор — это не только символ Кёльна, любимец местных жителей и туристов. Кёльнский собор по праву относится к ряду объектов всемирного культурного наследия ЮНЕСКО. С высотой в 157 метров собор был самым высоким зданием мира с 1880 по 1884 го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4495680" y="152280"/>
            <a:ext cx="3657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3733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Бранденбургских воротах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62120" y="35053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1961 по 1989 год, когда Восточный и Западный Берлин разделяла Берлинская стена, Бранденбургские ворота были закрыты для жителей обеих частей города. Почти 30 лет лишь пограничники ГДР имели доступ к воротам, показывая их, как правило, государственным гостям ГДР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лгие годы Бранденбургские ворота были символом разделенной Германии, а после падения Берлинской стены в ноябре 1989 г. - стали символом воссоединения стран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мцы настолько любят Бранденбургские ворота, что выпускают коллекционные серии почтовых марок с их изображением. Кстати, на денежной купюре 5 немецких марок последней серии, до перехода на евро, можно было встретить Бранденбургские ворота. Сейчас же они украшают монеты евро – 10, 20 и 50 евроцен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4038480" y="152280"/>
            <a:ext cx="4991400" cy="31496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-304920" y="1143000"/>
            <a:ext cx="4343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Двухсотлетнее сооружение имеет достаточно интересную историю. О Бранденбургских воротах экскурсоводы смогут много чего рассказать. К примеру, мало кто знает, что первоначально они назывались Ворота мира, что фасад ворот первоначально был белого цвета, а колесница с богиней Победы Викторией, украшающая фасад ворот, благодаря завоевавшему Берлин Наполеону побывала в Париже. </a:t>
            </a:r>
            <a:br>
              <a:rPr sz="1600"/>
            </a:b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Фрауэнкирхе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33520" y="3657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ее 40 лет церковь оставалась в руинах. В 1990 году жители Дрездена обратились ко всему миру с призывом собрать средства на восстановление церкви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50 лет назад строительство Фрауэнкирхе обошлось в 288 570 талеров и 10 грошей. Восстановление церкви было оценено в сумму 132 миллиона евро. Власти города Дрездена выделили на этот проект 13 миллионов евро, остальную сумму удалось собрать благодаря добровольным пожертвованиям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93 году началось восстановление за оригинальными планами. Торжественное открытие Фрауэнкирхе состоялось в 2005 год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333540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-152280" y="838080"/>
            <a:ext cx="3886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строенный в ХVII веке храм был уничтожен во время англо-американских бомбардировок в феврале 1945 года. 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Руины Фрауэнкирхе были сохранены и "законсервированы". Долгое время велась дискуссия: восстановить ли церковь или оставить ее в развалинах. Власти ГДР решили оставить разрушенную Фрауэнкирхе как напоминание потомкам о произошедшем.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3733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Гамбургский порт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0" y="39625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амбургский порт является крупнейшим портом в Германии, третьим по размеру в Европе (после портов Роттердама и Антверпена) и одним из девяти крупнейших контейнерных портов в мир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амбургский порт – это более 300 причалов для океанских и морских судов, 200 контейнерных перегружателей и кранов, 7 тысяч рейсов ежегодно во все страны мира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смотря на то, что порт расположен на берегу реки Эльбы, он считается морским. Хотя на самом деле, до Северного моря еще 110 км.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фициальным днем рождения порта считают 7 мая 1189 года, когда Фридрих Барбаросса выдал указ, гарантировавший торговцам из Гамбурга беспошлинный проезд по Нижней Эльбе до самого Северного мор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52959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3200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Крепость Вартбург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епость Вартбург расположена на горе близ города Эйзенах в Тюрингии, на высоте 441 м над уровнем моря.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первые Вартбургская крепость упоминается в исторических документах еще в далеком 1080 г.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ряд ли какая-нибудь другая крепость занимала такое же значительное место в истории Германии, как Вартбург. Как правило, ее упоминают вместе с именем Мартина Лютера. Именно здесь великий реформатор переводил Новый Завет на немецкий язык.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99 г. крепость Вартбург пополнила Список Всемирного наследия ЮНЕСКО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епость Вартбург настолько красива, что в 2010 году ее снежная копия стала одним из главных аттракционов снежного фестиваля в японском Саппоро. Четырехметровая снежная крепость украшала самый большой город на острове Хоккайд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4076640" y="0"/>
            <a:ext cx="506736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-152640" y="1142640"/>
            <a:ext cx="4267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амятник Битве народов в Лейпциге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0" y="35809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амятник Битве народов является одной из главных достопримечательностей города Лейпциг, который насчитывает рекордное число памятников в Германии, а именно 15 тысяч.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мятник Битве народов воздвигнут в честь победы объединенных войск русских, австрийцев, пруссаков и шведов над французской армией Наполеона. Более полумиллиона солдат сражались в октябре 1813 в окрестностях Лейпцига, более 120 000 человек погибли в ходе боевых действий с 16 по 19 октября. До Первой мировой войны эта битва считалась крупнейшей в истории человечества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мятник расположен в центре поля битвы.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нумент располагает собственным хором, который регулярно дает концерты. Акустика внутри сооружения уникальна, эхо может длиться до 10 секунд. Не удивительно, с высотой в 91 м этот памятник является самым крупным памятником Европы.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-360" y="1294920"/>
            <a:ext cx="380988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Городские ворота Хольстентор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1440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родские ворота Хольстенто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также называемые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лштинские воро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огда-то были частью городских укреплений, возведённых ещё в XV веке. Сегодня это оборонительное сооружение с двумя массивными башнями напоминает миниатюрную крепость.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льстентор - это не только самые известные городские ворота эпохи позднего Средневековья в Германии, благодаря архитектурному своеобразию они стали символом Любека - крупнейшего центра Ганзейского союз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етители любекских ворот могут узнать много интересных историй города. Не удивительно, ведь во внутренних помещениях расположен городской исторический музей.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стные жители настолько любят свой символ города, что изображают его на изделиях своих компаний, к примеру, Хольстентор можно встретить на упаковке любекского марципа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52578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-457560" y="457200"/>
            <a:ext cx="4724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Дрезденский Цвингер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3619440" y="0"/>
            <a:ext cx="5524560" cy="385776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-304920" y="1295280"/>
            <a:ext cx="4343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 средневековье цвингером называли пространство между крепостными стенами, которое должно было обеспечивать большую защиту замку. Дрезденский Цвингер не имел оборонительных функций, но местоположение повлияло на его название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380988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Цвингер строился почти 20 лет при Августе II Сильном, который был курфюрстом Саксонским и немного позже и королем Польским. Возводя Цвингер, Август Сильный преследовал несколько целей. В первую очередь, поблизости своего дворца он хотел видеть место для придворных увеселений: маскарадов и балов. Кроме этого, следуя моде и наследуя французского Короля-Солнца Людовика XIV, он планировал разбить оранжерею для выращивания модных фруктов апельсинов.</a:t>
            </a:r>
            <a:br>
              <a:rPr sz="1400"/>
            </a:b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Желание Августа Сильного создать архитектурное чудо в Дрездене было настолько сильным, что он отправил своего архитектора М.Пёппельманна осмотреть ведущие на то время европейские города: Прагу, Вену, Рим, Флоренцию, Неаполь, Париж…</a:t>
            </a:r>
            <a:br>
              <a:rPr sz="1400"/>
            </a:b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К сожалению, Цвингер часто подвергался разрушениям. В его истории и Семилетняя война (1756–1763), и революционные бои 1849 года, и бомбежка англо-американской авиацией в феврале 1945 года. Кроме того, Цвингер построен из довольно мягкого, подверженного выветриванию камня - песчаника. Поэтому время от времени здесь ведутся реставрационные работы.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5:38:08Z</dcterms:created>
  <dc:creator>REA</dc:creator>
  <dc:description/>
  <dc:language>en-US</dc:language>
  <cp:lastModifiedBy>RAN</cp:lastModifiedBy>
  <dcterms:modified xsi:type="dcterms:W3CDTF">2012-12-17T16:51:4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