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gif" ContentType="image/gif"/>
  <Override PartName="/ppt/media/image53.png" ContentType="image/png"/>
  <Override PartName="/ppt/media/image52.png" ContentType="image/png"/>
  <Override PartName="/ppt/media/image50.png" ContentType="image/png"/>
  <Override PartName="/ppt/media/image48.png" ContentType="image/png"/>
  <Override PartName="/ppt/media/image45.gif" ContentType="image/gif"/>
  <Override PartName="/ppt/media/image46.png" ContentType="image/png"/>
  <Override PartName="/ppt/media/image33.png" ContentType="image/png"/>
  <Override PartName="/ppt/media/image30.gif" ContentType="image/gif"/>
  <Override PartName="/ppt/media/image2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9.gif" ContentType="image/gif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8.gif" ContentType="image/gif"/>
  <Override PartName="/ppt/media/image24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1.gif" ContentType="image/gif"/>
  <Override PartName="/ppt/media/image34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58.png" ContentType="image/png"/>
  <Override PartName="/ppt/media/image60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37.gif" ContentType="image/gi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8A73-24EE-4AA8-8E81-B673A7A45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89C-1AA4-49E5-97D6-FFA2484D9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50AF-5345-474A-98AB-52EB9B848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553-10F2-4052-9CF3-A8D72F8E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15E-8963-44C0-AA63-B9F4A97C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13A-31F8-4C75-9E9A-9499A0E0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B71-AFEE-479A-831E-13E34C8C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82E-9DBF-434A-9089-52A19ECF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876-B2CC-4273-B17B-7C0369C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89C-463E-499D-B5BD-BD0AEC33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170-5A0D-4304-AA0A-408703E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123-5505-491D-8BF0-107C2741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525-092A-461B-A69E-396AEE3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CBA-5C7E-45B5-BEC9-319E5BF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B29-239A-41AF-834D-E4CCA4E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46BC-EEE9-48FE-A57E-6003571CA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hyperlink" Target="http://www.proshkolu.ru/content/media/pic/std/2000000/1691000/1690731-c0368a63b89fe799.gif" TargetMode="External"/><Relationship Id="rId7" Type="http://schemas.openxmlformats.org/officeDocument/2006/relationships/image" Target="../media/image30.gi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hyperlink" Target="http://images.gifmania.ru/Animated-Gifs-Animated-Letters/Animations-Blue-Letters/Images-Blue-Mosaic-Alphabet/punctuation-mark-dash-blue.gif" TargetMode="External"/><Relationship Id="rId12" Type="http://schemas.openxmlformats.org/officeDocument/2006/relationships/image" Target="../media/image45.gif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" Target="slide15.xml"/><Relationship Id="rId7" Type="http://schemas.openxmlformats.org/officeDocument/2006/relationships/image" Target="../media/image63.jpeg"/><Relationship Id="rId8" Type="http://schemas.openxmlformats.org/officeDocument/2006/relationships/slide" Target="slide15.xm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hyperlink" Target="http://upload.wikimedia.org/wikipedia/ru/6/6f/&#1042;&#1088;&#1072;&#1097;&#1072;&#1102;&#1097;&#1072;&#1103;&#1089;&#1103;_&#1084;&#1086;&#1083;&#1077;&#1082;&#1091;&#1083;&#1072;_&#1073;&#1077;&#1085;&#1079;&#1086;&#1083;&#1072;.gif" TargetMode="External"/><Relationship Id="rId7" Type="http://schemas.openxmlformats.org/officeDocument/2006/relationships/image" Target="../media/image68.gif"/><Relationship Id="rId8" Type="http://schemas.openxmlformats.org/officeDocument/2006/relationships/image" Target="../media/image69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lovari.yandex.ru/" TargetMode="External"/><Relationship Id="rId3" Type="http://schemas.openxmlformats.org/officeDocument/2006/relationships/hyperlink" Target="http://slovari.yandex.ru/" TargetMode="External"/><Relationship Id="rId4" Type="http://schemas.openxmlformats.org/officeDocument/2006/relationships/hyperlink" Target="http://slovari.yandex.ru/" TargetMode="External"/><Relationship Id="rId5" Type="http://schemas.openxmlformats.org/officeDocument/2006/relationships/hyperlink" Target="http://slovari.yandex.ru/" TargetMode="External"/><Relationship Id="rId6" Type="http://schemas.openxmlformats.org/officeDocument/2006/relationships/hyperlink" Target="http://www.lyceum8.ru/himiya/4.htm" TargetMode="External"/><Relationship Id="rId7" Type="http://schemas.openxmlformats.org/officeDocument/2006/relationships/hyperlink" Target="http://www.lyceum8.ru/himiya/4.htm" TargetMode="External"/><Relationship Id="rId8" Type="http://schemas.openxmlformats.org/officeDocument/2006/relationships/hyperlink" Target="http://www.lyceum8.ru/himiya/4.htm" TargetMode="External"/><Relationship Id="rId9" Type="http://schemas.openxmlformats.org/officeDocument/2006/relationships/hyperlink" Target="http://www.lyceum8.ru/himiya/4.htm" TargetMode="External"/><Relationship Id="rId10" Type="http://schemas.openxmlformats.org/officeDocument/2006/relationships/hyperlink" Target="http://900igr.net/fotografii/khimija/Dissotsiatsija/010-Mekhanizm-dissotsiatsii-veschestv.html" TargetMode="External"/><Relationship Id="rId11" Type="http://schemas.openxmlformats.org/officeDocument/2006/relationships/hyperlink" Target="http://900igr.net/fotografii/khimija/Dissotsiatsija/010-Mekhanizm-dissotsiatsii-veschestv.html" TargetMode="External"/><Relationship Id="rId12" Type="http://schemas.openxmlformats.org/officeDocument/2006/relationships/hyperlink" Target="http://900igr.net/fotografii/khimija/Dissotsiatsija/010-Mekhanizm-dissotsiatsii-veschestv.html" TargetMode="External"/><Relationship Id="rId13" Type="http://schemas.openxmlformats.org/officeDocument/2006/relationships/hyperlink" Target="http://900igr.net/fotografii/khimija/Dissotsiatsija/010-Mekhanizm-dissotsiatsii-veschestv.html" TargetMode="External"/><Relationship Id="rId14" Type="http://schemas.openxmlformats.org/officeDocument/2006/relationships/hyperlink" Target="http://900igr.net/fotografii/khimija/Dissotsiatsija/010-Mekhanizm-dissotsiatsii-veschestv.html" TargetMode="External"/><Relationship Id="rId15" Type="http://schemas.openxmlformats.org/officeDocument/2006/relationships/hyperlink" Target="http://900igr.net/fotografii/khimija/Dissotsiatsija/010-Mekhanizm-dissotsiatsii-veschestv.html" TargetMode="External"/><Relationship Id="rId16" Type="http://schemas.openxmlformats.org/officeDocument/2006/relationships/hyperlink" Target="http://900igr.net/fotografii/khimija/Dissotsiatsija/010-Mekhanizm-dissotsiatsii-veschestv.html" TargetMode="External"/><Relationship Id="rId17" Type="http://schemas.openxmlformats.org/officeDocument/2006/relationships/hyperlink" Target="http://900igr.net/fotografii/khimija/Dissotsiatsija/010-Mekhanizm-dissotsiatsii-veschestv.html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hyperlink" Target="http://images.gifmania.ru/Animated-Gifs-Animated-Letters/Animations-Punctuation-Marks/Images-Question-mark/question-mark94.gif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hyperlink" Target="http://www.proshkolu.ru/content/media/pic/std/2000000/1691000/1690731-c0368a63b89fe799.gif" TargetMode="External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32.gif"/><Relationship Id="rId12" Type="http://schemas.openxmlformats.org/officeDocument/2006/relationships/hyperlink" Target="http://images.gifmania.ru/Animated-Gifs-Animated-Letters/Animations-Blue-Letters/Images-Blue-Mosaic-Alphabet/punctuation-mark-dash-blue.gif" TargetMode="External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676520"/>
            <a:ext cx="594360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терми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усском язык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57200"/>
            <a:ext cx="632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униципальное базов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пас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29000" y="464832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ект выполнили ученицы 11 класса : Пальцева Евгения, Никитин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733920" y="5257800"/>
            <a:ext cx="48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читель химии Судницын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1" descr=""/>
          <p:cNvPicPr/>
          <p:nvPr/>
        </p:nvPicPr>
        <p:blipFill>
          <a:blip r:embed="rId2"/>
          <a:srcRect l="0" t="0" r="0" b="27623"/>
          <a:stretch/>
        </p:blipFill>
        <p:spPr>
          <a:xfrm>
            <a:off x="1523880" y="2209680"/>
            <a:ext cx="7309080" cy="533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rcRect l="0" t="13849" r="8773" b="0"/>
          <a:stretch/>
        </p:blipFill>
        <p:spPr>
          <a:xfrm>
            <a:off x="3560760" y="5181480"/>
            <a:ext cx="4821120" cy="762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4" name="Прямоугольник 5" descr=""/>
          <p:cNvPicPr/>
          <p:nvPr/>
        </p:nvPicPr>
        <p:blipFill>
          <a:blip r:embed="rId4"/>
          <a:srcRect l="5527" t="10702" r="5997" b="3786"/>
          <a:stretch/>
        </p:blipFill>
        <p:spPr>
          <a:xfrm>
            <a:off x="1905120" y="1295280"/>
            <a:ext cx="24382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5"/>
          <a:srcRect l="5984" t="15988" r="3900" b="-2189"/>
          <a:stretch/>
        </p:blipFill>
        <p:spPr>
          <a:xfrm>
            <a:off x="5410080" y="4038480"/>
            <a:ext cx="289584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артинка 18 из 5213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50004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gifpark.su/Gifs/LETTERS/5/h.gif"/>
          <p:cNvPicPr/>
          <p:nvPr/>
        </p:nvPicPr>
        <p:blipFill>
          <a:blip r:embed="rId8"/>
          <a:stretch/>
        </p:blipFill>
        <p:spPr>
          <a:xfrm>
            <a:off x="6138720" y="566640"/>
            <a:ext cx="865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gifpark.su/Gifs/LETTERS/5/2.gif"/>
          <p:cNvPicPr/>
          <p:nvPr/>
        </p:nvPicPr>
        <p:blipFill>
          <a:blip r:embed="rId9"/>
          <a:stretch/>
        </p:blipFill>
        <p:spPr>
          <a:xfrm>
            <a:off x="6924600" y="920880"/>
            <a:ext cx="366840" cy="39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http://www.gifpark.su/Gifs/LETTERS/5/o.gif"/>
          <p:cNvPicPr/>
          <p:nvPr/>
        </p:nvPicPr>
        <p:blipFill>
          <a:blip r:embed="rId10"/>
          <a:stretch/>
        </p:blipFill>
        <p:spPr>
          <a:xfrm>
            <a:off x="7156440" y="530280"/>
            <a:ext cx="798480" cy="77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артинка 1 из 88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5120" y="3657600"/>
            <a:ext cx="1800000" cy="12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gifpark.su/Gifs/LETTERS/5/o.gif"/>
          <p:cNvPicPr/>
          <p:nvPr/>
        </p:nvPicPr>
        <p:blipFill>
          <a:blip r:embed="rId13"/>
          <a:stretch/>
        </p:blipFill>
        <p:spPr>
          <a:xfrm>
            <a:off x="3956040" y="3803760"/>
            <a:ext cx="682560" cy="66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http://www.gifpark.su/Gifs/LETTERS/5/h.gif"/>
          <p:cNvPicPr/>
          <p:nvPr/>
        </p:nvPicPr>
        <p:blipFill>
          <a:blip r:embed="rId14"/>
          <a:stretch/>
        </p:blipFill>
        <p:spPr>
          <a:xfrm>
            <a:off x="2889360" y="3730680"/>
            <a:ext cx="871560" cy="74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www.gifpark.su/Gifs/LETTERS/5/2.gif"/>
          <p:cNvPicPr/>
          <p:nvPr/>
        </p:nvPicPr>
        <p:blipFill>
          <a:blip r:embed="rId15"/>
          <a:stretch/>
        </p:blipFill>
        <p:spPr>
          <a:xfrm>
            <a:off x="3676680" y="4011480"/>
            <a:ext cx="371520" cy="389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3" descr=""/>
          <p:cNvPicPr/>
          <p:nvPr/>
        </p:nvPicPr>
        <p:blipFill>
          <a:blip r:embed="rId2"/>
          <a:srcRect l="5057" t="0" r="3849" b="-9060"/>
          <a:stretch/>
        </p:blipFill>
        <p:spPr>
          <a:xfrm>
            <a:off x="1905120" y="304920"/>
            <a:ext cx="27432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3"/>
          <a:srcRect l="7668" t="24255" r="7994" b="3039"/>
          <a:stretch/>
        </p:blipFill>
        <p:spPr>
          <a:xfrm>
            <a:off x="5257800" y="3962520"/>
            <a:ext cx="2590920" cy="533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895480" y="5791320"/>
            <a:ext cx="5715000" cy="38088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сколько более про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5562720"/>
            <a:ext cx="457200" cy="22860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opit"/>
          <p:cNvPicPr/>
          <p:nvPr/>
        </p:nvPicPr>
        <p:blipFill>
          <a:blip r:embed="rId4"/>
          <a:stretch/>
        </p:blipFill>
        <p:spPr>
          <a:xfrm>
            <a:off x="1676520" y="2514600"/>
            <a:ext cx="3581280" cy="24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981080" y="1219320"/>
            <a:ext cx="6248520" cy="93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895480" y="5181480"/>
            <a:ext cx="5757840" cy="617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5486400"/>
            <a:ext cx="533520" cy="30492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?id=123465116-07"/>
          <p:cNvPicPr/>
          <p:nvPr/>
        </p:nvPicPr>
        <p:blipFill>
          <a:blip r:embed="rId2"/>
          <a:srcRect l="6977" t="9796" r="14886" b="0"/>
          <a:stretch/>
        </p:blipFill>
        <p:spPr>
          <a:xfrm>
            <a:off x="1981080" y="3429000"/>
            <a:ext cx="1600200" cy="140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057400" y="609480"/>
            <a:ext cx="3809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809880" y="3657600"/>
            <a:ext cx="3810240" cy="1095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133720" y="1955880"/>
            <a:ext cx="6019560" cy="979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124080" y="4952880"/>
            <a:ext cx="5029200" cy="1177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1" descr=""/>
          <p:cNvPicPr/>
          <p:nvPr/>
        </p:nvPicPr>
        <p:blipFill>
          <a:blip r:embed="rId2"/>
          <a:stretch/>
        </p:blipFill>
        <p:spPr>
          <a:xfrm>
            <a:off x="1676520" y="1798560"/>
            <a:ext cx="6476760" cy="957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4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5627520" cy="9637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4"/>
          <a:srcRect l="11247" t="26731" r="11247" b="8554"/>
          <a:stretch/>
        </p:blipFill>
        <p:spPr>
          <a:xfrm>
            <a:off x="1905120" y="1066680"/>
            <a:ext cx="1981080" cy="53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Прямоугольник 6" descr=""/>
          <p:cNvPicPr/>
          <p:nvPr/>
        </p:nvPicPr>
        <p:blipFill>
          <a:blip r:embed="rId5"/>
          <a:srcRect l="9341" t="26731" r="24323" b="8554"/>
          <a:stretch/>
        </p:blipFill>
        <p:spPr>
          <a:xfrm>
            <a:off x="4419720" y="4114800"/>
            <a:ext cx="2133360" cy="53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7848720" y="3352680"/>
            <a:ext cx="433440" cy="432000"/>
          </a:xfrm>
          <a:prstGeom prst="ellipse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2666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d0e9eb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3276720"/>
            <a:ext cx="433440" cy="431640"/>
          </a:xfrm>
          <a:prstGeom prst="ellipse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886200"/>
            <a:ext cx="433440" cy="431640"/>
          </a:xfrm>
          <a:prstGeom prst="ellipse">
            <a:avLst/>
          </a:prstGeom>
          <a:gradFill rotWithShape="0">
            <a:gsLst>
              <a:gs pos="0">
                <a:srgbClr val="cce7e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05920" y="3809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cae6e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391520" y="35053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31240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2012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8280" y="3657600"/>
            <a:ext cx="169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809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4038480"/>
            <a:ext cx="433440" cy="432000"/>
          </a:xfrm>
          <a:prstGeom prst="ellipse">
            <a:avLst/>
          </a:prstGeom>
          <a:gradFill rotWithShape="0">
            <a:gsLst>
              <a:gs pos="0">
                <a:srgbClr val="cae6e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572000"/>
            <a:ext cx="433440" cy="431640"/>
          </a:xfrm>
          <a:prstGeom prst="ellipse">
            <a:avLst/>
          </a:prstGeom>
          <a:gradFill rotWithShape="0">
            <a:gsLst>
              <a:gs pos="0">
                <a:srgbClr val="cce7e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267080"/>
            <a:ext cx="433440" cy="432000"/>
          </a:xfrm>
          <a:prstGeom prst="ellipse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971800"/>
            <a:ext cx="433440" cy="431640"/>
          </a:xfrm>
          <a:prstGeom prst="ellipse">
            <a:avLst/>
          </a:prstGeom>
          <a:gradFill rotWithShape="0">
            <a:gsLst>
              <a:gs pos="0">
                <a:srgbClr val="d0e9eb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44792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09680" y="403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91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4267080" y="457200"/>
            <a:ext cx="1511280" cy="503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5158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5638680" y="1066680"/>
            <a:ext cx="1511280" cy="503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5158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2" descr=""/>
          <p:cNvPicPr/>
          <p:nvPr/>
        </p:nvPicPr>
        <p:blipFill>
          <a:blip r:embed="rId2"/>
          <a:stretch/>
        </p:blipFill>
        <p:spPr>
          <a:xfrm>
            <a:off x="2895480" y="4876920"/>
            <a:ext cx="5664240" cy="12492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" descr=""/>
          <p:cNvPicPr/>
          <p:nvPr/>
        </p:nvPicPr>
        <p:blipFill>
          <a:blip r:embed="rId3"/>
          <a:stretch/>
        </p:blipFill>
        <p:spPr>
          <a:xfrm>
            <a:off x="1752480" y="2057400"/>
            <a:ext cx="5846760" cy="8841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4" descr=""/>
          <p:cNvPicPr/>
          <p:nvPr/>
        </p:nvPicPr>
        <p:blipFill>
          <a:blip r:embed="rId4"/>
          <a:srcRect l="5539" t="12039" r="5775" b="3748"/>
          <a:stretch/>
        </p:blipFill>
        <p:spPr>
          <a:xfrm>
            <a:off x="3429000" y="91440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5" descr=""/>
          <p:cNvPicPr/>
          <p:nvPr/>
        </p:nvPicPr>
        <p:blipFill>
          <a:blip r:embed="rId5"/>
          <a:srcRect l="5215" t="12039" r="3477" b="3748"/>
          <a:stretch/>
        </p:blipFill>
        <p:spPr>
          <a:xfrm>
            <a:off x="5334120" y="3581280"/>
            <a:ext cx="266688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Файл:Вращающаяся молекула бензола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15040" y="422280"/>
            <a:ext cx="1406520" cy="1434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Модель этилена (21005 байт)"/>
          <p:cNvPicPr/>
          <p:nvPr/>
        </p:nvPicPr>
        <p:blipFill>
          <a:blip r:embed="rId8"/>
          <a:stretch/>
        </p:blipFill>
        <p:spPr>
          <a:xfrm>
            <a:off x="1905120" y="3276720"/>
            <a:ext cx="2622600" cy="1411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3720" y="91440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3679920" y="2514600"/>
            <a:ext cx="2617560" cy="1800360"/>
          </a:xfrm>
          <a:prstGeom prst="rect">
            <a:avLst/>
          </a:prstGeom>
          <a:solidFill>
            <a:srgbClr val="e9fca2"/>
          </a:solidFill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Продолж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во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хи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антони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2666880" y="152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 изоб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752480" y="5335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i.uralweb.ru/albums/fotos/files/946/9469756e03c82bb04d3087c6b6de42a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1447920" y="11430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thelivingmoon.com/45jack_files/04images/Blimps/AIR_LTA_TARS_Aerostat_l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600200" y="17524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hayvanresim.com/wp-content/uploads/Ayi-resimleri-3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5"/>
          <p:cNvSpPr/>
          <p:nvPr/>
        </p:nvSpPr>
        <p:spPr>
          <a:xfrm>
            <a:off x="1600200" y="23623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liveudm.ru/wp-content/uploads/2011/10/salmonellez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1752480" y="4114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tatic.iloveukraine.com.ua/tmp/mms/d94b7c068da42dbb8e39c495b9311482_600x80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8"/>
          <p:cNvSpPr/>
          <p:nvPr/>
        </p:nvSpPr>
        <p:spPr>
          <a:xfrm>
            <a:off x="1643040" y="274320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veralan.com/wp-content/uploads/2012/02/ws_Water_Lily_1600x1200-1024x7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1752480" y="373392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iki.iteach.ru/images/1/16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инка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3"/>
          <p:cNvSpPr/>
          <p:nvPr/>
        </p:nvSpPr>
        <p:spPr>
          <a:xfrm>
            <a:off x="1676520" y="342900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teklashka.com.ua/images/23241_kryjka_chashk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Arial"/>
              </a:rPr>
              <a:t>Источники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32636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lovari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www.lyceum8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imiy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900igr.net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otografii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khimij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Dissotsiatsij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010-Mekhanizm-dissotsiatsii-veschest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him.1september.ru/2003/34/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900igr.net/kartinki/khimija/Povarennaja-sol/059-K-r-i-s-t-a-l-l-y-g-a-l-i-t-a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чебник Г.Е. Рудзитис 10-11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. (М. «Просвещение» 2010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чебник И.И.Новошинский 10-11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. (М. «Оникс Мир и Образование» 200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639800" y="4687920"/>
            <a:ext cx="6467400" cy="1663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3"/>
          <a:stretch/>
        </p:blipFill>
        <p:spPr>
          <a:xfrm>
            <a:off x="1511280" y="4962600"/>
            <a:ext cx="619452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4"/>
          <a:stretch/>
        </p:blipFill>
        <p:spPr>
          <a:xfrm>
            <a:off x="1511280" y="5035680"/>
            <a:ext cx="630396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5"/>
          <a:stretch/>
        </p:blipFill>
        <p:spPr>
          <a:xfrm>
            <a:off x="944640" y="4821120"/>
            <a:ext cx="7980120" cy="11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286000" y="838080"/>
            <a:ext cx="5715000" cy="750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981080" y="1828800"/>
            <a:ext cx="6019920" cy="2901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rcRect l="7691" t="26033" r="6103" b="12368"/>
          <a:stretch/>
        </p:blipFill>
        <p:spPr>
          <a:xfrm>
            <a:off x="762120" y="609480"/>
            <a:ext cx="5943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rcRect l="5866" t="6669" r="4405" b="2185"/>
          <a:stretch/>
        </p:blipFill>
        <p:spPr>
          <a:xfrm>
            <a:off x="1752480" y="2057400"/>
            <a:ext cx="64008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ученики"/>
          <p:cNvPicPr/>
          <p:nvPr/>
        </p:nvPicPr>
        <p:blipFill>
          <a:blip r:embed="rId4"/>
          <a:stretch/>
        </p:blipFill>
        <p:spPr>
          <a:xfrm>
            <a:off x="7072200" y="428760"/>
            <a:ext cx="162108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238880" y="5410080"/>
            <a:ext cx="1366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"/>
                            </p:stCondLst>
                            <p:childTnLst>
                              <p:par>
                                <p:cTn id="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48686"/>
          <p:cNvPicPr/>
          <p:nvPr/>
        </p:nvPicPr>
        <p:blipFill>
          <a:blip r:embed="rId2"/>
          <a:stretch/>
        </p:blipFill>
        <p:spPr>
          <a:xfrm>
            <a:off x="5638680" y="1752480"/>
            <a:ext cx="280044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артинка 5 из 93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114800"/>
            <a:ext cx="124128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410080" y="4648320"/>
            <a:ext cx="2667240" cy="1606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133720" y="1828800"/>
            <a:ext cx="2743200" cy="1679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828800" y="762120"/>
            <a:ext cx="3429000" cy="73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562720" y="762120"/>
            <a:ext cx="3047760" cy="73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76520" y="1600200"/>
            <a:ext cx="7010280" cy="1191240"/>
          </a:xfrm>
          <a:prstGeom prst="rect">
            <a:avLst/>
          </a:prstGeom>
          <a:solidFill>
            <a:srgbClr val="e9fca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научного исследования, с помощью которого можно определить состав любого веще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194000"/>
            <a:ext cx="6586560" cy="1191240"/>
          </a:xfrm>
          <a:prstGeom prst="rect">
            <a:avLst/>
          </a:prstGeom>
          <a:solidFill>
            <a:srgbClr val="e9fca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учение сложных  веществ из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ых  химическими и физ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ами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5 из 9300"/>
          <p:cNvPicPr/>
          <p:nvPr/>
        </p:nvPicPr>
        <p:blipFill>
          <a:blip r:embed="rId2"/>
          <a:stretch/>
        </p:blipFill>
        <p:spPr>
          <a:xfrm>
            <a:off x="6858000" y="304920"/>
            <a:ext cx="1052640" cy="127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3143520" cy="752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3241800"/>
            <a:ext cx="2819160" cy="72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Выгнутая влево стрелка 11"/>
          <p:cNvSpPr/>
          <p:nvPr/>
        </p:nvSpPr>
        <p:spPr>
          <a:xfrm rot="21277200">
            <a:off x="2971800" y="2285640"/>
            <a:ext cx="785880" cy="930240"/>
          </a:xfrm>
          <a:custGeom>
            <a:avLst/>
            <a:gdLst>
              <a:gd name="textAreaLeft" fmla="*/ 105120 w 785880"/>
              <a:gd name="textAreaRight" fmla="*/ 680760 w 785880"/>
              <a:gd name="textAreaTop" fmla="*/ 158760 h 930240"/>
              <a:gd name="textAreaBottom" fmla="*/ 67320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80" stAng="-5400000" swAng="-5400000"/>
                <a:lnTo>
                  <a:pt x="0" y="11940"/>
                </a:lnTo>
                <a:arcTo wR="21600" hR="7380" stAng="10800000" swAng="-3175179"/>
                <a:lnTo>
                  <a:pt x="16200" y="21366"/>
                </a:lnTo>
                <a:lnTo>
                  <a:pt x="21600" y="17039"/>
                </a:lnTo>
                <a:lnTo>
                  <a:pt x="16200" y="12244"/>
                </a:lnTo>
                <a:lnTo>
                  <a:pt x="16200" y="14525"/>
                </a:lnTo>
                <a:arcTo wR="21600" hR="7380" stAng="7624821" swAng="2795193"/>
                <a:lnTo>
                  <a:pt x="1057" y="9660"/>
                </a:lnTo>
                <a:arcTo wR="21600" hR="7380" stAng="-10420014" swAng="5020014"/>
                <a:close/>
              </a:path>
              <a:path fill="darkenLess" w="21600" h="21600">
                <a:moveTo>
                  <a:pt x="21600" y="0"/>
                </a:moveTo>
                <a:arcTo wR="21600" hR="7380" stAng="-5400000" swAng="-5400000"/>
                <a:lnTo>
                  <a:pt x="0" y="7380"/>
                </a:lnTo>
                <a:arcTo wR="21600" hR="7380" stAng="10800000" swAng="-379986"/>
                <a:lnTo>
                  <a:pt x="1057" y="9660"/>
                </a:lnTo>
                <a:arcTo wR="21600" hR="7380" stAng="-10420014" swAng="5020014"/>
                <a:close/>
              </a:path>
            </a:pathLst>
          </a:custGeom>
          <a:solidFill>
            <a:srgbClr val="ffff0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97680" y="3199680"/>
            <a:ext cx="4389840" cy="64260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ложительно заряженному полю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право стрелка 12"/>
          <p:cNvSpPr/>
          <p:nvPr/>
        </p:nvSpPr>
        <p:spPr>
          <a:xfrm>
            <a:off x="5181480" y="4495680"/>
            <a:ext cx="731880" cy="1001880"/>
          </a:xfrm>
          <a:custGeom>
            <a:avLst/>
            <a:gdLst>
              <a:gd name="textAreaLeft" fmla="*/ 97920 w 731880"/>
              <a:gd name="textAreaRight" fmla="*/ 633960 w 731880"/>
              <a:gd name="textAreaTop" fmla="*/ 181800 h 1001880"/>
              <a:gd name="textAreaBottom" fmla="*/ 72864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3" stAng="-5400000" swAng="5400000"/>
                <a:lnTo>
                  <a:pt x="21600" y="11785"/>
                </a:lnTo>
                <a:arcTo wR="21600" hR="7843" stAng="0" swAng="3275020"/>
                <a:lnTo>
                  <a:pt x="5400" y="21351"/>
                </a:lnTo>
                <a:lnTo>
                  <a:pt x="0" y="17657"/>
                </a:lnTo>
                <a:lnTo>
                  <a:pt x="5400" y="13465"/>
                </a:lnTo>
                <a:lnTo>
                  <a:pt x="5400" y="15437"/>
                </a:lnTo>
                <a:arcTo wR="21600" hR="7843" stAng="3275020" swAng="-2951880"/>
                <a:lnTo>
                  <a:pt x="20907" y="9814"/>
                </a:lnTo>
                <a:arcTo wR="21600" hR="7843" stAng="-323140" swAng="-5076860"/>
                <a:close/>
              </a:path>
              <a:path fill="darkenLess" w="21600" h="21600">
                <a:moveTo>
                  <a:pt x="0" y="0"/>
                </a:moveTo>
                <a:arcTo wR="21600" hR="7843" stAng="-5400000" swAng="5400000"/>
                <a:lnTo>
                  <a:pt x="21600" y="11785"/>
                </a:lnTo>
                <a:arcTo wR="21600" hR="7843" stAng="0" swAng="-323140"/>
                <a:lnTo>
                  <a:pt x="20907" y="9814"/>
                </a:lnTo>
                <a:arcTo wR="21600" hR="7843" stAng="-323140" swAng="-5076860"/>
                <a:close/>
              </a:path>
            </a:pathLst>
          </a:custGeom>
          <a:solidFill>
            <a:srgbClr val="ffff0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614320" cy="386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380880"/>
            <a:ext cx="3733560" cy="642600"/>
          </a:xfrm>
          <a:prstGeom prst="rect">
            <a:avLst/>
          </a:prstGeom>
          <a:solidFill>
            <a:srgbClr val="e9fca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лектроды в электролизё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соединённые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5638680"/>
            <a:ext cx="4572000" cy="642600"/>
          </a:xfrm>
          <a:prstGeom prst="rect">
            <a:avLst/>
          </a:prstGeom>
          <a:solidFill>
            <a:srgbClr val="e9fca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рицательно заряженному полюсу источника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2019240" cy="790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4191120"/>
            <a:ext cx="2438280" cy="747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7"/>
          <p:cNvSpPr/>
          <p:nvPr/>
        </p:nvSpPr>
        <p:spPr>
          <a:xfrm>
            <a:off x="5791320" y="838080"/>
            <a:ext cx="1928520" cy="1857600"/>
          </a:xfrm>
          <a:prstGeom prst="ellipse">
            <a:avLst/>
          </a:prstGeom>
          <a:solidFill>
            <a:srgbClr val="bbe0e3">
              <a:alpha val="1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8"/>
          <p:cNvSpPr/>
          <p:nvPr/>
        </p:nvSpPr>
        <p:spPr>
          <a:xfrm>
            <a:off x="6400800" y="1447920"/>
            <a:ext cx="714240" cy="714240"/>
          </a:xfrm>
          <a:prstGeom prst="ellipse">
            <a:avLst/>
          </a:prstGeom>
          <a:solidFill>
            <a:srgbClr val="bbe0e3">
              <a:alpha val="1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9"/>
          <p:cNvSpPr/>
          <p:nvPr/>
        </p:nvSpPr>
        <p:spPr>
          <a:xfrm>
            <a:off x="7162920" y="144792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6781680" y="213372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6629400" y="99072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2"/>
          <p:cNvSpPr/>
          <p:nvPr/>
        </p:nvSpPr>
        <p:spPr>
          <a:xfrm>
            <a:off x="6019920" y="137160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3"/>
          <p:cNvSpPr/>
          <p:nvPr/>
        </p:nvSpPr>
        <p:spPr>
          <a:xfrm>
            <a:off x="6095880" y="205740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7391520" y="30492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</a:rPr>
              <a:t>-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8215200" y="314316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6"/>
          <p:cNvSpPr/>
          <p:nvPr/>
        </p:nvSpPr>
        <p:spPr>
          <a:xfrm>
            <a:off x="8229600" y="3581280"/>
            <a:ext cx="357120" cy="35748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5720" y="1447200"/>
            <a:ext cx="2730240" cy="119124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атомы, 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ли молек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д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алентные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9280" y="4647240"/>
            <a:ext cx="4507200" cy="64260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атомы, ионы или молек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нимающие  валентные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391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358040" y="304920"/>
            <a:ext cx="17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  <a:ea typeface="Arial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  <a:ea typeface="Arial"/>
              </a:rPr>
              <a:t>+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3581640" cy="551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4038480" cy="676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78035E-007 L -0.24288 -0.13965 E">
                                      <p:cBhvr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5087E-006 L -0.18611 -0.22566 E">
                                      <p:cBhvr>
                                        <p:cTn id="14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02312E-006 L -0.25277 0.09618 E">
                                      <p:cBhvr>
                                        <p:cTn id="16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85 L -0.23889 0.10359 E">
                                      <p:cBhvr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rcRect l="0" t="0" r="3040" b="20764"/>
          <a:stretch/>
        </p:blipFill>
        <p:spPr>
          <a:xfrm>
            <a:off x="160020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rcRect l="0" t="0" r="6690" b="0"/>
          <a:stretch/>
        </p:blipFill>
        <p:spPr>
          <a:xfrm>
            <a:off x="2438280" y="5181480"/>
            <a:ext cx="646776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4"/>
          <a:srcRect l="9610" t="15275" r="7409" b="0"/>
          <a:stretch/>
        </p:blipFill>
        <p:spPr>
          <a:xfrm>
            <a:off x="1981080" y="1066680"/>
            <a:ext cx="1371600" cy="5367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" descr=""/>
          <p:cNvPicPr/>
          <p:nvPr/>
        </p:nvPicPr>
        <p:blipFill>
          <a:blip r:embed="rId5"/>
          <a:srcRect l="9321" t="12156" r="6699" b="0"/>
          <a:stretch/>
        </p:blipFill>
        <p:spPr>
          <a:xfrm>
            <a:off x="2438280" y="3429000"/>
            <a:ext cx="1371600" cy="552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http://www.gifpark.su/Gifs/LETTERS/12/arg-n-25-trans-y.gif"/>
          <p:cNvPicPr/>
          <p:nvPr/>
        </p:nvPicPr>
        <p:blipFill>
          <a:blip r:embed="rId6"/>
          <a:stretch/>
        </p:blipFill>
        <p:spPr>
          <a:xfrm>
            <a:off x="3505320" y="0"/>
            <a:ext cx="177804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gifpark.su/Gifs/LETTERS/12/arg-a-25-trans-y.gif"/>
          <p:cNvPicPr/>
          <p:nvPr/>
        </p:nvPicPr>
        <p:blipFill>
          <a:blip r:embed="rId7"/>
          <a:stretch/>
        </p:blipFill>
        <p:spPr>
          <a:xfrm>
            <a:off x="4576680" y="78588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артинка 18 из 5213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81480" y="30492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http://www.gifpark.su/Gifs/LETTERS/12/arg-o-25-trans-y.gif"/>
          <p:cNvPicPr/>
          <p:nvPr/>
        </p:nvPicPr>
        <p:blipFill>
          <a:blip r:embed="rId10"/>
          <a:stretch/>
        </p:blipFill>
        <p:spPr>
          <a:xfrm>
            <a:off x="4267080" y="3886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gifpark.su/Gifs/LETTERS/12/arg-h-25-trans-y.gif"/>
          <p:cNvPicPr/>
          <p:nvPr/>
        </p:nvPicPr>
        <p:blipFill>
          <a:blip r:embed="rId11"/>
          <a:stretch/>
        </p:blipFill>
        <p:spPr>
          <a:xfrm>
            <a:off x="5638680" y="3886200"/>
            <a:ext cx="1152720" cy="116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а 1 из 888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3276720"/>
            <a:ext cx="1333800" cy="952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5" descr=""/>
          <p:cNvPicPr/>
          <p:nvPr/>
        </p:nvPicPr>
        <p:blipFill>
          <a:blip r:embed="rId2"/>
          <a:srcRect l="1016" t="3428" r="10613" b="0"/>
          <a:stretch/>
        </p:blipFill>
        <p:spPr>
          <a:xfrm>
            <a:off x="2286000" y="762120"/>
            <a:ext cx="5791320" cy="1023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8" name="Прямоугольник 6" descr=""/>
          <p:cNvPicPr/>
          <p:nvPr/>
        </p:nvPicPr>
        <p:blipFill>
          <a:blip r:embed="rId3"/>
          <a:srcRect l="6153" t="11924" r="0" b="0"/>
          <a:stretch/>
        </p:blipFill>
        <p:spPr>
          <a:xfrm>
            <a:off x="6095880" y="2057400"/>
            <a:ext cx="2322720" cy="5634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4"/>
          <a:srcRect l="5789" t="3039" r="4361" b="0"/>
          <a:stretch/>
        </p:blipFill>
        <p:spPr>
          <a:xfrm>
            <a:off x="6019920" y="4724280"/>
            <a:ext cx="251460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himbio.ucoz.ru/dis_01.gif"/>
          <p:cNvPicPr/>
          <p:nvPr/>
        </p:nvPicPr>
        <p:blipFill>
          <a:blip r:embed="rId5"/>
          <a:stretch/>
        </p:blipFill>
        <p:spPr>
          <a:xfrm>
            <a:off x="2286000" y="1981080"/>
            <a:ext cx="3209760" cy="3353040"/>
          </a:xfrm>
          <a:prstGeom prst="rect">
            <a:avLst/>
          </a:prstGeom>
          <a:ln w="57240">
            <a:solidFill>
              <a:srgbClr val="262673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43200" y="5791320"/>
            <a:ext cx="6019920" cy="703800"/>
          </a:xfrm>
          <a:prstGeom prst="rect">
            <a:avLst/>
          </a:prstGeom>
          <a:solidFill>
            <a:srgbClr val="fbf6d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пад молекул электролита на ионы под действием полярных молекул раствор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ина.И</dc:creator>
  <dc:description/>
  <dc:language>en-US</dc:language>
  <cp:lastModifiedBy>Home</cp:lastModifiedBy>
  <dcterms:modified xsi:type="dcterms:W3CDTF">2013-04-03T13:24:45Z</dcterms:modified>
  <cp:revision>30</cp:revision>
  <dc:subject/>
  <dc:title>Химия и русский язы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