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46F-D1DE-43B2-AA38-16100867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701-8E63-4B45-9C57-A340B52B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9D9-C081-4450-8507-58E83754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293-498D-4C68-85D7-ECEC9F13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6CBE-49B4-47D6-8433-316D71AB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6EA4-D7DB-4522-A0B0-F181BE48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66D6-AC2B-494A-AECD-780F1916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7ACD-59E9-4454-B9E4-9EF3C047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A02B-4D2C-414D-8CFA-E2CF6E1F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DD3C-ECE6-42CD-A251-DFD495BF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D911-160E-4A74-B97A-E02A412A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787-7A52-414C-9790-7C25EB29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1764-FD1C-4172-A417-F11A81E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7792-E318-4F5D-8B94-65968F7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B644-8BDA-4C17-B714-E88DD357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EFDE-7E0B-47FE-B8B0-995AC996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A220-41E7-439F-B2B2-EE91E8D1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0D7-227F-4EC0-B6D5-4E206FFD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1F3-5C0A-4689-85E1-211E1C8E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AF7-FCF8-4D7B-833F-8A814D57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984-5E24-4578-AED9-0CD0B329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488-06E6-4CCF-B3A7-8C775EAD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6D8-5081-467E-B16D-174BF19F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FAD-C2DE-4C52-8623-B8E481B9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D666-4F54-4F78-9A1E-6060E9821E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519B-BD61-4725-AE70-AC35F3C1ED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993300"/>
                </a:solidFill>
                <a:latin typeface="Garamond"/>
              </a:rPr>
              <a:t>Изложение</a:t>
            </a:r>
            <a:br>
              <a:rPr sz="7500"/>
            </a:br>
            <a:r>
              <a:rPr b="0" lang="en-US" sz="7500" spc="-1" strike="noStrike">
                <a:solidFill>
                  <a:srgbClr val="993300"/>
                </a:solidFill>
                <a:latin typeface="Garamond"/>
              </a:rPr>
              <a:t>Оляпка</a:t>
            </a:r>
            <a:endParaRPr b="0" lang="en-US" sz="7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Игорь Александрович\Рабочий стол\ОЛЯПКА\foto169.jpg"/>
          <p:cNvPicPr/>
          <p:nvPr/>
        </p:nvPicPr>
        <p:blipFill>
          <a:blip r:embed="rId2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2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262626"/>
                </a:solidFill>
                <a:latin typeface="Arial"/>
              </a:rPr>
              <a:t>Тема текста: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262626"/>
                </a:solidFill>
                <a:latin typeface="Arial"/>
              </a:rPr>
              <a:t>         </a:t>
            </a:r>
            <a:r>
              <a:rPr b="1" lang="en-US" sz="4900" spc="-1" strike="noStrike">
                <a:solidFill>
                  <a:srgbClr val="0b5395"/>
                </a:solidFill>
                <a:latin typeface="Arial"/>
              </a:rPr>
              <a:t>Оляпка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Идея текста:</a:t>
            </a:r>
            <a:r>
              <a:rPr b="1" lang="en-US" sz="4900" spc="-1" strike="noStrike">
                <a:solidFill>
                  <a:srgbClr val="0b5395"/>
                </a:solidFill>
                <a:latin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b5395"/>
                </a:solidFill>
                <a:latin typeface="Arial"/>
              </a:rPr>
              <a:t>    </a:t>
            </a:r>
            <a:r>
              <a:rPr b="1" lang="en-US" sz="4900" spc="-1" strike="noStrike">
                <a:solidFill>
                  <a:srgbClr val="0b5395"/>
                </a:solidFill>
                <a:latin typeface="Arial"/>
              </a:rPr>
              <a:t>Оляпка –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b5395"/>
                </a:solidFill>
                <a:latin typeface="Arial"/>
              </a:rPr>
              <a:t>птичка особенная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Оляпка.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                   План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2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На льду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2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В проруби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2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Особенности оляпки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4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оляпк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4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птичк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4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он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4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5148360" y="1628640"/>
            <a:ext cx="345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на л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д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чер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выск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л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снов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кры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сло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. ро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 р. 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с. 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ру. 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ё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хол. д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26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м. ро</a:t>
            </a: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у р. 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ес. л</a:t>
            </a: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рору. 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лё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хол. дн</a:t>
            </a: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193760" y="981000"/>
            <a:ext cx="47628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92360" y="4581360"/>
            <a:ext cx="47952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547640" y="1700280"/>
            <a:ext cx="50328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619280" y="2421000"/>
            <a:ext cx="45720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268360" y="3141720"/>
            <a:ext cx="50040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403280" y="3789360"/>
            <a:ext cx="45720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508720" y="1989000"/>
            <a:ext cx="2674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148360" y="1628640"/>
            <a:ext cx="345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на л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д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чер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выск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л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снов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кры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сло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Оляпка.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 План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920960"/>
            <a:ext cx="79311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9900"/>
                </a:solidFill>
                <a:latin typeface="Arial"/>
              </a:rPr>
              <a:t>Когда</a:t>
            </a: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 и где пела птич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Как звали птич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9ca3"/>
                </a:solidFill>
                <a:latin typeface="Arial"/>
              </a:rPr>
              <a:t>Куда прыгнула оляп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9ca3"/>
                </a:solidFill>
                <a:latin typeface="Arial"/>
              </a:rPr>
              <a:t>Что она там дел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e6d"/>
                </a:solidFill>
                <a:latin typeface="Arial"/>
              </a:rPr>
              <a:t>Почему оляпке зимой не холодн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429760" y="1920960"/>
            <a:ext cx="2570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4:00:52Z</dcterms:created>
  <dc:creator>Admin</dc:creator>
  <dc:description/>
  <dc:language>en-US</dc:language>
  <cp:lastModifiedBy>света</cp:lastModifiedBy>
  <dcterms:modified xsi:type="dcterms:W3CDTF">2013-04-04T16:51:37Z</dcterms:modified>
  <cp:revision>3</cp:revision>
  <dc:subject/>
  <dc:title>Слайд 1</dc:title>
</cp:coreProperties>
</file>