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27.png" ContentType="image/png"/>
  <Override PartName="/ppt/media/image4.png" ContentType="image/png"/>
  <Override PartName="/ppt/media/image2.png" ContentType="image/png"/>
  <Override PartName="/ppt/media/image25.png" ContentType="image/png"/>
  <Override PartName="/ppt/media/image28.gif" ContentType="image/gif"/>
  <Override PartName="/ppt/media/image8.png" ContentType="image/png"/>
  <Override PartName="/ppt/media/image13.png" ContentType="image/png"/>
  <Override PartName="/ppt/media/image7.gif" ContentType="image/gif"/>
  <Override PartName="/ppt/media/image3.png" ContentType="image/png"/>
  <Override PartName="/ppt/media/image26.png" ContentType="image/png"/>
  <Override PartName="/ppt/media/image29.gif" ContentType="image/gif"/>
  <Override PartName="/ppt/media/image9.png" ContentType="image/png"/>
  <Override PartName="/ppt/media/image12.png" ContentType="image/png"/>
  <Override PartName="/ppt/media/image30.png" ContentType="image/png"/>
  <Override PartName="/ppt/media/image5.png" ContentType="image/png"/>
  <Override PartName="/ppt/media/image10.png" ContentType="image/png"/>
  <Override PartName="/ppt/media/image1.jpeg" ContentType="image/jpeg"/>
  <Override PartName="/ppt/media/image14.gif" ContentType="image/gif"/>
  <Override PartName="/ppt/media/image17.png" ContentType="image/png"/>
  <Override PartName="/ppt/media/image15.gif" ContentType="image/gif"/>
  <Override PartName="/ppt/media/image6.jpeg" ContentType="image/jpeg"/>
  <Override PartName="/ppt/media/image18.png" ContentType="image/png"/>
  <Override PartName="/ppt/media/image20.png" ContentType="image/png"/>
  <Override PartName="/ppt/media/image16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1F06-6949-4E5B-BF8D-E93F29CFC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3D59-CD71-4C1C-BD9E-9E32FF42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37BF4-DB89-4BEE-91FC-BE383E84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6329E2-A7CF-4AB3-A57C-4E548CDB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8F098D-37D4-4594-9B2F-6FFDE2EC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A2085B-820E-4A8F-B10F-05AF0396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B21EA8-8926-4DE4-8FF3-8EF064A0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C9E73-E99E-4BDE-9EAA-AC62CF1E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3E050D-06A8-4DDE-931F-DC4DAB1A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458914-5F15-4BB0-A886-C422599FB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C6ADC8-E0BA-41C2-BB1E-88C6415BC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7259-F725-4F11-A4E7-8F4530AF5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9994-9783-4471-91BD-0E64F0B56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2E17-D970-4075-B200-F58936B00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09A1D-37EA-4DD9-A58A-A4B2D7F7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4FCA-9910-444A-B138-C62E5BD2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CF0F-371B-4056-AAD0-08A9460F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B220-3A96-42AA-9CB2-DBD091F6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72A4-8D30-40E9-87F3-D55CC3CE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A788B-841D-4B7F-B509-BFD1649A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DD88-7FC3-4809-B1F1-73BAF181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C53C-6BE9-41D6-9B66-9103625E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F857-1705-45D3-8211-F2B5F12C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E18F-C2E9-48E4-BBC0-DB4259E8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6396-E52F-43D7-B016-E6FF21373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EA7F-81D4-475A-93DB-451C64F24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B809C-2420-4DCE-B134-25BB8CDB3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CE611-C219-4F17-B558-C6F0113A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A3BC4-D51D-42C3-B5BB-909B2376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5797B-61EB-47FF-B308-91F25104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B85CC-2A8A-403C-ACB4-3E2B9819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E5C1-14D2-40D2-919B-AB1F5729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2E60F-E83B-40AD-9F21-A558D395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BAC19-20F5-456B-9130-3CBF65AC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DF6CC-A452-439A-829F-74B25777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51DE3-00FC-45D4-BC26-BD4DDDAA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51EA2-D34F-4D78-80EC-7706118C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7D538-783C-4FD5-91AD-68C08DC21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6A249-0768-470A-BC90-5B70CDA1B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5B5E7-7754-4F1B-9803-F79513626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19875-A1A5-4792-90BD-63752444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B8D16-EF5E-4ACB-83E9-5A8F57DC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0A28-91A0-49B0-A2CD-267A86A0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55525-C61D-48FE-9FE7-8453501C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0442B-34E1-4E9F-8174-A1E6E0A0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274F9-EE32-4B36-9F90-F19AB5D2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F16EE-CCA6-4242-9879-5F6C016A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A3B91-3BFA-4DEA-B6A3-38ED8729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B9E56-F6DB-4750-A314-AD127FE1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66587-C018-4ABB-A556-78E6F5E5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6360D-4A42-4A7D-94FC-D31F48AB1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E9E20-684E-4654-BF7E-C0E8C8459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5886A-8D94-4F88-BEAC-3522EC7A9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37CF-B8DC-4454-882C-186E9CE3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CC3B6-9B7D-4DAE-9403-9EE6BC31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59857-540A-45AE-92CC-EA055A9D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A393C-7189-45E5-8707-1D5FAD8B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9077B-0B2B-4356-8F8B-7098950D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38444-7970-4A89-A2CE-9059A5C4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8DA9B-6C05-4F5E-894C-B28AC0A5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2F65A-968B-4B6D-98CA-655E898C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3F158-A2B2-4304-ADFB-0877F13C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A9692-9170-4165-B877-4C4991D8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79F77-4D4A-4DD9-B02E-81FB0E290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EBAF-621A-4821-82E4-7C7E800D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EC39F-99AA-499A-B693-1C382D012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F7908-B66F-441F-9F53-C5244DDB4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60514-BB9B-4B6E-8200-BA0493A3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45AFD-975A-4A25-8F70-914AC1B1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F12E2-2918-45DA-B815-58463695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EBE02-51E4-456A-93C4-08E56C01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677BC-C310-40FD-8626-E5F2F15F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695B0-0718-449A-832F-D99E2724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FDAC3-BEFA-4716-9BA0-2A6604AE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D314B-3E29-4DCF-B8B9-F1CE7586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DE15-CFBA-46C4-AEAD-7CA60A92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88CCE-1681-454A-8309-60589F3D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C18F9-30DE-4E1E-8E6E-358F48862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740A3-9BAA-433D-873B-97E69B8E6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431C1-8810-41D9-A314-2D64A0A3C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EE3A5-D357-4933-B01C-195C3EC7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B4C6B-343A-4B0B-BE33-AA3CE58B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27145-4DF7-4AA0-8C72-371D0C67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FE38B-6B09-4913-9467-1E69E6E8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09A38-4957-4BA3-A901-E4CD4911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B1DAF-2522-4F14-8F87-A526BC46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5472-8DA3-4046-9287-BDD82FCB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8D397-25CE-41DA-A26C-66872464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129E5-5ED4-497F-8E6D-E4519290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EE3B8-9C16-46F1-9170-4E2028FD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8A89F-2FB3-4204-B1AE-672F54053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57DA1-4870-4181-997B-311C79EA9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B6C70-F914-4C64-A383-DFF2EA01E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7321C-7E0C-4C6F-9768-853299BB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563AE-7FF0-4A69-B645-0B368E1A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80ED2-70D2-4B49-AED1-E6C02446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8709F-6ACA-4A1C-A813-70D64C86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F358-47AD-40CD-85BE-B84F321D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F84DD-CA18-4CC5-843B-67FC8935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48E37-6C2E-4217-AA16-0E324A27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49783-FAF8-40B6-9A6C-7A617179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0F933-081C-4077-B08D-E1F1E147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65F3F-9416-4065-BD42-C286325D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2362F-8C39-41EE-B763-83298875B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FB16F-1D54-4FAF-9CDE-769FCD3A2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37D2B5-E225-4FB3-9319-73478D419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5BD2A7-3536-4EC0-A455-570EA0BD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ECC97E-DC4B-436F-A08F-D993FD16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99D0-3792-4020-847A-08CAA169F6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4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0278-458D-4B8D-A707-D7FDA3EF6ED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7FCA-65D1-4BD4-B07E-F47C02DA66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3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138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1336-2B93-46AC-AA0F-0BD52AFED85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85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9146-D634-4C02-A38C-C706F8103BF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5D5B-85AF-4EF2-9A97-473180A590C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03A2-6C88-4DB2-AB5E-9B29D82C881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BFE5-22CE-4EEE-99F2-ED1268FDDFB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355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6202-493F-4E1B-921E-383E7310507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hyperlink" Target="file:///&#1091;&#1088;&#1086;&#1082;.ppt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gif"/><Relationship Id="rId5" Type="http://schemas.openxmlformats.org/officeDocument/2006/relationships/image" Target="../media/image8.png"/><Relationship Id="rId6" Type="http://schemas.openxmlformats.org/officeDocument/2006/relationships/hyperlink" Target="file:///&#1091;&#1088;&#1086;&#1082;.ppt#5. &#1057;&#1083;&#1072;&#1081;&#1076; 5" TargetMode="External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27432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72314"/>
                </a:solidFill>
                <a:latin typeface="Corbel"/>
              </a:rPr>
              <a:t>Урок русского языка</a:t>
            </a:r>
            <a:endParaRPr b="0" lang="en-US" sz="6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01" name="Picture 10" descr=""/>
          <p:cNvPicPr/>
          <p:nvPr/>
        </p:nvPicPr>
        <p:blipFill>
          <a:blip r:embed="rId1"/>
          <a:stretch/>
        </p:blipFill>
        <p:spPr>
          <a:xfrm>
            <a:off x="7391520" y="3657600"/>
            <a:ext cx="1143000" cy="876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e1ec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Box 3"/>
          <p:cNvSpPr/>
          <p:nvPr/>
        </p:nvSpPr>
        <p:spPr>
          <a:xfrm>
            <a:off x="3809520" y="533520"/>
            <a:ext cx="28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Что дела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4"/>
          <p:cNvSpPr/>
          <p:nvPr/>
        </p:nvSpPr>
        <p:spPr>
          <a:xfrm>
            <a:off x="1456200" y="2514600"/>
            <a:ext cx="232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жур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5"/>
          <p:cNvSpPr/>
          <p:nvPr/>
        </p:nvSpPr>
        <p:spPr>
          <a:xfrm>
            <a:off x="1452600" y="3505320"/>
            <a:ext cx="14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оро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6"/>
          <p:cNvSpPr/>
          <p:nvPr/>
        </p:nvSpPr>
        <p:spPr>
          <a:xfrm>
            <a:off x="1380960" y="4343400"/>
            <a:ext cx="18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жёлт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7"/>
          <p:cNvSpPr/>
          <p:nvPr/>
        </p:nvSpPr>
        <p:spPr>
          <a:xfrm>
            <a:off x="1457640" y="5334120"/>
            <a:ext cx="18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исун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TextBox 8" descr=""/>
          <p:cNvPicPr/>
          <p:nvPr/>
        </p:nvPicPr>
        <p:blipFill>
          <a:blip r:embed="rId1"/>
          <a:stretch/>
        </p:blipFill>
        <p:spPr>
          <a:xfrm>
            <a:off x="4078440" y="2371680"/>
            <a:ext cx="2706480" cy="901800"/>
          </a:xfrm>
          <a:prstGeom prst="rect">
            <a:avLst/>
          </a:prstGeom>
          <a:ln w="0">
            <a:noFill/>
          </a:ln>
        </p:spPr>
      </p:pic>
      <p:pic>
        <p:nvPicPr>
          <p:cNvPr id="466" name="TextBox 9" descr=""/>
          <p:cNvPicPr/>
          <p:nvPr/>
        </p:nvPicPr>
        <p:blipFill>
          <a:blip r:embed="rId2"/>
          <a:stretch/>
        </p:blipFill>
        <p:spPr>
          <a:xfrm>
            <a:off x="4078440" y="3438360"/>
            <a:ext cx="2657160" cy="901800"/>
          </a:xfrm>
          <a:prstGeom prst="rect">
            <a:avLst/>
          </a:prstGeom>
          <a:ln w="0">
            <a:noFill/>
          </a:ln>
        </p:spPr>
      </p:pic>
      <p:pic>
        <p:nvPicPr>
          <p:cNvPr id="467" name="TextBox 10" descr=""/>
          <p:cNvPicPr/>
          <p:nvPr/>
        </p:nvPicPr>
        <p:blipFill>
          <a:blip r:embed="rId3"/>
          <a:stretch/>
        </p:blipFill>
        <p:spPr>
          <a:xfrm>
            <a:off x="4078440" y="4352760"/>
            <a:ext cx="2481120" cy="901800"/>
          </a:xfrm>
          <a:prstGeom prst="rect">
            <a:avLst/>
          </a:prstGeom>
          <a:ln w="0">
            <a:noFill/>
          </a:ln>
        </p:spPr>
      </p:pic>
      <p:pic>
        <p:nvPicPr>
          <p:cNvPr id="468" name="TextBox 11" descr=""/>
          <p:cNvPicPr/>
          <p:nvPr/>
        </p:nvPicPr>
        <p:blipFill>
          <a:blip r:embed="rId4"/>
          <a:stretch/>
        </p:blipFill>
        <p:spPr>
          <a:xfrm>
            <a:off x="4078440" y="5187960"/>
            <a:ext cx="2566800" cy="9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Управляющая кнопка: далее 12"/>
          <p:cNvSpPr/>
          <p:nvPr/>
        </p:nvSpPr>
        <p:spPr>
          <a:xfrm>
            <a:off x="2971800" y="3657600"/>
            <a:ext cx="814320" cy="433440"/>
          </a:xfrm>
          <a:custGeom>
            <a:avLst/>
            <a:gdLst>
              <a:gd name="textAreaLeft" fmla="*/ 28080 w 814320"/>
              <a:gd name="textAreaRight" fmla="*/ 786240 w 8143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0565" h="21600">
                <a:moveTo>
                  <a:pt x="0" y="0"/>
                </a:moveTo>
                <a:lnTo>
                  <a:pt x="40565" y="0"/>
                </a:lnTo>
                <a:lnTo>
                  <a:pt x="40565" y="21600"/>
                </a:lnTo>
                <a:lnTo>
                  <a:pt x="0" y="21600"/>
                </a:lnTo>
                <a:close/>
              </a:path>
              <a:path fill="lightenLess" w="40565" h="21600">
                <a:moveTo>
                  <a:pt x="0" y="0"/>
                </a:moveTo>
                <a:lnTo>
                  <a:pt x="40565" y="0"/>
                </a:lnTo>
                <a:lnTo>
                  <a:pt x="39165" y="1400"/>
                </a:lnTo>
                <a:lnTo>
                  <a:pt x="1400" y="1400"/>
                </a:lnTo>
                <a:close/>
              </a:path>
              <a:path fill="darken" w="40565" h="21600">
                <a:moveTo>
                  <a:pt x="40565" y="0"/>
                </a:moveTo>
                <a:lnTo>
                  <a:pt x="40565" y="21600"/>
                </a:lnTo>
                <a:lnTo>
                  <a:pt x="39165" y="20200"/>
                </a:lnTo>
                <a:lnTo>
                  <a:pt x="39165" y="1400"/>
                </a:lnTo>
                <a:close/>
              </a:path>
              <a:path fill="darkenLess" w="40565" h="21600">
                <a:moveTo>
                  <a:pt x="40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65" y="20200"/>
                </a:lnTo>
                <a:close/>
              </a:path>
              <a:path fill="lighten" w="40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565" h="21600">
                <a:moveTo>
                  <a:pt x="13276" y="3794"/>
                </a:moveTo>
                <a:lnTo>
                  <a:pt x="27289" y="10800"/>
                </a:lnTo>
                <a:lnTo>
                  <a:pt x="13276" y="17806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утешествие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71" name="Picture 4" descr="C:\Documents and Settings\Светлана\Мои документы\ОПК\Анимация 2008\клипарты\Мои рисунки\страна\Безимени-1з97епшх08щ.jpg"/>
          <p:cNvPicPr/>
          <p:nvPr/>
        </p:nvPicPr>
        <p:blipFill>
          <a:blip r:embed="rId1"/>
          <a:stretch/>
        </p:blipFill>
        <p:spPr>
          <a:xfrm>
            <a:off x="1219320" y="990720"/>
            <a:ext cx="7665840" cy="5462640"/>
          </a:xfrm>
          <a:prstGeom prst="rect">
            <a:avLst/>
          </a:prstGeom>
          <a:ln w="0">
            <a:noFill/>
          </a:ln>
        </p:spPr>
      </p:pic>
      <p:sp>
        <p:nvSpPr>
          <p:cNvPr id="472" name="Овал 5"/>
          <p:cNvSpPr/>
          <p:nvPr/>
        </p:nvSpPr>
        <p:spPr>
          <a:xfrm rot="21480000">
            <a:off x="3533400" y="2642760"/>
            <a:ext cx="3048120" cy="1676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14" descr="C:\Documents and Settings\Светлана\Мои документы\ОПК\Анимация 2008\клипарты\анимация3\sea39.gif"/>
          <p:cNvPicPr/>
          <p:nvPr/>
        </p:nvPicPr>
        <p:blipFill>
          <a:blip r:embed="rId2"/>
          <a:stretch/>
        </p:blipFill>
        <p:spPr>
          <a:xfrm>
            <a:off x="2971800" y="3276720"/>
            <a:ext cx="2666880" cy="1796760"/>
          </a:xfrm>
          <a:prstGeom prst="rect">
            <a:avLst/>
          </a:prstGeom>
          <a:ln w="0">
            <a:noFill/>
          </a:ln>
        </p:spPr>
      </p:pic>
      <p:sp>
        <p:nvSpPr>
          <p:cNvPr id="474" name="Облако 7"/>
          <p:cNvSpPr/>
          <p:nvPr/>
        </p:nvSpPr>
        <p:spPr>
          <a:xfrm>
            <a:off x="1371600" y="2971800"/>
            <a:ext cx="2590920" cy="609480"/>
          </a:xfrm>
          <a:prstGeom prst="pie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ФИЗМИНУ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Облако 8"/>
          <p:cNvSpPr/>
          <p:nvPr/>
        </p:nvSpPr>
        <p:spPr>
          <a:xfrm>
            <a:off x="5562720" y="1828800"/>
            <a:ext cx="289548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Управляющая кнопка: далее 12"/>
          <p:cNvSpPr/>
          <p:nvPr/>
        </p:nvSpPr>
        <p:spPr>
          <a:xfrm>
            <a:off x="2971800" y="3657600"/>
            <a:ext cx="814320" cy="433440"/>
          </a:xfrm>
          <a:custGeom>
            <a:avLst/>
            <a:gdLst>
              <a:gd name="textAreaLeft" fmla="*/ 28080 w 814320"/>
              <a:gd name="textAreaRight" fmla="*/ 786240 w 8143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0565" h="21600">
                <a:moveTo>
                  <a:pt x="0" y="0"/>
                </a:moveTo>
                <a:lnTo>
                  <a:pt x="40565" y="0"/>
                </a:lnTo>
                <a:lnTo>
                  <a:pt x="40565" y="21600"/>
                </a:lnTo>
                <a:lnTo>
                  <a:pt x="0" y="21600"/>
                </a:lnTo>
                <a:close/>
              </a:path>
              <a:path fill="lightenLess" w="40565" h="21600">
                <a:moveTo>
                  <a:pt x="0" y="0"/>
                </a:moveTo>
                <a:lnTo>
                  <a:pt x="40565" y="0"/>
                </a:lnTo>
                <a:lnTo>
                  <a:pt x="39165" y="1400"/>
                </a:lnTo>
                <a:lnTo>
                  <a:pt x="1400" y="1400"/>
                </a:lnTo>
                <a:close/>
              </a:path>
              <a:path fill="darken" w="40565" h="21600">
                <a:moveTo>
                  <a:pt x="40565" y="0"/>
                </a:moveTo>
                <a:lnTo>
                  <a:pt x="40565" y="21600"/>
                </a:lnTo>
                <a:lnTo>
                  <a:pt x="39165" y="20200"/>
                </a:lnTo>
                <a:lnTo>
                  <a:pt x="39165" y="1400"/>
                </a:lnTo>
                <a:close/>
              </a:path>
              <a:path fill="darkenLess" w="40565" h="21600">
                <a:moveTo>
                  <a:pt x="40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65" y="20200"/>
                </a:lnTo>
                <a:close/>
              </a:path>
              <a:path fill="lighten" w="40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565" h="21600">
                <a:moveTo>
                  <a:pt x="13276" y="3794"/>
                </a:moveTo>
                <a:lnTo>
                  <a:pt x="27289" y="10800"/>
                </a:lnTo>
                <a:lnTo>
                  <a:pt x="13276" y="17806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утешествие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78" name="Picture 4" descr="C:\Documents and Settings\Светлана\Мои документы\ОПК\Анимация 2008\клипарты\Мои рисунки\страна\Безимени-1з97епшх08щ.jpg"/>
          <p:cNvPicPr/>
          <p:nvPr/>
        </p:nvPicPr>
        <p:blipFill>
          <a:blip r:embed="rId1"/>
          <a:stretch/>
        </p:blipFill>
        <p:spPr>
          <a:xfrm>
            <a:off x="1143000" y="1066680"/>
            <a:ext cx="7666200" cy="5462640"/>
          </a:xfrm>
          <a:prstGeom prst="rect">
            <a:avLst/>
          </a:prstGeom>
          <a:ln w="0">
            <a:noFill/>
          </a:ln>
        </p:spPr>
      </p:pic>
      <p:sp>
        <p:nvSpPr>
          <p:cNvPr id="479" name="Овал 5"/>
          <p:cNvSpPr/>
          <p:nvPr/>
        </p:nvSpPr>
        <p:spPr>
          <a:xfrm rot="21480000">
            <a:off x="3533400" y="2642760"/>
            <a:ext cx="3048120" cy="1676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14" descr="C:\Documents and Settings\Светлана\Мои документы\ОПК\Анимация 2008\клипарты\анимация3\sea39.gif"/>
          <p:cNvPicPr/>
          <p:nvPr/>
        </p:nvPicPr>
        <p:blipFill>
          <a:blip r:embed="rId2"/>
          <a:stretch/>
        </p:blipFill>
        <p:spPr>
          <a:xfrm>
            <a:off x="2971800" y="3276720"/>
            <a:ext cx="2666880" cy="1796760"/>
          </a:xfrm>
          <a:prstGeom prst="rect">
            <a:avLst/>
          </a:prstGeom>
          <a:ln w="0">
            <a:noFill/>
          </a:ln>
        </p:spPr>
      </p:pic>
      <p:sp>
        <p:nvSpPr>
          <p:cNvPr id="481" name="Облако 7"/>
          <p:cNvSpPr/>
          <p:nvPr/>
        </p:nvSpPr>
        <p:spPr>
          <a:xfrm>
            <a:off x="2057400" y="1447920"/>
            <a:ext cx="1676520" cy="609480"/>
          </a:xfrm>
          <a:prstGeom prst="pie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Облако 8"/>
          <p:cNvSpPr/>
          <p:nvPr/>
        </p:nvSpPr>
        <p:spPr>
          <a:xfrm>
            <a:off x="6781680" y="1828800"/>
            <a:ext cx="167652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Капля 10"/>
          <p:cNvGrpSpPr/>
          <p:nvPr/>
        </p:nvGrpSpPr>
        <p:grpSpPr>
          <a:xfrm>
            <a:off x="1676520" y="4748040"/>
            <a:ext cx="1974600" cy="1944720"/>
            <a:chOff x="1676520" y="4748040"/>
            <a:chExt cx="1974600" cy="1944720"/>
          </a:xfrm>
        </p:grpSpPr>
        <p:pic>
          <p:nvPicPr>
            <p:cNvPr id="484" name="Капля 10" descr=""/>
            <p:cNvPicPr/>
            <p:nvPr/>
          </p:nvPicPr>
          <p:blipFill>
            <a:blip r:embed="rId3"/>
            <a:stretch/>
          </p:blipFill>
          <p:spPr>
            <a:xfrm>
              <a:off x="1676520" y="4748040"/>
              <a:ext cx="197460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2019240" y="5062680"/>
              <a:ext cx="128736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rbel"/>
                </a:rPr>
                <a:t>Знай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87" name="Picture 4" descr="C:\Users\777\Documents\Анимация\Анимация 2008\анимация\31m3.gif"/>
          <p:cNvPicPr/>
          <p:nvPr/>
        </p:nvPicPr>
        <p:blipFill>
          <a:blip r:embed="rId1"/>
          <a:stretch/>
        </p:blipFill>
        <p:spPr>
          <a:xfrm>
            <a:off x="4800600" y="3200400"/>
            <a:ext cx="2657520" cy="31100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5" descr="C:\Users\777\Documents\Анимация\Анимация 2008\анимация\37r6.gif"/>
          <p:cNvPicPr/>
          <p:nvPr/>
        </p:nvPicPr>
        <p:blipFill>
          <a:blip r:embed="rId2"/>
          <a:stretch/>
        </p:blipFill>
        <p:spPr>
          <a:xfrm>
            <a:off x="3581280" y="99072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489" name="TextBox 5"/>
          <p:cNvSpPr/>
          <p:nvPr/>
        </p:nvSpPr>
        <p:spPr>
          <a:xfrm>
            <a:off x="1530720" y="1676520"/>
            <a:ext cx="197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рыва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6"/>
          <p:cNvSpPr/>
          <p:nvPr/>
        </p:nvSpPr>
        <p:spPr>
          <a:xfrm>
            <a:off x="6639840" y="1752480"/>
            <a:ext cx="197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рыва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7"/>
          <p:cNvSpPr/>
          <p:nvPr/>
        </p:nvSpPr>
        <p:spPr>
          <a:xfrm>
            <a:off x="3429000" y="47242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ч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8"/>
          <p:cNvSpPr/>
          <p:nvPr/>
        </p:nvSpPr>
        <p:spPr>
          <a:xfrm>
            <a:off x="8004600" y="4952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9"/>
          <p:cNvSpPr/>
          <p:nvPr/>
        </p:nvSpPr>
        <p:spPr>
          <a:xfrm>
            <a:off x="7245720" y="6019920"/>
            <a:ext cx="153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её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Box 2"/>
          <p:cNvSpPr/>
          <p:nvPr/>
        </p:nvSpPr>
        <p:spPr>
          <a:xfrm>
            <a:off x="843480" y="1219320"/>
            <a:ext cx="1878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вор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б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о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р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цве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3"/>
          <p:cNvSpPr/>
          <p:nvPr/>
        </p:nvSpPr>
        <p:spPr>
          <a:xfrm>
            <a:off x="228600" y="434340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ова для справок:  </a:t>
            </a:r>
            <a:r>
              <a:rPr b="0" i="1" lang="ru-RU" sz="2800" spc="-1" strike="noStrike">
                <a:solidFill>
                  <a:srgbClr val="000000"/>
                </a:solidFill>
                <a:latin typeface="Roman"/>
              </a:rPr>
              <a:t>молчать, отдавать, ненавидеть, отцвести, ломать</a:t>
            </a:r>
            <a:r>
              <a:rPr b="0" i="1" lang="ru-RU" sz="1800" spc="-1" strike="noStrike">
                <a:solidFill>
                  <a:srgbClr val="000000"/>
                </a:solidFill>
                <a:latin typeface="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Управляющая кнопка: далее 12"/>
          <p:cNvSpPr/>
          <p:nvPr/>
        </p:nvSpPr>
        <p:spPr>
          <a:xfrm>
            <a:off x="2971800" y="3657600"/>
            <a:ext cx="814320" cy="433440"/>
          </a:xfrm>
          <a:custGeom>
            <a:avLst/>
            <a:gdLst>
              <a:gd name="textAreaLeft" fmla="*/ 28080 w 814320"/>
              <a:gd name="textAreaRight" fmla="*/ 786240 w 8143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0565" h="21600">
                <a:moveTo>
                  <a:pt x="0" y="0"/>
                </a:moveTo>
                <a:lnTo>
                  <a:pt x="40565" y="0"/>
                </a:lnTo>
                <a:lnTo>
                  <a:pt x="40565" y="21600"/>
                </a:lnTo>
                <a:lnTo>
                  <a:pt x="0" y="21600"/>
                </a:lnTo>
                <a:close/>
              </a:path>
              <a:path fill="lightenLess" w="40565" h="21600">
                <a:moveTo>
                  <a:pt x="0" y="0"/>
                </a:moveTo>
                <a:lnTo>
                  <a:pt x="40565" y="0"/>
                </a:lnTo>
                <a:lnTo>
                  <a:pt x="39165" y="1400"/>
                </a:lnTo>
                <a:lnTo>
                  <a:pt x="1400" y="1400"/>
                </a:lnTo>
                <a:close/>
              </a:path>
              <a:path fill="darken" w="40565" h="21600">
                <a:moveTo>
                  <a:pt x="40565" y="0"/>
                </a:moveTo>
                <a:lnTo>
                  <a:pt x="40565" y="21600"/>
                </a:lnTo>
                <a:lnTo>
                  <a:pt x="39165" y="20200"/>
                </a:lnTo>
                <a:lnTo>
                  <a:pt x="39165" y="1400"/>
                </a:lnTo>
                <a:close/>
              </a:path>
              <a:path fill="darkenLess" w="40565" h="21600">
                <a:moveTo>
                  <a:pt x="40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65" y="20200"/>
                </a:lnTo>
                <a:close/>
              </a:path>
              <a:path fill="lighten" w="40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565" h="21600">
                <a:moveTo>
                  <a:pt x="13276" y="3794"/>
                </a:moveTo>
                <a:lnTo>
                  <a:pt x="27289" y="10800"/>
                </a:lnTo>
                <a:lnTo>
                  <a:pt x="13276" y="17806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утешествие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98" name="Picture 4" descr="C:\Documents and Settings\Светлана\Мои документы\ОПК\Анимация 2008\клипарты\Мои рисунки\страна\Безимени-1з97епшх08щ.jpg"/>
          <p:cNvPicPr/>
          <p:nvPr/>
        </p:nvPicPr>
        <p:blipFill>
          <a:blip r:embed="rId1"/>
          <a:stretch/>
        </p:blipFill>
        <p:spPr>
          <a:xfrm>
            <a:off x="1143000" y="1066680"/>
            <a:ext cx="7666200" cy="5462640"/>
          </a:xfrm>
          <a:prstGeom prst="rect">
            <a:avLst/>
          </a:prstGeom>
          <a:ln w="0">
            <a:noFill/>
          </a:ln>
        </p:spPr>
      </p:pic>
      <p:sp>
        <p:nvSpPr>
          <p:cNvPr id="499" name="Овал 5"/>
          <p:cNvSpPr/>
          <p:nvPr/>
        </p:nvSpPr>
        <p:spPr>
          <a:xfrm rot="21480000">
            <a:off x="3533400" y="2642760"/>
            <a:ext cx="3048120" cy="1676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14" descr="C:\Documents and Settings\Светлана\Мои документы\ОПК\Анимация 2008\клипарты\анимация3\sea39.gif"/>
          <p:cNvPicPr/>
          <p:nvPr/>
        </p:nvPicPr>
        <p:blipFill>
          <a:blip r:embed="rId2"/>
          <a:stretch/>
        </p:blipFill>
        <p:spPr>
          <a:xfrm>
            <a:off x="2971800" y="3276720"/>
            <a:ext cx="2666880" cy="1796760"/>
          </a:xfrm>
          <a:prstGeom prst="rect">
            <a:avLst/>
          </a:prstGeom>
          <a:ln w="0">
            <a:noFill/>
          </a:ln>
        </p:spPr>
      </p:pic>
      <p:sp>
        <p:nvSpPr>
          <p:cNvPr id="501" name="Облако 7"/>
          <p:cNvSpPr/>
          <p:nvPr/>
        </p:nvSpPr>
        <p:spPr>
          <a:xfrm>
            <a:off x="2057400" y="1447920"/>
            <a:ext cx="1676520" cy="609480"/>
          </a:xfrm>
          <a:prstGeom prst="pie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Облако 8"/>
          <p:cNvSpPr/>
          <p:nvPr/>
        </p:nvSpPr>
        <p:spPr>
          <a:xfrm>
            <a:off x="6781680" y="1828800"/>
            <a:ext cx="167652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Капля 10"/>
          <p:cNvGrpSpPr/>
          <p:nvPr/>
        </p:nvGrpSpPr>
        <p:grpSpPr>
          <a:xfrm>
            <a:off x="1335240" y="4657680"/>
            <a:ext cx="2309760" cy="1955880"/>
            <a:chOff x="1335240" y="4657680"/>
            <a:chExt cx="2309760" cy="1955880"/>
          </a:xfrm>
        </p:grpSpPr>
        <p:pic>
          <p:nvPicPr>
            <p:cNvPr id="504" name="Капля 10" descr=""/>
            <p:cNvPicPr/>
            <p:nvPr/>
          </p:nvPicPr>
          <p:blipFill>
            <a:blip r:embed="rId3"/>
            <a:stretch/>
          </p:blipFill>
          <p:spPr>
            <a:xfrm>
              <a:off x="1335240" y="4657680"/>
              <a:ext cx="2309760" cy="19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 rot="1980000">
              <a:off x="1674360" y="4976640"/>
              <a:ext cx="128772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TextBox 11"/>
          <p:cNvSpPr/>
          <p:nvPr/>
        </p:nvSpPr>
        <p:spPr>
          <a:xfrm>
            <a:off x="1611360" y="533412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Закрепляй -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2" descr="C:\Users\1\Documents\Анимация 2008\анимация\tree22.gif"/>
          <p:cNvPicPr/>
          <p:nvPr/>
        </p:nvPicPr>
        <p:blipFill>
          <a:blip r:embed="rId4"/>
          <a:stretch/>
        </p:blipFill>
        <p:spPr>
          <a:xfrm>
            <a:off x="1600200" y="4335480"/>
            <a:ext cx="99540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Управляющая кнопка: далее 12"/>
          <p:cNvSpPr/>
          <p:nvPr/>
        </p:nvSpPr>
        <p:spPr>
          <a:xfrm>
            <a:off x="2971800" y="3657600"/>
            <a:ext cx="814320" cy="433440"/>
          </a:xfrm>
          <a:custGeom>
            <a:avLst/>
            <a:gdLst>
              <a:gd name="textAreaLeft" fmla="*/ 28080 w 814320"/>
              <a:gd name="textAreaRight" fmla="*/ 786240 w 8143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0565" h="21600">
                <a:moveTo>
                  <a:pt x="0" y="0"/>
                </a:moveTo>
                <a:lnTo>
                  <a:pt x="40565" y="0"/>
                </a:lnTo>
                <a:lnTo>
                  <a:pt x="40565" y="21600"/>
                </a:lnTo>
                <a:lnTo>
                  <a:pt x="0" y="21600"/>
                </a:lnTo>
                <a:close/>
              </a:path>
              <a:path fill="lightenLess" w="40565" h="21600">
                <a:moveTo>
                  <a:pt x="0" y="0"/>
                </a:moveTo>
                <a:lnTo>
                  <a:pt x="40565" y="0"/>
                </a:lnTo>
                <a:lnTo>
                  <a:pt x="39165" y="1400"/>
                </a:lnTo>
                <a:lnTo>
                  <a:pt x="1400" y="1400"/>
                </a:lnTo>
                <a:close/>
              </a:path>
              <a:path fill="darken" w="40565" h="21600">
                <a:moveTo>
                  <a:pt x="40565" y="0"/>
                </a:moveTo>
                <a:lnTo>
                  <a:pt x="40565" y="21600"/>
                </a:lnTo>
                <a:lnTo>
                  <a:pt x="39165" y="20200"/>
                </a:lnTo>
                <a:lnTo>
                  <a:pt x="39165" y="1400"/>
                </a:lnTo>
                <a:close/>
              </a:path>
              <a:path fill="darkenLess" w="40565" h="21600">
                <a:moveTo>
                  <a:pt x="40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65" y="20200"/>
                </a:lnTo>
                <a:close/>
              </a:path>
              <a:path fill="lighten" w="40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565" h="21600">
                <a:moveTo>
                  <a:pt x="13276" y="3794"/>
                </a:moveTo>
                <a:lnTo>
                  <a:pt x="27289" y="10800"/>
                </a:lnTo>
                <a:lnTo>
                  <a:pt x="13276" y="17806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утешествие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510" name="Picture 4" descr="C:\Documents and Settings\Светлана\Мои документы\ОПК\Анимация 2008\клипарты\Мои рисунки\страна\Безимени-1з97епшх08щ.jpg"/>
          <p:cNvPicPr/>
          <p:nvPr/>
        </p:nvPicPr>
        <p:blipFill>
          <a:blip r:embed="rId1"/>
          <a:stretch/>
        </p:blipFill>
        <p:spPr>
          <a:xfrm>
            <a:off x="1143000" y="1066680"/>
            <a:ext cx="7666200" cy="5462640"/>
          </a:xfrm>
          <a:prstGeom prst="rect">
            <a:avLst/>
          </a:prstGeom>
          <a:ln w="0">
            <a:noFill/>
          </a:ln>
        </p:spPr>
      </p:pic>
      <p:sp>
        <p:nvSpPr>
          <p:cNvPr id="511" name="Овал 5"/>
          <p:cNvSpPr/>
          <p:nvPr/>
        </p:nvSpPr>
        <p:spPr>
          <a:xfrm rot="21480000">
            <a:off x="3533400" y="2642760"/>
            <a:ext cx="3048120" cy="1676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14" descr="C:\Documents and Settings\Светлана\Мои документы\ОПК\Анимация 2008\клипарты\анимация3\sea39.gif"/>
          <p:cNvPicPr/>
          <p:nvPr/>
        </p:nvPicPr>
        <p:blipFill>
          <a:blip r:embed="rId2"/>
          <a:stretch/>
        </p:blipFill>
        <p:spPr>
          <a:xfrm>
            <a:off x="2971800" y="3276720"/>
            <a:ext cx="2666880" cy="1796760"/>
          </a:xfrm>
          <a:prstGeom prst="rect">
            <a:avLst/>
          </a:prstGeom>
          <a:ln w="0">
            <a:noFill/>
          </a:ln>
        </p:spPr>
      </p:pic>
      <p:sp>
        <p:nvSpPr>
          <p:cNvPr id="513" name="Облако 7"/>
          <p:cNvSpPr/>
          <p:nvPr/>
        </p:nvSpPr>
        <p:spPr>
          <a:xfrm>
            <a:off x="2057400" y="1447920"/>
            <a:ext cx="1676520" cy="609480"/>
          </a:xfrm>
          <a:prstGeom prst="pie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блако 8"/>
          <p:cNvSpPr/>
          <p:nvPr/>
        </p:nvSpPr>
        <p:spPr>
          <a:xfrm>
            <a:off x="6781680" y="1828800"/>
            <a:ext cx="167652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Капля 10"/>
          <p:cNvGrpSpPr/>
          <p:nvPr/>
        </p:nvGrpSpPr>
        <p:grpSpPr>
          <a:xfrm>
            <a:off x="1335240" y="4657680"/>
            <a:ext cx="2309760" cy="1955880"/>
            <a:chOff x="1335240" y="4657680"/>
            <a:chExt cx="2309760" cy="1955880"/>
          </a:xfrm>
        </p:grpSpPr>
        <p:pic>
          <p:nvPicPr>
            <p:cNvPr id="516" name="Капля 10" descr=""/>
            <p:cNvPicPr/>
            <p:nvPr/>
          </p:nvPicPr>
          <p:blipFill>
            <a:blip r:embed="rId3"/>
            <a:stretch/>
          </p:blipFill>
          <p:spPr>
            <a:xfrm>
              <a:off x="1335240" y="4657680"/>
              <a:ext cx="2309760" cy="19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 rot="1980000">
              <a:off x="1674360" y="4976640"/>
              <a:ext cx="128772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TextBox 11"/>
          <p:cNvSpPr/>
          <p:nvPr/>
        </p:nvSpPr>
        <p:spPr>
          <a:xfrm>
            <a:off x="1600200" y="53341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Глаго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2" descr="C:\Users\1\Documents\Анимация 2008\анимация\tree22.gif"/>
          <p:cNvPicPr/>
          <p:nvPr/>
        </p:nvPicPr>
        <p:blipFill>
          <a:blip r:embed="rId4"/>
          <a:stretch/>
        </p:blipFill>
        <p:spPr>
          <a:xfrm>
            <a:off x="1600200" y="4335480"/>
            <a:ext cx="99540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4" descr="G:\faces.png"/>
          <p:cNvPicPr/>
          <p:nvPr/>
        </p:nvPicPr>
        <p:blipFill>
          <a:blip r:embed="rId1"/>
          <a:stretch/>
        </p:blipFill>
        <p:spPr>
          <a:xfrm>
            <a:off x="1447920" y="2133720"/>
            <a:ext cx="660708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лодцы!</a:t>
            </a:r>
            <a:endParaRPr b="0" lang="en-US" sz="8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431720" y="2895120"/>
            <a:ext cx="7407000" cy="12956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Спасибо за урок</a:t>
            </a:r>
            <a:endParaRPr b="0" lang="en-US" sz="6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Тема: Глаголы- антонимы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371600" y="2361960"/>
            <a:ext cx="73152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знакомимся с глаголами – антонимами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учимся подбирать слова с противоположным значением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TextBox 3"/>
          <p:cNvSpPr/>
          <p:nvPr/>
        </p:nvSpPr>
        <p:spPr>
          <a:xfrm>
            <a:off x="1524240" y="167652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Управляющая кнопка: далее 12">
            <a:hlinkClick r:id="rId1" action="ppaction://hlinksldjump"/>
          </p:cNvPr>
          <p:cNvSpPr/>
          <p:nvPr/>
        </p:nvSpPr>
        <p:spPr>
          <a:xfrm>
            <a:off x="2971800" y="3657600"/>
            <a:ext cx="814320" cy="433440"/>
          </a:xfrm>
          <a:custGeom>
            <a:avLst/>
            <a:gdLst>
              <a:gd name="textAreaLeft" fmla="*/ 28080 w 814320"/>
              <a:gd name="textAreaRight" fmla="*/ 786240 w 8143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0565" h="21600">
                <a:moveTo>
                  <a:pt x="0" y="0"/>
                </a:moveTo>
                <a:lnTo>
                  <a:pt x="40565" y="0"/>
                </a:lnTo>
                <a:lnTo>
                  <a:pt x="40565" y="21600"/>
                </a:lnTo>
                <a:lnTo>
                  <a:pt x="0" y="21600"/>
                </a:lnTo>
                <a:close/>
              </a:path>
              <a:path fill="lightenLess" w="40565" h="21600">
                <a:moveTo>
                  <a:pt x="0" y="0"/>
                </a:moveTo>
                <a:lnTo>
                  <a:pt x="40565" y="0"/>
                </a:lnTo>
                <a:lnTo>
                  <a:pt x="39165" y="1400"/>
                </a:lnTo>
                <a:lnTo>
                  <a:pt x="1400" y="1400"/>
                </a:lnTo>
                <a:close/>
              </a:path>
              <a:path fill="darken" w="40565" h="21600">
                <a:moveTo>
                  <a:pt x="40565" y="0"/>
                </a:moveTo>
                <a:lnTo>
                  <a:pt x="40565" y="21600"/>
                </a:lnTo>
                <a:lnTo>
                  <a:pt x="39165" y="20200"/>
                </a:lnTo>
                <a:lnTo>
                  <a:pt x="39165" y="1400"/>
                </a:lnTo>
                <a:close/>
              </a:path>
              <a:path fill="darkenLess" w="40565" h="21600">
                <a:moveTo>
                  <a:pt x="40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65" y="20200"/>
                </a:lnTo>
                <a:close/>
              </a:path>
              <a:path fill="lighten" w="40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565" h="21600">
                <a:moveTo>
                  <a:pt x="13276" y="3794"/>
                </a:moveTo>
                <a:lnTo>
                  <a:pt x="27289" y="10800"/>
                </a:lnTo>
                <a:lnTo>
                  <a:pt x="13276" y="17806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1295280" y="1981080"/>
            <a:ext cx="1143000" cy="509760"/>
          </a:xfrm>
          <a:custGeom>
            <a:avLst/>
            <a:gdLst>
              <a:gd name="textAreaLeft" fmla="*/ 32760 w 1143000"/>
              <a:gd name="textAreaRight" fmla="*/ 1110240 w 11430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48413" h="21600">
                <a:moveTo>
                  <a:pt x="0" y="0"/>
                </a:moveTo>
                <a:lnTo>
                  <a:pt x="48413" y="0"/>
                </a:lnTo>
                <a:lnTo>
                  <a:pt x="48413" y="21600"/>
                </a:lnTo>
                <a:lnTo>
                  <a:pt x="0" y="21600"/>
                </a:lnTo>
                <a:close/>
              </a:path>
              <a:path fill="lightenLess" w="48413" h="21600">
                <a:moveTo>
                  <a:pt x="0" y="0"/>
                </a:moveTo>
                <a:lnTo>
                  <a:pt x="48413" y="0"/>
                </a:lnTo>
                <a:lnTo>
                  <a:pt x="47013" y="1400"/>
                </a:lnTo>
                <a:lnTo>
                  <a:pt x="1400" y="1400"/>
                </a:lnTo>
                <a:close/>
              </a:path>
              <a:path fill="darken" w="48413" h="21600">
                <a:moveTo>
                  <a:pt x="48413" y="0"/>
                </a:moveTo>
                <a:lnTo>
                  <a:pt x="48413" y="21600"/>
                </a:lnTo>
                <a:lnTo>
                  <a:pt x="47013" y="20200"/>
                </a:lnTo>
                <a:lnTo>
                  <a:pt x="47013" y="1400"/>
                </a:lnTo>
                <a:close/>
              </a:path>
              <a:path fill="darkenLess" w="48413" h="21600">
                <a:moveTo>
                  <a:pt x="48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13" y="20200"/>
                </a:lnTo>
                <a:close/>
              </a:path>
              <a:path fill="lighten" w="48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13" h="21600">
                <a:moveTo>
                  <a:pt x="17200" y="3794"/>
                </a:moveTo>
                <a:lnTo>
                  <a:pt x="31213" y="10800"/>
                </a:lnTo>
                <a:lnTo>
                  <a:pt x="17200" y="17806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утешествие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08" name="Picture 4" descr="C:\Documents and Settings\Светлана\Мои документы\ОПК\Анимация 2008\клипарты\Мои рисунки\страна\Безимени-1з97епшх08щ.jpg"/>
          <p:cNvPicPr/>
          <p:nvPr/>
        </p:nvPicPr>
        <p:blipFill>
          <a:blip r:embed="rId2"/>
          <a:stretch/>
        </p:blipFill>
        <p:spPr>
          <a:xfrm>
            <a:off x="1325520" y="1219320"/>
            <a:ext cx="7666200" cy="5462640"/>
          </a:xfrm>
          <a:prstGeom prst="rect">
            <a:avLst/>
          </a:prstGeom>
          <a:ln w="0">
            <a:noFill/>
          </a:ln>
        </p:spPr>
      </p:pic>
      <p:sp>
        <p:nvSpPr>
          <p:cNvPr id="409" name="Овал 5"/>
          <p:cNvSpPr/>
          <p:nvPr/>
        </p:nvSpPr>
        <p:spPr>
          <a:xfrm rot="21480000">
            <a:off x="3885840" y="2590560"/>
            <a:ext cx="3048120" cy="16761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14" descr="C:\Documents and Settings\Светлана\Мои документы\ОПК\Анимация 2008\клипарты\анимация3\sea39.gif"/>
          <p:cNvPicPr/>
          <p:nvPr/>
        </p:nvPicPr>
        <p:blipFill>
          <a:blip r:embed="rId3"/>
          <a:stretch/>
        </p:blipFill>
        <p:spPr>
          <a:xfrm>
            <a:off x="4267080" y="2895480"/>
            <a:ext cx="2667240" cy="1797120"/>
          </a:xfrm>
          <a:prstGeom prst="rect">
            <a:avLst/>
          </a:prstGeom>
          <a:ln w="0">
            <a:noFill/>
          </a:ln>
        </p:spPr>
      </p:pic>
      <p:sp>
        <p:nvSpPr>
          <p:cNvPr id="411" name="Облако 6"/>
          <p:cNvSpPr/>
          <p:nvPr/>
        </p:nvSpPr>
        <p:spPr>
          <a:xfrm>
            <a:off x="1143000" y="1600200"/>
            <a:ext cx="2438280" cy="1143000"/>
          </a:xfrm>
          <a:prstGeom prst="pie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Чистопис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Облако 7"/>
          <p:cNvSpPr/>
          <p:nvPr/>
        </p:nvSpPr>
        <p:spPr>
          <a:xfrm>
            <a:off x="2209680" y="3352680"/>
            <a:ext cx="236232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овторяй-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Облако 8"/>
          <p:cNvSpPr/>
          <p:nvPr/>
        </p:nvSpPr>
        <p:spPr>
          <a:xfrm>
            <a:off x="6553080" y="3276720"/>
            <a:ext cx="167652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Знай-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Облако 10"/>
          <p:cNvSpPr/>
          <p:nvPr/>
        </p:nvSpPr>
        <p:spPr>
          <a:xfrm>
            <a:off x="6095880" y="1295280"/>
            <a:ext cx="2438640" cy="1143000"/>
          </a:xfrm>
          <a:prstGeom prst="pie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Закрепляй-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Управляющая кнопка: далее 12">
            <a:hlinkClick r:id="rId1" action="ppaction://hlinksldjump"/>
          </p:cNvPr>
          <p:cNvSpPr/>
          <p:nvPr/>
        </p:nvSpPr>
        <p:spPr>
          <a:xfrm>
            <a:off x="2971800" y="3657600"/>
            <a:ext cx="814320" cy="433440"/>
          </a:xfrm>
          <a:custGeom>
            <a:avLst/>
            <a:gdLst>
              <a:gd name="textAreaLeft" fmla="*/ 28080 w 814320"/>
              <a:gd name="textAreaRight" fmla="*/ 786240 w 8143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0565" h="21600">
                <a:moveTo>
                  <a:pt x="0" y="0"/>
                </a:moveTo>
                <a:lnTo>
                  <a:pt x="40565" y="0"/>
                </a:lnTo>
                <a:lnTo>
                  <a:pt x="40565" y="21600"/>
                </a:lnTo>
                <a:lnTo>
                  <a:pt x="0" y="21600"/>
                </a:lnTo>
                <a:close/>
              </a:path>
              <a:path fill="lightenLess" w="40565" h="21600">
                <a:moveTo>
                  <a:pt x="0" y="0"/>
                </a:moveTo>
                <a:lnTo>
                  <a:pt x="40565" y="0"/>
                </a:lnTo>
                <a:lnTo>
                  <a:pt x="39165" y="1400"/>
                </a:lnTo>
                <a:lnTo>
                  <a:pt x="1400" y="1400"/>
                </a:lnTo>
                <a:close/>
              </a:path>
              <a:path fill="darken" w="40565" h="21600">
                <a:moveTo>
                  <a:pt x="40565" y="0"/>
                </a:moveTo>
                <a:lnTo>
                  <a:pt x="40565" y="21600"/>
                </a:lnTo>
                <a:lnTo>
                  <a:pt x="39165" y="20200"/>
                </a:lnTo>
                <a:lnTo>
                  <a:pt x="39165" y="1400"/>
                </a:lnTo>
                <a:close/>
              </a:path>
              <a:path fill="darkenLess" w="40565" h="21600">
                <a:moveTo>
                  <a:pt x="40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65" y="20200"/>
                </a:lnTo>
                <a:close/>
              </a:path>
              <a:path fill="lighten" w="40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565" h="21600">
                <a:moveTo>
                  <a:pt x="13276" y="3794"/>
                </a:moveTo>
                <a:lnTo>
                  <a:pt x="27289" y="10800"/>
                </a:lnTo>
                <a:lnTo>
                  <a:pt x="13276" y="17806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утешествие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17" name="Picture 4" descr="C:\Documents and Settings\Светлана\Мои документы\ОПК\Анимация 2008\клипарты\Мои рисунки\страна\Безимени-1з97епшх08щ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43000" y="1066680"/>
            <a:ext cx="7666200" cy="5462640"/>
          </a:xfrm>
          <a:prstGeom prst="rect">
            <a:avLst/>
          </a:prstGeom>
          <a:ln w="0">
            <a:noFill/>
          </a:ln>
        </p:spPr>
      </p:pic>
      <p:sp>
        <p:nvSpPr>
          <p:cNvPr id="418" name="Овал 5"/>
          <p:cNvSpPr/>
          <p:nvPr/>
        </p:nvSpPr>
        <p:spPr>
          <a:xfrm rot="21480000">
            <a:off x="3533400" y="2642760"/>
            <a:ext cx="3048120" cy="1676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14" descr="C:\Documents and Settings\Светлана\Мои документы\ОПК\Анимация 2008\клипарты\анимация3\sea39.gif"/>
          <p:cNvPicPr/>
          <p:nvPr/>
        </p:nvPicPr>
        <p:blipFill>
          <a:blip r:embed="rId4"/>
          <a:stretch/>
        </p:blipFill>
        <p:spPr>
          <a:xfrm>
            <a:off x="5715000" y="3124080"/>
            <a:ext cx="2666880" cy="1797120"/>
          </a:xfrm>
          <a:prstGeom prst="rect">
            <a:avLst/>
          </a:prstGeom>
          <a:ln w="0">
            <a:noFill/>
          </a:ln>
        </p:spPr>
      </p:pic>
      <p:sp>
        <p:nvSpPr>
          <p:cNvPr id="420" name="Облако 7"/>
          <p:cNvSpPr/>
          <p:nvPr/>
        </p:nvSpPr>
        <p:spPr>
          <a:xfrm>
            <a:off x="2057400" y="1447920"/>
            <a:ext cx="1676520" cy="609480"/>
          </a:xfrm>
          <a:prstGeom prst="pie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Облако 8"/>
          <p:cNvSpPr/>
          <p:nvPr/>
        </p:nvSpPr>
        <p:spPr>
          <a:xfrm>
            <a:off x="3581280" y="3429000"/>
            <a:ext cx="167652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Блок-схема: ручное управление 13"/>
          <p:cNvGrpSpPr/>
          <p:nvPr/>
        </p:nvGrpSpPr>
        <p:grpSpPr>
          <a:xfrm>
            <a:off x="6016680" y="4748040"/>
            <a:ext cx="2828880" cy="920880"/>
            <a:chOff x="6016680" y="4748040"/>
            <a:chExt cx="2828880" cy="920880"/>
          </a:xfrm>
        </p:grpSpPr>
        <p:pic>
          <p:nvPicPr>
            <p:cNvPr id="423" name="Блок-схема: ручное управление 13" descr=""/>
            <p:cNvPicPr/>
            <p:nvPr/>
          </p:nvPicPr>
          <p:blipFill>
            <a:blip r:embed="rId5"/>
            <a:stretch/>
          </p:blipFill>
          <p:spPr>
            <a:xfrm>
              <a:off x="6016680" y="4748040"/>
              <a:ext cx="28288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 rot="10800000">
              <a:off x="6629040" y="4800240"/>
              <a:ext cx="16002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TextBox 14"/>
          <p:cNvSpPr/>
          <p:nvPr/>
        </p:nvSpPr>
        <p:spPr>
          <a:xfrm>
            <a:off x="6414840" y="510552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dc765"/>
                </a:solidFill>
                <a:uFillTx/>
                <a:latin typeface="Arial"/>
                <a:hlinkClick r:id="rId6"/>
              </a:rPr>
              <a:t>ЧИСТОПИС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2" descr="C:\Documents and Settings\Светлана\Мои документы\ОПК\Анимация 2008\клипарты\животные\190.gif"/>
          <p:cNvPicPr/>
          <p:nvPr/>
        </p:nvPicPr>
        <p:blipFill>
          <a:blip r:embed="rId1"/>
          <a:stretch/>
        </p:blipFill>
        <p:spPr>
          <a:xfrm>
            <a:off x="7086600" y="4492800"/>
            <a:ext cx="1397160" cy="142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28" name="Picture 3" descr="C:\Documents and Settings\Светлана\Мои документы\ОПК\Анимация 2008\клипарты\животные\183.gif"/>
          <p:cNvPicPr/>
          <p:nvPr/>
        </p:nvPicPr>
        <p:blipFill>
          <a:blip r:embed="rId2"/>
          <a:stretch/>
        </p:blipFill>
        <p:spPr>
          <a:xfrm>
            <a:off x="609480" y="1219320"/>
            <a:ext cx="1619280" cy="2133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29" name="Picture 4" descr="C:\Documents and Settings\Светлана\Мои документы\ОПК\Анимация 2008\клипарты\рисунки56\vorob13.jpg"/>
          <p:cNvPicPr/>
          <p:nvPr/>
        </p:nvPicPr>
        <p:blipFill>
          <a:blip r:embed="rId3"/>
          <a:stretch/>
        </p:blipFill>
        <p:spPr>
          <a:xfrm>
            <a:off x="609480" y="4419720"/>
            <a:ext cx="1778040" cy="1600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30" name="Picture 5" descr="C:\Documents and Settings\Светлана\Мои документы\ОПК\Анимация 2008\клипарты\Мои рисунки\школа2\sbear.gif"/>
          <p:cNvPicPr/>
          <p:nvPr/>
        </p:nvPicPr>
        <p:blipFill>
          <a:blip r:embed="rId4"/>
          <a:stretch/>
        </p:blipFill>
        <p:spPr>
          <a:xfrm>
            <a:off x="3581280" y="1905120"/>
            <a:ext cx="2219400" cy="1609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31" name="Picture 6" descr=""/>
          <p:cNvPicPr/>
          <p:nvPr/>
        </p:nvPicPr>
        <p:blipFill>
          <a:blip r:embed="rId5"/>
          <a:stretch/>
        </p:blipFill>
        <p:spPr>
          <a:xfrm>
            <a:off x="7162920" y="1676520"/>
            <a:ext cx="1295280" cy="1641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32" name="Picture 10" descr="C:\Documents and Settings\Светлана\Мои документы\ОПК\Анимация 2008\АНИМАЦИЯ4\jiv1618.gif"/>
          <p:cNvPicPr/>
          <p:nvPr/>
        </p:nvPicPr>
        <p:blipFill>
          <a:blip r:embed="rId6"/>
          <a:stretch/>
        </p:blipFill>
        <p:spPr>
          <a:xfrm>
            <a:off x="3809880" y="4572000"/>
            <a:ext cx="1730520" cy="1352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Box 3"/>
          <p:cNvSpPr/>
          <p:nvPr/>
        </p:nvSpPr>
        <p:spPr>
          <a:xfrm>
            <a:off x="1686600" y="1828800"/>
            <a:ext cx="1736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ц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4"/>
          <p:cNvSpPr/>
          <p:nvPr/>
        </p:nvSpPr>
        <p:spPr>
          <a:xfrm>
            <a:off x="3581280" y="1828800"/>
            <a:ext cx="2797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ведь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5"/>
          <p:cNvSpPr/>
          <p:nvPr/>
        </p:nvSpPr>
        <p:spPr>
          <a:xfrm>
            <a:off x="6488280" y="1828800"/>
            <a:ext cx="236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она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6"/>
          <p:cNvSpPr/>
          <p:nvPr/>
        </p:nvSpPr>
        <p:spPr>
          <a:xfrm>
            <a:off x="1001160" y="3048120"/>
            <a:ext cx="271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обей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7"/>
          <p:cNvSpPr/>
          <p:nvPr/>
        </p:nvSpPr>
        <p:spPr>
          <a:xfrm>
            <a:off x="3814200" y="3048120"/>
            <a:ext cx="190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ух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8"/>
          <p:cNvSpPr/>
          <p:nvPr/>
        </p:nvSpPr>
        <p:spPr>
          <a:xfrm>
            <a:off x="5806080" y="3048120"/>
            <a:ext cx="229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ов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13" descr="C:\Documents and Settings\Светлана\Мои документы\ОПК\Анимация 2008\клипарты\анимация3\sea9.gif"/>
          <p:cNvPicPr/>
          <p:nvPr/>
        </p:nvPicPr>
        <p:blipFill>
          <a:blip r:embed="rId1"/>
          <a:stretch/>
        </p:blipFill>
        <p:spPr>
          <a:xfrm>
            <a:off x="7543800" y="5105520"/>
            <a:ext cx="800280" cy="790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Облако 3" descr=""/>
          <p:cNvPicPr/>
          <p:nvPr/>
        </p:nvPicPr>
        <p:blipFill>
          <a:blip r:embed="rId1"/>
          <a:stretch/>
        </p:blipFill>
        <p:spPr>
          <a:xfrm>
            <a:off x="365040" y="291960"/>
            <a:ext cx="2627280" cy="1255680"/>
          </a:xfrm>
          <a:prstGeom prst="rect">
            <a:avLst/>
          </a:prstGeom>
          <a:ln w="0">
            <a:noFill/>
          </a:ln>
        </p:spPr>
      </p:pic>
      <p:pic>
        <p:nvPicPr>
          <p:cNvPr id="441" name="Облако 4" descr=""/>
          <p:cNvPicPr/>
          <p:nvPr/>
        </p:nvPicPr>
        <p:blipFill>
          <a:blip r:embed="rId2"/>
          <a:stretch/>
        </p:blipFill>
        <p:spPr>
          <a:xfrm>
            <a:off x="895320" y="3035160"/>
            <a:ext cx="2629080" cy="1255680"/>
          </a:xfrm>
          <a:prstGeom prst="rect">
            <a:avLst/>
          </a:prstGeom>
          <a:ln w="0">
            <a:noFill/>
          </a:ln>
        </p:spPr>
      </p:pic>
      <p:pic>
        <p:nvPicPr>
          <p:cNvPr id="442" name="Облако 5" descr=""/>
          <p:cNvPicPr/>
          <p:nvPr/>
        </p:nvPicPr>
        <p:blipFill>
          <a:blip r:embed="rId3"/>
          <a:stretch/>
        </p:blipFill>
        <p:spPr>
          <a:xfrm>
            <a:off x="2498760" y="1133640"/>
            <a:ext cx="2627280" cy="1255680"/>
          </a:xfrm>
          <a:prstGeom prst="rect">
            <a:avLst/>
          </a:prstGeom>
          <a:ln w="0">
            <a:noFill/>
          </a:ln>
        </p:spPr>
      </p:pic>
      <p:pic>
        <p:nvPicPr>
          <p:cNvPr id="443" name="Облако 6" descr=""/>
          <p:cNvPicPr/>
          <p:nvPr/>
        </p:nvPicPr>
        <p:blipFill>
          <a:blip r:embed="rId4"/>
          <a:stretch/>
        </p:blipFill>
        <p:spPr>
          <a:xfrm>
            <a:off x="4479840" y="3114720"/>
            <a:ext cx="2627280" cy="1255680"/>
          </a:xfrm>
          <a:prstGeom prst="rect">
            <a:avLst/>
          </a:prstGeom>
          <a:ln w="0">
            <a:noFill/>
          </a:ln>
        </p:spPr>
      </p:pic>
      <p:pic>
        <p:nvPicPr>
          <p:cNvPr id="444" name="Облако 7" descr=""/>
          <p:cNvPicPr/>
          <p:nvPr/>
        </p:nvPicPr>
        <p:blipFill>
          <a:blip r:embed="rId5"/>
          <a:stretch/>
        </p:blipFill>
        <p:spPr>
          <a:xfrm>
            <a:off x="5619600" y="1663560"/>
            <a:ext cx="2629080" cy="1255680"/>
          </a:xfrm>
          <a:prstGeom prst="rect">
            <a:avLst/>
          </a:prstGeom>
          <a:ln w="0">
            <a:noFill/>
          </a:ln>
        </p:spPr>
      </p:pic>
      <p:sp>
        <p:nvSpPr>
          <p:cNvPr id="445" name="TextBox 9"/>
          <p:cNvSpPr/>
          <p:nvPr/>
        </p:nvSpPr>
        <p:spPr>
          <a:xfrm>
            <a:off x="1017000" y="4724280"/>
            <a:ext cx="787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На дереве чирикает серый воро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Управляющая кнопка: далее 12"/>
          <p:cNvSpPr/>
          <p:nvPr/>
        </p:nvSpPr>
        <p:spPr>
          <a:xfrm>
            <a:off x="2971800" y="3657600"/>
            <a:ext cx="814320" cy="433440"/>
          </a:xfrm>
          <a:custGeom>
            <a:avLst/>
            <a:gdLst>
              <a:gd name="textAreaLeft" fmla="*/ 28080 w 814320"/>
              <a:gd name="textAreaRight" fmla="*/ 786240 w 8143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0565" h="21600">
                <a:moveTo>
                  <a:pt x="0" y="0"/>
                </a:moveTo>
                <a:lnTo>
                  <a:pt x="40565" y="0"/>
                </a:lnTo>
                <a:lnTo>
                  <a:pt x="40565" y="21600"/>
                </a:lnTo>
                <a:lnTo>
                  <a:pt x="0" y="21600"/>
                </a:lnTo>
                <a:close/>
              </a:path>
              <a:path fill="lightenLess" w="40565" h="21600">
                <a:moveTo>
                  <a:pt x="0" y="0"/>
                </a:moveTo>
                <a:lnTo>
                  <a:pt x="40565" y="0"/>
                </a:lnTo>
                <a:lnTo>
                  <a:pt x="39165" y="1400"/>
                </a:lnTo>
                <a:lnTo>
                  <a:pt x="1400" y="1400"/>
                </a:lnTo>
                <a:close/>
              </a:path>
              <a:path fill="darken" w="40565" h="21600">
                <a:moveTo>
                  <a:pt x="40565" y="0"/>
                </a:moveTo>
                <a:lnTo>
                  <a:pt x="40565" y="21600"/>
                </a:lnTo>
                <a:lnTo>
                  <a:pt x="39165" y="20200"/>
                </a:lnTo>
                <a:lnTo>
                  <a:pt x="39165" y="1400"/>
                </a:lnTo>
                <a:close/>
              </a:path>
              <a:path fill="darkenLess" w="40565" h="21600">
                <a:moveTo>
                  <a:pt x="40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65" y="20200"/>
                </a:lnTo>
                <a:close/>
              </a:path>
              <a:path fill="lighten" w="40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565" h="21600">
                <a:moveTo>
                  <a:pt x="13276" y="3794"/>
                </a:moveTo>
                <a:lnTo>
                  <a:pt x="27289" y="10800"/>
                </a:lnTo>
                <a:lnTo>
                  <a:pt x="13276" y="17806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утешествие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48" name="Picture 4" descr="C:\Documents and Settings\Светлана\Мои документы\ОПК\Анимация 2008\клипарты\Мои рисунки\страна\Безимени-1з97епшх08щ.jpg"/>
          <p:cNvPicPr/>
          <p:nvPr/>
        </p:nvPicPr>
        <p:blipFill>
          <a:blip r:embed="rId1"/>
          <a:stretch/>
        </p:blipFill>
        <p:spPr>
          <a:xfrm>
            <a:off x="1143000" y="1066680"/>
            <a:ext cx="7666200" cy="5462640"/>
          </a:xfrm>
          <a:prstGeom prst="rect">
            <a:avLst/>
          </a:prstGeom>
          <a:ln w="0">
            <a:noFill/>
          </a:ln>
        </p:spPr>
      </p:pic>
      <p:sp>
        <p:nvSpPr>
          <p:cNvPr id="449" name="Овал 5"/>
          <p:cNvSpPr/>
          <p:nvPr/>
        </p:nvSpPr>
        <p:spPr>
          <a:xfrm rot="21480000">
            <a:off x="3533400" y="2642760"/>
            <a:ext cx="3048120" cy="1676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14" descr="C:\Documents and Settings\Светлана\Мои документы\ОПК\Анимация 2008\клипарты\анимация3\sea39.gif"/>
          <p:cNvPicPr/>
          <p:nvPr/>
        </p:nvPicPr>
        <p:blipFill>
          <a:blip r:embed="rId2"/>
          <a:stretch/>
        </p:blipFill>
        <p:spPr>
          <a:xfrm>
            <a:off x="2971800" y="3276720"/>
            <a:ext cx="2666880" cy="1796760"/>
          </a:xfrm>
          <a:prstGeom prst="rect">
            <a:avLst/>
          </a:prstGeom>
          <a:ln w="0">
            <a:noFill/>
          </a:ln>
        </p:spPr>
      </p:pic>
      <p:sp>
        <p:nvSpPr>
          <p:cNvPr id="451" name="Облако 7"/>
          <p:cNvSpPr/>
          <p:nvPr/>
        </p:nvSpPr>
        <p:spPr>
          <a:xfrm>
            <a:off x="2057400" y="1447920"/>
            <a:ext cx="1676520" cy="609480"/>
          </a:xfrm>
          <a:prstGeom prst="pie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Облако 8"/>
          <p:cNvSpPr/>
          <p:nvPr/>
        </p:nvSpPr>
        <p:spPr>
          <a:xfrm>
            <a:off x="6781680" y="1828800"/>
            <a:ext cx="167652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Капля 10"/>
          <p:cNvGrpSpPr/>
          <p:nvPr/>
        </p:nvGrpSpPr>
        <p:grpSpPr>
          <a:xfrm>
            <a:off x="1335240" y="4657680"/>
            <a:ext cx="2309760" cy="1955880"/>
            <a:chOff x="1335240" y="4657680"/>
            <a:chExt cx="2309760" cy="1955880"/>
          </a:xfrm>
        </p:grpSpPr>
        <p:pic>
          <p:nvPicPr>
            <p:cNvPr id="454" name="Капля 10" descr=""/>
            <p:cNvPicPr/>
            <p:nvPr/>
          </p:nvPicPr>
          <p:blipFill>
            <a:blip r:embed="rId3"/>
            <a:stretch/>
          </p:blipFill>
          <p:spPr>
            <a:xfrm>
              <a:off x="1335240" y="4657680"/>
              <a:ext cx="2309760" cy="19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 rot="1980000">
              <a:off x="1674360" y="4976640"/>
              <a:ext cx="128772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TextBox 11"/>
          <p:cNvSpPr/>
          <p:nvPr/>
        </p:nvSpPr>
        <p:spPr>
          <a:xfrm>
            <a:off x="1442880" y="5334120"/>
            <a:ext cx="18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ПОВТОРЯЙ-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2" descr="C:\Users\1\Documents\Анимация 2008\анимация\tree22.gif"/>
          <p:cNvPicPr/>
          <p:nvPr/>
        </p:nvPicPr>
        <p:blipFill>
          <a:blip r:embed="rId4"/>
          <a:stretch/>
        </p:blipFill>
        <p:spPr>
          <a:xfrm>
            <a:off x="1600200" y="4335480"/>
            <a:ext cx="99540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e1ec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Box 1"/>
          <p:cNvSpPr/>
          <p:nvPr/>
        </p:nvSpPr>
        <p:spPr>
          <a:xfrm>
            <a:off x="3713400" y="1295280"/>
            <a:ext cx="330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Глагол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2"/>
          <p:cNvSpPr/>
          <p:nvPr/>
        </p:nvSpPr>
        <p:spPr>
          <a:xfrm>
            <a:off x="1066680" y="2514600"/>
            <a:ext cx="80773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ь речи, обозначает действ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мета, отвечает на вопро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Что делает? Что сделает?,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предложении является сказуемы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дрей</cp:lastModifiedBy>
  <dcterms:modified xsi:type="dcterms:W3CDTF">2009-02-14T07:09:17Z</dcterms:modified>
  <cp:revision>34</cp:revision>
  <dc:subject/>
  <dc:title>Урок русского языка</dc:title>
</cp:coreProperties>
</file>