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7.gif" ContentType="image/gif"/>
  <Override PartName="/ppt/media/image3.png" ContentType="image/png"/>
  <Override PartName="/ppt/media/image26.png" ContentType="image/png"/>
  <Override PartName="/ppt/media/image29.gif" ContentType="image/gif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14.gif" ContentType="image/gif"/>
  <Override PartName="/ppt/media/image17.png" ContentType="image/pn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74D-CDC3-4175-9F70-68FB7915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1BB-5797-46F5-9480-DC697C7E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BD6A8-18DF-4815-877D-75B12A6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5E8E2-DFC2-48D7-9A42-5007E7EE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9674-AE26-4987-8FC6-A7A045B0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AE99C-0413-43C5-B477-6E71E9A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63223-5F78-4394-9488-69AAB9B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174F2-A412-4B6F-9BB4-AC64F9F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4B6CC-E074-4A89-91B9-B03FB169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14B49-39DE-4E46-AE29-80FE060D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833BC-E804-480D-8CC7-0477D6D4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C27-57BE-4F3F-A759-D3BF2547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B7E-F06C-41AF-A7B0-8E716114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90E8-99EC-4C87-A0B8-77DAAD72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44FB-F595-4FC6-B0FF-C3C140E5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DA6-7776-4D4E-92BA-2A8F16F4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D6A8-18F2-4CCD-8389-F4C058A2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D03-D1D7-4C7B-A52E-57C9563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6D4F-0331-465D-8EF1-0A6BD998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FF66-4968-41E0-BE3A-6FCAA7BA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EC2-A627-41CF-8334-3E8F9CA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BF41-DE18-4AD7-B0D8-69F0966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254F-879A-4B87-A243-3391AD1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766D-04AC-4287-B54A-28A6B58D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82BA-EF56-454E-A200-207EBC02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B736-148E-45A3-861F-B7BA958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D73C-AF92-4D90-802F-BF8953EA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B8A90-D74C-4E5E-99B2-7BEA8A47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9D89-D75D-4B54-8D3D-6B4D58D5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169C-78AA-4E15-BD0E-16206DCC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6755-132A-4CB2-86BF-13E4E3D2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950-0675-432B-9F54-2E6EB51D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BE72-8170-402E-8D76-76DF41F0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F8AE-911F-4512-A462-A00A7C5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C0F3-C535-4C48-B75D-7CE134C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DFE0-F599-447D-98DA-60E062B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082F-1831-420A-96AE-0F99886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5912-DB3D-4C14-8CB3-2AB43C2A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695C-2E4A-4BB1-85FE-41ADB34A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AD88-46C6-4346-AD47-BC6AD494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A8D7-448F-4F19-94B6-35CCCA2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BE04-F43E-439F-97C1-DA6E8EBA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AC5-3E9D-4FE5-807B-07434A7A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ECDD-83EA-4AE1-8F9E-ADC394A0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EDAB-8A06-49D7-92BD-21D355EB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D12C-D958-4ABC-AA1F-AF521F9B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C2A5-942F-49F7-827C-C5C9647F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7DB7-8383-457D-90AC-2AFAA07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EEAA-9C44-429C-B954-3AEE844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56CA-AA40-4F8A-9CDA-D6E9FBA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24CE-9788-40DF-AC76-23D52EA1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FDDC-9116-41DC-8764-3CFC4F8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6F15-5CFC-4156-AFAC-00581783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53F-6F78-484F-82C2-A1129FE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309C-D48A-4AE6-B5E4-5C6E2D44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F7DDA-F60C-47CB-8318-46818FF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F18A-5A5F-4DF3-A55B-645476A9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9FCE5-8253-41D7-8321-EB17121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1655-8F36-4981-B8F6-574F274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90425-B26D-4ADC-9DA7-0D676D5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CAC56-140D-4523-B6A4-D7FCD67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D4CF0-D696-4309-A584-A03071CA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BFB49-BBA3-4488-888A-848CDA6C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4765-1D83-4F9B-9133-89ABC407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DEC-3EA5-4894-A7A1-FC4C35F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21844-283A-4EE9-8B4A-460D1147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C1D5-7602-4C7B-A8C9-DA74D839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5EB59-35D2-4F42-B615-E01D5F73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378C-D517-491D-A6A7-0C39EFF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AFB8A-ACA5-41E2-8942-2D85E94B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663AE-E664-40F6-855D-77F2D617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2F4C-5ED4-4CF0-8A1D-8B2DEAE9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772C7-6A5A-434E-A2C2-69619CAB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E0F3F-AC65-4FE2-9A43-AB5D6D02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F754-82A6-4901-A67F-F389158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E99-196D-4F42-952E-17FDF88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ED0F-8B61-4818-92E0-BF517E9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7326-DF74-481D-825D-8F5ED695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D7EFD-E6BB-4D56-BC0E-6472E6CB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C77F-2C37-4FB2-A0E9-14E78E9D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A87C-317B-4EF6-A26A-ED8A408F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BE892-7624-477B-B8A8-609B5CEC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E8EA-B853-4A72-A13C-34A051BF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D214C-B41C-42C4-9CF1-DE75F3AE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12F1D-04F3-430C-B5A5-63583C9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223EB-4B02-4C67-A739-63E2F59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E5B-816F-4898-AA2B-A23FD4C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1F81-B5E7-4C83-94EF-83F1C35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FAF0-15BB-462E-ACB1-7A13BF5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3BB7-B34A-4E44-9387-71F4B4CF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6A804-E24F-4466-AAAF-B1B9CF69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1B72F-5D59-4C8D-988E-1C44DD77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45B53-A355-4C52-86AA-F49B9781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7D14D-AB4F-4426-BE4F-E4FA679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EA160-6C3C-44FA-B7B1-CFCB9C2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17C6-76C5-47FB-98B9-069110C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F87F-3DE0-4643-A510-4658B9E1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88C-9744-4FFE-A388-7A09ACAA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AB162-B61D-4561-9E34-41BBC60F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45B3D-6A07-4CF7-BC05-6915F9B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6C31A-11F1-4146-9DD3-0E877AD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159A8-4064-4A51-B8F3-8C605121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240EC-8803-48C4-AD29-DD70E49F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7DD1E-E779-475E-9EF9-B59ED457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68EF4-AE84-477D-8CCD-0450465D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6C655-56F4-4EF9-BADB-1E53A882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FEAE4-EA06-44FE-9225-72ACEF7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8BD2F-27B9-4874-8B3A-ACAA2AF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F40-7AE2-4193-A735-8E004A25A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9D89-5FE6-448C-9896-9B1E4AF0B6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488E-D2FB-4128-9C6C-290B16DD5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0E65-A1FC-4506-93FA-BC5FBA3C1A1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3775-474F-4404-906A-6C3A5D0539F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1908-4214-4192-AE5D-F08FD9E338D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D7C0-3557-4FAA-9BA0-A93F1FBB00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3893-CEEC-431F-A4C3-FF6D6DF531F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551D-A3A1-4204-8DFD-52478818335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&#1091;&#1088;&#1086;&#1082;.ppt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hyperlink" Target="file:///&#1091;&#1088;&#1086;&#1082;.ppt#5. &#1057;&#1083;&#1072;&#1081;&#1076; 5" TargetMode="External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274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Урок русского языка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1" name="Picture 10" descr=""/>
          <p:cNvPicPr/>
          <p:nvPr/>
        </p:nvPicPr>
        <p:blipFill>
          <a:blip r:embed="rId1"/>
          <a:stretch/>
        </p:blipFill>
        <p:spPr>
          <a:xfrm>
            <a:off x="7391520" y="3657600"/>
            <a:ext cx="1143000" cy="87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3"/>
          <p:cNvSpPr/>
          <p:nvPr/>
        </p:nvSpPr>
        <p:spPr>
          <a:xfrm>
            <a:off x="3809520" y="53352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1456200" y="2514600"/>
            <a:ext cx="23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жу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1452600" y="350532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1380960" y="434340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жёл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7"/>
          <p:cNvSpPr/>
          <p:nvPr/>
        </p:nvSpPr>
        <p:spPr>
          <a:xfrm>
            <a:off x="1457640" y="533412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TextBox 8" descr=""/>
          <p:cNvPicPr/>
          <p:nvPr/>
        </p:nvPicPr>
        <p:blipFill>
          <a:blip r:embed="rId1"/>
          <a:stretch/>
        </p:blipFill>
        <p:spPr>
          <a:xfrm>
            <a:off x="4078440" y="2371680"/>
            <a:ext cx="2706480" cy="901800"/>
          </a:xfrm>
          <a:prstGeom prst="rect">
            <a:avLst/>
          </a:prstGeom>
          <a:ln w="0">
            <a:noFill/>
          </a:ln>
        </p:spPr>
      </p:pic>
      <p:pic>
        <p:nvPicPr>
          <p:cNvPr id="466" name="TextBox 9" descr=""/>
          <p:cNvPicPr/>
          <p:nvPr/>
        </p:nvPicPr>
        <p:blipFill>
          <a:blip r:embed="rId2"/>
          <a:stretch/>
        </p:blipFill>
        <p:spPr>
          <a:xfrm>
            <a:off x="4078440" y="3438360"/>
            <a:ext cx="2657160" cy="90180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10" descr=""/>
          <p:cNvPicPr/>
          <p:nvPr/>
        </p:nvPicPr>
        <p:blipFill>
          <a:blip r:embed="rId3"/>
          <a:stretch/>
        </p:blipFill>
        <p:spPr>
          <a:xfrm>
            <a:off x="4078440" y="4352760"/>
            <a:ext cx="2481120" cy="901800"/>
          </a:xfrm>
          <a:prstGeom prst="rect">
            <a:avLst/>
          </a:prstGeom>
          <a:ln w="0">
            <a:noFill/>
          </a:ln>
        </p:spPr>
      </p:pic>
      <p:pic>
        <p:nvPicPr>
          <p:cNvPr id="468" name="TextBox 11" descr=""/>
          <p:cNvPicPr/>
          <p:nvPr/>
        </p:nvPicPr>
        <p:blipFill>
          <a:blip r:embed="rId4"/>
          <a:stretch/>
        </p:blipFill>
        <p:spPr>
          <a:xfrm>
            <a:off x="4078440" y="5187960"/>
            <a:ext cx="2566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1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219320" y="990720"/>
            <a:ext cx="7665840" cy="5462640"/>
          </a:xfrm>
          <a:prstGeom prst="rect">
            <a:avLst/>
          </a:prstGeom>
          <a:ln w="0">
            <a:noFill/>
          </a:ln>
        </p:spPr>
      </p:pic>
      <p:sp>
        <p:nvSpPr>
          <p:cNvPr id="472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474" name="Облако 7"/>
          <p:cNvSpPr/>
          <p:nvPr/>
        </p:nvSpPr>
        <p:spPr>
          <a:xfrm>
            <a:off x="1371600" y="2971800"/>
            <a:ext cx="25909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З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Облако 8"/>
          <p:cNvSpPr/>
          <p:nvPr/>
        </p:nvSpPr>
        <p:spPr>
          <a:xfrm>
            <a:off x="5562720" y="1828800"/>
            <a:ext cx="289548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79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481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Капля 10"/>
          <p:cNvGrpSpPr/>
          <p:nvPr/>
        </p:nvGrpSpPr>
        <p:grpSpPr>
          <a:xfrm>
            <a:off x="1676520" y="4748040"/>
            <a:ext cx="1974600" cy="1944720"/>
            <a:chOff x="1676520" y="4748040"/>
            <a:chExt cx="1974600" cy="1944720"/>
          </a:xfrm>
        </p:grpSpPr>
        <p:pic>
          <p:nvPicPr>
            <p:cNvPr id="484" name="Капля 10" descr=""/>
            <p:cNvPicPr/>
            <p:nvPr/>
          </p:nvPicPr>
          <p:blipFill>
            <a:blip r:embed="rId3"/>
            <a:stretch/>
          </p:blipFill>
          <p:spPr>
            <a:xfrm>
              <a:off x="1676520" y="4748040"/>
              <a:ext cx="197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019240" y="5062680"/>
              <a:ext cx="128736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rbel"/>
                </a:rPr>
                <a:t>Знай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7" name="Picture 4" descr="C:\Users\777\Documents\Анимация\Анимация 2008\анимация\31m3.gif"/>
          <p:cNvPicPr/>
          <p:nvPr/>
        </p:nvPicPr>
        <p:blipFill>
          <a:blip r:embed="rId1"/>
          <a:stretch/>
        </p:blipFill>
        <p:spPr>
          <a:xfrm>
            <a:off x="4800600" y="3200400"/>
            <a:ext cx="2657520" cy="3110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C:\Users\777\Documents\Анимация\Анимация 2008\анимация\37r6.gif"/>
          <p:cNvPicPr/>
          <p:nvPr/>
        </p:nvPicPr>
        <p:blipFill>
          <a:blip r:embed="rId2"/>
          <a:stretch/>
        </p:blipFill>
        <p:spPr>
          <a:xfrm>
            <a:off x="3581280" y="990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89" name="TextBox 5"/>
          <p:cNvSpPr/>
          <p:nvPr/>
        </p:nvSpPr>
        <p:spPr>
          <a:xfrm>
            <a:off x="1530720" y="1676520"/>
            <a:ext cx="197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6639840" y="175248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в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342900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ч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80046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7245720" y="6019920"/>
            <a:ext cx="15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ё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2"/>
          <p:cNvSpPr/>
          <p:nvPr/>
        </p:nvSpPr>
        <p:spPr>
          <a:xfrm>
            <a:off x="843480" y="1219320"/>
            <a:ext cx="187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цв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228600" y="4343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для справок:  </a:t>
            </a:r>
            <a:r>
              <a:rPr b="0" i="1" lang="ru-RU" sz="2800" spc="-1" strike="noStrike">
                <a:solidFill>
                  <a:srgbClr val="000000"/>
                </a:solidFill>
                <a:latin typeface="Roman"/>
              </a:rPr>
              <a:t>молчать, отдавать, ненавидеть, отцвести, ломать</a:t>
            </a:r>
            <a:r>
              <a:rPr b="0" i="1" lang="ru-RU" sz="1800" spc="-1" strike="noStrike">
                <a:solidFill>
                  <a:srgbClr val="000000"/>
                </a:solidFill>
                <a:latin typeface="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9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99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501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Капля 10"/>
          <p:cNvGrpSpPr/>
          <p:nvPr/>
        </p:nvGrpSpPr>
        <p:grpSpPr>
          <a:xfrm>
            <a:off x="1335240" y="4657680"/>
            <a:ext cx="2309760" cy="1955880"/>
            <a:chOff x="1335240" y="4657680"/>
            <a:chExt cx="2309760" cy="1955880"/>
          </a:xfrm>
        </p:grpSpPr>
        <p:pic>
          <p:nvPicPr>
            <p:cNvPr id="504" name="Капля 10" descr=""/>
            <p:cNvPicPr/>
            <p:nvPr/>
          </p:nvPicPr>
          <p:blipFill>
            <a:blip r:embed="rId3"/>
            <a:stretch/>
          </p:blipFill>
          <p:spPr>
            <a:xfrm>
              <a:off x="1335240" y="4657680"/>
              <a:ext cx="23097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 rot="1980000">
              <a:off x="1674360" y="4976640"/>
              <a:ext cx="1287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Box 11"/>
          <p:cNvSpPr/>
          <p:nvPr/>
        </p:nvSpPr>
        <p:spPr>
          <a:xfrm>
            <a:off x="1611360" y="5334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крепляй 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C:\Users\1\Documents\Анимация 2008\анимация\tree22.gif"/>
          <p:cNvPicPr/>
          <p:nvPr/>
        </p:nvPicPr>
        <p:blipFill>
          <a:blip r:embed="rId4"/>
          <a:stretch/>
        </p:blipFill>
        <p:spPr>
          <a:xfrm>
            <a:off x="1600200" y="4335480"/>
            <a:ext cx="9954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10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511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513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Капля 10"/>
          <p:cNvGrpSpPr/>
          <p:nvPr/>
        </p:nvGrpSpPr>
        <p:grpSpPr>
          <a:xfrm>
            <a:off x="1335240" y="4657680"/>
            <a:ext cx="2309760" cy="1955880"/>
            <a:chOff x="1335240" y="4657680"/>
            <a:chExt cx="2309760" cy="1955880"/>
          </a:xfrm>
        </p:grpSpPr>
        <p:pic>
          <p:nvPicPr>
            <p:cNvPr id="516" name="Капля 10" descr=""/>
            <p:cNvPicPr/>
            <p:nvPr/>
          </p:nvPicPr>
          <p:blipFill>
            <a:blip r:embed="rId3"/>
            <a:stretch/>
          </p:blipFill>
          <p:spPr>
            <a:xfrm>
              <a:off x="1335240" y="4657680"/>
              <a:ext cx="23097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 rot="1980000">
              <a:off x="1674360" y="4976640"/>
              <a:ext cx="1287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11"/>
          <p:cNvSpPr/>
          <p:nvPr/>
        </p:nvSpPr>
        <p:spPr>
          <a:xfrm>
            <a:off x="1600200" y="5334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Глаго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C:\Users\1\Documents\Анимация 2008\анимация\tree22.gif"/>
          <p:cNvPicPr/>
          <p:nvPr/>
        </p:nvPicPr>
        <p:blipFill>
          <a:blip r:embed="rId4"/>
          <a:stretch/>
        </p:blipFill>
        <p:spPr>
          <a:xfrm>
            <a:off x="1600200" y="4335480"/>
            <a:ext cx="9954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G:\faces.png"/>
          <p:cNvPicPr/>
          <p:nvPr/>
        </p:nvPicPr>
        <p:blipFill>
          <a:blip r:embed="rId1"/>
          <a:stretch/>
        </p:blipFill>
        <p:spPr>
          <a:xfrm>
            <a:off x="1447920" y="2133720"/>
            <a:ext cx="66070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8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1720" y="2895120"/>
            <a:ext cx="7407000" cy="1295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Спасибо за урок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ма: Глаголы- антонимы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71600" y="23619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знакомимся с глаголами – антонимами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учимся подбирать слова с противоположным значение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1524240" y="16765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Управляющая кнопка: далее 12">
            <a:hlinkClick r:id="rId1" action="ppaction://hlinksldjump"/>
          </p:cNvPr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1295280" y="1981080"/>
            <a:ext cx="1143000" cy="509760"/>
          </a:xfrm>
          <a:custGeom>
            <a:avLst/>
            <a:gdLst>
              <a:gd name="textAreaLeft" fmla="*/ 32760 w 1143000"/>
              <a:gd name="textAreaRight" fmla="*/ 1110240 w 1143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8413" h="21600">
                <a:moveTo>
                  <a:pt x="0" y="0"/>
                </a:moveTo>
                <a:lnTo>
                  <a:pt x="48413" y="0"/>
                </a:lnTo>
                <a:lnTo>
                  <a:pt x="48413" y="21600"/>
                </a:lnTo>
                <a:lnTo>
                  <a:pt x="0" y="21600"/>
                </a:lnTo>
                <a:close/>
              </a:path>
              <a:path fill="lightenLess" w="48413" h="21600">
                <a:moveTo>
                  <a:pt x="0" y="0"/>
                </a:moveTo>
                <a:lnTo>
                  <a:pt x="48413" y="0"/>
                </a:lnTo>
                <a:lnTo>
                  <a:pt x="47013" y="1400"/>
                </a:lnTo>
                <a:lnTo>
                  <a:pt x="1400" y="1400"/>
                </a:lnTo>
                <a:close/>
              </a:path>
              <a:path fill="darken" w="48413" h="21600">
                <a:moveTo>
                  <a:pt x="48413" y="0"/>
                </a:moveTo>
                <a:lnTo>
                  <a:pt x="48413" y="21600"/>
                </a:lnTo>
                <a:lnTo>
                  <a:pt x="47013" y="20200"/>
                </a:lnTo>
                <a:lnTo>
                  <a:pt x="47013" y="1400"/>
                </a:lnTo>
                <a:close/>
              </a:path>
              <a:path fill="darkenLess" w="48413" h="21600">
                <a:moveTo>
                  <a:pt x="48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3" y="20200"/>
                </a:lnTo>
                <a:close/>
              </a:path>
              <a:path fill="lighten" w="48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3" h="21600">
                <a:moveTo>
                  <a:pt x="17200" y="3794"/>
                </a:moveTo>
                <a:lnTo>
                  <a:pt x="31213" y="10800"/>
                </a:lnTo>
                <a:lnTo>
                  <a:pt x="17200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2"/>
          <a:stretch/>
        </p:blipFill>
        <p:spPr>
          <a:xfrm>
            <a:off x="1325520" y="121932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5"/>
          <p:cNvSpPr/>
          <p:nvPr/>
        </p:nvSpPr>
        <p:spPr>
          <a:xfrm rot="21480000">
            <a:off x="3885840" y="2590560"/>
            <a:ext cx="3048120" cy="1676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3"/>
          <a:stretch/>
        </p:blipFill>
        <p:spPr>
          <a:xfrm>
            <a:off x="4267080" y="2895480"/>
            <a:ext cx="2667240" cy="1797120"/>
          </a:xfrm>
          <a:prstGeom prst="rect">
            <a:avLst/>
          </a:prstGeom>
          <a:ln w="0">
            <a:noFill/>
          </a:ln>
        </p:spPr>
      </p:pic>
      <p:sp>
        <p:nvSpPr>
          <p:cNvPr id="411" name="Облако 6"/>
          <p:cNvSpPr/>
          <p:nvPr/>
        </p:nvSpPr>
        <p:spPr>
          <a:xfrm>
            <a:off x="1143000" y="1600200"/>
            <a:ext cx="243828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ист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Облако 7"/>
          <p:cNvSpPr/>
          <p:nvPr/>
        </p:nvSpPr>
        <p:spPr>
          <a:xfrm>
            <a:off x="2209680" y="3352680"/>
            <a:ext cx="23623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вторя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Облако 8"/>
          <p:cNvSpPr/>
          <p:nvPr/>
        </p:nvSpPr>
        <p:spPr>
          <a:xfrm>
            <a:off x="6553080" y="327672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на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Облако 10"/>
          <p:cNvSpPr/>
          <p:nvPr/>
        </p:nvSpPr>
        <p:spPr>
          <a:xfrm>
            <a:off x="6095880" y="1295280"/>
            <a:ext cx="243864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репля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Управляющая кнопка: далее 12">
            <a:hlinkClick r:id="rId1" action="ppaction://hlinksldjump"/>
          </p:cNvPr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7" name="Picture 4" descr="C:\Documents and Settings\Светлана\Мои документы\ОПК\Анимация 2008\клипарты\Мои рисунки\страна\Безимени-1з97епшх08щ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18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4"/>
          <a:stretch/>
        </p:blipFill>
        <p:spPr>
          <a:xfrm>
            <a:off x="5715000" y="3124080"/>
            <a:ext cx="2666880" cy="1797120"/>
          </a:xfrm>
          <a:prstGeom prst="rect">
            <a:avLst/>
          </a:prstGeom>
          <a:ln w="0">
            <a:noFill/>
          </a:ln>
        </p:spPr>
      </p:pic>
      <p:sp>
        <p:nvSpPr>
          <p:cNvPr id="420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блако 8"/>
          <p:cNvSpPr/>
          <p:nvPr/>
        </p:nvSpPr>
        <p:spPr>
          <a:xfrm>
            <a:off x="3581280" y="34290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Блок-схема: ручное управление 13"/>
          <p:cNvGrpSpPr/>
          <p:nvPr/>
        </p:nvGrpSpPr>
        <p:grpSpPr>
          <a:xfrm>
            <a:off x="6016680" y="4748040"/>
            <a:ext cx="2828880" cy="920880"/>
            <a:chOff x="6016680" y="4748040"/>
            <a:chExt cx="2828880" cy="920880"/>
          </a:xfrm>
        </p:grpSpPr>
        <p:pic>
          <p:nvPicPr>
            <p:cNvPr id="423" name="Блок-схема: ручное управление 13" descr=""/>
            <p:cNvPicPr/>
            <p:nvPr/>
          </p:nvPicPr>
          <p:blipFill>
            <a:blip r:embed="rId5"/>
            <a:stretch/>
          </p:blipFill>
          <p:spPr>
            <a:xfrm>
              <a:off x="6016680" y="4748040"/>
              <a:ext cx="28288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rot="10800000">
              <a:off x="6629040" y="4800240"/>
              <a:ext cx="1600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14"/>
          <p:cNvSpPr/>
          <p:nvPr/>
        </p:nvSpPr>
        <p:spPr>
          <a:xfrm>
            <a:off x="6414840" y="51055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ЧИСТОПИС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2" descr="C:\Documents and Settings\Светлана\Мои документы\ОПК\Анимация 2008\клипарты\животные\190.gif"/>
          <p:cNvPicPr/>
          <p:nvPr/>
        </p:nvPicPr>
        <p:blipFill>
          <a:blip r:embed="rId1"/>
          <a:stretch/>
        </p:blipFill>
        <p:spPr>
          <a:xfrm>
            <a:off x="7086600" y="4492800"/>
            <a:ext cx="1397160" cy="14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8" name="Picture 3" descr="C:\Documents and Settings\Светлана\Мои документы\ОПК\Анимация 2008\клипарты\животные\183.gif"/>
          <p:cNvPicPr/>
          <p:nvPr/>
        </p:nvPicPr>
        <p:blipFill>
          <a:blip r:embed="rId2"/>
          <a:stretch/>
        </p:blipFill>
        <p:spPr>
          <a:xfrm>
            <a:off x="609480" y="1219320"/>
            <a:ext cx="1619280" cy="213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Picture 4" descr="C:\Documents and Settings\Светлана\Мои документы\ОПК\Анимация 2008\клипарты\рисунки56\vorob13.jpg"/>
          <p:cNvPicPr/>
          <p:nvPr/>
        </p:nvPicPr>
        <p:blipFill>
          <a:blip r:embed="rId3"/>
          <a:stretch/>
        </p:blipFill>
        <p:spPr>
          <a:xfrm>
            <a:off x="609480" y="4419720"/>
            <a:ext cx="177804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0" name="Picture 5" descr="C:\Documents and Settings\Светлана\Мои документы\ОПК\Анимация 2008\клипарты\Мои рисунки\школа2\sbear.gif"/>
          <p:cNvPicPr/>
          <p:nvPr/>
        </p:nvPicPr>
        <p:blipFill>
          <a:blip r:embed="rId4"/>
          <a:stretch/>
        </p:blipFill>
        <p:spPr>
          <a:xfrm>
            <a:off x="3581280" y="1905120"/>
            <a:ext cx="2219400" cy="160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1" name="Picture 6" descr=""/>
          <p:cNvPicPr/>
          <p:nvPr/>
        </p:nvPicPr>
        <p:blipFill>
          <a:blip r:embed="rId5"/>
          <a:stretch/>
        </p:blipFill>
        <p:spPr>
          <a:xfrm>
            <a:off x="7162920" y="1676520"/>
            <a:ext cx="1295280" cy="164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2" name="Picture 10" descr="C:\Documents and Settings\Светлана\Мои документы\ОПК\Анимация 2008\АНИМАЦИЯ4\jiv1618.gif"/>
          <p:cNvPicPr/>
          <p:nvPr/>
        </p:nvPicPr>
        <p:blipFill>
          <a:blip r:embed="rId6"/>
          <a:stretch/>
        </p:blipFill>
        <p:spPr>
          <a:xfrm>
            <a:off x="3809880" y="4572000"/>
            <a:ext cx="1730520" cy="135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1686600" y="1828800"/>
            <a:ext cx="173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3581280" y="1828800"/>
            <a:ext cx="279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ед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6488280" y="1828800"/>
            <a:ext cx="23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н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"/>
          <p:cNvSpPr/>
          <p:nvPr/>
        </p:nvSpPr>
        <p:spPr>
          <a:xfrm>
            <a:off x="1001160" y="3048120"/>
            <a:ext cx="27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бе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7"/>
          <p:cNvSpPr/>
          <p:nvPr/>
        </p:nvSpPr>
        <p:spPr>
          <a:xfrm>
            <a:off x="3814200" y="3048120"/>
            <a:ext cx="190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ух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8"/>
          <p:cNvSpPr/>
          <p:nvPr/>
        </p:nvSpPr>
        <p:spPr>
          <a:xfrm>
            <a:off x="5806080" y="3048120"/>
            <a:ext cx="22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3" descr="C:\Documents and Settings\Светлана\Мои документы\ОПК\Анимация 2008\клипарты\анимация3\sea9.gif"/>
          <p:cNvPicPr/>
          <p:nvPr/>
        </p:nvPicPr>
        <p:blipFill>
          <a:blip r:embed="rId1"/>
          <a:stretch/>
        </p:blipFill>
        <p:spPr>
          <a:xfrm>
            <a:off x="7543800" y="5105520"/>
            <a:ext cx="800280" cy="790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лако 3" descr=""/>
          <p:cNvPicPr/>
          <p:nvPr/>
        </p:nvPicPr>
        <p:blipFill>
          <a:blip r:embed="rId1"/>
          <a:stretch/>
        </p:blipFill>
        <p:spPr>
          <a:xfrm>
            <a:off x="365040" y="291960"/>
            <a:ext cx="2627280" cy="1255680"/>
          </a:xfrm>
          <a:prstGeom prst="rect">
            <a:avLst/>
          </a:prstGeom>
          <a:ln w="0">
            <a:noFill/>
          </a:ln>
        </p:spPr>
      </p:pic>
      <p:pic>
        <p:nvPicPr>
          <p:cNvPr id="441" name="Облако 4" descr=""/>
          <p:cNvPicPr/>
          <p:nvPr/>
        </p:nvPicPr>
        <p:blipFill>
          <a:blip r:embed="rId2"/>
          <a:stretch/>
        </p:blipFill>
        <p:spPr>
          <a:xfrm>
            <a:off x="895320" y="3035160"/>
            <a:ext cx="2629080" cy="1255680"/>
          </a:xfrm>
          <a:prstGeom prst="rect">
            <a:avLst/>
          </a:prstGeom>
          <a:ln w="0">
            <a:noFill/>
          </a:ln>
        </p:spPr>
      </p:pic>
      <p:pic>
        <p:nvPicPr>
          <p:cNvPr id="442" name="Облако 5" descr=""/>
          <p:cNvPicPr/>
          <p:nvPr/>
        </p:nvPicPr>
        <p:blipFill>
          <a:blip r:embed="rId3"/>
          <a:stretch/>
        </p:blipFill>
        <p:spPr>
          <a:xfrm>
            <a:off x="2498760" y="1133640"/>
            <a:ext cx="2627280" cy="1255680"/>
          </a:xfrm>
          <a:prstGeom prst="rect">
            <a:avLst/>
          </a:prstGeom>
          <a:ln w="0">
            <a:noFill/>
          </a:ln>
        </p:spPr>
      </p:pic>
      <p:pic>
        <p:nvPicPr>
          <p:cNvPr id="443" name="Облако 6" descr=""/>
          <p:cNvPicPr/>
          <p:nvPr/>
        </p:nvPicPr>
        <p:blipFill>
          <a:blip r:embed="rId4"/>
          <a:stretch/>
        </p:blipFill>
        <p:spPr>
          <a:xfrm>
            <a:off x="4479840" y="3114720"/>
            <a:ext cx="2627280" cy="1255680"/>
          </a:xfrm>
          <a:prstGeom prst="rect">
            <a:avLst/>
          </a:prstGeom>
          <a:ln w="0">
            <a:noFill/>
          </a:ln>
        </p:spPr>
      </p:pic>
      <p:pic>
        <p:nvPicPr>
          <p:cNvPr id="444" name="Облако 7" descr=""/>
          <p:cNvPicPr/>
          <p:nvPr/>
        </p:nvPicPr>
        <p:blipFill>
          <a:blip r:embed="rId5"/>
          <a:stretch/>
        </p:blipFill>
        <p:spPr>
          <a:xfrm>
            <a:off x="5619600" y="1663560"/>
            <a:ext cx="2629080" cy="1255680"/>
          </a:xfrm>
          <a:prstGeom prst="rect">
            <a:avLst/>
          </a:prstGeom>
          <a:ln w="0">
            <a:noFill/>
          </a:ln>
        </p:spPr>
      </p:pic>
      <p:sp>
        <p:nvSpPr>
          <p:cNvPr id="445" name="TextBox 9"/>
          <p:cNvSpPr/>
          <p:nvPr/>
        </p:nvSpPr>
        <p:spPr>
          <a:xfrm>
            <a:off x="1017000" y="472428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а дереве чирикает серый воро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Управляющая кнопка: далее 12"/>
          <p:cNvSpPr/>
          <p:nvPr/>
        </p:nvSpPr>
        <p:spPr>
          <a:xfrm>
            <a:off x="2971800" y="3657600"/>
            <a:ext cx="814320" cy="433440"/>
          </a:xfrm>
          <a:custGeom>
            <a:avLst/>
            <a:gdLst>
              <a:gd name="textAreaLeft" fmla="*/ 28080 w 814320"/>
              <a:gd name="textAreaRight" fmla="*/ 786240 w 8143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0565" h="21600">
                <a:moveTo>
                  <a:pt x="0" y="0"/>
                </a:moveTo>
                <a:lnTo>
                  <a:pt x="40565" y="0"/>
                </a:lnTo>
                <a:lnTo>
                  <a:pt x="40565" y="21600"/>
                </a:lnTo>
                <a:lnTo>
                  <a:pt x="0" y="21600"/>
                </a:lnTo>
                <a:close/>
              </a:path>
              <a:path fill="lightenLess" w="40565" h="21600">
                <a:moveTo>
                  <a:pt x="0" y="0"/>
                </a:moveTo>
                <a:lnTo>
                  <a:pt x="40565" y="0"/>
                </a:lnTo>
                <a:lnTo>
                  <a:pt x="39165" y="1400"/>
                </a:lnTo>
                <a:lnTo>
                  <a:pt x="1400" y="1400"/>
                </a:lnTo>
                <a:close/>
              </a:path>
              <a:path fill="darken" w="40565" h="21600">
                <a:moveTo>
                  <a:pt x="40565" y="0"/>
                </a:moveTo>
                <a:lnTo>
                  <a:pt x="40565" y="21600"/>
                </a:lnTo>
                <a:lnTo>
                  <a:pt x="39165" y="20200"/>
                </a:lnTo>
                <a:lnTo>
                  <a:pt x="39165" y="1400"/>
                </a:lnTo>
                <a:close/>
              </a:path>
              <a:path fill="darkenLess" w="40565" h="21600">
                <a:moveTo>
                  <a:pt x="40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65" y="20200"/>
                </a:lnTo>
                <a:close/>
              </a:path>
              <a:path fill="lighten" w="40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65" h="21600">
                <a:moveTo>
                  <a:pt x="13276" y="3794"/>
                </a:moveTo>
                <a:lnTo>
                  <a:pt x="27289" y="10800"/>
                </a:lnTo>
                <a:lnTo>
                  <a:pt x="13276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утешеств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8" name="Picture 4" descr="C:\Documents and Settings\Светлана\Мои документы\ОПК\Анимация 2008\клипарты\Мои рисунки\страна\Безимени-1з97епшх08щ.jpg"/>
          <p:cNvPicPr/>
          <p:nvPr/>
        </p:nvPicPr>
        <p:blipFill>
          <a:blip r:embed="rId1"/>
          <a:stretch/>
        </p:blipFill>
        <p:spPr>
          <a:xfrm>
            <a:off x="1143000" y="1066680"/>
            <a:ext cx="7666200" cy="5462640"/>
          </a:xfrm>
          <a:prstGeom prst="rect">
            <a:avLst/>
          </a:prstGeom>
          <a:ln w="0">
            <a:noFill/>
          </a:ln>
        </p:spPr>
      </p:pic>
      <p:sp>
        <p:nvSpPr>
          <p:cNvPr id="449" name="Овал 5"/>
          <p:cNvSpPr/>
          <p:nvPr/>
        </p:nvSpPr>
        <p:spPr>
          <a:xfrm rot="21480000">
            <a:off x="3533400" y="2642760"/>
            <a:ext cx="3048120" cy="1676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4" descr="C:\Documents and Settings\Светлана\Мои документы\ОПК\Анимация 2008\клипарты\анимация3\sea39.gif"/>
          <p:cNvPicPr/>
          <p:nvPr/>
        </p:nvPicPr>
        <p:blipFill>
          <a:blip r:embed="rId2"/>
          <a:stretch/>
        </p:blipFill>
        <p:spPr>
          <a:xfrm>
            <a:off x="2971800" y="3276720"/>
            <a:ext cx="2666880" cy="1796760"/>
          </a:xfrm>
          <a:prstGeom prst="rect">
            <a:avLst/>
          </a:prstGeom>
          <a:ln w="0">
            <a:noFill/>
          </a:ln>
        </p:spPr>
      </p:pic>
      <p:sp>
        <p:nvSpPr>
          <p:cNvPr id="451" name="Облако 7"/>
          <p:cNvSpPr/>
          <p:nvPr/>
        </p:nvSpPr>
        <p:spPr>
          <a:xfrm>
            <a:off x="2057400" y="1447920"/>
            <a:ext cx="167652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блако 8"/>
          <p:cNvSpPr/>
          <p:nvPr/>
        </p:nvSpPr>
        <p:spPr>
          <a:xfrm>
            <a:off x="6781680" y="1828800"/>
            <a:ext cx="167652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Капля 10"/>
          <p:cNvGrpSpPr/>
          <p:nvPr/>
        </p:nvGrpSpPr>
        <p:grpSpPr>
          <a:xfrm>
            <a:off x="1335240" y="4657680"/>
            <a:ext cx="2309760" cy="1955880"/>
            <a:chOff x="1335240" y="4657680"/>
            <a:chExt cx="2309760" cy="1955880"/>
          </a:xfrm>
        </p:grpSpPr>
        <p:pic>
          <p:nvPicPr>
            <p:cNvPr id="454" name="Капля 10" descr=""/>
            <p:cNvPicPr/>
            <p:nvPr/>
          </p:nvPicPr>
          <p:blipFill>
            <a:blip r:embed="rId3"/>
            <a:stretch/>
          </p:blipFill>
          <p:spPr>
            <a:xfrm>
              <a:off x="1335240" y="4657680"/>
              <a:ext cx="230976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 rot="1980000">
              <a:off x="1674360" y="4976640"/>
              <a:ext cx="1287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Box 11"/>
          <p:cNvSpPr/>
          <p:nvPr/>
        </p:nvSpPr>
        <p:spPr>
          <a:xfrm>
            <a:off x="1442880" y="53341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ВТОРЯ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C:\Users\1\Documents\Анимация 2008\анимация\tree22.gif"/>
          <p:cNvPicPr/>
          <p:nvPr/>
        </p:nvPicPr>
        <p:blipFill>
          <a:blip r:embed="rId4"/>
          <a:stretch/>
        </p:blipFill>
        <p:spPr>
          <a:xfrm>
            <a:off x="1600200" y="4335480"/>
            <a:ext cx="9954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3713400" y="1295280"/>
            <a:ext cx="33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Глагол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"/>
          <p:cNvSpPr/>
          <p:nvPr/>
        </p:nvSpPr>
        <p:spPr>
          <a:xfrm>
            <a:off x="1066680" y="251460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ь речи, обозначает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а, отвечает на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Что делает? Что сделает?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предложении является сказуем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9-02-14T07:09:17Z</dcterms:modified>
  <cp:revision>34</cp:revision>
  <dc:subject/>
  <dc:title>Урок русского языка</dc:title>
</cp:coreProperties>
</file>