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EB0-27EF-4CD1-9218-D211E6E9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A02-EE7E-459F-B88D-CDBE43A7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8EF-3E5F-4E1B-9A41-41B6BA06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09D-6AF7-4995-B7A5-A86BBD6C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BF6-CC72-4C9A-B45A-E9417DE7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8D6-0F9D-451C-9E7F-AEC32CF3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CF6-4C36-4EA5-B7BE-AEA5E562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F76-42A0-405D-84A6-0E1270B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360-1F5A-4C67-87D1-1689D15B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06D-7D44-4E34-80C5-BD8617D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8AA-A708-46BF-AEB3-AE11D1E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E33-7C62-4BE6-85F4-20F09B73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F631-B925-4BDE-A10B-CF9C7D62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202aa566231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72400">
            <a:off x="380880" y="228240"/>
            <a:ext cx="5181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7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льткроссвор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7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3200400" cy="1905120"/>
          </a:xfrm>
          <a:prstGeom prst="cloudCallout">
            <a:avLst>
              <a:gd name="adj1" fmla="val 97819"/>
              <a:gd name="adj2" fmla="val 71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0481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перёд!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on82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2276640" cy="2211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4800600" y="685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191120" y="685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410080" y="685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297180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800600" y="13716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410080" y="13716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191120" y="13716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3581280" y="13716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54100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6232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480060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19112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54100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35812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17524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10080" y="27432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4191120" y="34290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480060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419112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3581280" y="27432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297180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5410080" y="34290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48006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4800600" y="34290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3581280" y="34290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419112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35812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29718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236232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17524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>
            <a:off x="11430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3429000" y="7621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>
            <a:off x="2743200" y="14479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990720" y="22096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6"/>
          <p:cNvSpPr/>
          <p:nvPr/>
        </p:nvSpPr>
        <p:spPr>
          <a:xfrm>
            <a:off x="2209680" y="2895480"/>
            <a:ext cx="609840" cy="381240"/>
          </a:xfrm>
          <a:custGeom>
            <a:avLst/>
            <a:gdLst>
              <a:gd name="textAreaLeft" fmla="*/ 0 w 609840"/>
              <a:gd name="textAreaRight" fmla="*/ 610200 w 6098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2743200" y="35053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8"/>
          <p:cNvSpPr/>
          <p:nvPr/>
        </p:nvSpPr>
        <p:spPr>
          <a:xfrm>
            <a:off x="380880" y="4267080"/>
            <a:ext cx="609840" cy="381240"/>
          </a:xfrm>
          <a:custGeom>
            <a:avLst/>
            <a:gdLst>
              <a:gd name="textAreaLeft" fmla="*/ 0 w 609840"/>
              <a:gd name="textAreaRight" fmla="*/ 610200 w 6098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ерфолента 1"/>
          <p:cNvSpPr/>
          <p:nvPr/>
        </p:nvSpPr>
        <p:spPr>
          <a:xfrm>
            <a:off x="762120" y="5410080"/>
            <a:ext cx="7619760" cy="1219320"/>
          </a:xfrm>
          <a:prstGeom prst="flowChartPunchedTape">
            <a:avLst/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Грозный царь зверей! В одном мультфильме он назван королё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2"/>
          <p:cNvSpPr/>
          <p:nvPr/>
        </p:nvSpPr>
        <p:spPr>
          <a:xfrm>
            <a:off x="1447920" y="5486400"/>
            <a:ext cx="647676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ремя года, которое никогда не видел Дед Мор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410080"/>
            <a:ext cx="716256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ростоквашино эту машину назвали Митей и кормили су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257800"/>
            <a:ext cx="73915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Шарманщик, вырезавший себе сына из деревянного пол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410080"/>
            <a:ext cx="87631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Он очень хотел узнать, что едят на завтрак крокодилы, и пострадал от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410080"/>
            <a:ext cx="746784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Девочка с голубыми волосами, которая хотела научить Бурат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781680" y="3276720"/>
            <a:ext cx="1425600" cy="181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553080" y="2286000"/>
            <a:ext cx="22100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685800" y="228600"/>
            <a:ext cx="207000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6400800" y="152280"/>
            <a:ext cx="2552760" cy="178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6172200" y="2438280"/>
            <a:ext cx="2762280" cy="214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410080"/>
            <a:ext cx="39625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МОЛОДЦЫ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6400800" y="5029200"/>
            <a:ext cx="175248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 - карт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брешова Светлана</dc:creator>
  <dc:description/>
  <dc:language>en-US</dc:language>
  <cp:lastModifiedBy>Инна</cp:lastModifiedBy>
  <dcterms:modified xsi:type="dcterms:W3CDTF">2012-08-30T11:41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