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F66-70B6-413C-A933-2473FB3A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A6F-80E3-4998-8C84-89D680CA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389-19E4-4F72-940C-C7FED058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079-859C-4A44-AC8B-0F173484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2D0-057F-415E-8762-835F11F9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C1E-8BE6-46C8-97C2-F4192D39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0A2-3097-47C7-BEFF-6C9D2B86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FFC-158D-4B79-B5D4-9A6F5088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7F7-5177-4708-BEF3-1AEAE0AE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A83-53CA-4BE6-818F-101427DD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7BB-1832-4F22-B5D9-8BE7FBE9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20E-1902-4F95-8698-AC083487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E775-E3A0-4832-BC3A-6E2DB1E43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202aa566231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272400">
            <a:off x="380880" y="228240"/>
            <a:ext cx="5181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27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льткроссворд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27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3200400" cy="1905120"/>
          </a:xfrm>
          <a:prstGeom prst="cloudCallout">
            <a:avLst>
              <a:gd name="adj1" fmla="val 97819"/>
              <a:gd name="adj2" fmla="val 71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3048120"/>
            <a:ext cx="2361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перёд!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ion82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00800" y="1752480"/>
            <a:ext cx="2276640" cy="22114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4800600" y="685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191120" y="685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5410080" y="6858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2971800" y="20574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4800600" y="13716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5410080" y="13716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4191120" y="13716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3581280" y="13716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5410080" y="20574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362320" y="20574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4800600" y="20574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191120" y="20574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5410080" y="41148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3581280" y="20574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1752480" y="20574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5410080" y="27432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4191120" y="34290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4800600" y="27432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4191120" y="27432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3581280" y="27432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2971800" y="27432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5410080" y="34290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4800600" y="4114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9"/>
          <p:cNvSpPr/>
          <p:nvPr/>
        </p:nvSpPr>
        <p:spPr>
          <a:xfrm>
            <a:off x="4800600" y="34290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3581280" y="34290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1"/>
          <p:cNvSpPr/>
          <p:nvPr/>
        </p:nvSpPr>
        <p:spPr>
          <a:xfrm>
            <a:off x="4191120" y="4114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2"/>
          <p:cNvSpPr/>
          <p:nvPr/>
        </p:nvSpPr>
        <p:spPr>
          <a:xfrm>
            <a:off x="3581280" y="41148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3"/>
          <p:cNvSpPr/>
          <p:nvPr/>
        </p:nvSpPr>
        <p:spPr>
          <a:xfrm>
            <a:off x="2971800" y="4114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>
            <a:off x="2362320" y="4114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1752480" y="4114800"/>
            <a:ext cx="60984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7"/>
          <p:cNvSpPr/>
          <p:nvPr/>
        </p:nvSpPr>
        <p:spPr>
          <a:xfrm>
            <a:off x="1143000" y="4114800"/>
            <a:ext cx="609480" cy="6858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2"/>
          <p:cNvSpPr/>
          <p:nvPr/>
        </p:nvSpPr>
        <p:spPr>
          <a:xfrm>
            <a:off x="3429000" y="762120"/>
            <a:ext cx="609480" cy="380880"/>
          </a:xfrm>
          <a:custGeom>
            <a:avLst/>
            <a:gdLst>
              <a:gd name="textAreaLeft" fmla="*/ 0 w 609480"/>
              <a:gd name="textAreaRight" fmla="*/ 609840 w 6094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4"/>
          <p:cNvSpPr/>
          <p:nvPr/>
        </p:nvSpPr>
        <p:spPr>
          <a:xfrm>
            <a:off x="2743200" y="1447920"/>
            <a:ext cx="609480" cy="380880"/>
          </a:xfrm>
          <a:custGeom>
            <a:avLst/>
            <a:gdLst>
              <a:gd name="textAreaLeft" fmla="*/ 0 w 609480"/>
              <a:gd name="textAreaRight" fmla="*/ 609840 w 6094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5"/>
          <p:cNvSpPr/>
          <p:nvPr/>
        </p:nvSpPr>
        <p:spPr>
          <a:xfrm>
            <a:off x="990720" y="2209680"/>
            <a:ext cx="609480" cy="38124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6"/>
          <p:cNvSpPr/>
          <p:nvPr/>
        </p:nvSpPr>
        <p:spPr>
          <a:xfrm>
            <a:off x="2209680" y="2895480"/>
            <a:ext cx="609840" cy="381240"/>
          </a:xfrm>
          <a:custGeom>
            <a:avLst/>
            <a:gdLst>
              <a:gd name="textAreaLeft" fmla="*/ 0 w 609840"/>
              <a:gd name="textAreaRight" fmla="*/ 610200 w 6098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7"/>
          <p:cNvSpPr/>
          <p:nvPr/>
        </p:nvSpPr>
        <p:spPr>
          <a:xfrm>
            <a:off x="2743200" y="3505320"/>
            <a:ext cx="609480" cy="380880"/>
          </a:xfrm>
          <a:custGeom>
            <a:avLst/>
            <a:gdLst>
              <a:gd name="textAreaLeft" fmla="*/ 0 w 609480"/>
              <a:gd name="textAreaRight" fmla="*/ 609840 w 6094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8"/>
          <p:cNvSpPr/>
          <p:nvPr/>
        </p:nvSpPr>
        <p:spPr>
          <a:xfrm>
            <a:off x="380880" y="4267080"/>
            <a:ext cx="609840" cy="381240"/>
          </a:xfrm>
          <a:custGeom>
            <a:avLst/>
            <a:gdLst>
              <a:gd name="textAreaLeft" fmla="*/ 0 w 609840"/>
              <a:gd name="textAreaRight" fmla="*/ 610200 w 6098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перфолента 1"/>
          <p:cNvSpPr/>
          <p:nvPr/>
        </p:nvSpPr>
        <p:spPr>
          <a:xfrm>
            <a:off x="762120" y="5410080"/>
            <a:ext cx="7619760" cy="1219320"/>
          </a:xfrm>
          <a:prstGeom prst="flowChartPunchedTape">
            <a:avLst/>
          </a:prstGeom>
          <a:solidFill>
            <a:srgbClr val="ffcc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Грозный царь зверей! В одном мультфильме он назван королё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2"/>
          <p:cNvSpPr/>
          <p:nvPr/>
        </p:nvSpPr>
        <p:spPr>
          <a:xfrm>
            <a:off x="1447920" y="5486400"/>
            <a:ext cx="647676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ремя года, которое никогда не видел Дед Мор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5410080"/>
            <a:ext cx="716256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ростоквашино эту машину назвали Митей и кормили су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257800"/>
            <a:ext cx="739152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Шарманщик, вырезавший себе сына из деревянного пол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410080"/>
            <a:ext cx="876312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Он очень хотел узнать, что едят на завтрак крокодилы, и пострадал от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410080"/>
            <a:ext cx="746784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Девочка с голубыми волосами, которая хотела научить Бурат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6781680" y="3276720"/>
            <a:ext cx="1425600" cy="181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6553080" y="2286000"/>
            <a:ext cx="2210040" cy="113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1"/>
          <a:stretch/>
        </p:blipFill>
        <p:spPr>
          <a:xfrm>
            <a:off x="685800" y="228600"/>
            <a:ext cx="2070000" cy="120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2"/>
          <a:stretch/>
        </p:blipFill>
        <p:spPr>
          <a:xfrm>
            <a:off x="6400800" y="152280"/>
            <a:ext cx="2552760" cy="178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3"/>
          <a:stretch/>
        </p:blipFill>
        <p:spPr>
          <a:xfrm>
            <a:off x="6172200" y="2438280"/>
            <a:ext cx="2762280" cy="2141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5410080"/>
            <a:ext cx="3962520" cy="8002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МОЛОДЦЫ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6400800" y="5029200"/>
            <a:ext cx="1752480" cy="15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500"/>
                            </p:stCondLst>
                            <p:childTnLst>
                              <p:par>
                                <p:cTn id="2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mages.yandex.ru</a:t>
            </a: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 - карт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брешова Светлана</dc:creator>
  <dc:description/>
  <dc:language>en-US</dc:language>
  <cp:lastModifiedBy>Инна</cp:lastModifiedBy>
  <dcterms:modified xsi:type="dcterms:W3CDTF">2012-08-30T11:41:3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