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9CA-7A3E-41BD-BFDD-C9BCE625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477-ACDF-4EBB-8EBF-22EF1C0A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3FF-F910-4F81-8973-9A8C9E47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411-0934-4C55-8C6E-7D19B649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6FD-99D8-4255-A3E1-4466FAF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DAD-2567-4592-9DCB-59231110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4A5-BDA4-49E0-B81D-ABA597CC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305-CBE3-4498-A98D-2988063D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CA9-4EDB-41F5-9DBC-155C97C3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B1A-FC17-43C6-96F8-942D13A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A0F-3C73-4693-8107-5BB15BB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CCA-63FC-4F60-B99C-C436FD0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2AFD-63D9-4880-8FB9-305AA08D9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280" y="15840"/>
            <a:ext cx="929628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762120"/>
            <a:ext cx="54864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Школьник"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280" y="15840"/>
            <a:ext cx="9296280" cy="684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609480" y="609480"/>
          <a:ext cx="8153640" cy="4454640"/>
        </p:xfrm>
        <a:graphic>
          <a:graphicData uri="http://schemas.openxmlformats.org/drawingml/2006/table">
            <a:tbl>
              <a:tblPr/>
              <a:tblGrid>
                <a:gridCol w="587520"/>
                <a:gridCol w="590400"/>
                <a:gridCol w="587520"/>
                <a:gridCol w="542880"/>
                <a:gridCol w="601560"/>
                <a:gridCol w="671760"/>
                <a:gridCol w="533160"/>
                <a:gridCol w="587520"/>
                <a:gridCol w="590400"/>
                <a:gridCol w="587520"/>
                <a:gridCol w="584280"/>
                <a:gridCol w="587160"/>
                <a:gridCol w="568440"/>
                <a:gridCol w="533520"/>
              </a:tblGrid>
              <a:tr h="567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59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 txBox="1"/>
          <p:nvPr/>
        </p:nvSpPr>
        <p:spPr>
          <a:xfrm>
            <a:off x="304920" y="26668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Место, где дети учатся читать, писать и счита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13280" y="5257800"/>
            <a:ext cx="55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Бывает черным и цветным, помогает рис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0743600">
            <a:off x="6555240" y="6094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10743600">
            <a:off x="6021720" y="17524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10743600">
            <a:off x="4802400" y="12193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743600">
            <a:off x="6021720" y="12193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10743600">
            <a:off x="6021720" y="3352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 rot="10743600">
            <a:off x="3659400" y="22860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0743600">
            <a:off x="5412240" y="44956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 rot="10743600">
            <a:off x="777420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0743600">
            <a:off x="7774200" y="12193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743600">
            <a:off x="3049920" y="28195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10743600">
            <a:off x="4803480" y="6091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 rot="10743600">
            <a:off x="365940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 rot="10743600">
            <a:off x="3659400" y="3352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 rot="10743600">
            <a:off x="6555240" y="44956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0743600">
            <a:off x="716472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0743600">
            <a:off x="5412240" y="17524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10743600">
            <a:off x="5412240" y="60948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 rot="10743600">
            <a:off x="6022800" y="6091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743600">
            <a:off x="6022800" y="388584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0743600">
            <a:off x="6553080" y="121932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0743600">
            <a:off x="5412240" y="121932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0743600">
            <a:off x="7162560" y="121932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0743600">
            <a:off x="8305560" y="1218960"/>
            <a:ext cx="3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43600">
            <a:off x="2971440" y="1752480"/>
            <a:ext cx="3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43600">
            <a:off x="3581280" y="175248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43600">
            <a:off x="4800240" y="175248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743600">
            <a:off x="1906920" y="22860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 rot="10743600">
            <a:off x="2440440" y="228600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0743600">
            <a:off x="2968560" y="2283840"/>
            <a:ext cx="382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0743600">
            <a:off x="687600" y="281952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0743600">
            <a:off x="1297440" y="281952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0743600">
            <a:off x="1908000" y="281916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 rot="10743600">
            <a:off x="3660480" y="281916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10743600">
            <a:off x="2440440" y="281952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 rot="10743600">
            <a:off x="5410080" y="3352680"/>
            <a:ext cx="3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10743600">
            <a:off x="4803480" y="33523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 rot="10743600">
            <a:off x="4800240" y="3886200"/>
            <a:ext cx="3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0743600">
            <a:off x="4802400" y="4495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 rot="10743600">
            <a:off x="5412240" y="3886200"/>
            <a:ext cx="39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10743600">
            <a:off x="6021720" y="449568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 rot="10743600">
            <a:off x="7165800" y="4495320"/>
            <a:ext cx="3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743600">
            <a:off x="6631200" y="3886200"/>
            <a:ext cx="392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486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Ему рады, особенно те, кто не выучил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53341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Место, где живут ручки, карандаши, резинка и много вещей, необходимых учен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54864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В ней дети пишут буквы и цифры, она бывает в клетку и линей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2480" y="571500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Мудрости всех учит, а сама молч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5410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Тоненькая палочка носом поведет и за собою разноцветный след ведет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41008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Разноцветные сестрички весело живут, с кисточкою дружат, любят рис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819000" cy="1219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96080" y="1522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819520" cy="150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553080" y="2133720"/>
            <a:ext cx="23623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90512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 –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Кроссворд – Игры для детей, ООО «Издательство АСТ»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2-08-24T17:41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