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5BF-5214-4D52-90B5-67C5A0D2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7AC-576C-4C6F-B5DB-634AEE3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B8DF-6661-491B-A279-011FADC5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FEC-C623-4E6A-8896-1257D1AE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564-6257-4ED7-A14F-1005D4B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0BF-3FC1-42BA-8D3B-C6EA93FA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D1A-7A12-4546-BE73-289049A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AC6-2D98-48D4-B9CF-D351B37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5FE-8782-414F-9255-BA48E116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A01-21E7-47AC-A408-0B3A52B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8AE-E620-4D5B-BA00-2580A61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AC6-AE17-45EA-BB6C-2D980795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82DB-635A-415A-8816-9C22A90E0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280" y="1584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762120"/>
            <a:ext cx="54864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Школьник"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280" y="15840"/>
            <a:ext cx="929628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609480" y="609480"/>
          <a:ext cx="8153640" cy="4454640"/>
        </p:xfrm>
        <a:graphic>
          <a:graphicData uri="http://schemas.openxmlformats.org/drawingml/2006/table">
            <a:tbl>
              <a:tblPr/>
              <a:tblGrid>
                <a:gridCol w="587520"/>
                <a:gridCol w="590400"/>
                <a:gridCol w="587520"/>
                <a:gridCol w="542880"/>
                <a:gridCol w="601560"/>
                <a:gridCol w="671760"/>
                <a:gridCol w="533160"/>
                <a:gridCol w="587520"/>
                <a:gridCol w="590400"/>
                <a:gridCol w="587520"/>
                <a:gridCol w="584280"/>
                <a:gridCol w="587160"/>
                <a:gridCol w="568440"/>
                <a:gridCol w="533520"/>
              </a:tblGrid>
              <a:tr h="567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5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304920" y="26668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Место, где дети учатся читать, писать и с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13280" y="525780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Бывает черным и цветным, помогает рис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743600">
            <a:off x="6555240" y="609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743600">
            <a:off x="6021720" y="17524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743600">
            <a:off x="480240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743600">
            <a:off x="602172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743600">
            <a:off x="6021720" y="3352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0743600">
            <a:off x="3659400" y="22860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0743600">
            <a:off x="5412240" y="44956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743600">
            <a:off x="77742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743600">
            <a:off x="777420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743600">
            <a:off x="3049920" y="28195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743600">
            <a:off x="4803480" y="6091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0743600">
            <a:off x="36594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10743600">
            <a:off x="3659400" y="3352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743600">
            <a:off x="6555240" y="44956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0743600">
            <a:off x="716472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0743600">
            <a:off x="5412240" y="1752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743600">
            <a:off x="5412240" y="609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743600">
            <a:off x="6022800" y="6091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743600">
            <a:off x="6022800" y="388584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743600">
            <a:off x="6553080" y="121932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743600">
            <a:off x="5412240" y="12193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743600">
            <a:off x="7162560" y="12193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0743600">
            <a:off x="8305560" y="1218960"/>
            <a:ext cx="3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43600">
            <a:off x="2971440" y="175248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43600">
            <a:off x="3581280" y="175248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43600">
            <a:off x="4800240" y="175248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743600">
            <a:off x="1906920" y="22860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0743600">
            <a:off x="2440440" y="228600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743600">
            <a:off x="2968560" y="2283840"/>
            <a:ext cx="382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0743600">
            <a:off x="687600" y="28195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0743600">
            <a:off x="1297440" y="28195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0743600">
            <a:off x="1908000" y="281916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 rot="10743600">
            <a:off x="3660480" y="281916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0743600">
            <a:off x="2440440" y="28195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 rot="10743600">
            <a:off x="5410080" y="335268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743600">
            <a:off x="4803480" y="33523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 rot="10743600">
            <a:off x="4800240" y="388620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0743600">
            <a:off x="4802400" y="4495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743600">
            <a:off x="5412240" y="388620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743600">
            <a:off x="6021720" y="4495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743600">
            <a:off x="7165800" y="44953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743600">
            <a:off x="66312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486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Ему рады, особенно те, кто не выучил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53341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Место, где живут ручки, карандаши, резинка и много вещей, необходимых уче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В ней дети пишут буквы и цифры, она бывает в клетку и линей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2480" y="5715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Мудрости всех учит, а сама молч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410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Тоненькая палочка носом поведет и за собою разноцветный след ведет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41008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Разноцветные сестрички весело живут, с кисточкою дружат, любят рис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81900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81952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553080" y="2133720"/>
            <a:ext cx="23623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–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Кроссворд – Игры для детей, ООО «Издательство АСТ»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2-08-24T17:4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