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0676-FEC3-4CBF-B7AF-D687563FB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B424-3419-4860-9801-F015EA0B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616D-887E-4B84-B6E9-7BFA6A3AB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8DD9-3B34-40A0-923F-76D06CFD5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FDDE-4941-446A-B395-4DC256B5B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9093-88A9-4FD3-87E2-57129D78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DF66-0989-4BCD-B5EB-4A120AAA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92B5-0C15-444C-AC5F-1CACD161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F94A-0743-42A1-82C7-4B93C2A0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396B-FC7C-4CA4-A782-10E4B571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9E21-4D02-44AB-9134-1723D086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50DA-54D5-4FC9-A97E-962F5D16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A50C-1276-4DC9-A634-85FEC356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B7C3-4D59-455B-B53D-8A69843E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88DF-7E92-4AE7-A475-A770C814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4C57-D603-4F20-919A-6D81B469A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83A5-A67A-4974-9038-3C388462B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D8CE-BF6D-4CB8-8C9D-9E021979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0073-6FCA-49C6-BCCF-2DB9CEA4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E88C-D890-4F45-A8FA-2C8A85F2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9EB3-BC97-446C-B0EB-5882E48F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2166-D969-437C-9743-DFA15CF6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7AC3-62DF-4753-AD43-35C44AC6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04D3-8B32-4437-B34E-A5032FDD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0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d5a26">
                  <a:alpha val="45098"/>
                </a:srgbClr>
              </a:gs>
              <a:gs pos="100000">
                <a:srgbClr val="9da56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b8158">
                  <a:alpha val="45098"/>
                </a:srgbClr>
              </a:gs>
              <a:gs pos="100000">
                <a:srgbClr val="dd6a2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75f55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dd80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c32d2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84aa3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5a51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15a5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5a51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E864-660E-4EC3-9733-2346511AB3B6}" type="slidenum">
              <a:rPr b="0" lang="ru-RU" sz="1200" spc="-1" strike="noStrike">
                <a:solidFill>
                  <a:srgbClr val="715a5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0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d5a26">
                  <a:alpha val="45098"/>
                </a:srgbClr>
              </a:gs>
              <a:gs pos="100000">
                <a:srgbClr val="9da56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b8158">
                  <a:alpha val="45098"/>
                </a:srgbClr>
              </a:gs>
              <a:gs pos="100000">
                <a:srgbClr val="dd6a2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ad5a26">
                  <a:alpha val="45098"/>
                </a:srgbClr>
              </a:gs>
              <a:gs pos="100000">
                <a:srgbClr val="9da56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7b8158">
                  <a:alpha val="45098"/>
                </a:srgbClr>
              </a:gs>
              <a:gs pos="100000">
                <a:srgbClr val="dd6a2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75f55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dd80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c32d2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84aa3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5a51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15a5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5a51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F28A-CFCE-490F-A969-AEB0BAC61748}" type="slidenum">
              <a:rPr b="0" lang="ru-RU" sz="1200" spc="-1" strike="noStrike">
                <a:solidFill>
                  <a:srgbClr val="715a5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4194000" y="633240"/>
            <a:ext cx="4767480" cy="25736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714840" y="3429000"/>
            <a:ext cx="4572000" cy="3000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«Бородино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«Недаром помнит вся Росс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 день Бородина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.Ю.Лермон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30240" y="938160"/>
            <a:ext cx="4767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5840" y="4287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75f55"/>
                </a:solidFill>
                <a:latin typeface="Arial"/>
              </a:rPr>
              <a:t>Разминка</a:t>
            </a:r>
            <a:endParaRPr b="0" lang="en-US" sz="48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85480" y="142884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Жан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-504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ид художественного произвед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-504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Иде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-504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сновная мысль художественного произвед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-504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Те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-504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то то, о чем говорится в тексте. Тема текста часто отражается в его заголов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-504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Компози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строение произвед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Из чего состоит композиц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кспозиция, развязка, развитие действия, кульминация, завязк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85840" y="999720"/>
            <a:ext cx="85010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Завяз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обытие, знаменующее начало развития действия в эпических и драматических произведен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Кульмина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мент наивысшего напряжения в художественном произведен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Развяз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дин из элементов сюжета, заключительный момент в развитии действия в художественном произведен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Arial"/>
              </a:rPr>
              <a:t>Развитие сюжета.</a:t>
            </a: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9680" y="704880"/>
            <a:ext cx="81867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75f55"/>
                </a:solidFill>
                <a:latin typeface="Arial"/>
              </a:rPr>
              <a:t>Рекомендации для чтения.</a:t>
            </a:r>
            <a:endParaRPr b="0" lang="en-US" sz="36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14200" y="1214280"/>
            <a:ext cx="87868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-я строфа - бодр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-я строфа - задумчи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 -я строфа - медлен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 -я строфа – недовольно, потом лукаво, трижды нарастает волн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 -я строфа - горд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 -7 -я строфы - устал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-я строфа – напряженно, горд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9-10-я строфы – напряженно, тревож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1-12-я строфы - сурово, потом сдержан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3-я строфа - печаль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pic>
        <p:nvPicPr>
          <p:cNvPr id="140" name="Содержимое 4" descr="Забил снаряд я в пушку туго...jpg"/>
          <p:cNvPicPr/>
          <p:nvPr/>
        </p:nvPicPr>
        <p:blipFill>
          <a:blip r:embed="rId1"/>
          <a:stretch/>
        </p:blipFill>
        <p:spPr>
          <a:xfrm>
            <a:off x="773280" y="1600200"/>
            <a:ext cx="3406680" cy="4525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бил снаряд 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пушку туго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571680" y="785880"/>
            <a:ext cx="5992560" cy="373068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2"/>
          <p:cNvSpPr/>
          <p:nvPr/>
        </p:nvSpPr>
        <p:spPr>
          <a:xfrm>
            <a:off x="4357800" y="4500720"/>
            <a:ext cx="45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ам не видать таких сражений!..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осились знамена как тен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дыму огонь блестел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вучал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булат, картеч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изжал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ука бойцов колоть устал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 ядрам пролетать мешал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ора кровавых т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Содержимое 4" descr="И отступили басурманы....jpg"/>
          <p:cNvPicPr/>
          <p:nvPr/>
        </p:nvPicPr>
        <p:blipFill>
          <a:blip r:embed="rId1"/>
          <a:stretch/>
        </p:blipFill>
        <p:spPr>
          <a:xfrm>
            <a:off x="500040" y="1000080"/>
            <a:ext cx="4286160" cy="5684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5572080" y="1920960"/>
            <a:ext cx="31147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 отступили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басурманы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457200" y="2340000"/>
            <a:ext cx="4038480" cy="30463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pic>
        <p:nvPicPr>
          <p:cNvPr id="150" name="Содержимое 4" descr="И молвил он....jpg"/>
          <p:cNvPicPr/>
          <p:nvPr/>
        </p:nvPicPr>
        <p:blipFill>
          <a:blip r:embed="rId1"/>
          <a:stretch/>
        </p:blipFill>
        <p:spPr>
          <a:xfrm>
            <a:off x="754200" y="1600200"/>
            <a:ext cx="3444840" cy="4525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 молвил он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75f55"/>
                </a:solidFill>
                <a:latin typeface="Arial"/>
                <a:ea typeface="Arial"/>
              </a:rPr>
              <a:t>Цели урока:</a:t>
            </a:r>
            <a:br>
              <a:rPr sz="3600"/>
            </a:br>
            <a:endParaRPr b="0" lang="en-US" sz="36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20" indent="-7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7920" indent="-7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знакомить с содержанием стихотворения “Бородино”, обратив особое внимание на его художественные достоинст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920" indent="-7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. Развивать у школьников умение делать анализ художественного текс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920" indent="-7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. Воспитывать у учащихся уважение к великому прошлому Росс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pic>
        <p:nvPicPr>
          <p:cNvPr id="153" name="Содержимое 4" descr="Французы двинулись как тучи....jpg"/>
          <p:cNvPicPr/>
          <p:nvPr/>
        </p:nvPicPr>
        <p:blipFill>
          <a:blip r:embed="rId1"/>
          <a:stretch/>
        </p:blipFill>
        <p:spPr>
          <a:xfrm>
            <a:off x="760320" y="1600200"/>
            <a:ext cx="3432240" cy="45259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ранцузы двинулись как тучи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pic>
        <p:nvPicPr>
          <p:cNvPr id="156" name="Содержимое 4" descr="Наш рукопашный бой....jpg"/>
          <p:cNvPicPr/>
          <p:nvPr/>
        </p:nvPicPr>
        <p:blipFill>
          <a:blip r:embed="rId1"/>
          <a:stretch/>
        </p:blipFill>
        <p:spPr>
          <a:xfrm>
            <a:off x="728640" y="1600200"/>
            <a:ext cx="3495600" cy="45259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ш рукопашный бой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357120" y="2214720"/>
            <a:ext cx="4100760" cy="33908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Arial"/>
              </a:rPr>
              <a:t>Проверка домашнего задания</a:t>
            </a:r>
            <a:endParaRPr b="0" lang="en-US" sz="40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7972560" cy="1014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53000"/>
          </a:bodyPr>
          <a:p>
            <a:pPr marL="242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2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лан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42280" indent="-242280">
              <a:lnSpc>
                <a:spcPct val="100000"/>
              </a:lnSpc>
              <a:spcBef>
                <a:spcPts val="901"/>
              </a:spcBef>
              <a:buClr>
                <a:srgbClr val="c32d2e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75f55"/>
                </a:solidFill>
                <a:latin typeface="Arial"/>
                <a:ea typeface="Arial"/>
              </a:rPr>
              <a:t>Отступл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56800" y="592920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(«Мы долго молча отступали…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5357880" y="1571760"/>
            <a:ext cx="33051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725796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2.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i="1" lang="ru-RU" sz="3600" spc="-1" strike="noStrike">
                <a:solidFill>
                  <a:srgbClr val="775f55"/>
                </a:solidFill>
                <a:latin typeface="Arial"/>
                <a:ea typeface="Arial"/>
              </a:rPr>
              <a:t>Выбор места сраж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6000840"/>
            <a:ext cx="7472520" cy="642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(«И вот нашли большое поле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000080" y="1851120"/>
            <a:ext cx="6000840" cy="39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28400" y="785880"/>
            <a:ext cx="7972200" cy="9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3. </a:t>
            </a:r>
            <a:r>
              <a:rPr b="1" i="1" lang="ru-RU" sz="3600" spc="-1" strike="noStrike">
                <a:solidFill>
                  <a:srgbClr val="775f55"/>
                </a:solidFill>
                <a:latin typeface="Arial"/>
                <a:ea typeface="Arial"/>
              </a:rPr>
              <a:t>Ожидание бо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6760" y="3214440"/>
            <a:ext cx="4643640" cy="2214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(«Два дня мы были в перестрелке.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214960" y="1530360"/>
            <a:ext cx="364320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000080"/>
            <a:ext cx="868680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4. </a:t>
            </a:r>
            <a:r>
              <a:rPr b="1" i="1" lang="ru-RU" sz="3600" spc="-1" strike="noStrike">
                <a:solidFill>
                  <a:srgbClr val="775f55"/>
                </a:solidFill>
                <a:latin typeface="Arial"/>
                <a:ea typeface="Arial"/>
              </a:rPr>
              <a:t>Ночь перед сражение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4500720"/>
            <a:ext cx="4686480" cy="1860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(«Прилег вздремнуть я у лафета…»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5357880" y="1643040"/>
            <a:ext cx="343368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6840" y="1071360"/>
            <a:ext cx="7900920" cy="85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5. </a:t>
            </a:r>
            <a:r>
              <a:rPr b="1" i="1" lang="ru-RU" sz="3600" spc="-1" strike="noStrike">
                <a:solidFill>
                  <a:srgbClr val="775f55"/>
                </a:solidFill>
                <a:latin typeface="Arial"/>
                <a:ea typeface="Arial"/>
              </a:rPr>
              <a:t>Клятва вер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3499920"/>
            <a:ext cx="5214960" cy="2860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(«И умереть мы обещал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И клятву верности сдержали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5286240" y="1928880"/>
            <a:ext cx="35546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6840" y="928440"/>
            <a:ext cx="8258040" cy="9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6. </a:t>
            </a:r>
            <a:r>
              <a:rPr b="1" i="1" lang="ru-RU" sz="3600" spc="-1" strike="noStrike">
                <a:solidFill>
                  <a:srgbClr val="775f55"/>
                </a:solidFill>
                <a:latin typeface="Times New Roman"/>
              </a:rPr>
              <a:t>Описание Бородинского сраж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14200" y="3499920"/>
            <a:ext cx="4283280" cy="2860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(«Вам не видать таких сражений!..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5218200" y="1811160"/>
            <a:ext cx="358452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99680" y="1000080"/>
            <a:ext cx="825804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7. </a:t>
            </a:r>
            <a:r>
              <a:rPr b="1" i="1" lang="ru-RU" sz="3600" spc="-1" strike="noStrike">
                <a:solidFill>
                  <a:srgbClr val="775f55"/>
                </a:solidFill>
                <a:latin typeface="Arial"/>
                <a:ea typeface="Arial"/>
              </a:rPr>
              <a:t>Поле боя после сраж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5857920"/>
            <a:ext cx="7972560" cy="714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(«Тогда считать мы стали раны «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285920" y="1643040"/>
            <a:ext cx="621504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20:48:26Z</dcterms:created>
  <dc:creator>Жанна</dc:creator>
  <dc:description/>
  <dc:language>en-US</dc:language>
  <cp:lastModifiedBy>Жанна</cp:lastModifiedBy>
  <dcterms:modified xsi:type="dcterms:W3CDTF">2007-12-01T11:34:49Z</dcterms:modified>
  <cp:revision>23</cp:revision>
  <dc:subject/>
  <dc:title>Слайд 1</dc:title>
</cp:coreProperties>
</file>