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8C3-6818-4526-B3FA-9DE30B6E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4ED-059F-4053-9605-A6389C69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AE6-2CA6-4FC5-BBDE-5E7BC232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C2B-023E-4CD7-A617-4C1DDF16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2AFF-5D74-48A4-A68C-FF715EF3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ECE6-D3DD-4347-B666-0D223FB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1249-2167-42BB-9708-04129868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12F1-B5A6-4630-9CE2-0888CD10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16C8-0FD8-48DD-96B2-45D9EC65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86F-4954-48E8-98A6-65302048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D834-0C75-44AE-8B27-F1C10E8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D0C-197F-44B2-B8DA-057B5A98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C969-6D7C-4FAC-9D5D-5E6429A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0911-D650-4805-806C-9127377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2651-BEF1-4E0E-BE0F-495FF7E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001-06B3-48DE-A347-72AB3E1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322-FDF2-499B-83B3-87CDEAA4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9D7-8059-4570-8568-57E6FDE3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393-4901-4175-9332-7838259A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A8D-EE82-4C4A-AF26-550D60F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CC1-C5AC-4B95-A73C-0399C3E0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766-5CB8-40F0-B5B1-F9BC443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5E4-82D1-4D73-83D8-DBAB23F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3DC-3D9D-4EB4-A068-2E9B9C1F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DAF-358E-441D-89CF-DB1511706EA1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0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84aa3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F767-1914-4E4D-8166-A77AAEC42B49}" type="slidenum">
              <a:rPr b="0" lang="ru-RU" sz="1200" spc="-1" strike="noStrike">
                <a:solidFill>
                  <a:srgbClr val="715a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194000" y="633240"/>
            <a:ext cx="4767480" cy="2573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714840" y="3429000"/>
            <a:ext cx="4572000" cy="30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Бородино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Недаром помнит вся Росс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 день Бородин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.Ю.Лермо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0240" y="938160"/>
            <a:ext cx="4767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75f55"/>
                </a:solidFill>
                <a:latin typeface="Arial"/>
              </a:rPr>
              <a:t>Разминка</a:t>
            </a:r>
            <a:endParaRPr b="0" lang="en-US" sz="48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8548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Жан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художественного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де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мысль художественного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то, о чем говорится в тексте. Тема текста часто отражается в его заголов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омпози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произ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з чего состоит компози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спозиция, развязка, развитие действия, кульминация, завязк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85840" y="99972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бытие, знаменующее начало развития действия в эпических и драматических произвед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мент наивысшего напряжения в художественном произвед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из элементов сюжета, заключительный момент в развитии действия в художественном произвед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Arial"/>
              </a:rPr>
              <a:t>Развитие сюжета.</a:t>
            </a:r>
            <a:endParaRPr b="0" lang="en-US" sz="44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9680" y="704880"/>
            <a:ext cx="8186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Arial"/>
              </a:rPr>
              <a:t>Рекомендации для чтения.</a:t>
            </a:r>
            <a:endParaRPr b="0" lang="en-US" sz="36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4200" y="1214280"/>
            <a:ext cx="87868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-я строфа - бод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-я строфа - задумчи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-я строфа - медл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-я строфа – недовольно, потом лукаво, трижды нарастает вол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-я строфа - гор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-7 -я строфы - уста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-я строфа – напряженно, гор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9-10-я строфы – напряженно, тревож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1-12-я строфы - сурово, потом сдержа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-я строфа - печа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40" name="Содержимое 4" descr="Забил снаряд я в пушку туго...jpg"/>
          <p:cNvPicPr/>
          <p:nvPr/>
        </p:nvPicPr>
        <p:blipFill>
          <a:blip r:embed="rId1"/>
          <a:stretch/>
        </p:blipFill>
        <p:spPr>
          <a:xfrm>
            <a:off x="773280" y="1600200"/>
            <a:ext cx="34066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бил снаряд 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пушку туго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5992560" cy="37306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2"/>
          <p:cNvSpPr/>
          <p:nvPr/>
        </p:nvSpPr>
        <p:spPr>
          <a:xfrm>
            <a:off x="4357800" y="450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ам не видать таких сражений!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сились знамена как тен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ыму огонь блест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вучал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улат, картеч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зж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а бойцов колоть уст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ядрам пролетать меша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ра кровавых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4" descr="И отступили басурманы....jpg"/>
          <p:cNvPicPr/>
          <p:nvPr/>
        </p:nvPicPr>
        <p:blipFill>
          <a:blip r:embed="rId1"/>
          <a:stretch/>
        </p:blipFill>
        <p:spPr>
          <a:xfrm>
            <a:off x="500040" y="1000080"/>
            <a:ext cx="4286160" cy="5684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572080" y="1920960"/>
            <a:ext cx="311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отступили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басурман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7200" y="2340000"/>
            <a:ext cx="4038480" cy="3046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0" name="Содержимое 4" descr="И молвил он....jpg"/>
          <p:cNvPicPr/>
          <p:nvPr/>
        </p:nvPicPr>
        <p:blipFill>
          <a:blip r:embed="rId1"/>
          <a:stretch/>
        </p:blipFill>
        <p:spPr>
          <a:xfrm>
            <a:off x="754200" y="1600200"/>
            <a:ext cx="3444840" cy="452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молвил он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Цели урока: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содержанием стихотворения “Бородино”, обратив особое внимание на его художественные достоин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Развивать у школьников умение делать анализ художественного тек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920" indent="-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Воспитывать у учащихся уважение к великому прошлому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3" name="Содержимое 4" descr="Французы двинулись как тучи....jpg"/>
          <p:cNvPicPr/>
          <p:nvPr/>
        </p:nvPicPr>
        <p:blipFill>
          <a:blip r:embed="rId1"/>
          <a:stretch/>
        </p:blipFill>
        <p:spPr>
          <a:xfrm>
            <a:off x="760320" y="1600200"/>
            <a:ext cx="343224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ранцузы двинулись как тучи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6" name="Содержимое 4" descr="Наш рукопашный бой....jpg"/>
          <p:cNvPicPr/>
          <p:nvPr/>
        </p:nvPicPr>
        <p:blipFill>
          <a:blip r:embed="rId1"/>
          <a:stretch/>
        </p:blipFill>
        <p:spPr>
          <a:xfrm>
            <a:off x="728640" y="1600200"/>
            <a:ext cx="349560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ш рукопашный бой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00760" cy="3390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775f5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7972560" cy="10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53000"/>
          </a:bodyPr>
          <a:p>
            <a:pPr marL="242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2280" indent="-242280">
              <a:lnSpc>
                <a:spcPct val="100000"/>
              </a:lnSpc>
              <a:spcBef>
                <a:spcPts val="901"/>
              </a:spcBef>
              <a:buClr>
                <a:srgbClr val="c32d2e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Отступл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6800" y="592920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Мы долго молча отступали…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33051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725796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2.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Выбор места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6000840"/>
            <a:ext cx="747252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И вот нашли большое поле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1851120"/>
            <a:ext cx="600084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7972200" cy="9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3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Ожидание б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3214440"/>
            <a:ext cx="4643640" cy="221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Два дня мы были в перестрелке.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214960" y="1530360"/>
            <a:ext cx="36432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000080"/>
            <a:ext cx="86868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Ночь перед сражение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4500720"/>
            <a:ext cx="4686480" cy="1860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Прилег вздремнуть я у лафета…»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357880" y="1643040"/>
            <a:ext cx="34336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071360"/>
            <a:ext cx="7900920" cy="85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5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Клятва вер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3499920"/>
            <a:ext cx="5214960" cy="286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И умереть мы обеща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И клятву верности сдержали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286240" y="1928880"/>
            <a:ext cx="35546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928440"/>
            <a:ext cx="825804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6. </a:t>
            </a:r>
            <a:r>
              <a:rPr b="1" i="1" lang="ru-RU" sz="3600" spc="-1" strike="noStrike">
                <a:solidFill>
                  <a:srgbClr val="775f55"/>
                </a:solidFill>
                <a:latin typeface="Times New Roman"/>
              </a:rPr>
              <a:t>Описание Бородинского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4200" y="3499920"/>
            <a:ext cx="4283280" cy="2860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Вам не видать таких сражений!..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8200" y="1811160"/>
            <a:ext cx="3584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25804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7. </a:t>
            </a:r>
            <a:r>
              <a:rPr b="1" i="1" lang="ru-RU" sz="3600" spc="-1" strike="noStrike">
                <a:solidFill>
                  <a:srgbClr val="775f55"/>
                </a:solidFill>
                <a:latin typeface="Arial"/>
                <a:ea typeface="Arial"/>
              </a:rPr>
              <a:t>Поле боя после сра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5857920"/>
            <a:ext cx="79725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(«Тогда считать мы стали раны «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85920" y="1643040"/>
            <a:ext cx="621504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20:48:26Z</dcterms:created>
  <dc:creator>Жанна</dc:creator>
  <dc:description/>
  <dc:language>en-US</dc:language>
  <cp:lastModifiedBy>Жанна</cp:lastModifiedBy>
  <dcterms:modified xsi:type="dcterms:W3CDTF">2007-12-01T11:34:49Z</dcterms:modified>
  <cp:revision>23</cp:revision>
  <dc:subject/>
  <dc:title>Слайд 1</dc:title>
</cp:coreProperties>
</file>