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58721-84C3-4102-91F6-0F9622B15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65620-7E4B-43D8-B94B-7187FFB6C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27D33-EFD9-4CCD-9B9B-79588CD28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04E56-0792-406A-9EBC-406A71A8A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D3B0-55E5-4139-B152-3705882D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B1C86-D536-4E28-9CAB-45FEF156C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38EF-BF33-43F7-87AB-0E34EE45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6B19-FF76-43C3-B383-AB0519A4C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48B00-7365-4A7A-ADBA-F82E8D24D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EE7B-75F2-4AE2-993F-6C664AFC5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03A4-271B-4AE2-BEEC-89A58E86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AB96-2E72-44DE-BB56-36AE087A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1227-9ECA-4A17-A07A-744C060A0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486400" y="3941640"/>
            <a:ext cx="3486240" cy="2611440"/>
          </a:xfrm>
          <a:prstGeom prst="rect">
            <a:avLst/>
          </a:prstGeom>
          <a:ln w="0">
            <a:noFill/>
          </a:ln>
        </p:spPr>
      </p:pic>
      <p:sp>
        <p:nvSpPr>
          <p:cNvPr id="42" name="PlaceHolder 1"/>
          <p:cNvSpPr>
            <a:spLocks noGrp="1"/>
          </p:cNvSpPr>
          <p:nvPr>
            <p:ph type="title"/>
          </p:nvPr>
        </p:nvSpPr>
        <p:spPr>
          <a:xfrm>
            <a:off x="7621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оприятие в рамках предметной недели эколог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1142640" y="2666880"/>
            <a:ext cx="7162920" cy="228600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Наш дом – планета Земля»</a:t>
            </a:r>
            <a:r>
              <a:rPr b="0" lang="en-US" sz="5400" spc="-1" strike="noStrike">
                <a:solidFill>
                  <a:srgbClr val="000000"/>
                </a:solidFill>
                <a:latin typeface="Arial"/>
              </a:rPr>
              <a:t>   </a:t>
            </a:r>
            <a:endParaRPr b="0" lang="en-US" sz="5400" spc="-1" strike="noStrike">
              <a:solidFill>
                <a:srgbClr val="000000"/>
              </a:solidFill>
              <a:latin typeface="Arial"/>
            </a:endParaRPr>
          </a:p>
        </p:txBody>
      </p:sp>
      <p:pic>
        <p:nvPicPr>
          <p:cNvPr id="44" name="Рисунок 0" descr="thumb_medium_0000038042-YND_p.jpg"/>
          <p:cNvPicPr/>
          <p:nvPr/>
        </p:nvPicPr>
        <p:blipFill>
          <a:blip r:embed="rId2"/>
          <a:stretch/>
        </p:blipFill>
        <p:spPr>
          <a:xfrm>
            <a:off x="762120" y="4114800"/>
            <a:ext cx="1677960" cy="182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Экологические аспекты в биологии»</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еклянный сом – рыба, предпочитающая жить на небольших глубинах при достаточно сильном солнечном освещении. Объясните, почему этих рыб не пугает большое количество хищников, обитающих здесь же.</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ыба гольян – настоящий каннибал. Взрослые особи иногда пожирают свое потомство. В чем биологический смысл этого явления</a:t>
            </a:r>
            <a:r>
              <a:rPr b="1" i="1"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Польше некоторое время усиленно уничтожали выдру как вредителя рыбоводства. Однако выяснилось, что уничтожение этого зверя вызвало вспышку заболеваний и массовую гибель рыбы. Как это объяснить?</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держанный охотинспектором браконьер утверждал: «Раз доказано, что волков и других хищников нельзя убивать, значит и браконьера преследовать не надо, ведь говорят же, что браконьер – это хищник» убедительны ли доводы браконьера? Как бы вы провели с ним дискуссию?</a:t>
            </a:r>
            <a:endParaRPr b="0" lang="en-US" sz="1800" spc="-1" strike="noStrike">
              <a:solidFill>
                <a:srgbClr val="000000"/>
              </a:solidFill>
              <a:latin typeface="Arial"/>
            </a:endParaRPr>
          </a:p>
          <a:p>
            <a:pPr marL="591120" indent="-59112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Казахстане проводилось истребление сусликов путём разбрасывания отравленной приманки. Однако помимо сусликов гибли лисицы, корсаки, белые хори, которые сами приманку не съедали. Объясните причину гибели хищ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Разгадаем ребус».</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этих ребусах зашифрованы названия болезней человека, напрямую связанных с нарушением экологической обстановки вокруг нас.Объясните, в чем причина этих заболеваний.</a:t>
            </a:r>
            <a:endParaRPr b="0" lang="en-US" sz="3200" spc="-1" strike="noStrike">
              <a:solidFill>
                <a:srgbClr val="000000"/>
              </a:solidFill>
              <a:latin typeface="Arial"/>
            </a:endParaRPr>
          </a:p>
        </p:txBody>
      </p:sp>
      <p:pic>
        <p:nvPicPr>
          <p:cNvPr id="67" name="" descr=""/>
          <p:cNvPicPr/>
          <p:nvPr/>
        </p:nvPicPr>
        <p:blipFill>
          <a:blip r:embed="rId1"/>
          <a:stretch/>
        </p:blipFill>
        <p:spPr>
          <a:xfrm>
            <a:off x="5867280" y="4419720"/>
            <a:ext cx="2590920" cy="193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p:cNvPicPr/>
          <p:nvPr/>
        </p:nvPicPr>
        <p:blipFill>
          <a:blip r:embed="rId1"/>
          <a:stretch/>
        </p:blipFill>
        <p:spPr>
          <a:xfrm>
            <a:off x="609480" y="539640"/>
            <a:ext cx="7925040" cy="558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380880" y="301680"/>
            <a:ext cx="8229600" cy="5946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Что за буквами спрятано?»</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наете ли вы полную расшифровку аббревиатур, так или иначе связанных с охраной среды и здоровья человек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3886200" y="3276720"/>
            <a:ext cx="4176720" cy="31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СОП,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ИД,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З,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Д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АБ,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ОО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ФО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ЭС. </a:t>
            </a:r>
            <a:endParaRPr b="0" lang="en-US" sz="3200" spc="-1" strike="noStrike">
              <a:solidFill>
                <a:srgbClr val="000000"/>
              </a:solidFill>
              <a:latin typeface="Arial"/>
            </a:endParaRPr>
          </a:p>
        </p:txBody>
      </p:sp>
      <p:pic>
        <p:nvPicPr>
          <p:cNvPr id="77" name="" descr=""/>
          <p:cNvPicPr/>
          <p:nvPr/>
        </p:nvPicPr>
        <p:blipFill>
          <a:blip r:embed="rId1"/>
          <a:stretch/>
        </p:blipFill>
        <p:spPr>
          <a:xfrm>
            <a:off x="2438280" y="1128600"/>
            <a:ext cx="6400800" cy="4800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3" dur="500"/>
                                        <p:tgtEl>
                                          <p:spTgt spid="7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76">
                                            <p:txEl>
                                              <p:pRg st="1" end="1"/>
                                            </p:txEl>
                                          </p:spTgt>
                                        </p:tgtEl>
                                        <p:attrNameLst>
                                          <p:attrName>style.visibility</p:attrName>
                                        </p:attrNameLst>
                                      </p:cBhvr>
                                      <p:to>
                                        <p:strVal val="visible"/>
                                      </p:to>
                                    </p:set>
                                    <p:animEffect filter="box(in)" transition="in">
                                      <p:cBhvr additive="repl">
                                        <p:cTn id="18" dur="500"/>
                                        <p:tgtEl>
                                          <p:spTgt spid="76">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76">
                                            <p:txEl>
                                              <p:pRg st="2" end="2"/>
                                            </p:txEl>
                                          </p:spTgt>
                                        </p:tgtEl>
                                        <p:attrNameLst>
                                          <p:attrName>style.visibility</p:attrName>
                                        </p:attrNameLst>
                                      </p:cBhvr>
                                      <p:to>
                                        <p:strVal val="visible"/>
                                      </p:to>
                                    </p:set>
                                    <p:animEffect filter="box(in)" transition="in">
                                      <p:cBhvr additive="repl">
                                        <p:cTn id="23" dur="500"/>
                                        <p:tgtEl>
                                          <p:spTgt spid="7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28" dur="500"/>
                                        <p:tgtEl>
                                          <p:spTgt spid="76">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76">
                                            <p:txEl>
                                              <p:pRg st="4" end="4"/>
                                            </p:txEl>
                                          </p:spTgt>
                                        </p:tgtEl>
                                        <p:attrNameLst>
                                          <p:attrName>style.visibility</p:attrName>
                                        </p:attrNameLst>
                                      </p:cBhvr>
                                      <p:to>
                                        <p:strVal val="visible"/>
                                      </p:to>
                                    </p:set>
                                    <p:animEffect filter="diamond(in)" transition="in">
                                      <p:cBhvr additive="repl">
                                        <p:cTn id="33" dur="2000"/>
                                        <p:tgtEl>
                                          <p:spTgt spid="76">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76">
                                            <p:txEl>
                                              <p:pRg st="5" end="5"/>
                                            </p:txEl>
                                          </p:spTgt>
                                        </p:tgtEl>
                                        <p:attrNameLst>
                                          <p:attrName>style.visibility</p:attrName>
                                        </p:attrNameLst>
                                      </p:cBhvr>
                                      <p:to>
                                        <p:strVal val="visible"/>
                                      </p:to>
                                    </p:set>
                                    <p:animEffect filter="blinds(horizontal)" transition="in">
                                      <p:cBhvr additive="repl">
                                        <p:cTn id="38" dur="500"/>
                                        <p:tgtEl>
                                          <p:spTgt spid="76">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6">
                                            <p:txEl>
                                              <p:pRg st="6" end="6"/>
                                            </p:txEl>
                                          </p:spTgt>
                                        </p:tgtEl>
                                        <p:attrNameLst>
                                          <p:attrName>style.visibility</p:attrName>
                                        </p:attrNameLst>
                                      </p:cBhvr>
                                      <p:to>
                                        <p:strVal val="visible"/>
                                      </p:to>
                                    </p:set>
                                    <p:anim calcmode="lin" valueType="num">
                                      <p:cBhvr additive="base">
                                        <p:cTn id="43"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76">
                                            <p:txEl>
                                              <p:pRg st="7" end="7"/>
                                            </p:txEl>
                                          </p:spTgt>
                                        </p:tgtEl>
                                        <p:attrNameLst>
                                          <p:attrName>style.visibility</p:attrName>
                                        </p:attrNameLst>
                                      </p:cBhvr>
                                      <p:to>
                                        <p:strVal val="visible"/>
                                      </p:to>
                                    </p:set>
                                    <p:animEffect filter="blinds(horizontal)" transition="in">
                                      <p:cBhvr additive="repl">
                                        <p:cTn id="49" dur="500"/>
                                        <p:tgtEl>
                                          <p:spTgt spid="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зовите на помощь свои актерские способности. Всем известно, что хищник всегда стремится найти жертву, а жертва – спастись от хищника. Попробуйте изобразить в виде пантомимы взаимоотношения, записанные на бумаге, не называя вслух ни одного действующего лиц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rPr>
              <a:t>Спасибо за внимание!</a:t>
            </a:r>
            <a:endParaRPr b="0" lang="en-US" sz="6600" spc="-1" strike="noStrike">
              <a:solidFill>
                <a:srgbClr val="000000"/>
              </a:solidFill>
              <a:latin typeface="Arial"/>
            </a:endParaRPr>
          </a:p>
          <a:p>
            <a:pPr marL="343080" indent="-343080">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rPr>
              <a:t>Берегите природу!</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Задание 1. «Литературный конкурс».</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ля разминки вы должны составить сказку или рассказ из предложенных вам фраз, расположив их в логической последовательности, а затем вы зачитаете свои творения.</a:t>
            </a:r>
            <a:endParaRPr b="0" lang="en-US" sz="3200" spc="-1" strike="noStrike">
              <a:solidFill>
                <a:srgbClr val="000000"/>
              </a:solidFill>
              <a:latin typeface="Arial"/>
            </a:endParaRPr>
          </a:p>
        </p:txBody>
      </p:sp>
      <p:pic>
        <p:nvPicPr>
          <p:cNvPr id="47" name="" descr=""/>
          <p:cNvPicPr/>
          <p:nvPr/>
        </p:nvPicPr>
        <p:blipFill>
          <a:blip r:embed="rId1"/>
          <a:stretch/>
        </p:blipFill>
        <p:spPr>
          <a:xfrm>
            <a:off x="6095880" y="4038480"/>
            <a:ext cx="26672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ариант 1: Составьте сказку:</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лин обиделся и улетел в другой лес.</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ыши стали поедать соты и разорили уль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шлось мужику мириться с филин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стало пчел – не опыляются травы, и их урожайность понизилась.</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удо стало мужику без мёда и молок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стало филина – расплодились мыши.</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ло стало травы – корова стала давать мало молока.</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ужик сказал филину: «Нет от тебя в лесу никакой пользы!»</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Ответ:</a:t>
            </a:r>
            <a:r>
              <a:rPr b="0" lang="en-US" sz="4400" spc="-1" strike="noStrike">
                <a:solidFill>
                  <a:srgbClr val="000000"/>
                </a:solidFill>
                <a:latin typeface="Arial"/>
              </a:rPr>
              <a:t> 8, 1, 6, 2, 4, 7, 5, 3.</a:t>
            </a:r>
            <a:endParaRPr b="0" lang="en-US" sz="4400" spc="-1" strike="noStrike">
              <a:solidFill>
                <a:srgbClr val="000000"/>
              </a:solidFill>
              <a:latin typeface="Arial"/>
            </a:endParaRPr>
          </a:p>
        </p:txBody>
      </p:sp>
      <p:pic>
        <p:nvPicPr>
          <p:cNvPr id="51" name="Содержимое 3" descr="155578.jpg"/>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ариант 2: Составьте рассказ:</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ды реки Минимата принесли соединения ртути в мор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вленная ртутью рыба стала малоподвижной, и местные жители стали ловить в море рыбу сачками.</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956 году в Японии произошел сброс соединений ртути в реку Минимата со сточными водами от завода по производству поливинилхлорида, где ртуть использовалась в качестве катализатор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туть попала в организм людей и вызвала тяжелое поражение нервной системы (расстройства речи, слуха, зрения) – эта болезнь получила название «болезнь Минимат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море соединения ртути поглощались водорослями, инфузориями и мелкими ракообразными, которыми питалась рыба.</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знь Минимата» повторилась в Японии в 1964–65 гг., когда отравилось 180 человек, из которых 52умерли.</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Ответ:</a:t>
            </a:r>
            <a:r>
              <a:rPr b="0" lang="en-US" sz="4400" spc="-1" strike="noStrike">
                <a:solidFill>
                  <a:srgbClr val="000000"/>
                </a:solidFill>
                <a:latin typeface="Arial"/>
              </a:rPr>
              <a:t> 3, 1, 5, 2, 4, 6.</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Задание 2.</a:t>
            </a:r>
            <a:r>
              <a:rPr b="0" lang="ru-RU" sz="4000" spc="-1" strike="noStrike">
                <a:solidFill>
                  <a:srgbClr val="000000"/>
                </a:solidFill>
                <a:latin typeface="Arial"/>
              </a:rPr>
              <a:t> </a:t>
            </a:r>
            <a:r>
              <a:rPr b="1" i="1" lang="ru-RU" sz="4000" spc="-1" strike="noStrike">
                <a:solidFill>
                  <a:srgbClr val="000000"/>
                </a:solidFill>
                <a:latin typeface="Arial"/>
              </a:rPr>
              <a:t>«Экологический решебник».</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ермеры Туниса встревожены появлением огромных популяций пешей саранчи. Стаи её медленно передвигаются, поедая всю растительность до самой земли. Через неделю саранча поднимется на крыло, и большие серые тучи её, преодолевая десятки и сотни километров, опускаясь на фермерские поля. Когда такая стая садится на поле, слышен хруст, как во времена сильного града. После взлета стаи глазам  фермера предстанет печальная картина разорённого поля, где среди голой земли торчат отдельные стебли без листье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ля спасения урожая возможны три варианта решен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Использование ядохимикатов (500 доллар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Выращивание богомолов, поедающих саранчу (100 доллар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Наём рабочих с хлопушками и лопатами (100 доллар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ое решение высчитает наиболее выгодным экономичес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ермеры, выращивающие белокочанную капусту, обеспокоены увеличением численности капустной белянки. Возможны три решения этой проблемы, требующие от фермеров соответствующих расход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Использование ядохимикатов (100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Приобретение белянкового наездника (50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Механическое уничтожение кладок на листьях капусты (250 долларо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ое направление вы предложите как экспер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ffff"/>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14400" y="-685800"/>
            <a:ext cx="10972800" cy="82296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еперь немного поиграем! В течение двух минут попытайтесь составить как можно больше слов из слова</a:t>
            </a:r>
            <a:endParaRPr b="0" lang="en-US" sz="3200" spc="-1" strike="noStrike">
              <a:solidFill>
                <a:srgbClr val="000000"/>
              </a:solidFill>
              <a:latin typeface="Arial"/>
            </a:endParaRPr>
          </a:p>
        </p:txBody>
      </p:sp>
      <p:sp>
        <p:nvSpPr>
          <p:cNvPr id="62" name="PlaceHolder 2"/>
          <p:cNvSpPr>
            <a:spLocks noGrp="1"/>
          </p:cNvSpPr>
          <p:nvPr>
            <p:ph/>
          </p:nvPr>
        </p:nvSpPr>
        <p:spPr>
          <a:xfrm>
            <a:off x="228240" y="1600200"/>
            <a:ext cx="9372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БИОЛЮМИНЕСЦЕНЦИЯ</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 GAME 2008</cp:lastModifiedBy>
  <dcterms:modified xsi:type="dcterms:W3CDTF">2013-04-03T19:06:46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