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1E79-B5CE-40AA-BDFC-9262D8EA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626A-6C3F-4A24-A3DF-E1ED7720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0F2A-7893-486F-A6D2-6D34BDBE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4810-4F17-4950-A347-A4B511F8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63F8-F268-4DE6-BA32-1B82AEB4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1FC1-1075-40A5-A269-E27DFA6C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E757-AA92-49DD-943B-146DCAFA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2917-1BF0-4476-8D46-38F78C62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4C83-9428-4253-A26A-A667C1FD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91C9-4C2A-4686-A254-43C156F0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BE01-CCD0-4A04-90D9-3D3EA8AF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7B5B-7735-4162-88CA-E3C48246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32D1-79E9-45B4-8F55-47D72C76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4BE3-FFFA-43C2-922F-BDF199C7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D39B-3C12-429D-83C7-C1CEA651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3BC8-12BE-4479-93B1-CF512771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7A75-ACBB-43B2-929B-86B0AFE6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4638-C89B-4A88-9ED0-78FC923A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132D-96CA-4F0B-A9D2-C844E5B1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A6FBF-8783-453A-84BE-CB7FFDE7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9722-455D-49AC-96E3-379DB7E6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4232-095D-4E91-B6BC-4531ED4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27DA-2D4E-4A75-9C27-F920D0B9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1F4F-5684-4029-847E-91C417CB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C006-AD6E-4FD5-BD26-70D135D5D3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CA6E-844E-4FFD-BE92-39F8B87C8E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55560" y="4059000"/>
            <a:ext cx="545148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324000" y="1773360"/>
            <a:ext cx="820872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ль избирательного   права в жизни обществ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этом правовом акте есть статья 2 «Основные термины, используемые в настоящем федеральном законе», где, в частности, говоритс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… Выборы в Российской Федерации – выборы Президента РФ, депутатов Госдумы Федерального собрания РФ, в иные федеральные государственные органы, предусмотренные Конституцией РФ и избираемые непосредственно гражданами РФ в соответствии с федеральными законами, выборы в органы государственной власти субъектов РФ, а также выборы в выборные органы местного самоуправления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c3a2c"/>
                </a:solidFill>
                <a:uFillTx/>
                <a:latin typeface="Arial"/>
              </a:rPr>
              <a:t>Избирательные права гражда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то конституционное право избирать и быть избранными в органы государственной власти и в выборные органы местного самоуправ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042920" y="620640"/>
            <a:ext cx="6913800" cy="504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БИРАТЕЛЬНОЕ ПРАВО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 flipH="1">
            <a:off x="2700360" y="1125360"/>
            <a:ext cx="71928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5796000" y="1125360"/>
            <a:ext cx="5763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971640" y="1773360"/>
            <a:ext cx="3671640" cy="19429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ОЕ ИЗБИРАТЕ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право избир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рганы государственной в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ыборные орга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ного само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292720" y="1773360"/>
            <a:ext cx="3743280" cy="1871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ОЕ ИЗБИРАТЕ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право быть избранными в орга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ударственной власт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ыборные орга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ного само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684360" y="2492280"/>
            <a:ext cx="7632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c3a2c"/>
                </a:solidFill>
                <a:latin typeface="Arial"/>
              </a:rPr>
              <a:t>Принципы участия гражданина РФ в выбора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ec3a2c"/>
              </a:solidFill>
              <a:latin typeface="Arial"/>
              <a:ea typeface="Arial"/>
            </a:endParaRPr>
          </a:p>
        </p:txBody>
      </p:sp>
    </p:spTree>
  </p:cSld>
  <p:transition spd="slow">
    <p:pull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чел"/>
          <p:cNvPicPr/>
          <p:nvPr/>
        </p:nvPicPr>
        <p:blipFill>
          <a:blip r:embed="rId1"/>
          <a:srcRect l="0" t="0" r="2030" b="4060"/>
          <a:stretch/>
        </p:blipFill>
        <p:spPr>
          <a:xfrm>
            <a:off x="0" y="2565360"/>
            <a:ext cx="1763640" cy="1655640"/>
          </a:xfrm>
          <a:prstGeom prst="rect">
            <a:avLst/>
          </a:prstGeom>
          <a:ln w="0">
            <a:noFill/>
          </a:ln>
        </p:spPr>
      </p:pic>
      <p:sp>
        <p:nvSpPr>
          <p:cNvPr id="161" name="Line 8"/>
          <p:cNvSpPr/>
          <p:nvPr/>
        </p:nvSpPr>
        <p:spPr>
          <a:xfrm flipV="1">
            <a:off x="1763640" y="2349000"/>
            <a:ext cx="107964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V="1">
            <a:off x="1692360" y="299700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1763640" y="3357720"/>
            <a:ext cx="11527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1763640" y="3357720"/>
            <a:ext cx="107964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2843280" y="2133720"/>
            <a:ext cx="2879640" cy="431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ОБЩ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2916360" y="2852640"/>
            <a:ext cx="2808000" cy="360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В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916360" y="3429000"/>
            <a:ext cx="4248000" cy="431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ГО избирательного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2843280" y="4076640"/>
            <a:ext cx="4249800" cy="360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ТАЙНОМ ГОЛОСОВ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20"/>
          <p:cNvSpPr/>
          <p:nvPr/>
        </p:nvSpPr>
        <p:spPr>
          <a:xfrm>
            <a:off x="8459640" y="6021360"/>
            <a:ext cx="360360" cy="432000"/>
          </a:xfrm>
          <a:prstGeom prst="verticalScroll">
            <a:avLst>
              <a:gd name="adj" fmla="val 25000"/>
            </a:avLst>
          </a:prstGeom>
          <a:solidFill>
            <a:srgbClr val="ec3a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Всеобщее избирательное право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значит, что могут избирать могут все, кроме категорий граждан, специально оговоренных в зако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250920" y="6308640"/>
            <a:ext cx="288720" cy="333360"/>
          </a:xfrm>
          <a:custGeom>
            <a:avLst/>
            <a:gdLst/>
            <a:ahLst/>
            <a:rect l="l" t="t" r="r" b="b"/>
            <a:pathLst>
              <a:path w="288925" h="333375">
                <a:moveTo>
                  <a:pt x="0" y="127338"/>
                </a:moveTo>
                <a:lnTo>
                  <a:pt x="110360" y="127338"/>
                </a:lnTo>
                <a:lnTo>
                  <a:pt x="144463" y="0"/>
                </a:lnTo>
                <a:lnTo>
                  <a:pt x="178565" y="127338"/>
                </a:lnTo>
                <a:lnTo>
                  <a:pt x="288925" y="127338"/>
                </a:lnTo>
                <a:lnTo>
                  <a:pt x="199641" y="206036"/>
                </a:lnTo>
                <a:lnTo>
                  <a:pt x="233745" y="333374"/>
                </a:lnTo>
                <a:lnTo>
                  <a:pt x="144463" y="254674"/>
                </a:lnTo>
                <a:lnTo>
                  <a:pt x="55180" y="333374"/>
                </a:lnTo>
                <a:lnTo>
                  <a:pt x="89284" y="206036"/>
                </a:lnTo>
                <a:lnTo>
                  <a:pt x="0" y="127338"/>
                </a:lnTo>
                <a:close/>
              </a:path>
            </a:pathLst>
          </a:custGeom>
          <a:solidFill>
            <a:srgbClr val="ec3a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ВНОЕ ИЗБИРАТЕЛЬНОЕ ПРАВ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то из голосующих не получает преимуществ. Каждый имеет и отдает только один голос. При это абсолютно никакого значения не имеют должность, деньги, круг знакомств и т. 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50920" y="6165720"/>
            <a:ext cx="360360" cy="287640"/>
          </a:xfrm>
          <a:custGeom>
            <a:avLst/>
            <a:gdLst/>
            <a:ahLst/>
            <a:rect l="l" t="t" r="r" b="b"/>
            <a:pathLst>
              <a:path w="360363" h="287338">
                <a:moveTo>
                  <a:pt x="0" y="109753"/>
                </a:moveTo>
                <a:lnTo>
                  <a:pt x="137647" y="109754"/>
                </a:lnTo>
                <a:lnTo>
                  <a:pt x="180182" y="0"/>
                </a:lnTo>
                <a:lnTo>
                  <a:pt x="222716" y="109754"/>
                </a:lnTo>
                <a:lnTo>
                  <a:pt x="360363" y="109753"/>
                </a:lnTo>
                <a:lnTo>
                  <a:pt x="249003" y="177584"/>
                </a:lnTo>
                <a:lnTo>
                  <a:pt x="291540" y="287337"/>
                </a:lnTo>
                <a:lnTo>
                  <a:pt x="180182" y="219505"/>
                </a:lnTo>
                <a:lnTo>
                  <a:pt x="68823" y="287337"/>
                </a:lnTo>
                <a:lnTo>
                  <a:pt x="111360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ec3a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ЯМОЕ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ЗБИРАТЕЛЬНОЕ ПРАВО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биратель голосует на выборах «за» или «против» кандидатов непосредств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250920" y="6021360"/>
            <a:ext cx="323640" cy="358920"/>
          </a:xfrm>
          <a:custGeom>
            <a:avLst/>
            <a:gdLst/>
            <a:ahLst/>
            <a:rect l="l" t="t" r="r" b="b"/>
            <a:pathLst>
              <a:path w="323850" h="358775">
                <a:moveTo>
                  <a:pt x="0" y="137040"/>
                </a:moveTo>
                <a:lnTo>
                  <a:pt x="123700" y="137040"/>
                </a:lnTo>
                <a:lnTo>
                  <a:pt x="161925" y="0"/>
                </a:lnTo>
                <a:lnTo>
                  <a:pt x="200150" y="137040"/>
                </a:lnTo>
                <a:lnTo>
                  <a:pt x="323850" y="137040"/>
                </a:lnTo>
                <a:lnTo>
                  <a:pt x="223774" y="221734"/>
                </a:lnTo>
                <a:lnTo>
                  <a:pt x="262000" y="358774"/>
                </a:lnTo>
                <a:lnTo>
                  <a:pt x="161925" y="274078"/>
                </a:lnTo>
                <a:lnTo>
                  <a:pt x="61850" y="358774"/>
                </a:lnTo>
                <a:lnTo>
                  <a:pt x="100076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ec3a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АЙНОЕ ИЗБИРАТЕЛЬНОЕ ПРАВ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– либо контроль за волеизъявлением избирателей исключ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0" y="6165720"/>
            <a:ext cx="395280" cy="358920"/>
          </a:xfrm>
          <a:custGeom>
            <a:avLst/>
            <a:gdLst/>
            <a:ahLst/>
            <a:rect l="l" t="t" r="r" b="b"/>
            <a:pathLst>
              <a:path w="395288" h="358775">
                <a:moveTo>
                  <a:pt x="0" y="137040"/>
                </a:moveTo>
                <a:lnTo>
                  <a:pt x="150987" y="137040"/>
                </a:lnTo>
                <a:lnTo>
                  <a:pt x="197644" y="0"/>
                </a:lnTo>
                <a:lnTo>
                  <a:pt x="244301" y="137040"/>
                </a:lnTo>
                <a:lnTo>
                  <a:pt x="395288" y="137040"/>
                </a:lnTo>
                <a:lnTo>
                  <a:pt x="273136" y="221734"/>
                </a:lnTo>
                <a:lnTo>
                  <a:pt x="319794" y="358774"/>
                </a:lnTo>
                <a:lnTo>
                  <a:pt x="197644" y="274078"/>
                </a:lnTo>
                <a:lnTo>
                  <a:pt x="75494" y="358774"/>
                </a:lnTo>
                <a:lnTo>
                  <a:pt x="122152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ec3a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6520" y="1981080"/>
          <a:ext cx="7010280" cy="411480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ие избирательных прав гражд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пятствия свободному осуществлению прав избирать и быть избранным путём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илия; подлогов; обмана; угроз; распространения заведомо ложных сведений о кандидатах и иных действий, порочащих их честь и достоинство; иными способа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598г., после смерти царя Федора Иоанновича, на Земском соборе в цари был избран его шурин Борис Годунов. В состав Земского собора входили: духовенство – 99 человек; бояре, дворяне, дьяки – 227; выборные от городов – 33; стрелецкие головы – 7; гости – 22; старосты гостиных сотен – 5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403280" y="69228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 истории выбор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042920" y="1773360"/>
            <a:ext cx="71294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 чего начинаются выборы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оответствии с Конституцией РФ выборы депутатов Государственной Думы назначает Президент РФ. Выборы Президента РФ в соответствии с Конституцией РФ назначает Совет Федерации Федерального Собрания Р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нём выборов в Госдуму и Президента РФ является первое воскресенье после истечения конституционного срока их полномочий. Срок со дня назначения выборов до дня выборов должен быть не менее четырёх месяц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боры объявляются не позже чем за четыре месяца до их провед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ёткими сроками обозначены такие действия, как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емя создания и действия избирательных комисс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емя работы избирательных участков в день выбор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емя, отпущенное на подсчет голосов, объявление итогов голосования и результатов выборов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льше возникает необходимость составить списки избирател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писки избирателей включаются все граждане РФ, обладающие на день голосования активным избирательным правом. То есть имеющие право избира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104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468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808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32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оведении выборов играют ведущую роль избирательные комиссии. Именно они обеспечивают реализацию и защиту избирательных прав граждан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108000" y="3100320"/>
            <a:ext cx="871200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7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 к о в ы      о н и , и з б и р а т е л ь н ы е      к о м и с с и и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1258920" y="1052640"/>
            <a:ext cx="3744720" cy="64764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ентральная избирательная комисс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10"/>
          <p:cNvSpPr/>
          <p:nvPr/>
        </p:nvSpPr>
        <p:spPr>
          <a:xfrm>
            <a:off x="1258920" y="2276640"/>
            <a:ext cx="3744720" cy="79200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бирательные комиссии субъектов Р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13"/>
          <p:cNvSpPr/>
          <p:nvPr/>
        </p:nvSpPr>
        <p:spPr>
          <a:xfrm>
            <a:off x="1258920" y="3500280"/>
            <a:ext cx="3744720" cy="71928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кружные избирательные комисс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18"/>
          <p:cNvSpPr/>
          <p:nvPr/>
        </p:nvSpPr>
        <p:spPr>
          <a:xfrm>
            <a:off x="1258920" y="4581360"/>
            <a:ext cx="3744720" cy="61308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рриториальные (районные, городские и другие) избирательные комисс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24"/>
          <p:cNvSpPr/>
          <p:nvPr/>
        </p:nvSpPr>
        <p:spPr>
          <a:xfrm>
            <a:off x="1332000" y="5589720"/>
            <a:ext cx="3671640" cy="71892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ковые избирательные комисс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4"/>
          <p:cNvSpPr/>
          <p:nvPr/>
        </p:nvSpPr>
        <p:spPr>
          <a:xfrm>
            <a:off x="2987640" y="17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5"/>
          <p:cNvSpPr/>
          <p:nvPr/>
        </p:nvSpPr>
        <p:spPr>
          <a:xfrm>
            <a:off x="3132000" y="3068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6"/>
          <p:cNvSpPr/>
          <p:nvPr/>
        </p:nvSpPr>
        <p:spPr>
          <a:xfrm>
            <a:off x="3132000" y="4221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7"/>
          <p:cNvSpPr/>
          <p:nvPr/>
        </p:nvSpPr>
        <p:spPr>
          <a:xfrm>
            <a:off x="313200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збирательные комисс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И так наступил день голосовани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 этому дню вы уже внимательно ознакомились со списком кандидатов, с предвыборными платформами кандидатов, посетили предвыборные собрания, может быть, посетили избирательный участок, заранее ознакомились с образами избирательных бюллетеней и т.д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чень важно: вы уже сделали свой выбор до того, как получили избирательный бюллетень. Вы пришли, хорошо зная, за кого вы будете голосовать и за кого – не буде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984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ржка из федерального  ,,О выборах Российской Федерац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,,В помещении для голосования должен быть зал, в котором размещаются кабины, специально оборудованные места или комнаты для тайного голосования. Кабины, специально оборудованные места или комнаты для тайного голосования оснащаются столиками и письменными принадлежностя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Что представляет собой помещение для голосования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Изображение 011"/>
          <p:cNvPicPr/>
          <p:nvPr/>
        </p:nvPicPr>
        <p:blipFill>
          <a:blip r:embed="rId1"/>
          <a:srcRect l="3199" t="3341" r="1812" b="5401"/>
          <a:stretch/>
        </p:blipFill>
        <p:spPr>
          <a:xfrm>
            <a:off x="2359080" y="2465280"/>
            <a:ext cx="5459400" cy="3076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Роль наблюдателей на выборах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0" descr="Безимени-1"/>
          <p:cNvPicPr/>
          <p:nvPr/>
        </p:nvPicPr>
        <p:blipFill>
          <a:blip r:embed="rId1"/>
          <a:stretch/>
        </p:blipFill>
        <p:spPr>
          <a:xfrm>
            <a:off x="3341520" y="2563920"/>
            <a:ext cx="2454480" cy="1996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дний раз в русские цари выбирали Михаила Федоровича Романова. Он был избран на Земском Соборе в 1613г., к концу Смутного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пкупукп"/>
          <p:cNvPicPr/>
          <p:nvPr/>
        </p:nvPicPr>
        <p:blipFill>
          <a:blip r:embed="rId1"/>
          <a:stretch/>
        </p:blipFill>
        <p:spPr>
          <a:xfrm>
            <a:off x="5172120" y="1916280"/>
            <a:ext cx="3971880" cy="4165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Члены избирательной комисс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1" descr="Безимении-1"/>
          <p:cNvPicPr/>
          <p:nvPr/>
        </p:nvPicPr>
        <p:blipFill>
          <a:blip r:embed="rId1"/>
          <a:srcRect l="14048" t="0" r="11488" b="0"/>
          <a:stretch/>
        </p:blipFill>
        <p:spPr>
          <a:xfrm>
            <a:off x="4446720" y="2203560"/>
            <a:ext cx="3249360" cy="672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Безимени-91"/>
          <p:cNvPicPr/>
          <p:nvPr/>
        </p:nvPicPr>
        <p:blipFill>
          <a:blip r:embed="rId2"/>
          <a:stretch/>
        </p:blipFill>
        <p:spPr>
          <a:xfrm>
            <a:off x="395280" y="3429000"/>
            <a:ext cx="4103640" cy="2638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Безиме4ни-1"/>
          <p:cNvPicPr/>
          <p:nvPr/>
        </p:nvPicPr>
        <p:blipFill>
          <a:blip r:embed="rId3"/>
          <a:stretch/>
        </p:blipFill>
        <p:spPr>
          <a:xfrm>
            <a:off x="5796000" y="2997360"/>
            <a:ext cx="2117520" cy="3141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3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374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Каждый избиратель голосует лично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етку на бюллетенях  вы делаете в кабине. Карандашом делать пометки нельзя. После чего выходите из кабины и опускаете бюллетени в один из ящиков для голосования. На этом для вас как для избирателей процесс голосования заканчив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Рисунок 5" descr="Изображение 019.jpg"/>
          <p:cNvPicPr/>
          <p:nvPr/>
        </p:nvPicPr>
        <p:blipFill>
          <a:blip r:embed="rId1"/>
          <a:stretch/>
        </p:blipFill>
        <p:spPr>
          <a:xfrm>
            <a:off x="395280" y="2276640"/>
            <a:ext cx="383544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3" descr="Изображение 013"/>
          <p:cNvPicPr/>
          <p:nvPr/>
        </p:nvPicPr>
        <p:blipFill>
          <a:blip r:embed="rId1"/>
          <a:srcRect l="0" t="0" r="1192" b="16368"/>
          <a:stretch/>
        </p:blipFill>
        <p:spPr>
          <a:xfrm>
            <a:off x="684360" y="5850000"/>
            <a:ext cx="7777080" cy="100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Изображение 014"/>
          <p:cNvPicPr/>
          <p:nvPr/>
        </p:nvPicPr>
        <p:blipFill>
          <a:blip r:embed="rId2"/>
          <a:stretch/>
        </p:blipFill>
        <p:spPr>
          <a:xfrm>
            <a:off x="971640" y="4869000"/>
            <a:ext cx="734364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Изображение 015"/>
          <p:cNvPicPr/>
          <p:nvPr/>
        </p:nvPicPr>
        <p:blipFill>
          <a:blip r:embed="rId3"/>
          <a:stretch/>
        </p:blipFill>
        <p:spPr>
          <a:xfrm>
            <a:off x="826920" y="3789360"/>
            <a:ext cx="7344000" cy="1041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Изображение 016"/>
          <p:cNvPicPr/>
          <p:nvPr/>
        </p:nvPicPr>
        <p:blipFill>
          <a:blip r:embed="rId4"/>
          <a:srcRect l="0" t="0" r="0" b="9922"/>
          <a:stretch/>
        </p:blipFill>
        <p:spPr>
          <a:xfrm>
            <a:off x="900000" y="2781360"/>
            <a:ext cx="7344000" cy="100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Изображение 017"/>
          <p:cNvPicPr/>
          <p:nvPr/>
        </p:nvPicPr>
        <p:blipFill>
          <a:blip r:embed="rId5"/>
          <a:srcRect l="7850" t="10525" r="5856" b="5564"/>
          <a:stretch/>
        </p:blipFill>
        <p:spPr>
          <a:xfrm>
            <a:off x="1547640" y="1628640"/>
            <a:ext cx="6337440" cy="115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овременном этапе развития общества права человека получили особое значение. Они закреплены в конституциях многих стран в том числе и в Конституции Р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нституции Российской Федерации, принятой в результате всенародного голосования (референдума) в декабре 1993г., правам и свободам человека и гражданина посвящена самая большая её глава – вторая, внести изменения в которую (как и в первую и девятую) возможно в результате сложной юридической процед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468360" y="1700280"/>
            <a:ext cx="8280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4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бирательные права челове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ver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24000" y="1484280"/>
          <a:ext cx="8229600" cy="5267520"/>
        </p:xfrm>
        <a:graphic>
          <a:graphicData uri="http://schemas.openxmlformats.org/drawingml/2006/table">
            <a:tbl>
              <a:tblPr/>
              <a:tblGrid>
                <a:gridCol w="4665600"/>
                <a:gridCol w="35640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щие основы избирательного п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ституция РФ. Федеральный закон «Об основных гарантиях избирательных прав граждан Российской Федер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f850"/>
                    </a:solidFill>
                  </a:tcPr>
                </a:tc>
              </a:tr>
              <a:tr h="93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рядок выбор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зидента Р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едеральный закон «О выборах Президента Российской Федер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f850"/>
                    </a:solidFill>
                  </a:tcPr>
                </a:tc>
              </a:tr>
              <a:tr h="12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рядок выбора депута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енной ду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едеральный закон «О выборах депутатов Государственной Думы Федерального Собрания Российской Федер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f850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рядок формирования совета федера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едеральный закон «О порядке формирования Совета Федерации федерального Собрания Российской Федер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f850"/>
                    </a:solidFill>
                  </a:tcPr>
                </a:tc>
              </a:tr>
              <a:tr h="93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рядок проведения референдум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едеральный закон «О референдуме Российской Федер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8f850"/>
                    </a:solidFill>
                  </a:tcPr>
                </a:tc>
              </a:tr>
            </a:tbl>
          </a:graphicData>
        </a:graphic>
      </p:graphicFrame>
      <p:sp>
        <p:nvSpPr>
          <p:cNvPr id="130" name="WordArt 91"/>
          <p:cNvSpPr txBox="1"/>
          <p:nvPr/>
        </p:nvSpPr>
        <p:spPr>
          <a:xfrm>
            <a:off x="468360" y="476280"/>
            <a:ext cx="72723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c3a2c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бирательные права челове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ec3a2c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324000" y="476280"/>
            <a:ext cx="8038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ядок формирования органов вла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492360" y="1844640"/>
            <a:ext cx="2016360" cy="432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БИРА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3708000" y="2276640"/>
            <a:ext cx="358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95280" y="2637000"/>
            <a:ext cx="3384720" cy="504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ДАТЕЛЬНАЯ В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5076720" y="2276640"/>
            <a:ext cx="35892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5364000" y="2565360"/>
            <a:ext cx="2664000" cy="432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ИД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3132000" y="3141720"/>
            <a:ext cx="64800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4787640" y="2997360"/>
            <a:ext cx="93636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3132000" y="4797360"/>
            <a:ext cx="2376720" cy="432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7164360" y="2997360"/>
            <a:ext cx="36036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012000" y="3789360"/>
            <a:ext cx="2663640" cy="431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ЛАВА ПРАВИ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421164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4120200" y="222552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бираю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950400" y="308916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агают и принимаю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5796360" y="2997360"/>
            <a:ext cx="12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агае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писывает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народу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7524720" y="306864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инает либ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новится с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187280" y="1628640"/>
            <a:ext cx="62042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8f850">
                        <a:alpha val="78039"/>
                      </a:srgbClr>
                    </a:gs>
                    <a:gs pos="100000">
                      <a:srgbClr val="ec3a2c">
                        <a:alpha val="74117"/>
                      </a:srgbClr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едеральный закон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8f850">
                      <a:alpha val="78039"/>
                    </a:srgbClr>
                  </a:gs>
                  <a:gs pos="100000">
                    <a:srgbClr val="ec3a2c">
                      <a:alpha val="74117"/>
                    </a:srgbClr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8f850">
                        <a:alpha val="78039"/>
                      </a:srgbClr>
                    </a:gs>
                    <a:gs pos="100000">
                      <a:srgbClr val="ec3a2c">
                        <a:alpha val="74117"/>
                      </a:srgbClr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Об основных гарантиях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8f850">
                      <a:alpha val="78039"/>
                    </a:srgbClr>
                  </a:gs>
                  <a:gs pos="100000">
                    <a:srgbClr val="ec3a2c">
                      <a:alpha val="74117"/>
                    </a:srgbClr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8f850">
                        <a:alpha val="78039"/>
                      </a:srgbClr>
                    </a:gs>
                    <a:gs pos="100000">
                      <a:srgbClr val="ec3a2c">
                        <a:alpha val="74117"/>
                      </a:srgbClr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бирательных прав граждан РФ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8f850">
                      <a:alpha val="78039"/>
                    </a:srgbClr>
                  </a:gs>
                  <a:gs pos="100000">
                    <a:srgbClr val="ec3a2c">
                      <a:alpha val="74117"/>
                    </a:srgbClr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5:27:34Z</dcterms:created>
  <dc:creator>Admin</dc:creator>
  <dc:description/>
  <dc:language>en-US</dc:language>
  <cp:lastModifiedBy>dns</cp:lastModifiedBy>
  <dcterms:modified xsi:type="dcterms:W3CDTF">2012-12-30T13:51:09Z</dcterms:modified>
  <cp:revision>14</cp:revision>
  <dc:subject/>
  <dc:title>Слайд 1</dc:title>
</cp:coreProperties>
</file>