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FD3-5D01-433D-88F0-4EF36534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98B-A0E3-4104-A850-B77950CD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4B2-8941-4D91-80CC-E417773E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B5C-13DD-4943-B303-40D02FCA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274D-8E4D-43D8-8EC9-02B85D90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88D9-E6CE-48C9-BC1A-D33721A9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B4BD-12CD-4032-849F-180EECBC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E564-D77D-487E-9430-2D64B536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432C-32A6-4AD0-80D3-7433038F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5DEF-6C8B-4614-B7E3-3DB5C9E3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82D7-0213-4425-85C0-324F997C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41F-499C-4137-9D1E-CA4FAD78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E407-92CC-4B77-9D2D-2333F223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1634-8912-448A-BDBA-0C717A2B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405F-B0A2-4827-9837-08174007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2291-B490-459E-91CA-9BDB47B2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00BC-985E-4EB3-A57E-40996489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F8270-87A8-4F1C-A7EC-8E44A79A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9D15E-2623-4C4D-AA95-F4E5BD57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5BDEE-2967-4270-BDB3-38640087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2258-04E3-4006-B58D-FE26986D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4283-EDE5-4688-B372-38B8A361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4E1-4D4B-41A4-969E-886F3651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FDDEF-3628-4B79-BA75-E5E3315E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84CDD-F1E7-472B-B998-2FD91A24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F4EDE-A079-4434-A507-8A21629C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54A81-4527-4317-B49C-0E2A0C6A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7724C-996E-493E-9507-F9A775C6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22CCE-D184-4585-B987-BBABFC9C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50123-98FA-40EA-AA8D-F8F45B62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CC1CD-AF9E-425F-AE1F-281BB33B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053F7-6FE6-45DC-92AA-627BC853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1CC1B-3ADA-4B83-9E0C-EF602F3E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51F-1428-446D-87B8-65EA0864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4FA71-05D0-473B-BB8C-1E1B7553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0A739-AACC-4D70-841C-C63E3BBA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1DF55-864B-4E50-8600-9BDA54C9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497FF-BD88-4969-89C6-A4DF96E0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A1FAC-6A2C-4E79-A063-F0BAF1CF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91EB0-1CEC-4260-A119-80B5CAF2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6D836-688E-482F-88C9-71C0B62A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B4E96-03C1-4817-92D4-4A8C7D3C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8FA6A-4D45-442B-9792-A8DD4638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DBA-90A6-4249-97C0-CFAA7D1B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B67-C3BC-4778-BCBC-E622A52C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CC5C-BB92-4A52-8344-AFD108F3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C31-53FE-4992-A9C9-BAD6210A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278E-DF9F-4664-A86E-ED47D011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0480-0D13-4988-995F-5A6272D5F0D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BF99-C043-49E1-A43E-CD64FE4EB4F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101E-883A-4021-9C48-03A9FDBEDB8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CB8D-7619-42FD-AA67-98ACE42AF41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30268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раюшкина Полина, ученица 1 А класс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амятник павловскому кузнец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Содержимое 3" descr="184-s.jpg"/>
          <p:cNvPicPr/>
          <p:nvPr/>
        </p:nvPicPr>
        <p:blipFill>
          <a:blip r:embed="rId1"/>
          <a:stretch/>
        </p:blipFill>
        <p:spPr>
          <a:xfrm>
            <a:off x="3000240" y="1928880"/>
            <a:ext cx="3500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авловские нож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Содержимое 3" descr="1.jpg"/>
          <p:cNvPicPr/>
          <p:nvPr/>
        </p:nvPicPr>
        <p:blipFill>
          <a:blip r:embed="rId1"/>
          <a:stretch/>
        </p:blipFill>
        <p:spPr>
          <a:xfrm>
            <a:off x="357120" y="2214720"/>
            <a:ext cx="4143600" cy="342900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4"/>
          <p:cNvSpPr/>
          <p:nvPr/>
        </p:nvSpPr>
        <p:spPr>
          <a:xfrm>
            <a:off x="4572000" y="2214720"/>
            <a:ext cx="3786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ождаются же люди с золотыми руками: за что ни возьмутся, все у них ладно получаетс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 тут весь город такой. Люди в городе подобрались мастеровые, смекалистые и азартные. Издревле эти места в России славились мастерами, изготавливающими холодное оружие, охотничьи ножи, столовые прибор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авловские умельцы изготовили «Царь-замок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Содержимое 3" descr="icon.jpg"/>
          <p:cNvPicPr/>
          <p:nvPr/>
        </p:nvPicPr>
        <p:blipFill>
          <a:blip r:embed="rId1"/>
          <a:stretch/>
        </p:blipFill>
        <p:spPr>
          <a:xfrm>
            <a:off x="714240" y="2000160"/>
            <a:ext cx="2214720" cy="29433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357720" y="1643040"/>
            <a:ext cx="53575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авловским мастерам в очередной раз удалось удивить мир. Группа учащихся местного художественного училища N23 под руководством преподавателей изготовила "Царь-замок" вес которого составляет почти 300 килограммов, а высота почти 2 метра. В течение полутора лет 17 учащихся трудились над изготовлением этого чуда замочного мастерства.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Замок действительно представляет собой настоящее произведение искусства. Он является своеобразным сборником традиционных технологий павловских кустарей, которые изощряются в металлообработке уже более 300 л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ельефное гравирование, горячая ковка, химическое травление и оксидирование - вот те технологии, которые использовались при его изготовлении. Есть в этом замке и своя изюминка: при повороте ключа в нем играет музыка - гимн Павлова "На семи холмах". Кстати ключ к этому замку был сделан соответствующий, вес которого превышает 16 килограммов. 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Чудо-замок поражает своими изящными формами и тонкостью отделки. Часть деталей его механизма изготовлена из латуни, часть из стали нескольких марок. Сам замок покоится на великолепной кованной подставке. На замке изображены герб Нижегородской области и города Павлово, а на дужке замка расположился двухсторонний герб Росси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nstantia"/>
              </a:rPr>
              <a:t>Спасибо за внимание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стория горо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Содержимое 3" descr="130320966666004885.jpg"/>
          <p:cNvPicPr/>
          <p:nvPr/>
        </p:nvPicPr>
        <p:blipFill>
          <a:blip r:embed="rId1"/>
          <a:stretch/>
        </p:blipFill>
        <p:spPr>
          <a:xfrm>
            <a:off x="428760" y="2286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4"/>
          <p:cNvSpPr/>
          <p:nvPr/>
        </p:nvSpPr>
        <p:spPr>
          <a:xfrm>
            <a:off x="4429080" y="1571760"/>
            <a:ext cx="435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тория возникновения г. Павлово уходит вглубь веков и связана с историей развития Российского государства. Первое письменное упоминание о Павлове в грамоте Ивана Грозного датируется 5 апреля 1566 года. Это письменное упоминание условно считается годом основания Павлова. Существует много легенд о происхождении названия города. Одна из них говорит, что он получил свое название по имени некоего переселенца — перевозчика Павла. Согласно другой, город был назван по имени первого посадского в остроге, так как во всех важных документах Павлово упоминалось как 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авлов Острог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устарные промыслы конца 19 века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Содержимое 7" descr="220px-Kustari_005_Proizsvodstvo_mednih_zsamkov.jpg"/>
          <p:cNvPicPr/>
          <p:nvPr/>
        </p:nvPicPr>
        <p:blipFill>
          <a:blip r:embed="rId1"/>
          <a:stretch/>
        </p:blipFill>
        <p:spPr>
          <a:xfrm>
            <a:off x="857160" y="2214720"/>
            <a:ext cx="3714840" cy="307152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8"/>
          <p:cNvSpPr/>
          <p:nvPr/>
        </p:nvSpPr>
        <p:spPr>
          <a:xfrm>
            <a:off x="5000760" y="2357280"/>
            <a:ext cx="33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 XVII веке в Павлове преобладали оружейные мастера и замочник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ерб Павло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3" descr="i.jpg"/>
          <p:cNvPicPr/>
          <p:nvPr/>
        </p:nvPicPr>
        <p:blipFill>
          <a:blip r:embed="rId1"/>
          <a:stretch/>
        </p:blipFill>
        <p:spPr>
          <a:xfrm>
            <a:off x="428760" y="2428920"/>
            <a:ext cx="3571920" cy="321480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4"/>
          <p:cNvSpPr/>
          <p:nvPr/>
        </p:nvSpPr>
        <p:spPr>
          <a:xfrm>
            <a:off x="4286160" y="2214720"/>
            <a:ext cx="421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орма герба - щит. Графическим символом выбрана ладья, с древних времен разносившая славу павловских умельцев. На фоне парусника эмблема - молот с высеченной искрой. Это изображение символизирует кузнецов и современный рабочий класс с его революционным прошлым. Герб трехцветный: белый - силуэт ладьи; красный - воплощение современности; синий - символизирует старый дореволюционный период и реку Ок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авловская набережна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Содержимое 4" descr="icon.jpg"/>
          <p:cNvPicPr/>
          <p:nvPr/>
        </p:nvPicPr>
        <p:blipFill>
          <a:blip r:embed="rId1"/>
          <a:stretch/>
        </p:blipFill>
        <p:spPr>
          <a:xfrm>
            <a:off x="1301760" y="1935000"/>
            <a:ext cx="65404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анорама центральной набережной город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Содержимое 3" descr="1000px-PanPavlovo.jpg"/>
          <p:cNvPicPr/>
          <p:nvPr/>
        </p:nvPicPr>
        <p:blipFill>
          <a:blip r:embed="rId1"/>
          <a:stretch/>
        </p:blipFill>
        <p:spPr>
          <a:xfrm>
            <a:off x="457200" y="2500200"/>
            <a:ext cx="8229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081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стопримечательности г. Павлов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571760"/>
            <a:ext cx="82296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авловский лимо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Содержимое 3" descr="1_Pavlovo.jpg"/>
          <p:cNvPicPr/>
          <p:nvPr/>
        </p:nvPicPr>
        <p:blipFill>
          <a:blip r:embed="rId1"/>
          <a:stretch/>
        </p:blipFill>
        <p:spPr>
          <a:xfrm>
            <a:off x="571680" y="1928880"/>
            <a:ext cx="3686040" cy="438948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4"/>
          <p:cNvSpPr/>
          <p:nvPr/>
        </p:nvSpPr>
        <p:spPr>
          <a:xfrm>
            <a:off x="4429080" y="1357200"/>
            <a:ext cx="435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ще в середине XIX века павловчане занялись селекцией комнатного лимона, а в прошлом веке Павлово стало своего рода родиной комнатного лимон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звитие кустарного промысла и широкий торговый обмен с зарубежными странами в стародавние времена привели к распространению лимонных деревьев в Павлово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етом 2005 года, к дню города Павлова в сквере на пл.Базарной был установлен мемориал "Павловский лимон", посвященный городу и его историческим традициям - почти полтора века спустя лимон стал одним из официально признанных символов Павло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усиные бо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3" descr="7.jpg"/>
          <p:cNvPicPr/>
          <p:nvPr/>
        </p:nvPicPr>
        <p:blipFill>
          <a:blip r:embed="rId1"/>
          <a:stretch/>
        </p:blipFill>
        <p:spPr>
          <a:xfrm>
            <a:off x="428760" y="2428920"/>
            <a:ext cx="3786120" cy="29289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4"/>
          <p:cNvSpPr/>
          <p:nvPr/>
        </p:nvSpPr>
        <p:spPr>
          <a:xfrm>
            <a:off x="4572000" y="2143080"/>
            <a:ext cx="4000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первое воскресенье второй половины марта проводятся легендарные представления, которые когда-то посещал сам Пётр Великий. В этот день на левом берегу Оки собираются жители, приносящие крупных и сильных птиц. Нижегородские гуси издавна славились своей силой и выносливостью — эти качества только усилились в процессе многолетней селекц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3-04-03T17:54:43Z</dcterms:modified>
  <cp:revision>8</cp:revision>
  <dc:subject/>
  <dc:title>Мой любимый город- Павлово</dc:title>
</cp:coreProperties>
</file>