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E19-849C-4A50-B632-1FCC14CE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493-AF87-406A-BFEB-8DB52923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CEC-A685-4013-8BBF-DDEEB19C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2C0-3ECE-4BAF-AA09-592ACBA4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4B7F-9053-4AB2-BA53-40E032E4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A784-C019-4AE8-BAD9-ACEA862E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E334-C054-4907-A113-6D1F2022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5E1F-1CF2-4E14-AC2C-7F654A0E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B3E4-F8C8-4954-A253-9AC1A0E5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2F95-5913-4D0A-A625-AF92C4B4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09C4-9EF2-488D-B403-F67A1DBA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0C7-3694-4EB7-959D-A86A3DE8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CD51-57F8-49E6-8F44-5572B965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1BA9-5F2D-4A1D-A3B7-5F0A2C4B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36FD-FC5A-4056-9541-A9245261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B6C6-504D-4AA4-A827-21576ECC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F536-053C-46EF-A799-62455DB7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33A8-B8BF-44D7-AF70-076D93B3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42E3-25D9-4CA5-8639-20DEDE48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0276-3448-4694-BD93-F1CB44D1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2B2B7-25C6-40A4-BCF5-2C4AEF86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5BAC3-6C11-4111-95C1-A14239DC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CAA-B356-45F5-8340-26CCB92C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DD1F-6502-42E9-BD3F-E04F87DD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15CF-6121-4529-979D-399029C7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8781-39F5-4C68-96DC-22484A6E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DA7F3-E2FA-40D7-A4F6-499A8F6D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FB77B-6F15-4084-8204-304C772C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51133-73B4-4463-A080-E7BF07A2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17DD-5760-43F0-BD1E-D0DE2DEE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C3F4-4833-42B6-90B8-5BE6271F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F6813-D379-40F9-9AD4-43BE502B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95EA5-2612-47BD-89B2-A067725D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604-C202-4C9E-958A-A0875452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9E36C-08E8-4BCB-8CF7-E26E0720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2E0D1-47CF-4697-9CC7-2E29EE21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2165F-215F-4EE9-91EF-D9687E4D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DC2F-46C8-43C3-B6D8-3E040B90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7133-326E-4787-A8F5-73D0A172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5FF9-EDF1-41B1-BDC7-1EFEFB31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4564-BD75-4162-9CB6-8D4CC46E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B029-A825-4170-8948-D3BC0552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01915-C36D-406D-9098-DA616C4A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80C-63A3-44DB-9725-68C85228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D50-9051-4982-82F4-630765CA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9C4-258F-4E77-8CDB-6D404699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B24-211A-4FBD-8C42-90A0495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ACE-FEB3-44B7-BC99-173CAB91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12BB-CBC8-45DD-A05A-30CD63F2EC3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25B4-C2FB-4440-BA35-360AF364E69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FA9B-1208-4F15-B1D3-86EA04E0EC7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0ED6-D54C-4C07-8311-7EB9049360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26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раюшкина Полина, ученица 1 А класс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амятник павловскому кузнец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Содержимое 3" descr="184-s.jpg"/>
          <p:cNvPicPr/>
          <p:nvPr/>
        </p:nvPicPr>
        <p:blipFill>
          <a:blip r:embed="rId1"/>
          <a:stretch/>
        </p:blipFill>
        <p:spPr>
          <a:xfrm>
            <a:off x="3000240" y="1928880"/>
            <a:ext cx="3500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авловские нож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1.jpg"/>
          <p:cNvPicPr/>
          <p:nvPr/>
        </p:nvPicPr>
        <p:blipFill>
          <a:blip r:embed="rId1"/>
          <a:stretch/>
        </p:blipFill>
        <p:spPr>
          <a:xfrm>
            <a:off x="357120" y="2214720"/>
            <a:ext cx="4143600" cy="3429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4"/>
          <p:cNvSpPr/>
          <p:nvPr/>
        </p:nvSpPr>
        <p:spPr>
          <a:xfrm>
            <a:off x="4572000" y="2214720"/>
            <a:ext cx="3786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ждаются же люди с золотыми руками: за что ни возьмутся, все у них ладно получает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 тут весь город такой. Люди в городе подобрались мастеровые, смекалистые и азартные. Издревле эти места в России славились мастерами, изготавливающими холодное оружие, охотничьи ножи, столовые прибо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авловские умельцы изготовили «Царь-замок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Содержимое 3" descr="icon.jpg"/>
          <p:cNvPicPr/>
          <p:nvPr/>
        </p:nvPicPr>
        <p:blipFill>
          <a:blip r:embed="rId1"/>
          <a:stretch/>
        </p:blipFill>
        <p:spPr>
          <a:xfrm>
            <a:off x="714240" y="2000160"/>
            <a:ext cx="2214720" cy="29433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357720" y="1643040"/>
            <a:ext cx="53575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авловским мастерам в очередной раз удалось удивить мир. Группа учащихся местного художественного училища N23 под руководством преподавателей изготовила "Царь-замок" вес которого составляет почти 300 килограммов, а высота почти 2 метра. В течение полутора лет 17 учащихся трудились над изготовлением этого чуда замочного мастерства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мок действительно представляет собой настоящее произведение искусства. Он является своеобразным сборником традиционных технологий павловских кустарей, которые изощряются в металлообработке уже более 300 л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ельефное гравирование, горячая ковка, химическое травление и оксидирование - вот те технологии, которые использовались при его изготовлении. Есть в этом замке и своя изюминка: при повороте ключа в нем играет музыка - гимн Павлова "На семи холмах". Кстати ключ к этому замку был сделан соответствующий, вес которого превышает 16 килограммов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Чудо-замок поражает своими изящными формами и тонкостью отделки. Часть деталей его механизма изготовлена из латуни, часть из стали нескольких марок. Сам замок покоится на великолепной кованной подставке. На замке изображены герб Нижегородской области и города Павлово, а на дужке замка расположился двухсторонний герб Росси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nstantia"/>
              </a:rPr>
              <a:t>Спасибо за внимание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тория горо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Содержимое 3" descr="130320966666004885.jpg"/>
          <p:cNvPicPr/>
          <p:nvPr/>
        </p:nvPicPr>
        <p:blipFill>
          <a:blip r:embed="rId1"/>
          <a:stretch/>
        </p:blipFill>
        <p:spPr>
          <a:xfrm>
            <a:off x="428760" y="2286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4"/>
          <p:cNvSpPr/>
          <p:nvPr/>
        </p:nvSpPr>
        <p:spPr>
          <a:xfrm>
            <a:off x="4429080" y="1571760"/>
            <a:ext cx="43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тория возникновения г. Павлово уходит вглубь веков и связана с историей развития Российского государства. Первое письменное упоминание о Павлове в грамоте Ивана Грозного датируется 5 апреля 1566 года. Это письменное упоминание условно считается годом основания Павлова. Существует много легенд о происхождении названия города. Одна из них говорит, что он получил свое название по имени некоего переселенца — перевозчика Павла. Согласно другой, город был назван по имени первого посадского в остроге, так как во всех важных документах Павлово упоминалось как 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авлов Острог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устарные промыслы конца 19 века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Содержимое 7" descr="220px-Kustari_005_Proizsvodstvo_mednih_zsamkov.jpg"/>
          <p:cNvPicPr/>
          <p:nvPr/>
        </p:nvPicPr>
        <p:blipFill>
          <a:blip r:embed="rId1"/>
          <a:stretch/>
        </p:blipFill>
        <p:spPr>
          <a:xfrm>
            <a:off x="857160" y="2214720"/>
            <a:ext cx="3714840" cy="30715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8"/>
          <p:cNvSpPr/>
          <p:nvPr/>
        </p:nvSpPr>
        <p:spPr>
          <a:xfrm>
            <a:off x="5000760" y="235728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 XVII веке в Павлове преобладали оружейные мастера и замочник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рб Пав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3" descr="i.jpg"/>
          <p:cNvPicPr/>
          <p:nvPr/>
        </p:nvPicPr>
        <p:blipFill>
          <a:blip r:embed="rId1"/>
          <a:stretch/>
        </p:blipFill>
        <p:spPr>
          <a:xfrm>
            <a:off x="428760" y="2428920"/>
            <a:ext cx="3571920" cy="32148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"/>
          <p:cNvSpPr/>
          <p:nvPr/>
        </p:nvSpPr>
        <p:spPr>
          <a:xfrm>
            <a:off x="4286160" y="2214720"/>
            <a:ext cx="421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орма герба - щит. Графическим символом выбрана ладья, с древних времен разносившая славу павловских умельцев. На фоне парусника эмблема - молот с высеченной искрой. Это изображение символизирует кузнецов и современный рабочий класс с его революционным прошлым. Герб трехцветный: белый - силуэт ладьи; красный - воплощение современности; синий - символизирует старый дореволюционный период и реку Ок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авловская набережна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4" descr="icon.jpg"/>
          <p:cNvPicPr/>
          <p:nvPr/>
        </p:nvPicPr>
        <p:blipFill>
          <a:blip r:embed="rId1"/>
          <a:stretch/>
        </p:blipFill>
        <p:spPr>
          <a:xfrm>
            <a:off x="1301760" y="1935000"/>
            <a:ext cx="65404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анорама центральной набережной город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3" descr="1000px-PanPavlovo.jpg"/>
          <p:cNvPicPr/>
          <p:nvPr/>
        </p:nvPicPr>
        <p:blipFill>
          <a:blip r:embed="rId1"/>
          <a:stretch/>
        </p:blipFill>
        <p:spPr>
          <a:xfrm>
            <a:off x="457200" y="2500200"/>
            <a:ext cx="8229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стопримечательности г. Павлов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авловский лимо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3" descr="1_Pavlovo.jpg"/>
          <p:cNvPicPr/>
          <p:nvPr/>
        </p:nvPicPr>
        <p:blipFill>
          <a:blip r:embed="rId1"/>
          <a:stretch/>
        </p:blipFill>
        <p:spPr>
          <a:xfrm>
            <a:off x="571680" y="1928880"/>
            <a:ext cx="3686040" cy="438948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4429080" y="1357200"/>
            <a:ext cx="43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ще в середине XIX века павловчане занялись селекцией комнатного лимона, а в прошлом веке Павлово стало своего рода родиной комнатного лимон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витие кустарного промысла и широкий торговый обмен с зарубежными странами в стародавние времена привели к распространению лимонных деревьев в Павлов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етом 2005 года, к дню города Павлова в сквере на пл.Базарной был установлен мемориал "Павловский лимон", посвященный городу и его историческим традициям - почти полтора века спустя лимон стал одним из официально признанных символов Павло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усиные бо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3" descr="7.jpg"/>
          <p:cNvPicPr/>
          <p:nvPr/>
        </p:nvPicPr>
        <p:blipFill>
          <a:blip r:embed="rId1"/>
          <a:stretch/>
        </p:blipFill>
        <p:spPr>
          <a:xfrm>
            <a:off x="428760" y="2428920"/>
            <a:ext cx="3786120" cy="29289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4572000" y="2143080"/>
            <a:ext cx="4000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первое воскресенье второй половины марта проводятся легендарные представления, которые когда-то посещал сам Пётр Великий. В этот день на левом берегу Оки собираются жители, приносящие крупных и сильных птиц. Нижегородские гуси издавна славились своей силой и выносливостью — эти качества только усилились в процессе многолетней селекц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3-04-03T17:54:43Z</dcterms:modified>
  <cp:revision>8</cp:revision>
  <dc:subject/>
  <dc:title>Мой любимый город- Павлово</dc:title>
</cp:coreProperties>
</file>