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C0D-3E3F-42F8-AC6B-80727254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187-32D7-4F4A-ABA9-1B94DC5F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4E1-C325-4E92-BE45-BB752F39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217-3594-496A-8498-4346EF6E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8214-248E-4E31-B75C-FAFC2DE2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F63C-C80D-4C61-BCA5-4E0E0630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06BF-1A39-48CE-9C3B-3B3BB050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C302-9537-44AF-81FA-06FE83BA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3855-B286-45D5-9116-998A7083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2D40-ED3F-41DC-8F6B-5C3C8B9B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4769-8996-47E9-A82D-1856EF47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C8E-A825-4BA6-9072-FD26D342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EFCB-539B-4621-9B0F-0AA0CBCD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09D2-4DDD-4E31-8019-18516EF0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E548-2286-4576-B28F-1432955C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2DB2-337C-4D08-A2A5-40B17229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4D47-4F9E-494B-8EEA-44668C2A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22F-15FC-4F3E-AF0C-AA51271F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BA4-9848-445C-A64C-50855E15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7A2-AC62-4506-983A-2BC6BD2F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EAA-456E-4844-A255-758F7C10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FC1-33F5-459E-A0B7-EBEAEBDF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7A7-D3B5-43F3-A213-17BDB40E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6F64-02B3-468F-AA5A-027E664E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4F20-AFD5-4B44-9B09-6CFE0C16EA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D:\фоны и шаблоны\ec5f413bf509.jpg"/>
          <p:cNvPicPr/>
          <p:nvPr/>
        </p:nvPicPr>
        <p:blipFill>
          <a:blip r:embed="rId2"/>
          <a:srcRect l="5499" t="0" r="80365" b="0"/>
          <a:stretch/>
        </p:blipFill>
        <p:spPr>
          <a:xfrm>
            <a:off x="0" y="0"/>
            <a:ext cx="12859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D:\фоны и шаблоны\ec5f413bf509.jpg"/>
          <p:cNvPicPr/>
          <p:nvPr/>
        </p:nvPicPr>
        <p:blipFill>
          <a:blip r:embed="rId2"/>
          <a:srcRect l="5499" t="0" r="80365" b="0"/>
          <a:stretch/>
        </p:blipFill>
        <p:spPr>
          <a:xfrm>
            <a:off x="0" y="0"/>
            <a:ext cx="1285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D:\фоны и шаблоны\ec5f413bf509.jpg"/>
          <p:cNvPicPr/>
          <p:nvPr/>
        </p:nvPicPr>
        <p:blipFill>
          <a:blip r:embed="rId3"/>
          <a:stretch/>
        </p:blipFill>
        <p:spPr>
          <a:xfrm>
            <a:off x="0" y="0"/>
            <a:ext cx="90932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0DF0-E750-478A-9C43-BEB6149C8D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3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7164483479b1"/>
          <p:cNvPicPr/>
          <p:nvPr/>
        </p:nvPicPr>
        <p:blipFill>
          <a:blip r:embed="rId1"/>
          <a:stretch/>
        </p:blipFill>
        <p:spPr>
          <a:xfrm>
            <a:off x="108000" y="115920"/>
            <a:ext cx="8712000" cy="6524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635280" y="1341360"/>
            <a:ext cx="360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993366">
                    <a:alpha val="77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  </a:t>
            </a:r>
            <a:r>
              <a:rPr b="1" lang="en-US" sz="20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993366">
                    <a:alpha val="77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повторяем склонение </a:t>
            </a:r>
            <a:endParaRPr b="1" lang="en-US" sz="2000" spc="1" strike="noStrike">
              <a:ln w="19080">
                <a:solidFill>
                  <a:srgbClr val="cc99ff"/>
                </a:solidFill>
                <a:miter/>
              </a:ln>
              <a:solidFill>
                <a:srgbClr val="993366">
                  <a:alpha val="77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993366">
                    <a:alpha val="77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имен существительных</a:t>
            </a:r>
            <a:endParaRPr b="1" lang="en-US" sz="2000" spc="1" strike="noStrike">
              <a:ln w="19080">
                <a:solidFill>
                  <a:srgbClr val="cc99ff"/>
                </a:solidFill>
                <a:miter/>
              </a:ln>
              <a:solidFill>
                <a:srgbClr val="993366">
                  <a:alpha val="77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451640" y="6021360"/>
            <a:ext cx="970200" cy="646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3964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98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tro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5"/>
          <p:cNvSpPr/>
          <p:nvPr/>
        </p:nvSpPr>
        <p:spPr>
          <a:xfrm>
            <a:off x="971640" y="115920"/>
            <a:ext cx="3384360" cy="122544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Arial"/>
              </a:rPr>
              <a:t>Найд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Arial"/>
              </a:rPr>
              <a:t>«лишнее слов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Cloud"/>
          <p:cNvSpPr/>
          <p:nvPr/>
        </p:nvSpPr>
        <p:spPr>
          <a:xfrm>
            <a:off x="7093080" y="1413000"/>
            <a:ext cx="1800000" cy="1206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поч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Cloud"/>
          <p:cNvSpPr/>
          <p:nvPr/>
        </p:nvSpPr>
        <p:spPr>
          <a:xfrm>
            <a:off x="5292720" y="620640"/>
            <a:ext cx="1943280" cy="1109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письм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Cloud"/>
          <p:cNvSpPr/>
          <p:nvPr/>
        </p:nvSpPr>
        <p:spPr>
          <a:xfrm>
            <a:off x="1042920" y="2133720"/>
            <a:ext cx="1657440" cy="1109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сум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loud"/>
          <p:cNvSpPr/>
          <p:nvPr/>
        </p:nvSpPr>
        <p:spPr>
          <a:xfrm>
            <a:off x="971640" y="4322880"/>
            <a:ext cx="1728720" cy="11570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газ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loud"/>
          <p:cNvSpPr/>
          <p:nvPr/>
        </p:nvSpPr>
        <p:spPr>
          <a:xfrm>
            <a:off x="6156360" y="4941720"/>
            <a:ext cx="1873080" cy="12542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мар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56720" y="6093000"/>
            <a:ext cx="969840" cy="645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82692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5387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971640" y="260280"/>
            <a:ext cx="3313080" cy="108108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Arial"/>
              </a:rPr>
              <a:t>Найд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  <a:ea typeface="Arial"/>
              </a:rPr>
              <a:t>«лишнее слов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Cloud"/>
          <p:cNvSpPr/>
          <p:nvPr/>
        </p:nvSpPr>
        <p:spPr>
          <a:xfrm>
            <a:off x="611280" y="5013360"/>
            <a:ext cx="2019240" cy="1081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уг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loud"/>
          <p:cNvSpPr/>
          <p:nvPr/>
        </p:nvSpPr>
        <p:spPr>
          <a:xfrm>
            <a:off x="971640" y="2060640"/>
            <a:ext cx="2019240" cy="936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мыш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loud"/>
          <p:cNvSpPr/>
          <p:nvPr/>
        </p:nvSpPr>
        <p:spPr>
          <a:xfrm>
            <a:off x="6588000" y="3860640"/>
            <a:ext cx="2019600" cy="1008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печ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loud"/>
          <p:cNvSpPr/>
          <p:nvPr/>
        </p:nvSpPr>
        <p:spPr>
          <a:xfrm>
            <a:off x="6588000" y="1989000"/>
            <a:ext cx="2019600" cy="1008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Cloud"/>
          <p:cNvSpPr/>
          <p:nvPr/>
        </p:nvSpPr>
        <p:spPr>
          <a:xfrm>
            <a:off x="5003640" y="907920"/>
            <a:ext cx="2019600" cy="936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дич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667640" y="6093000"/>
            <a:ext cx="969840" cy="645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538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826920" y="333360"/>
            <a:ext cx="40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Найдит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«лишнее слов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8"/>
          <p:cNvSpPr/>
          <p:nvPr/>
        </p:nvSpPr>
        <p:spPr>
          <a:xfrm flipH="1">
            <a:off x="6300720" y="476280"/>
            <a:ext cx="2519280" cy="936720"/>
          </a:xfrm>
          <a:prstGeom prst="cloudCallout">
            <a:avLst>
              <a:gd name="adj1" fmla="val 51129"/>
              <a:gd name="adj2" fmla="val 13711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р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8"/>
          <p:cNvSpPr/>
          <p:nvPr/>
        </p:nvSpPr>
        <p:spPr>
          <a:xfrm flipH="1">
            <a:off x="1546920" y="1989000"/>
            <a:ext cx="2482920" cy="936720"/>
          </a:xfrm>
          <a:prstGeom prst="cloudCallout">
            <a:avLst>
              <a:gd name="adj1" fmla="val -81652"/>
              <a:gd name="adj2" fmla="val 983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Гаврю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 flipH="1">
            <a:off x="4284720" y="4797360"/>
            <a:ext cx="1800000" cy="936720"/>
          </a:xfrm>
          <a:prstGeom prst="cloudCallout">
            <a:avLst>
              <a:gd name="adj1" fmla="val -27958"/>
              <a:gd name="adj2" fmla="val -1120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8"/>
          <p:cNvSpPr/>
          <p:nvPr/>
        </p:nvSpPr>
        <p:spPr>
          <a:xfrm flipH="1">
            <a:off x="1762920" y="4005360"/>
            <a:ext cx="1763640" cy="936360"/>
          </a:xfrm>
          <a:prstGeom prst="cloudCallout">
            <a:avLst>
              <a:gd name="adj1" fmla="val -122009"/>
              <a:gd name="adj2" fmla="val -66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ур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56720" y="6093000"/>
            <a:ext cx="969840" cy="645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75564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40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5387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910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63640" y="260280"/>
            <a:ext cx="5832720" cy="1863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К 1 склонению относятся существитель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mic Sans MS"/>
                <a:ea typeface="Arial"/>
              </a:rPr>
              <a:t>м.р. и ж.р.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 с окончаниями </a:t>
            </a:r>
            <a:r>
              <a:rPr b="1" lang="en-US" sz="1800" spc="-1" strike="noStrike">
                <a:solidFill>
                  <a:srgbClr val="cc00ff"/>
                </a:solidFill>
                <a:latin typeface="Comic Sans MS"/>
                <a:ea typeface="Arial"/>
              </a:rPr>
              <a:t>– а, -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mic Sans MS"/>
                <a:ea typeface="Arial"/>
              </a:rPr>
              <a:t>в И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40720" y="6021360"/>
            <a:ext cx="9698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072720" cy="6854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765000"/>
            <a:ext cx="5182920" cy="2232360"/>
          </a:xfrm>
          <a:prstGeom prst="cloudCallout">
            <a:avLst>
              <a:gd name="adj1" fmla="val 47976"/>
              <a:gd name="adj2" fmla="val 6244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Ко 2 склонению относятся существитель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м.р.  с нулевым оконча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и  ср.р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 с окончаниями </a:t>
            </a:r>
            <a:r>
              <a:rPr b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–о, -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в И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9698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9134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472000" y="981000"/>
            <a:ext cx="3492720" cy="3960720"/>
          </a:xfrm>
          <a:prstGeom prst="cloudCallout">
            <a:avLst>
              <a:gd name="adj1" fmla="val -72819"/>
              <a:gd name="adj2" fmla="val -518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К 3 склонению относятся существительные</a:t>
            </a:r>
            <a:r>
              <a:rPr b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ж.р.  с ь знаком на конце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и с нулевым оконча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  <a:ea typeface="Arial"/>
              </a:rPr>
              <a:t>в И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740720" y="5950080"/>
            <a:ext cx="969840" cy="64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227640" y="549360"/>
            <a:ext cx="2808360" cy="1584360"/>
          </a:xfrm>
          <a:prstGeom prst="wedgeEllipseCallout">
            <a:avLst>
              <a:gd name="adj1" fmla="val -30439"/>
              <a:gd name="adj2" fmla="val 12975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В деревне хорошо, но и учебу забывать нельз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189000"/>
            <a:ext cx="2879640" cy="1584360"/>
          </a:xfrm>
          <a:prstGeom prst="cloudCallout">
            <a:avLst>
              <a:gd name="adj1" fmla="val 2810"/>
              <a:gd name="adj2" fmla="val 14939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Arial"/>
              </a:rPr>
              <a:t>Хочу быть образованным, как ты! Поможешь нам с Шарико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557360"/>
            <a:ext cx="2374920" cy="1584360"/>
          </a:xfrm>
          <a:prstGeom prst="cloudCallout">
            <a:avLst>
              <a:gd name="adj1" fmla="val 17847"/>
              <a:gd name="adj2" fmla="val 9939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И я хочу, учиться – это здоров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732720" y="6093000"/>
            <a:ext cx="969840" cy="64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8" descr="kanikuly.v.prostokvashino.0-12-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40000" y="260280"/>
            <a:ext cx="3673440" cy="1657440"/>
          </a:xfrm>
          <a:prstGeom prst="cloudCallout">
            <a:avLst>
              <a:gd name="adj1" fmla="val 58384"/>
              <a:gd name="adj2" fmla="val 8553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Как определить склонение существительных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Cloud"/>
          <p:cNvSpPr/>
          <p:nvPr/>
        </p:nvSpPr>
        <p:spPr>
          <a:xfrm>
            <a:off x="684360" y="2924280"/>
            <a:ext cx="2092320" cy="1401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по роду и по числ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loud"/>
          <p:cNvSpPr/>
          <p:nvPr/>
        </p:nvSpPr>
        <p:spPr>
          <a:xfrm>
            <a:off x="2050920" y="4292640"/>
            <a:ext cx="2665440" cy="17859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по роду и по окончанию в начальной форм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451640" y="6093000"/>
            <a:ext cx="970200" cy="64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25892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25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314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03" name="PubOvalCallout"/>
          <p:cNvSpPr/>
          <p:nvPr/>
        </p:nvSpPr>
        <p:spPr>
          <a:xfrm>
            <a:off x="592200" y="622440"/>
            <a:ext cx="2324160" cy="1222200"/>
          </a:xfrm>
          <a:custGeom>
            <a:avLst/>
            <a:gdLst>
              <a:gd name="textAreaLeft" fmla="*/ 340200 w 2324160"/>
              <a:gd name="textAreaRight" fmla="*/ 1983960 w 2324160"/>
              <a:gd name="textAreaTop" fmla="*/ 134280 h 1222200"/>
              <a:gd name="textAreaBottom" fmla="*/ 783000 h 1222200"/>
            </a:gdLst>
            <a:ahLst/>
            <a:rect l="textAreaLeft" t="textAreaTop" r="textAreaRight" b="textAreaBottom"/>
            <a:pathLst>
              <a:path w="21600" h="21600">
                <a:moveTo>
                  <a:pt x="155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маш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ilecab3"/>
          <p:cNvSpPr/>
          <p:nvPr/>
        </p:nvSpPr>
        <p:spPr>
          <a:xfrm rot="10800000">
            <a:off x="3492360" y="404280"/>
            <a:ext cx="3672000" cy="936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Найдите существите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1 скло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ubOvalCallout"/>
          <p:cNvSpPr/>
          <p:nvPr/>
        </p:nvSpPr>
        <p:spPr>
          <a:xfrm rot="15860400">
            <a:off x="1701720" y="2124000"/>
            <a:ext cx="1123920" cy="2308320"/>
          </a:xfrm>
          <a:custGeom>
            <a:avLst/>
            <a:gdLst>
              <a:gd name="textAreaLeft" fmla="*/ 164520 w 1123920"/>
              <a:gd name="textAreaRight" fmla="*/ 959400 w 1123920"/>
              <a:gd name="textAreaTop" fmla="*/ 253440 h 2308320"/>
              <a:gd name="textAreaBottom" fmla="*/ 1478520 h 2308320"/>
            </a:gdLst>
            <a:ahLst/>
            <a:rect l="textAreaLeft" t="textAreaTop" r="textAreaRight" b="textAreaBottom"/>
            <a:pathLst>
              <a:path w="21600" h="21600">
                <a:moveTo>
                  <a:pt x="2245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моло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ubOvalCallout"/>
          <p:cNvSpPr/>
          <p:nvPr/>
        </p:nvSpPr>
        <p:spPr>
          <a:xfrm>
            <a:off x="3995640" y="1773360"/>
            <a:ext cx="1584360" cy="1584360"/>
          </a:xfrm>
          <a:custGeom>
            <a:avLst/>
            <a:gdLst>
              <a:gd name="textAreaLeft" fmla="*/ 231840 w 1584360"/>
              <a:gd name="textAreaRight" fmla="*/ 1352520 w 1584360"/>
              <a:gd name="textAreaTop" fmla="*/ 173880 h 1584360"/>
              <a:gd name="textAreaBottom" fmla="*/ 1014840 h 1584360"/>
            </a:gdLst>
            <a:ahLst/>
            <a:rect l="textAreaLeft" t="textAreaTop" r="textAreaRight" b="textAreaBottom"/>
            <a:pathLst>
              <a:path w="21600" h="21600">
                <a:moveTo>
                  <a:pt x="14250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дяд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ubOvalCallout"/>
          <p:cNvSpPr/>
          <p:nvPr/>
        </p:nvSpPr>
        <p:spPr>
          <a:xfrm rot="5400000">
            <a:off x="7333560" y="4390920"/>
            <a:ext cx="1044720" cy="1927080"/>
          </a:xfrm>
          <a:custGeom>
            <a:avLst/>
            <a:gdLst>
              <a:gd name="textAreaLeft" fmla="*/ 153000 w 1044720"/>
              <a:gd name="textAreaRight" fmla="*/ 891720 w 1044720"/>
              <a:gd name="textAreaTop" fmla="*/ 211680 h 1927080"/>
              <a:gd name="textAreaBottom" fmla="*/ 1234440 h 1927080"/>
            </a:gdLst>
            <a:ahLst/>
            <a:rect l="textAreaLeft" t="textAreaTop" r="textAreaRight" b="textAreaBottom"/>
            <a:pathLst>
              <a:path w="21600" h="21600">
                <a:moveTo>
                  <a:pt x="14250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пе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ubOvalCallout"/>
          <p:cNvSpPr/>
          <p:nvPr/>
        </p:nvSpPr>
        <p:spPr>
          <a:xfrm rot="15921600">
            <a:off x="961920" y="3798360"/>
            <a:ext cx="1098720" cy="2664000"/>
          </a:xfrm>
          <a:custGeom>
            <a:avLst/>
            <a:gdLst>
              <a:gd name="textAreaLeft" fmla="*/ 160920 w 1098720"/>
              <a:gd name="textAreaRight" fmla="*/ 937800 w 1098720"/>
              <a:gd name="textAreaTop" fmla="*/ 292680 h 2664000"/>
              <a:gd name="textAreaBottom" fmla="*/ 1706400 h 2664000"/>
            </a:gdLst>
            <a:ahLst/>
            <a:rect l="textAreaLeft" t="textAreaTop" r="textAreaRight" b="textAreaBottom"/>
            <a:pathLst>
              <a:path w="21600" h="21600">
                <a:moveTo>
                  <a:pt x="14250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бур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ubOvalCallout"/>
          <p:cNvSpPr/>
          <p:nvPr/>
        </p:nvSpPr>
        <p:spPr>
          <a:xfrm rot="5616600">
            <a:off x="7241760" y="1574640"/>
            <a:ext cx="1116000" cy="1893960"/>
          </a:xfrm>
          <a:custGeom>
            <a:avLst/>
            <a:gdLst>
              <a:gd name="textAreaLeft" fmla="*/ 163440 w 1116000"/>
              <a:gd name="textAreaRight" fmla="*/ 952560 w 1116000"/>
              <a:gd name="textAreaTop" fmla="*/ 208080 h 1893960"/>
              <a:gd name="textAreaBottom" fmla="*/ 1213200 h 1893960"/>
            </a:gdLst>
            <a:ahLst/>
            <a:rect l="textAreaLeft" t="textAreaTop" r="textAreaRight" b="textAreaBottom"/>
            <a:pathLst>
              <a:path w="21600" h="21600">
                <a:moveTo>
                  <a:pt x="14250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озер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loud">
            <a:hlinkClick r:id="rId2" action="ppaction://hlinksldjump"/>
          </p:cNvPr>
          <p:cNvSpPr/>
          <p:nvPr/>
        </p:nvSpPr>
        <p:spPr>
          <a:xfrm>
            <a:off x="1763640" y="6021360"/>
            <a:ext cx="2808360" cy="674640"/>
          </a:xfrm>
          <a:prstGeom prst="pi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885080" y="6093000"/>
            <a:ext cx="969840" cy="645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3964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18728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12400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6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7843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2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784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8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7843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tro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filecab3"/>
          <p:cNvSpPr/>
          <p:nvPr/>
        </p:nvSpPr>
        <p:spPr>
          <a:xfrm rot="10800000">
            <a:off x="3492360" y="404280"/>
            <a:ext cx="3672000" cy="936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Найдите существите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2 скло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loud"/>
          <p:cNvSpPr/>
          <p:nvPr/>
        </p:nvSpPr>
        <p:spPr>
          <a:xfrm>
            <a:off x="1403280" y="3213000"/>
            <a:ext cx="1871640" cy="12542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руж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loud"/>
          <p:cNvSpPr/>
          <p:nvPr/>
        </p:nvSpPr>
        <p:spPr>
          <a:xfrm>
            <a:off x="1042920" y="1484280"/>
            <a:ext cx="1871640" cy="12542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ох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loud"/>
          <p:cNvSpPr/>
          <p:nvPr/>
        </p:nvSpPr>
        <p:spPr>
          <a:xfrm>
            <a:off x="6084720" y="5229360"/>
            <a:ext cx="1872000" cy="1079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мяс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Cloud"/>
          <p:cNvSpPr/>
          <p:nvPr/>
        </p:nvSpPr>
        <p:spPr>
          <a:xfrm>
            <a:off x="1187280" y="4941720"/>
            <a:ext cx="1872000" cy="1079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кор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loud"/>
          <p:cNvSpPr/>
          <p:nvPr/>
        </p:nvSpPr>
        <p:spPr>
          <a:xfrm>
            <a:off x="6443640" y="3645000"/>
            <a:ext cx="1871640" cy="1079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бу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loud"/>
          <p:cNvSpPr/>
          <p:nvPr/>
        </p:nvSpPr>
        <p:spPr>
          <a:xfrm>
            <a:off x="6300720" y="1989000"/>
            <a:ext cx="1871640" cy="1079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Cloud"/>
          <p:cNvSpPr/>
          <p:nvPr/>
        </p:nvSpPr>
        <p:spPr>
          <a:xfrm>
            <a:off x="3132000" y="6021360"/>
            <a:ext cx="2735280" cy="674640"/>
          </a:xfrm>
          <a:prstGeom prst="pi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85080" y="6021360"/>
            <a:ext cx="96984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11600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195640" y="7174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27672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742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742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7425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160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filecab3"/>
          <p:cNvSpPr/>
          <p:nvPr/>
        </p:nvSpPr>
        <p:spPr>
          <a:xfrm rot="10800000">
            <a:off x="3492360" y="404280"/>
            <a:ext cx="3672000" cy="936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Найдите существите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omic Sans MS"/>
                <a:ea typeface="Arial"/>
              </a:rPr>
              <a:t>3 скло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etter"/>
          <p:cNvSpPr/>
          <p:nvPr/>
        </p:nvSpPr>
        <p:spPr>
          <a:xfrm>
            <a:off x="395280" y="907920"/>
            <a:ext cx="2016000" cy="86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гор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etter"/>
          <p:cNvSpPr/>
          <p:nvPr/>
        </p:nvSpPr>
        <p:spPr>
          <a:xfrm>
            <a:off x="5940360" y="5084640"/>
            <a:ext cx="2016360" cy="86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мыш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etter"/>
          <p:cNvSpPr/>
          <p:nvPr/>
        </p:nvSpPr>
        <p:spPr>
          <a:xfrm>
            <a:off x="250920" y="2924280"/>
            <a:ext cx="2016000" cy="86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щ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etter"/>
          <p:cNvSpPr/>
          <p:nvPr/>
        </p:nvSpPr>
        <p:spPr>
          <a:xfrm>
            <a:off x="108000" y="5300640"/>
            <a:ext cx="2448000" cy="86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окош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etter"/>
          <p:cNvSpPr/>
          <p:nvPr/>
        </p:nvSpPr>
        <p:spPr>
          <a:xfrm>
            <a:off x="6659640" y="3068640"/>
            <a:ext cx="2305080" cy="86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лошад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etter"/>
          <p:cNvSpPr/>
          <p:nvPr/>
        </p:nvSpPr>
        <p:spPr>
          <a:xfrm>
            <a:off x="6804000" y="1700280"/>
            <a:ext cx="2016000" cy="863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поч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Cloud"/>
          <p:cNvSpPr/>
          <p:nvPr/>
        </p:nvSpPr>
        <p:spPr>
          <a:xfrm>
            <a:off x="3059280" y="6021360"/>
            <a:ext cx="2736720" cy="674640"/>
          </a:xfrm>
          <a:prstGeom prst="pi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40720" y="6021360"/>
            <a:ext cx="96984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animClr clrSpc="rgb">
                                      <p:cBhvr>
                                        <p:cTn id="1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set>
                                      <p:cBhvr>
                                        <p:cTn id="1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animClr clrSpc="rgb">
                                      <p:cBhvr>
                                        <p:cTn id="1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set>
                                      <p:cBhvr>
                                        <p:cTn id="1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8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animClr clrSpc="rgb">
                                      <p:cBhvr>
                                        <p:cTn id="1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set>
                                      <p:cBhvr>
                                        <p:cTn id="1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animClr clrSpc="rgb">
                                      <p:cBhvr>
                                        <p:cTn id="2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set>
                                      <p:cBhvr>
                                        <p:cTn id="2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907272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ubRRectCallout"/>
          <p:cNvSpPr/>
          <p:nvPr/>
        </p:nvSpPr>
        <p:spPr>
          <a:xfrm>
            <a:off x="4211640" y="404640"/>
            <a:ext cx="3600360" cy="1524240"/>
          </a:xfrm>
          <a:custGeom>
            <a:avLst/>
            <a:gdLst>
              <a:gd name="textAreaLeft" fmla="*/ 24120 w 3600360"/>
              <a:gd name="textAreaRight" fmla="*/ 3568680 w 3600360"/>
              <a:gd name="textAreaTop" fmla="*/ 10080 h 1524240"/>
              <a:gd name="textAreaBottom" fmla="*/ 1207080 h 1524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0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Определите склонение существительны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дорога, зима, ёлк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печка, кочерга, шу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5148360" y="2637000"/>
            <a:ext cx="1635120" cy="1439640"/>
          </a:xfrm>
          <a:custGeom>
            <a:avLst/>
            <a:gdLst>
              <a:gd name="textAreaLeft" fmla="*/ 373320 w 1635120"/>
              <a:gd name="textAreaRight" fmla="*/ 1261800 w 163512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кло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4869000"/>
            <a:ext cx="1635120" cy="1439640"/>
          </a:xfrm>
          <a:custGeom>
            <a:avLst/>
            <a:gdLst>
              <a:gd name="textAreaLeft" fmla="*/ 373320 w 1635120"/>
              <a:gd name="textAreaRight" fmla="*/ 1261800 w 163512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кло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2349360"/>
            <a:ext cx="1635120" cy="1440000"/>
          </a:xfrm>
          <a:custGeom>
            <a:avLst/>
            <a:gdLst>
              <a:gd name="textAreaLeft" fmla="*/ 373320 w 1635120"/>
              <a:gd name="textAreaRight" fmla="*/ 1261800 w 163512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кло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85080" y="6021360"/>
            <a:ext cx="969840" cy="646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97164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7843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260280"/>
            <a:ext cx="3816360" cy="2808360"/>
          </a:xfrm>
          <a:prstGeom prst="cloudCallout">
            <a:avLst>
              <a:gd name="adj1" fmla="val 47379"/>
              <a:gd name="adj2" fmla="val 5175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Определите склонение существительны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печь, ночь, ель, рож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моль, с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1125360"/>
            <a:ext cx="1295280" cy="1224000"/>
          </a:xfrm>
          <a:custGeom>
            <a:avLst/>
            <a:gdLst>
              <a:gd name="textAreaLeft" fmla="*/ 415440 w 1295280"/>
              <a:gd name="textAreaRight" fmla="*/ 879840 w 1295280"/>
              <a:gd name="textAreaTop" fmla="*/ 392400 h 1224000"/>
              <a:gd name="textAreaBottom" fmla="*/ 831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724" y="12851"/>
                </a:lnTo>
                <a:lnTo>
                  <a:pt x="3163" y="18437"/>
                </a:lnTo>
                <a:lnTo>
                  <a:pt x="8661" y="15840"/>
                </a:lnTo>
                <a:lnTo>
                  <a:pt x="10800" y="21600"/>
                </a:lnTo>
                <a:lnTo>
                  <a:pt x="12851" y="15876"/>
                </a:lnTo>
                <a:lnTo>
                  <a:pt x="18437" y="18437"/>
                </a:lnTo>
                <a:lnTo>
                  <a:pt x="15840" y="12939"/>
                </a:lnTo>
                <a:lnTo>
                  <a:pt x="21600" y="10800"/>
                </a:lnTo>
                <a:lnTo>
                  <a:pt x="15876" y="8749"/>
                </a:lnTo>
                <a:lnTo>
                  <a:pt x="18437" y="3163"/>
                </a:lnTo>
                <a:lnTo>
                  <a:pt x="12939" y="5760"/>
                </a:lnTo>
                <a:lnTo>
                  <a:pt x="10800" y="0"/>
                </a:lnTo>
                <a:lnTo>
                  <a:pt x="8749" y="5724"/>
                </a:lnTo>
                <a:lnTo>
                  <a:pt x="3163" y="3163"/>
                </a:lnTo>
                <a:lnTo>
                  <a:pt x="5760" y="8661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4221000"/>
            <a:ext cx="1295280" cy="1224000"/>
          </a:xfrm>
          <a:custGeom>
            <a:avLst/>
            <a:gdLst>
              <a:gd name="textAreaLeft" fmla="*/ 415440 w 1295280"/>
              <a:gd name="textAreaRight" fmla="*/ 879840 w 1295280"/>
              <a:gd name="textAreaTop" fmla="*/ 392400 h 1224000"/>
              <a:gd name="textAreaBottom" fmla="*/ 831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724" y="12851"/>
                </a:lnTo>
                <a:lnTo>
                  <a:pt x="3163" y="18437"/>
                </a:lnTo>
                <a:lnTo>
                  <a:pt x="8661" y="15840"/>
                </a:lnTo>
                <a:lnTo>
                  <a:pt x="10800" y="21600"/>
                </a:lnTo>
                <a:lnTo>
                  <a:pt x="12851" y="15876"/>
                </a:lnTo>
                <a:lnTo>
                  <a:pt x="18437" y="18437"/>
                </a:lnTo>
                <a:lnTo>
                  <a:pt x="15840" y="12939"/>
                </a:lnTo>
                <a:lnTo>
                  <a:pt x="21600" y="10800"/>
                </a:lnTo>
                <a:lnTo>
                  <a:pt x="15876" y="8749"/>
                </a:lnTo>
                <a:lnTo>
                  <a:pt x="18437" y="3163"/>
                </a:lnTo>
                <a:lnTo>
                  <a:pt x="12939" y="5760"/>
                </a:lnTo>
                <a:lnTo>
                  <a:pt x="10800" y="0"/>
                </a:lnTo>
                <a:lnTo>
                  <a:pt x="8749" y="5724"/>
                </a:lnTo>
                <a:lnTo>
                  <a:pt x="3163" y="3163"/>
                </a:lnTo>
                <a:lnTo>
                  <a:pt x="5760" y="8661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6877080" y="4365720"/>
            <a:ext cx="1295280" cy="1224000"/>
          </a:xfrm>
          <a:custGeom>
            <a:avLst/>
            <a:gdLst>
              <a:gd name="textAreaLeft" fmla="*/ 415440 w 1295280"/>
              <a:gd name="textAreaRight" fmla="*/ 879840 w 1295280"/>
              <a:gd name="textAreaTop" fmla="*/ 392400 h 1224000"/>
              <a:gd name="textAreaBottom" fmla="*/ 831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724" y="12851"/>
                </a:lnTo>
                <a:lnTo>
                  <a:pt x="3163" y="18437"/>
                </a:lnTo>
                <a:lnTo>
                  <a:pt x="8661" y="15840"/>
                </a:lnTo>
                <a:lnTo>
                  <a:pt x="10800" y="21600"/>
                </a:lnTo>
                <a:lnTo>
                  <a:pt x="12851" y="15876"/>
                </a:lnTo>
                <a:lnTo>
                  <a:pt x="18437" y="18437"/>
                </a:lnTo>
                <a:lnTo>
                  <a:pt x="15840" y="12939"/>
                </a:lnTo>
                <a:lnTo>
                  <a:pt x="21600" y="10800"/>
                </a:lnTo>
                <a:lnTo>
                  <a:pt x="15876" y="8749"/>
                </a:lnTo>
                <a:lnTo>
                  <a:pt x="18437" y="3163"/>
                </a:lnTo>
                <a:lnTo>
                  <a:pt x="12939" y="5760"/>
                </a:lnTo>
                <a:lnTo>
                  <a:pt x="10800" y="0"/>
                </a:lnTo>
                <a:lnTo>
                  <a:pt x="8749" y="5724"/>
                </a:lnTo>
                <a:lnTo>
                  <a:pt x="3163" y="3163"/>
                </a:lnTo>
                <a:lnTo>
                  <a:pt x="5760" y="8661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40720" y="6021360"/>
            <a:ext cx="969840" cy="646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97164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784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tro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627280" y="189000"/>
            <a:ext cx="4464000" cy="1152360"/>
          </a:xfrm>
          <a:prstGeom prst="flowChartAlternateProcess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Определите склон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существительны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хлеб, стол, чай, самовар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блюдц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956720" y="1557360"/>
            <a:ext cx="577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9900">
                    <a:alpha val="71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</a:t>
            </a:r>
            <a:endParaRPr b="1" lang="en-US" sz="6000" spc="1" strike="noStrike">
              <a:ln w="12600">
                <a:solidFill>
                  <a:srgbClr val="ff6600"/>
                </a:solidFill>
                <a:miter/>
              </a:ln>
              <a:solidFill>
                <a:srgbClr val="ff9900">
                  <a:alpha val="71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956720" y="3213000"/>
            <a:ext cx="64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9900">
                    <a:alpha val="7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</a:t>
            </a:r>
            <a:endParaRPr b="1" lang="en-US" sz="6000" spc="1" strike="noStrike">
              <a:ln w="12600">
                <a:solidFill>
                  <a:srgbClr val="ff6600"/>
                </a:solidFill>
                <a:miter/>
              </a:ln>
              <a:solidFill>
                <a:srgbClr val="ff9900">
                  <a:alpha val="7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516720" y="2060640"/>
            <a:ext cx="63504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9900">
                    <a:alpha val="6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</a:t>
            </a:r>
            <a:endParaRPr b="1" lang="en-US" sz="6000" spc="1" strike="noStrike">
              <a:ln w="12600">
                <a:solidFill>
                  <a:srgbClr val="ff6600"/>
                </a:solidFill>
                <a:miter/>
              </a:ln>
              <a:solidFill>
                <a:srgbClr val="ff9900">
                  <a:alpha val="6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85080" y="6021360"/>
            <a:ext cx="969840" cy="646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00000" y="702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76364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98764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7425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742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25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3" dur="25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250" autoRev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5387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Учитель1-2</cp:lastModifiedBy>
  <dcterms:modified xsi:type="dcterms:W3CDTF">2013-04-04T11:07:48Z</dcterms:modified>
  <cp:revision>25</cp:revision>
  <dc:subject/>
  <dc:title>Слайд 1</dc:title>
</cp:coreProperties>
</file>