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2A5D-BB44-4774-B530-65EC6A9E6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FC90-A4C7-419D-BBE5-642813AE7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A6A9-EA65-44E1-835D-E2078BDEE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8B0A-790D-4330-A29B-8FB93388C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87EAF-F65F-4320-BEC3-7E2E8ED91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11B29-4528-4D8D-AEA5-510088910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2F15C-8A4D-45CC-80E1-B0458F962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4E5B4-A224-4651-9B10-9BD96476C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E688A-81D6-4AD1-BA15-83118ACBD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36B35-6410-4B88-BDAB-DF58C42DC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CB1BA-1AEA-46F3-8B57-76723C29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5241-BCA9-4564-8F0B-35240429B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CA20B-BB81-485A-8D28-5FBA4CE0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A5F9E-C897-43A1-84F2-82F79D9E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B4E30-8274-408E-B20E-3AB030BB5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6B6B1-34A9-4FA8-95D2-CAEAA6E84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6BDA6-DB79-4707-87CF-E1277F476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81B4-C260-4A01-A069-6B353C658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D39C-13D2-416C-9BCE-1426D22C8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A398-06AE-4F21-B23F-08670470D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823A-ED11-4145-8D87-CC730DA23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287A-C6CD-4E5F-9054-12414C63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5C61-64EA-4E60-8CDE-8012824E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A89C-7476-4511-BE86-2F1E558D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2F478-70B0-48C4-B915-1E32D59A8BCF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2F630-9B07-45B1-80EA-77849762CFAB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295280" y="1214280"/>
            <a:ext cx="5639040" cy="48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6699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ff6699"/>
                </a:solidFill>
                <a:latin typeface="Arial"/>
              </a:rPr>
              <a:t>Изготовление</a:t>
            </a:r>
            <a:r>
              <a:rPr b="1" lang="en-US" sz="2400" spc="-1" strike="noStrike">
                <a:solidFill>
                  <a:srgbClr val="ff66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6699"/>
                </a:solidFill>
                <a:latin typeface="Arial"/>
              </a:rPr>
              <a:t>куклы </a:t>
            </a:r>
            <a:r>
              <a:rPr b="1" lang="en-US" sz="4000" spc="-1" strike="noStrike">
                <a:solidFill>
                  <a:srgbClr val="ff6699"/>
                </a:solidFill>
                <a:latin typeface="Monotype Corsiva"/>
              </a:rPr>
              <a:t>Tilda</a:t>
            </a:r>
            <a:r>
              <a:rPr b="1" lang="ru-RU" sz="2400" spc="-1" strike="noStrike">
                <a:solidFill>
                  <a:srgbClr val="ff6699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                    </a:t>
            </a:r>
            <a:r>
              <a:rPr b="1" lang="ru-RU" sz="1800" spc="-1" strike="noStrike">
                <a:solidFill>
                  <a:srgbClr val="ff6699"/>
                </a:solidFill>
                <a:latin typeface="Arial"/>
              </a:rPr>
              <a:t>Проект выполнили: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99"/>
                </a:solidFill>
                <a:latin typeface="Arial"/>
              </a:rPr>
              <a:t>                         </a:t>
            </a:r>
            <a:r>
              <a:rPr b="1" lang="ru-RU" sz="1800" spc="-1" strike="noStrike">
                <a:solidFill>
                  <a:srgbClr val="ff6699"/>
                </a:solidFill>
                <a:latin typeface="Arial"/>
              </a:rPr>
              <a:t>ученицы:7«Б» класс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99"/>
                </a:solidFill>
                <a:latin typeface="Arial"/>
              </a:rPr>
              <a:t>ГБОУ СОШ № 647 ВОУО ДО г. Москвы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99"/>
                </a:solidFill>
                <a:latin typeface="Arial"/>
              </a:rPr>
              <a:t>Васковская К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99"/>
                </a:solidFill>
                <a:latin typeface="Arial"/>
              </a:rPr>
              <a:t>Рогальская 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99"/>
                </a:solidFill>
                <a:latin typeface="Arial"/>
              </a:rPr>
              <a:t>Кривошей 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99"/>
                </a:solidFill>
                <a:latin typeface="Arial"/>
              </a:rPr>
              <a:t>Руководитель проекта: 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6699"/>
                </a:solidFill>
                <a:latin typeface="Arial"/>
              </a:rPr>
              <a:t>учитель   технологии: Сыроватская Е.И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3040200" cy="3733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28600" y="4571280"/>
            <a:ext cx="37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Тильда « Рождественский гном»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3733920" y="609480"/>
            <a:ext cx="3809880" cy="37339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4341960" y="4494960"/>
            <a:ext cx="24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Тильды « Улиточки»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523880" y="457200"/>
            <a:ext cx="4305600" cy="49528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1981080" y="563796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Тильды « Лошадки»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225080" y="228600"/>
            <a:ext cx="571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33"/>
                </a:solidFill>
                <a:latin typeface="Arial"/>
              </a:rPr>
              <a:t>Экономический расчёт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489240"/>
            <a:ext cx="7010280" cy="58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ffff"/>
                </a:solidFill>
                <a:latin typeface="Arial"/>
              </a:rPr>
              <a:t>Стоимость куклы </a:t>
            </a: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Tilda</a:t>
            </a:r>
            <a:r>
              <a:rPr b="1" lang="ru-RU" sz="1900" spc="-1" strike="noStrike">
                <a:solidFill>
                  <a:srgbClr val="00ffff"/>
                </a:solidFill>
                <a:latin typeface="Arial"/>
              </a:rPr>
              <a:t> можно вычислить следующим образом: если купить набор с кроем для куклы, то её себестоимость  без учета оплаты труда, составила-1600р. </a:t>
            </a:r>
            <a:endParaRPr b="0" lang="en-US" sz="19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ru-RU" sz="1900" spc="-1" strike="noStrike">
                <a:solidFill>
                  <a:srgbClr val="00ffff"/>
                </a:solidFill>
                <a:latin typeface="Arial"/>
              </a:rPr>
              <a:t>Это  стоимость набора для изготовления куклы- 1600р.</a:t>
            </a:r>
            <a:endParaRPr b="0" lang="en-US" sz="19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ru-RU" sz="1900" spc="-1" strike="noStrike">
                <a:solidFill>
                  <a:srgbClr val="00ffff"/>
                </a:solidFill>
                <a:latin typeface="Arial"/>
              </a:rPr>
              <a:t>Купить готовую куклу </a:t>
            </a: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Tilda</a:t>
            </a:r>
            <a:r>
              <a:rPr b="1" lang="ru-RU" sz="1900" spc="-1" strike="noStrike">
                <a:solidFill>
                  <a:srgbClr val="00ffff"/>
                </a:solidFill>
                <a:latin typeface="Arial"/>
              </a:rPr>
              <a:t>  в магазине или интернете можно за 1800-2000р.</a:t>
            </a:r>
            <a:endParaRPr b="0" lang="en-US" sz="19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ru-RU" sz="1900" spc="-1" strike="noStrike">
                <a:solidFill>
                  <a:srgbClr val="00ffff"/>
                </a:solidFill>
                <a:latin typeface="Arial"/>
              </a:rPr>
              <a:t>Выполняя экономический расчет </a:t>
            </a:r>
            <a:endParaRPr b="0" lang="en-US" sz="19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ffff"/>
                </a:solidFill>
                <a:latin typeface="Arial"/>
              </a:rPr>
              <a:t>мы пришли к выводу, если взять выкройки кукол из интернета,  а материалы  купить в магазине или использовать имеющиеся дома, то кукла будет стоить намного дешевле. </a:t>
            </a:r>
            <a:endParaRPr b="0" lang="en-US" sz="19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ffff"/>
                </a:solidFill>
                <a:latin typeface="Arial"/>
              </a:rPr>
              <a:t>Кукла «Хозяюшка» и «</a:t>
            </a: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Tilda</a:t>
            </a:r>
            <a:r>
              <a:rPr b="1" lang="ru-RU" sz="1900" spc="-1" strike="noStrike">
                <a:solidFill>
                  <a:srgbClr val="00ffff"/>
                </a:solidFill>
                <a:latin typeface="Arial"/>
              </a:rPr>
              <a:t> кролик» сшиты по  выкройкам из интернета, при их изготовлении использовались материалы, которые были у нас дома.</a:t>
            </a:r>
            <a:endParaRPr b="0" lang="en-US" sz="19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ru-RU" sz="1900" spc="-1" strike="noStrike">
                <a:solidFill>
                  <a:srgbClr val="00ffff"/>
                </a:solidFill>
                <a:latin typeface="Arial"/>
              </a:rPr>
              <a:t>По этому себестоимость этих кукол составило 0 руб. </a:t>
            </a:r>
            <a:endParaRPr b="0" lang="en-US" sz="19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609480" y="160092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Экологический аспект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Экология является одной из основных проблем на сегодняшний день. Большое количество отходов не перерабатывается, а просто вывозится на свалки. Люди сами страдают от этого. В своем проекте мы можем использовать отходы лоскута и синтепона, тем самым не загрязняя окружающую среду. Остатки ниток, лент, кружев и пуговиц мы используем для оформления кукол. Так мы решаем экологический аспект в своем проекте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       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Заключени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 процессе создания проекта мы затратили много времени, сил и энергии. Выполняя этот проект, мы использовали современные технологии, изучили историю возникновения кукол, ознакомились с различными материалами для их изготовления, узнали новые технологии изготовления, научились изготавливать кукол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ilda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, написали подробное теоретическое обоснование своей работы. Мы представили 4 куклы, но не остановимся на этом и продолжим работу по этой теме. Изготовление кукол Тильд это интересное и новое занятие сегодняшнего дн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                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Конец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2057400" y="1143000"/>
            <a:ext cx="38228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9840" y="228600"/>
            <a:ext cx="576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Цели и задачи проекта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731880"/>
            <a:ext cx="6850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99"/>
                </a:solidFill>
                <a:latin typeface="Arial"/>
              </a:rPr>
              <a:t>1. Оценить свои возможности в творческой деятельност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99"/>
                </a:solidFill>
                <a:latin typeface="Arial"/>
              </a:rPr>
              <a:t>2. Разработать проект от возникновения идеи до реального  результат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99"/>
                </a:solidFill>
                <a:latin typeface="Arial"/>
              </a:rPr>
              <a:t>3. Применить полученное изделие на практике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99"/>
                </a:solidFill>
                <a:latin typeface="Arial"/>
              </a:rPr>
              <a:t>4. Оценить проделанную работу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99"/>
                </a:solidFill>
                <a:latin typeface="Arial"/>
              </a:rPr>
              <a:t>5. Защитить проект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828800" y="4572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Звездочка обдумывания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1721160"/>
            <a:ext cx="6572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1311"/>
                </a:solidFill>
                <a:latin typeface="Arial"/>
                <a:ea typeface="Times New Roman"/>
              </a:rPr>
              <a:t>Материал                               Моделирование и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1311"/>
                </a:solidFill>
                <a:latin typeface="Arial"/>
                <a:ea typeface="Times New Roman"/>
              </a:rPr>
              <a:t>                                                   </a:t>
            </a:r>
            <a:r>
              <a:rPr b="0" lang="en-US" sz="2200" spc="-1" strike="noStrike">
                <a:solidFill>
                  <a:srgbClr val="2f1311"/>
                </a:solidFill>
                <a:latin typeface="Arial"/>
                <a:ea typeface="Times New Roman"/>
              </a:rPr>
              <a:t>конструирование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3183480"/>
            <a:ext cx="2666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1311"/>
                </a:solidFill>
                <a:latin typeface="Arial"/>
                <a:ea typeface="Times New Roman"/>
              </a:rPr>
              <a:t>История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520" y="3946320"/>
            <a:ext cx="2209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37160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1311"/>
                </a:solidFill>
                <a:latin typeface="Arial"/>
                <a:ea typeface="Times New Roman"/>
              </a:rPr>
              <a:t>Стоимость                                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1311"/>
                </a:solidFill>
                <a:latin typeface="Arial"/>
                <a:ea typeface="Times New Roman"/>
              </a:rPr>
              <a:t>                   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1311"/>
                </a:solidFill>
                <a:latin typeface="Arial"/>
                <a:ea typeface="Times New Roman"/>
              </a:rPr>
              <a:t>                          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743200" y="5333760"/>
            <a:ext cx="233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                          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Традиции, мод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564160" y="472356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Размер  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640480" y="31996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Форма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321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671920" y="3184920"/>
            <a:ext cx="18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Кукла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Tilda</a:t>
            </a:r>
            <a:r>
              <a:rPr b="0" lang="ru-RU" sz="2200" spc="-1" strike="noStrike">
                <a:solidFill>
                  <a:srgbClr val="2f1311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57600" y="3809880"/>
            <a:ext cx="0" cy="16765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495680" y="3809880"/>
            <a:ext cx="914400" cy="91440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495680" y="3352680"/>
            <a:ext cx="99072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3886200" y="2514240"/>
            <a:ext cx="609480" cy="60948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2057400" y="3657600"/>
            <a:ext cx="914400" cy="91440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1676520" y="3429000"/>
            <a:ext cx="83808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2133720" y="2286000"/>
            <a:ext cx="838080" cy="83808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images" descr=""/>
          <p:cNvPicPr/>
          <p:nvPr/>
        </p:nvPicPr>
        <p:blipFill>
          <a:blip r:embed="rId1"/>
          <a:stretch/>
        </p:blipFill>
        <p:spPr>
          <a:xfrm>
            <a:off x="2286000" y="304920"/>
            <a:ext cx="3060720" cy="34671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2973240" y="3885480"/>
            <a:ext cx="18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Тоне Финангер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3" name="0_65622_97d6e2e3_XL" descr=""/>
          <p:cNvPicPr/>
          <p:nvPr/>
        </p:nvPicPr>
        <p:blipFill>
          <a:blip r:embed="rId2"/>
          <a:stretch/>
        </p:blipFill>
        <p:spPr>
          <a:xfrm>
            <a:off x="304920" y="3733920"/>
            <a:ext cx="1752480" cy="21333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-609480" y="4923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5791320" y="3733920"/>
            <a:ext cx="1676160" cy="21333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-5760" y="6125040"/>
            <a:ext cx="359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Tonne Finanger «Тильда в Рождество»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566960" y="6094800"/>
            <a:ext cx="296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Tonne Finanger «Тильда пасха»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        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Наши куклы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905120" y="1219320"/>
            <a:ext cx="4114800" cy="48006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2591640" y="6247800"/>
            <a:ext cx="29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Кукла « Лопоухий кролик»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447920" y="304920"/>
            <a:ext cx="4709880" cy="5715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973600" y="617148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Кукла « Ангел»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286000" y="-304920"/>
            <a:ext cx="342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Виды кукол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2209680" cy="30099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42667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Куклы «Лопоухие кролики»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2971800" y="1143000"/>
            <a:ext cx="2362320" cy="29718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304920" y="4876920"/>
            <a:ext cx="4495680" cy="167616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5029200" y="540936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Куклы «Сони»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2638440" cy="37339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038480" y="380880"/>
            <a:ext cx="2438640" cy="38102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2516400" y="4647600"/>
            <a:ext cx="22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Куклы « Ангелы»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4114800" cy="30891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839160" y="3809160"/>
            <a:ext cx="263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Куклы « Купальщицы»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4876920" y="457200"/>
            <a:ext cx="2574720" cy="35053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5029920" y="426636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Тильды «Петушки»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st</cp:lastModifiedBy>
  <dcterms:modified xsi:type="dcterms:W3CDTF">2013-02-06T10:40:34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