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A36-723C-452C-BE7A-EA3A6D65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EEE0-91D6-4D5A-B653-85CF0BC4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A051-CA23-43F7-BD08-03F44A71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66CA-AC93-4083-B17B-C3352F73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D44E-8D14-4291-B37F-E3BD3B34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6A4E-7EE1-4A17-A9B6-49953102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FF52-18EF-4442-B5EE-282EF05D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2599-ED1C-4118-A95A-56326741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C12A-49FC-4E51-8753-0E1863B3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C5D2-66CB-4954-BA24-C465400C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11D5-C89B-4F41-94BE-FD835EDD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85F9-CF11-4C61-93A5-F7F82B93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B7A9-F527-4E80-B5E6-3E6F7216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E491-1512-46BA-A786-B7540ABD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ECEE-DFF9-4611-A65D-3C45A042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2B32-45D1-4B6B-9CC9-779640E8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8038-8D46-42D6-9DDA-745097C4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06A-AB45-4EE9-87B8-E7D16599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BF5-F2C6-4751-91E4-60C32729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0101-7E9B-4AD6-84CF-11BFDA20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AF8E-4D6C-40CE-90CC-EDDBF066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92D1-95A1-495A-836B-7963EB79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E58F-5D11-47A8-B03B-E1A29F91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6354-0E02-4BBB-A7D4-22BAFF2C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8F70-A82C-446D-9079-0528E469CD2C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3762-0B88-4CDF-BFD2-5E7789C7C7C7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295280" y="1214280"/>
            <a:ext cx="56390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Изготовление</a:t>
            </a:r>
            <a:r>
              <a:rPr b="1" lang="en-US" sz="24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куклы </a:t>
            </a:r>
            <a:r>
              <a:rPr b="1" lang="en-US" sz="4000" spc="-1" strike="noStrike">
                <a:solidFill>
                  <a:srgbClr val="ff6699"/>
                </a:solidFill>
                <a:latin typeface="Monotype Corsiva"/>
              </a:rPr>
              <a:t>Tilda</a:t>
            </a: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ff6699"/>
                </a:solidFill>
                <a:latin typeface="Arial"/>
              </a:rPr>
              <a:t>Проект выполнили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ff6699"/>
                </a:solidFill>
                <a:latin typeface="Arial"/>
              </a:rPr>
              <a:t>ученицы:7«Б» класс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Arial"/>
              </a:rPr>
              <a:t>ГБОУ СОШ № 647 ВОУО ДО г. Москв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Arial"/>
              </a:rPr>
              <a:t>Васковская К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Arial"/>
              </a:rPr>
              <a:t>Рогальская 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Arial"/>
              </a:rPr>
              <a:t>Кривошей 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Arial"/>
              </a:rPr>
              <a:t>Руководитель проекта: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99"/>
                </a:solidFill>
                <a:latin typeface="Arial"/>
              </a:rPr>
              <a:t>учитель   технологии: Сыроватская Е.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040200" cy="3733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28600" y="4571280"/>
            <a:ext cx="37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Тильда « Рождественский гном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733920" y="609480"/>
            <a:ext cx="3809880" cy="3733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341960" y="449496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Тильды « Улиточки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4305600" cy="49528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981080" y="56379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Тильды « Лошадки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225080" y="228600"/>
            <a:ext cx="57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Экономический расчёт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89240"/>
            <a:ext cx="701028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Стоимость куклы </a:t>
            </a: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Tilda</a:t>
            </a: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 можно вычислить следующим образом: если купить набор с кроем для куклы, то её себестоимость  без учета оплаты труда, составила-1600р. 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Это  стоимость набора для изготовления куклы- 1600р.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Купить готовую куклу </a:t>
            </a: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Tilda</a:t>
            </a: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  в магазине или интернете можно за 1800-2000р.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Выполняя экономический расчет 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мы пришли к выводу, если взять выкройки кукол из интернета,  а материалы  купить в магазине или использовать имеющиеся дома, то кукла будет стоить намного дешевле. 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Кукла «Хозяюшка» и «</a:t>
            </a: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Tilda</a:t>
            </a: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 кролик» сшиты по  выкройкам из интернета, при их изготовлении использовались материалы, которые были у нас дома.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По этому себестоимость этих кукол составило 0 руб. </a:t>
            </a: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09480" y="16009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Экологический аспект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Экология является одной из основных проблем на сегодняшний день. Большое количество отходов не перерабатывается, а просто вывозится на свалки. Люди сами страдают от этого. В своем проекте мы можем использовать отходы лоскута и синтепона, тем самым не загрязняя окружающую среду. Остатки ниток, лент, кружев и пуговиц мы используем для оформления кукол. Так мы решаем экологический аспект в своем проекте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 процессе создания проекта мы затратили много времени, сил и энергии. Выполняя этот проект, мы использовали современные технологии, изучили историю возникновения кукол, ознакомились с различными материалами для их изготовления, узнали новые технологии изготовления, научились изготавливать кукол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ilda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, написали подробное теоретическое обоснование своей работы. Мы представили 4 куклы, но не остановимся на этом и продолжим работу по этой теме. Изготовление кукол Тильд это интересное и новое занятие сегодняшнего дн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онец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3822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9840" y="228600"/>
            <a:ext cx="576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Цели и задачи проекта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731880"/>
            <a:ext cx="6850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Arial"/>
              </a:rPr>
              <a:t>1. Оценить свои возможности в творческой деятельност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Arial"/>
              </a:rPr>
              <a:t>2. Разработать проект от возникновения идеи до реального  результат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Arial"/>
              </a:rPr>
              <a:t>3. Применить полученное изделие на практик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Arial"/>
              </a:rPr>
              <a:t>4. Оценить проделанную работ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Arial"/>
              </a:rPr>
              <a:t>5. Защитить проек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828800" y="457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вездочка обдумыва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721160"/>
            <a:ext cx="657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Материал                               Моделирование и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                                                   </a:t>
            </a:r>
            <a:r>
              <a:rPr b="0" lang="en-US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конструирование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3183480"/>
            <a:ext cx="266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История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3946320"/>
            <a:ext cx="2209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Стоимость                                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                   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                          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0" y="5333760"/>
            <a:ext cx="23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Традиции, мод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64160" y="472356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Размер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40480" y="31996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Форм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71920" y="318492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Кукла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Tilda</a:t>
            </a:r>
            <a:r>
              <a:rPr b="0" lang="ru-RU" sz="22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3809880"/>
            <a:ext cx="0" cy="16765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3809880"/>
            <a:ext cx="914400" cy="9144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3352680"/>
            <a:ext cx="99072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886200" y="2514240"/>
            <a:ext cx="609480" cy="6094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057400" y="3657600"/>
            <a:ext cx="914400" cy="9144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2133720" y="2286000"/>
            <a:ext cx="838080" cy="838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images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3060720" cy="3467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973240" y="388548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Тоне Финангер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0_65622_97d6e2e3_XL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1752480" cy="2133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-609480" y="492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791320" y="3733920"/>
            <a:ext cx="1676160" cy="2133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-5760" y="6125040"/>
            <a:ext cx="359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Tonne Finanger «Тильда в Рождество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66960" y="6094800"/>
            <a:ext cx="296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Tonne Finanger «Тильда пасха»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ши куклы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4114800" cy="48006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591640" y="6247800"/>
            <a:ext cx="29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Кукла « Лопоухий кролик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4709880" cy="5715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973600" y="61714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Кукла « Ангел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286000" y="-30492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Виды кукол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2209680" cy="30099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42667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Куклы «Лопоухие кролики»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971800" y="1143000"/>
            <a:ext cx="2362320" cy="2971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04920" y="4876920"/>
            <a:ext cx="4495680" cy="16761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029200" y="5409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Куклы «Сони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2638440" cy="3733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038480" y="380880"/>
            <a:ext cx="2438640" cy="38102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516400" y="464760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Куклы « Ангелы»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4114800" cy="30891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839160" y="380916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Куклы « Купальщицы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2574720" cy="35053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029920" y="42663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Тильды «Петушки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t</cp:lastModifiedBy>
  <dcterms:modified xsi:type="dcterms:W3CDTF">2013-02-06T10:40:3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