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4A18-271C-4EDA-AD1A-EB00400E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B7F7-9B47-4EF1-ADD4-8AE2E7E6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A20-0E8D-44C1-9178-A8C4CBC6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652-39A1-478C-8D32-216DA22B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56D0-3559-4163-B09E-548F14A2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1ABE-A213-4449-BA35-81673216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AF36-1073-4D2D-95A2-E5F5264B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F94C-BF49-4EFC-AD3F-D545EAF4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5D79-1C2E-4142-8E29-554D569A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5BA7-71AE-43BB-B364-B178087C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58D8-BC14-4C8D-A87B-FE24752B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A79B-CEC4-4731-A17B-9640C0F8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8AC9-9B99-4C49-B78E-61F9F4BA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7C05-4580-4D89-B4CE-A5AC16B7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F2A0-EBDD-4A99-983A-EB267147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4A94-2460-49C1-8A3E-3A6CBFA0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BB88-61AD-4986-9B7D-BBA0BBCD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5CF-D897-4B01-8039-1E37A8EB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0A0-6C7C-4F48-84C0-DDC332B0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FF5-0AAA-4404-95F4-7F4BE385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B2F-1578-480B-9B36-6B8C735D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074E-E3B6-437F-8987-6BACA710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FDF-B78E-4043-8419-B6664562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9449-A17D-47BB-BF35-893FED04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1C54-F931-4486-824D-A43672E6D5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7B15-3326-49E7-9D43-4C4A1BED62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635280" y="4724280"/>
            <a:ext cx="489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химии Судницына Г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276720" y="3789360"/>
            <a:ext cx="53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выполнили ученицы 11 класса : Пальцева Евгения, Никитина И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4" descr=""/>
          <p:cNvPicPr/>
          <p:nvPr/>
        </p:nvPicPr>
        <p:blipFill>
          <a:blip r:embed="rId1"/>
          <a:stretch/>
        </p:blipFill>
        <p:spPr>
          <a:xfrm>
            <a:off x="817560" y="652320"/>
            <a:ext cx="7850160" cy="210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4360" y="-3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Краткое описание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ние взаимодействия химии и рус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работы по исследованию химических терминов и их антони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036080" y="2490840"/>
            <a:ext cx="749592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Arial"/>
              </a:rPr>
              <a:t>Вывод по результатам исслед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ённая нами работа показала, ч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грирование предмета химии с русским язы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  при изучении учебного материал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стные слова, как и обозначаемые ими понят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только противопоставлены друг друг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и тесно связаны между собой, что позволяет быстр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качественнее запомнить нужный материа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492120" y="794520"/>
            <a:ext cx="86518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Информационны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К.Петрова. «Первые шаги в эксперименте. Химия в классах гуманитарного профиля» в сборнике «Модернизация Российского образования», сборник статей, Пермь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А.К.Петрова. «Первые шаги эксперимента по обучению химии в классах гуманитарного профиля», научно – методический журнал «Химия: методика преподавания», №1, Москва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Химия 11 класс, Рудзитис, Фельдм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Химия 10 класс, Рудзитис, Фельд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е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pedi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  http://ru.wiktionary.org/wiki/химиче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5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4"/>
          <p:cNvSpPr/>
          <p:nvPr/>
        </p:nvSpPr>
        <p:spPr>
          <a:xfrm>
            <a:off x="642960" y="0"/>
            <a:ext cx="8501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роцессе изучения химии мы сталкиваемся с одной из пробл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воение химическ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"/>
          <p:cNvSpPr/>
          <p:nvPr/>
        </p:nvSpPr>
        <p:spPr>
          <a:xfrm>
            <a:off x="3143160" y="1214280"/>
            <a:ext cx="3143520" cy="10717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Arial"/>
              </a:rPr>
              <a:t>Что та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f0000"/>
                </a:solidFill>
                <a:latin typeface="Arial"/>
              </a:rPr>
              <a:t>химический язы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8"/>
          <p:cNvCxnSpPr/>
          <p:nvPr/>
        </p:nvCxnSpPr>
        <p:spPr>
          <a:xfrm flipH="1">
            <a:off x="2285640" y="2286000"/>
            <a:ext cx="1000800" cy="357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" name="Прямая со стрелкой 9"/>
          <p:cNvCxnSpPr/>
          <p:nvPr/>
        </p:nvCxnSpPr>
        <p:spPr>
          <a:xfrm>
            <a:off x="6071760" y="2285640"/>
            <a:ext cx="857880" cy="429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4" name="Стрелка вниз 15"/>
          <p:cNvSpPr/>
          <p:nvPr/>
        </p:nvSpPr>
        <p:spPr>
          <a:xfrm>
            <a:off x="571680" y="2714760"/>
            <a:ext cx="2857320" cy="1143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70000"/>
          </a:solidFill>
          <a:ln w="38160">
            <a:solidFill>
              <a:srgbClr val="ffffe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1"/>
                </a:solidFill>
                <a:latin typeface="Arial"/>
              </a:rPr>
              <a:t>В широком смыс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16"/>
          <p:cNvSpPr/>
          <p:nvPr/>
        </p:nvSpPr>
        <p:spPr>
          <a:xfrm>
            <a:off x="5857920" y="2786040"/>
            <a:ext cx="2643120" cy="1071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38160">
            <a:solidFill>
              <a:srgbClr val="ffffe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1"/>
                </a:solidFill>
                <a:latin typeface="Arial"/>
              </a:rPr>
              <a:t>В узком смыс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2"/>
          <p:cNvSpPr/>
          <p:nvPr/>
        </p:nvSpPr>
        <p:spPr>
          <a:xfrm>
            <a:off x="0" y="3929040"/>
            <a:ext cx="3786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зык предметов, те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язанных с хими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3"/>
          <p:cNvSpPr/>
          <p:nvPr/>
        </p:nvSpPr>
        <p:spPr>
          <a:xfrm>
            <a:off x="4786200" y="3929040"/>
            <a:ext cx="435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Совокупность химической терминолог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мволики и номенклатуры, правил их составления, преобразов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толкования им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4" descr=""/>
          <p:cNvPicPr/>
          <p:nvPr/>
        </p:nvPicPr>
        <p:blipFill>
          <a:blip r:embed="rId1"/>
          <a:stretch/>
        </p:blipFill>
        <p:spPr>
          <a:xfrm>
            <a:off x="689040" y="208080"/>
            <a:ext cx="8064360" cy="901440"/>
          </a:xfrm>
          <a:prstGeom prst="rect">
            <a:avLst/>
          </a:prstGeom>
          <a:ln w="0">
            <a:noFill/>
          </a:ln>
        </p:spPr>
      </p:pic>
      <p:sp>
        <p:nvSpPr>
          <p:cNvPr id="109" name="Вертикальный свиток 5"/>
          <p:cNvSpPr/>
          <p:nvPr/>
        </p:nvSpPr>
        <p:spPr>
          <a:xfrm>
            <a:off x="1357200" y="1357200"/>
            <a:ext cx="6786720" cy="5072040"/>
          </a:xfrm>
          <a:prstGeom prst="verticalScroll">
            <a:avLst>
              <a:gd name="adj" fmla="val 12500"/>
            </a:avLst>
          </a:prstGeom>
          <a:solidFill>
            <a:srgbClr val="ffd1ff"/>
          </a:solidFill>
          <a:ln w="25560">
            <a:solidFill>
              <a:srgbClr val="ff8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блако 6"/>
          <p:cNvSpPr/>
          <p:nvPr/>
        </p:nvSpPr>
        <p:spPr>
          <a:xfrm>
            <a:off x="2428920" y="1928880"/>
            <a:ext cx="4519440" cy="1928880"/>
          </a:xfrm>
          <a:prstGeom prst="pi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0880" indent="-380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Как может помочь русский язык в запомина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химических понятий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блако 7"/>
          <p:cNvSpPr/>
          <p:nvPr/>
        </p:nvSpPr>
        <p:spPr>
          <a:xfrm>
            <a:off x="2500200" y="4143240"/>
            <a:ext cx="4159440" cy="1928880"/>
          </a:xfrm>
          <a:prstGeom prst="pi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2) Где мы можем применить знания химических термин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2876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Гипотеза  проектной работы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мия не только требует знаний химических терминов, но и правильное написание и объяснение их смы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85840" y="3154680"/>
            <a:ext cx="8461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Цель исслед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связь русского  языка  с химией  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онимы терминов  и их  понят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умение определять смысл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я химических терминов через  слова противоположные по смысл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6"/>
          <p:cNvSpPr/>
          <p:nvPr/>
        </p:nvSpPr>
        <p:spPr>
          <a:xfrm>
            <a:off x="1071720" y="2214720"/>
            <a:ext cx="67690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изучить теорет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  химических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6" descr=""/>
          <p:cNvPicPr/>
          <p:nvPr/>
        </p:nvPicPr>
        <p:blipFill>
          <a:blip r:embed="rId1"/>
          <a:srcRect l="0" t="0" r="0" b="41949"/>
          <a:stretch/>
        </p:blipFill>
        <p:spPr>
          <a:xfrm>
            <a:off x="611280" y="333360"/>
            <a:ext cx="8163000" cy="789120"/>
          </a:xfrm>
          <a:prstGeom prst="rect">
            <a:avLst/>
          </a:prstGeom>
          <a:ln w="0">
            <a:noFill/>
          </a:ln>
        </p:spPr>
      </p:pic>
      <p:sp>
        <p:nvSpPr>
          <p:cNvPr id="116" name="Овал 4"/>
          <p:cNvSpPr/>
          <p:nvPr/>
        </p:nvSpPr>
        <p:spPr>
          <a:xfrm>
            <a:off x="1214280" y="2714760"/>
            <a:ext cx="6572520" cy="1143000"/>
          </a:xfrm>
          <a:prstGeom prst="ellipse">
            <a:avLst/>
          </a:prstGeom>
          <a:noFill/>
          <a:ln w="25560">
            <a:solidFill>
              <a:srgbClr val="ff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5"/>
          <p:cNvSpPr/>
          <p:nvPr/>
        </p:nvSpPr>
        <p:spPr>
          <a:xfrm>
            <a:off x="1214280" y="4071960"/>
            <a:ext cx="6572520" cy="1143000"/>
          </a:xfrm>
          <a:prstGeom prst="ellipse">
            <a:avLst/>
          </a:prstGeom>
          <a:noFill/>
          <a:ln w="25560">
            <a:solidFill>
              <a:srgbClr val="ff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 провести исследование по выявлению взаимосвязи химии и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e1"/>
                </a:solidFill>
                <a:latin typeface="Arial"/>
              </a:rPr>
              <a:t>химии и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e1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7"/>
          <p:cNvSpPr/>
          <p:nvPr/>
        </p:nvSpPr>
        <p:spPr>
          <a:xfrm>
            <a:off x="928800" y="5429160"/>
            <a:ext cx="7215120" cy="1214640"/>
          </a:xfrm>
          <a:prstGeom prst="ellipse">
            <a:avLst/>
          </a:prstGeom>
          <a:noFill/>
          <a:ln w="25560">
            <a:solidFill>
              <a:srgbClr val="ff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Установить необходим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ыслового понимания содержания основных химических по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8" descr=""/>
          <p:cNvPicPr/>
          <p:nvPr/>
        </p:nvPicPr>
        <p:blipFill>
          <a:blip r:embed="rId2"/>
          <a:stretch/>
        </p:blipFill>
        <p:spPr>
          <a:xfrm>
            <a:off x="1116000" y="1292400"/>
            <a:ext cx="698040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Стрелка вниз 9"/>
          <p:cNvSpPr/>
          <p:nvPr/>
        </p:nvSpPr>
        <p:spPr>
          <a:xfrm>
            <a:off x="4000680" y="3857760"/>
            <a:ext cx="9284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низ 10"/>
          <p:cNvSpPr/>
          <p:nvPr/>
        </p:nvSpPr>
        <p:spPr>
          <a:xfrm>
            <a:off x="4000680" y="5214960"/>
            <a:ext cx="9284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00000" y="47592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Arial"/>
              </a:rPr>
              <a:t>Задачи исследования: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возможности расширения гуманитарного пространства урока хи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ь возможности лексического запаса учащихся на уроках хи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ожить увлекательную презентацию для запоминания терминов и новых пон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5" descr=""/>
          <p:cNvPicPr/>
          <p:nvPr/>
        </p:nvPicPr>
        <p:blipFill>
          <a:blip r:embed="rId1"/>
          <a:stretch/>
        </p:blipFill>
        <p:spPr>
          <a:xfrm>
            <a:off x="1504800" y="103320"/>
            <a:ext cx="5999400" cy="12618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785880" y="207180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иентировка в смысловых значениях слов способствует лучшему запоминанию химических терминов, знанию свойств, повышает интерес к предмету хи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1143000" y="392904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Данная тема относится к новым понятиям в глубоком понимании смысловых значений химических терми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216000" y="1495440"/>
            <a:ext cx="89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ный проект рассматривает важнейший аспект человеческой жизни: взаимосвязь химии с бытом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ект познакомит обучающихся с многообразием терминов, используемых в повседневной жизни, научит грамотно и правильно пользоваться 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стоятельные исследования и приобрет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ктические знания, умения и навыки помогут ответ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роблемные вопросы и вопросы учебной темы, научат доступно, наглядно представлять достаточно сложный теоретический материал и связывать его с практической деятельностью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378000" y="-73080"/>
            <a:ext cx="4584600" cy="1146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C:\Documents and Settings\Admin\Рабочий стол\img336.jpg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908000" y="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Этапы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09:17:13Z</dcterms:created>
  <dc:creator>Admin</dc:creator>
  <dc:description/>
  <dc:language>en-US</dc:language>
  <cp:lastModifiedBy>Home</cp:lastModifiedBy>
  <dcterms:modified xsi:type="dcterms:W3CDTF">2013-04-03T11:39:10Z</dcterms:modified>
  <cp:revision>20</cp:revision>
  <dc:subject/>
  <dc:title>Слайд 1</dc:title>
</cp:coreProperties>
</file>