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BCCC-3355-4166-B22D-630260FBB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2BE9-0419-428F-96FC-EE8A2AA75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1667-89FF-441F-86B5-B32C22F18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7C8B-65D5-43D4-8204-37F3530CF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AE515-1FAC-426E-8BA8-30FC765CE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E9744-0651-4860-9732-5A46904FE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99372-1442-463E-B5CC-116156C2D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A6D13-3578-497A-9FB9-04EEB650D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CB46C-B4AB-4480-95E6-A5D8074F2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ADFCA-49B0-4A91-85CD-70C2E7684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F8FC2-86EB-44E7-A219-3D9D0F6D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75ED-FB40-4928-BC70-85DF79B11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27C39-E62E-4CAB-8045-D309BCBA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77EEA-0DE8-4758-A646-91551E27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8AC26-0FB4-43A1-A33D-453D6C34F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F7CD6-6E7B-4D08-A151-3F29C8AB1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6E6C0-3157-4D5A-8810-EE68F34D1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ACC4-DDA4-488D-8F44-56B9252C9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BE22-403E-4CF7-9A18-54A1057A2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3186-41DD-49E6-9E82-1AF643270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B549-551C-4D6B-81B9-26ACC4C10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202A-9DF5-4ABA-8E6B-D76F7D98E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0481-F0BA-4337-ADD8-71CF1338B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1042-61C3-45FE-B270-3A526F65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BE16D-C907-4A75-8A1D-17C7A173CF0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D5B24-FFE0-422A-B984-5281FFEFA21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3635280" y="4724280"/>
            <a:ext cx="489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уководитель проек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химии Судницына Г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3276720" y="3789360"/>
            <a:ext cx="532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ект выполнили ученицы 11 класса : Пальцева Евгения, Никитина Ир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Прямоугольник 4" descr=""/>
          <p:cNvPicPr/>
          <p:nvPr/>
        </p:nvPicPr>
        <p:blipFill>
          <a:blip r:embed="rId1"/>
          <a:stretch/>
        </p:blipFill>
        <p:spPr>
          <a:xfrm>
            <a:off x="817560" y="652320"/>
            <a:ext cx="7850160" cy="2103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84360" y="-36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ff"/>
                </a:solidFill>
                <a:latin typeface="Arial"/>
              </a:rPr>
              <a:t>Краткое описание рабо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следование взаимодействия химии и русского язы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едение работы по исследованию химических терминов и их антоним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1036080" y="2490840"/>
            <a:ext cx="7495920" cy="30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ff"/>
                </a:solidFill>
                <a:latin typeface="Arial"/>
              </a:rPr>
              <a:t>Вывод по результатам исследовани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ведённая нами работа показала, чт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тегрирование предмета химии с русским язык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зможно  при изучении учебного материала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трастные слова, как и обозначаемые ими понят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только противопоставлены друг другу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о и тесно связаны между собой, что позволяет быстр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качественнее запомнить нужный материал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500"/>
                            </p:stCondLst>
                            <p:childTnLst>
                              <p:par>
                                <p:cTn id="23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0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492120" y="794520"/>
            <a:ext cx="8651880" cy="51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ff"/>
                </a:solidFill>
                <a:latin typeface="Arial"/>
              </a:rPr>
              <a:t>Информационные источн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.К.Петрова. «Первые шаги в эксперименте. Химия в классах гуманитарного профиля» в сборнике «Модернизация Российского образования», сборник статей, Пермь, 200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А.К.Петрова. «Первые шаги эксперимента по обучению химии в классах гуманитарного профиля», научно – методический журнал «Химия: методика преподавания», №1, Москва, 200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Химия 11 класс, Рудзитис, Фельдма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Химия 10 класс, Рудзитис, Фельдм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Сеть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/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kipedi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  http://ru.wiktionary.org/wiki/химичес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0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500"/>
                            </p:stCondLst>
                            <p:childTnLst>
                              <p:par>
                                <p:cTn id="2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3500"/>
                            </p:stCondLst>
                            <p:childTnLst>
                              <p:par>
                                <p:cTn id="2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4500"/>
                            </p:stCondLst>
                            <p:childTnLst>
                              <p:par>
                                <p:cTn id="2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500"/>
                            </p:stCondLst>
                            <p:childTnLst>
                              <p:par>
                                <p:cTn id="3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6500"/>
                            </p:stCondLst>
                            <p:childTnLst>
                              <p:par>
                                <p:cTn id="3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4"/>
          <p:cNvSpPr/>
          <p:nvPr/>
        </p:nvSpPr>
        <p:spPr>
          <a:xfrm>
            <a:off x="642960" y="0"/>
            <a:ext cx="85010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процессе изучения химии мы сталкиваемся с одной из пробле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воение химического язы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"/>
          <p:cNvSpPr/>
          <p:nvPr/>
        </p:nvSpPr>
        <p:spPr>
          <a:xfrm>
            <a:off x="3143160" y="1214280"/>
            <a:ext cx="3143520" cy="107172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0000"/>
                </a:solidFill>
                <a:latin typeface="Arial"/>
              </a:rPr>
              <a:t>Что та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f0000"/>
                </a:solidFill>
                <a:latin typeface="Arial"/>
              </a:rPr>
              <a:t>химический язы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Прямая со стрелкой 8"/>
          <p:cNvCxnSpPr/>
          <p:nvPr/>
        </p:nvCxnSpPr>
        <p:spPr>
          <a:xfrm flipH="1">
            <a:off x="2285640" y="2286000"/>
            <a:ext cx="1000800" cy="3578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03" name="Прямая со стрелкой 9"/>
          <p:cNvCxnSpPr/>
          <p:nvPr/>
        </p:nvCxnSpPr>
        <p:spPr>
          <a:xfrm>
            <a:off x="6071760" y="2285640"/>
            <a:ext cx="857880" cy="4294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04" name="Стрелка вниз 15"/>
          <p:cNvSpPr/>
          <p:nvPr/>
        </p:nvSpPr>
        <p:spPr>
          <a:xfrm>
            <a:off x="571680" y="2714760"/>
            <a:ext cx="2857320" cy="1143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e70000"/>
          </a:solidFill>
          <a:ln w="38160">
            <a:solidFill>
              <a:srgbClr val="ffffe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1"/>
                </a:solidFill>
                <a:latin typeface="Arial"/>
              </a:rPr>
              <a:t>В широком смыс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трелка вниз 16"/>
          <p:cNvSpPr/>
          <p:nvPr/>
        </p:nvSpPr>
        <p:spPr>
          <a:xfrm>
            <a:off x="5857920" y="2786040"/>
            <a:ext cx="2643120" cy="1071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38160">
            <a:solidFill>
              <a:srgbClr val="ffffe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1"/>
                </a:solidFill>
                <a:latin typeface="Arial"/>
              </a:rPr>
              <a:t>В узком смыс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2"/>
          <p:cNvSpPr/>
          <p:nvPr/>
        </p:nvSpPr>
        <p:spPr>
          <a:xfrm>
            <a:off x="0" y="3929040"/>
            <a:ext cx="37861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Язык предметов, тес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вязанных с химие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и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усский язы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из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сто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3"/>
          <p:cNvSpPr/>
          <p:nvPr/>
        </p:nvSpPr>
        <p:spPr>
          <a:xfrm>
            <a:off x="4786200" y="3929040"/>
            <a:ext cx="4357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Совокупность химической терминологи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мволики и номенклатуры, правил их составления, преобразован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столкования им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Прямоугольник 4" descr=""/>
          <p:cNvPicPr/>
          <p:nvPr/>
        </p:nvPicPr>
        <p:blipFill>
          <a:blip r:embed="rId1"/>
          <a:stretch/>
        </p:blipFill>
        <p:spPr>
          <a:xfrm>
            <a:off x="689040" y="208080"/>
            <a:ext cx="8064360" cy="901440"/>
          </a:xfrm>
          <a:prstGeom prst="rect">
            <a:avLst/>
          </a:prstGeom>
          <a:ln w="0">
            <a:noFill/>
          </a:ln>
        </p:spPr>
      </p:pic>
      <p:sp>
        <p:nvSpPr>
          <p:cNvPr id="109" name="Вертикальный свиток 5"/>
          <p:cNvSpPr/>
          <p:nvPr/>
        </p:nvSpPr>
        <p:spPr>
          <a:xfrm>
            <a:off x="1357200" y="1357200"/>
            <a:ext cx="6786720" cy="5072040"/>
          </a:xfrm>
          <a:prstGeom prst="verticalScroll">
            <a:avLst>
              <a:gd name="adj" fmla="val 12500"/>
            </a:avLst>
          </a:prstGeom>
          <a:solidFill>
            <a:srgbClr val="ffd1ff"/>
          </a:solidFill>
          <a:ln w="25560">
            <a:solidFill>
              <a:srgbClr val="ff8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Облако 6"/>
          <p:cNvSpPr/>
          <p:nvPr/>
        </p:nvSpPr>
        <p:spPr>
          <a:xfrm>
            <a:off x="2428920" y="1928880"/>
            <a:ext cx="4519440" cy="1928880"/>
          </a:xfrm>
          <a:prstGeom prst="pi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80880" indent="-380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ctr">
              <a:buClr>
                <a:srgbClr val="0033cc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Как может помочь русский язык в запоминан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химических понятий</a:t>
            </a: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Облако 7"/>
          <p:cNvSpPr/>
          <p:nvPr/>
        </p:nvSpPr>
        <p:spPr>
          <a:xfrm>
            <a:off x="2500200" y="4143240"/>
            <a:ext cx="4159440" cy="1928880"/>
          </a:xfrm>
          <a:prstGeom prst="pi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2) Где мы можем применить знания химических термино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28760" y="1000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Гипотеза  проектной работы: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имия не только требует знаний химических терминов, но и правильное написание и объяснение их смыс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285840" y="3154680"/>
            <a:ext cx="846144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Цель исследовани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ить связь русского  языка  с химией  чере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тонимы терминов  и их  понят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вать умение определять смыслов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чения химических терминов через  слова противоположные по смыслу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500"/>
                            </p:stCondLst>
                            <p:childTnLst>
                              <p:par>
                                <p:cTn id="1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6"/>
          <p:cNvSpPr/>
          <p:nvPr/>
        </p:nvSpPr>
        <p:spPr>
          <a:xfrm>
            <a:off x="1071720" y="2214720"/>
            <a:ext cx="676908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изучить теоретическ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ериалы  химических терми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Прямоугольник 6" descr=""/>
          <p:cNvPicPr/>
          <p:nvPr/>
        </p:nvPicPr>
        <p:blipFill>
          <a:blip r:embed="rId1"/>
          <a:srcRect l="0" t="0" r="0" b="41949"/>
          <a:stretch/>
        </p:blipFill>
        <p:spPr>
          <a:xfrm>
            <a:off x="611280" y="333360"/>
            <a:ext cx="8163000" cy="789120"/>
          </a:xfrm>
          <a:prstGeom prst="rect">
            <a:avLst/>
          </a:prstGeom>
          <a:ln w="0">
            <a:noFill/>
          </a:ln>
        </p:spPr>
      </p:pic>
      <p:sp>
        <p:nvSpPr>
          <p:cNvPr id="116" name="Овал 4"/>
          <p:cNvSpPr/>
          <p:nvPr/>
        </p:nvSpPr>
        <p:spPr>
          <a:xfrm>
            <a:off x="1214280" y="2714760"/>
            <a:ext cx="6572520" cy="1143000"/>
          </a:xfrm>
          <a:prstGeom prst="ellipse">
            <a:avLst/>
          </a:prstGeom>
          <a:noFill/>
          <a:ln w="25560">
            <a:solidFill>
              <a:srgbClr val="ff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Овал 5"/>
          <p:cNvSpPr/>
          <p:nvPr/>
        </p:nvSpPr>
        <p:spPr>
          <a:xfrm>
            <a:off x="1214280" y="4071960"/>
            <a:ext cx="6572520" cy="1143000"/>
          </a:xfrm>
          <a:prstGeom prst="ellipse">
            <a:avLst/>
          </a:prstGeom>
          <a:noFill/>
          <a:ln w="25560">
            <a:solidFill>
              <a:srgbClr val="ff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 провести исследование по выявлению взаимосвязи химии и русского язы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e1"/>
                </a:solidFill>
                <a:latin typeface="Arial"/>
              </a:rPr>
              <a:t>химии и русского язы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e1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Овал 7"/>
          <p:cNvSpPr/>
          <p:nvPr/>
        </p:nvSpPr>
        <p:spPr>
          <a:xfrm>
            <a:off x="928800" y="5429160"/>
            <a:ext cx="7215120" cy="1214640"/>
          </a:xfrm>
          <a:prstGeom prst="ellipse">
            <a:avLst/>
          </a:prstGeom>
          <a:noFill/>
          <a:ln w="25560">
            <a:solidFill>
              <a:srgbClr val="ff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Установить необходим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мыслового понимания содержания основных химических понят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Прямоугольник 8" descr=""/>
          <p:cNvPicPr/>
          <p:nvPr/>
        </p:nvPicPr>
        <p:blipFill>
          <a:blip r:embed="rId2"/>
          <a:stretch/>
        </p:blipFill>
        <p:spPr>
          <a:xfrm>
            <a:off x="1116000" y="1292400"/>
            <a:ext cx="6980400" cy="1158840"/>
          </a:xfrm>
          <a:prstGeom prst="rect">
            <a:avLst/>
          </a:prstGeom>
          <a:ln w="0">
            <a:noFill/>
          </a:ln>
        </p:spPr>
      </p:pic>
      <p:sp>
        <p:nvSpPr>
          <p:cNvPr id="120" name="Стрелка вниз 9"/>
          <p:cNvSpPr/>
          <p:nvPr/>
        </p:nvSpPr>
        <p:spPr>
          <a:xfrm>
            <a:off x="4000680" y="3857760"/>
            <a:ext cx="928440" cy="214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Стрелка вниз 10"/>
          <p:cNvSpPr/>
          <p:nvPr/>
        </p:nvSpPr>
        <p:spPr>
          <a:xfrm>
            <a:off x="4000680" y="5214960"/>
            <a:ext cx="928440" cy="214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900000" y="47592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ff"/>
                </a:solidFill>
                <a:latin typeface="Arial"/>
              </a:rPr>
              <a:t>Задачи исследования: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ить возможности расширения гуманитарного пространства урока хим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следовать возможности лексического запаса учащихся на уроках хим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ложить увлекательную презентацию для запоминания терминов и новых понят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6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Прямоугольник 5" descr=""/>
          <p:cNvPicPr/>
          <p:nvPr/>
        </p:nvPicPr>
        <p:blipFill>
          <a:blip r:embed="rId1"/>
          <a:stretch/>
        </p:blipFill>
        <p:spPr>
          <a:xfrm>
            <a:off x="1504800" y="103320"/>
            <a:ext cx="5999400" cy="1261800"/>
          </a:xfrm>
          <a:prstGeom prst="rect">
            <a:avLst/>
          </a:prstGeom>
          <a:ln w="0">
            <a:noFill/>
          </a:ln>
        </p:spPr>
      </p:pic>
      <p:sp>
        <p:nvSpPr>
          <p:cNvPr id="124" name="TextBox 6"/>
          <p:cNvSpPr/>
          <p:nvPr/>
        </p:nvSpPr>
        <p:spPr>
          <a:xfrm>
            <a:off x="785880" y="2071800"/>
            <a:ext cx="764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риентировка в смысловых значениях слов способствует лучшему запоминанию химических терминов, знанию свойств, повышает интерес к предмету хим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7"/>
          <p:cNvSpPr/>
          <p:nvPr/>
        </p:nvSpPr>
        <p:spPr>
          <a:xfrm>
            <a:off x="1143000" y="3929040"/>
            <a:ext cx="692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  Данная тема относится к новым понятиям в глубоком понимании смысловых значений химических термин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5"/>
          <p:cNvSpPr/>
          <p:nvPr/>
        </p:nvSpPr>
        <p:spPr>
          <a:xfrm>
            <a:off x="216000" y="1495440"/>
            <a:ext cx="8928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анный проект рассматривает важнейший аспект человеческой жизни: взаимосвязь химии с бытом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ект познакомит обучающихся с многообразием терминов, используемых в повседневной жизни, научит грамотно и правильно пользоваться 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мостоятельные исследования и приобретен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актические знания, умения и навыки помогут ответ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проблемные вопросы и вопросы учебной темы, научат доступно, наглядно представлять достаточно сложный теоретический материал и связывать его с практической деятельностью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Прямоугольник 4" descr=""/>
          <p:cNvPicPr/>
          <p:nvPr/>
        </p:nvPicPr>
        <p:blipFill>
          <a:blip r:embed="rId1"/>
          <a:stretch/>
        </p:blipFill>
        <p:spPr>
          <a:xfrm>
            <a:off x="378000" y="-73080"/>
            <a:ext cx="4584600" cy="11462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Рисунок 1" descr="C:\Documents and Settings\Admin\Рабочий стол\img336.jpg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61214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1908000" y="0"/>
            <a:ext cx="51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Этапы 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1T09:17:13Z</dcterms:created>
  <dc:creator>Admin</dc:creator>
  <dc:description/>
  <dc:language>en-US</dc:language>
  <cp:lastModifiedBy>Home</cp:lastModifiedBy>
  <dcterms:modified xsi:type="dcterms:W3CDTF">2013-04-03T11:39:10Z</dcterms:modified>
  <cp:revision>20</cp:revision>
  <dc:subject/>
  <dc:title>Слайд 1</dc:title>
</cp:coreProperties>
</file>