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4F9-CF2B-4B60-9E74-C1B69E89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603-5464-40B0-ACF7-FA8FC46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99A-C94B-4391-9ABB-60DCB8F9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2C5-2D91-4C8A-B53D-81D1A4F6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6DA8-0BC0-4C23-A805-97DCDFBD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6AC1-F1A4-485F-97A5-16C24B9A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4081-9294-4B33-BC9D-6D0AD3E0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B9DB-2E20-465F-8A87-87498CF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3938-8CD2-4358-98AF-DAFB37B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3808-5738-4E7C-8131-AEB48B2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C889-3953-484B-9A14-4D1BDB7C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CE2-1F80-4438-A30E-E81877B7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F8C7-DEC2-4E66-9394-698C35D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EA34-6BD1-4E71-910D-55F44A17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091A-FBF9-4D05-BCD9-EDF1FD3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CBE8-61B7-4527-A0A2-E58E46D6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E3BC-C763-4511-9893-83CDAD71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7C4-8618-40FA-A161-FB7AA984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ACD-7AAE-4B75-99E1-0D0A12AD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AFF-7C2C-4D47-AF46-3DEF8639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D8B-4930-4858-AE15-300DD97A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DCC-CE96-436C-A364-6E2CB26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797-070D-4DDD-A9E0-756EFEEE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901-6A4B-413C-8DC9-8CC0465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69E0-8E97-45F8-B6F4-88A4EC55563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D72-911F-40DF-9BD8-492149C9DEC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Правописание  гласных  в  падежных  окончаниях  существительных  в единственном  числ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6858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ТЕМА: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познакомить  учащихся  с  особенностями  склонения  существительных  на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Я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,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Й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,  -</a:t>
            </a:r>
            <a:r>
              <a:rPr b="1" i="1" lang="ru-RU" sz="3000" spc="-1" strike="noStrike" u="sng">
                <a:solidFill>
                  <a:srgbClr val="402000"/>
                </a:solidFill>
                <a:uFillTx/>
                <a:latin typeface="Times New Roman"/>
              </a:rPr>
              <a:t>ИЕ</a:t>
            </a: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;  раскрыть  закономерности,  включающие  правописание  подобных  существительных.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воспитание коммуникативности и  самостоятельности</a:t>
            </a:r>
            <a:r>
              <a:rPr b="1" lang="ru-RU" sz="3000" spc="-1" strike="noStrike">
                <a:solidFill>
                  <a:srgbClr val="402000"/>
                </a:solidFill>
                <a:latin typeface="Times New Roman"/>
              </a:rPr>
              <a:t>;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02000"/>
                </a:solidFill>
                <a:latin typeface="Times New Roman"/>
              </a:rPr>
              <a:t>развитие  внимания,  памяти,  логики,  творческих  способностей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. СТАДИЯ ВЫЗОВА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Учителем озвучивается тема урока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Учащимся предлагается вспомнить и обсудить то, что они знают по теме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Актуализация опорных знаний (словарный диктант)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1.  на  площадк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1.  от  усталост…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2.  на  черёмух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2.  из-за  метел…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3.  на  склон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3.  на  скатерт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4.  в  пустын…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1800" spc="-1" strike="noStrike">
                <a:solidFill>
                  <a:srgbClr val="402000"/>
                </a:solidFill>
                <a:latin typeface="Arial Black"/>
              </a:rPr>
              <a:t>4.  в  местност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065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4. Вопросы учителя:</a:t>
            </a:r>
            <a:br>
              <a:rPr sz="26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br>
              <a:rPr sz="26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-  От  чего  зависит  безударное  окончание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существительных?  (от  падежа,  от  склонения)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-  Важно  знать  склонение  и  падеж  каждого  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существительного,  которые  мы  употребляем?  Почему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5.  Заполнение графы таблицы «Знаю»</a:t>
            </a:r>
            <a:endParaRPr b="0" lang="en-US" sz="2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3623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I. СТАДИЯ ОСМЫСЛЕНИЯ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752480"/>
            <a:ext cx="77724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Работа с таблицей (графа «Хочу узнать») (приложение 1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Работа с учебником (п. 98 с. 203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Учащиеся формулируют 1-2 вопроса, ответы на которые дает учебник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4. Аналитическая беседа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5.Тренировочное упражнение (упр. 536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III. СТАДИЯ РЕФЛЕКС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. Заполнение графы «Узнал»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. Составление кластера (приложение 2)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3. Закрепление. Самостоятельная работа (дифференцированно: 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1 группа - упр. 538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	</a:t>
            </a:r>
            <a:r>
              <a:rPr b="0" lang="ru-RU" sz="2600" spc="-1" strike="noStrike">
                <a:solidFill>
                  <a:srgbClr val="402000"/>
                </a:solidFill>
                <a:latin typeface="Arial Black"/>
              </a:rPr>
              <a:t>2 группа - упр. 540)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ПРИЛОЖЕНИЕ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6765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Работа с таблицей: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«З-Х-У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2760" y="2351160"/>
          <a:ext cx="7534440" cy="54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51160"/>
                    <a:ext cx="753444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ПРИЛОЖЕНИЕ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Класте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2480" y="1523880"/>
            <a:ext cx="6900120" cy="5063760"/>
            <a:chOff x="1752480" y="1523880"/>
            <a:chExt cx="6900120" cy="5063760"/>
          </a:xfrm>
        </p:grpSpPr>
        <p:sp>
          <p:nvSpPr>
            <p:cNvPr id="108" name=""/>
            <p:cNvSpPr/>
            <p:nvPr/>
          </p:nvSpPr>
          <p:spPr>
            <a:xfrm>
              <a:off x="3672360" y="4774320"/>
              <a:ext cx="1266480" cy="45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.п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752480" y="1523880"/>
              <a:ext cx="6900120" cy="5063760"/>
              <a:chOff x="1752480" y="1523880"/>
              <a:chExt cx="6900120" cy="506376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316600" y="1523880"/>
                <a:ext cx="6336000" cy="2921040"/>
                <a:chOff x="2316600" y="1523880"/>
                <a:chExt cx="6336000" cy="2921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428720" y="1523880"/>
                  <a:ext cx="2112120" cy="750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Times New Roman"/>
                    </a:rPr>
                    <a:t>Сущ</a:t>
                  </a:r>
                  <a:endParaRPr b="0" lang="en-US" sz="3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3583440" y="2124360"/>
                  <a:ext cx="105588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484600" y="2274480"/>
                  <a:ext cx="0" cy="45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40840" y="2049120"/>
                  <a:ext cx="1267200" cy="67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52756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я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3968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е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74440" y="2724840"/>
                  <a:ext cx="1478160" cy="5252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ff99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-ий</a:t>
                  </a:r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161160" y="325044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484600" y="3220200"/>
                  <a:ext cx="105588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6540840" y="3220200"/>
                  <a:ext cx="1267200" cy="6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316600" y="3844440"/>
                  <a:ext cx="1689480" cy="60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 скл.</a:t>
                  </a:r>
                  <a:endParaRPr b="0" lang="en-US" sz="1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95920" y="3844440"/>
                  <a:ext cx="1689480" cy="600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2 скл.</a:t>
                  </a:r>
                  <a:endParaRPr b="0" lang="en-US" sz="16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H="1">
                <a:off x="2208960" y="4335480"/>
                <a:ext cx="317880" cy="4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98040" y="4408560"/>
                <a:ext cx="54828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83800" y="4410360"/>
                <a:ext cx="237456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752480" y="4774320"/>
                <a:ext cx="126720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.п.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58360" y="4774320"/>
                <a:ext cx="1266480" cy="45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.п.</a:t>
                </a:r>
                <a:endParaRPr b="0" lang="en-US" sz="1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5080" y="5231520"/>
                <a:ext cx="292572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12440" y="5231520"/>
                <a:ext cx="127980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40040" y="5837400"/>
                <a:ext cx="2111760" cy="75024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Окончание</a:t>
                </a:r>
                <a:endParaRPr b="0" lang="en-US" sz="1200" spc="-1" strike="noStrike">
                  <a:solidFill>
                    <a:srgbClr val="402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800000"/>
                    </a:solidFill>
                    <a:latin typeface="Times New Roman"/>
                  </a:rPr>
                  <a:t>-И</a:t>
                </a:r>
                <a:endParaRPr b="0" lang="en-US" sz="28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501160" y="5236560"/>
                <a:ext cx="1250640" cy="63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24:00Z</dcterms:created>
  <dc:creator>Администратор</dc:creator>
  <dc:description/>
  <dc:language>en-US</dc:language>
  <cp:lastModifiedBy>Администратор</cp:lastModifiedBy>
  <dcterms:modified xsi:type="dcterms:W3CDTF">2009-02-04T04:10:37Z</dcterms:modified>
  <cp:revision>6</cp:revision>
  <dc:subject/>
  <dc:title>Правописание  гласных  в  падежных  окончаниях  существительных  в единственном  числе</dc:title>
</cp:coreProperties>
</file>