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75EF-05F6-4D23-8589-CFCEDCF4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97E0-3876-42FF-A544-A6D99B92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B410-AB79-4294-8F26-382C5299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6D72-C0A1-49E1-BF9E-8C32218E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E726-83CA-4E77-B3A6-36FA7E78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4D64-2F87-4B2E-B523-9E22180F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9FA1-6043-40D1-A68B-7378E0ED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A00B-629C-4EA8-97A6-B88FD575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0B4D-4271-4FDD-80FF-8E3BBB41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3EC9-AC43-42DE-95B5-B95F3AFA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D43C-CA8B-4772-84EF-2E4EA307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9B0-64F2-4CF1-9796-8F3D45A5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E66E-B754-4E39-816A-8112A7B8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9DE6-0152-4A4D-BFAF-7D73D9C5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A4C0-956C-4C33-8324-35293087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E9FD-7245-468D-9D3E-413F9415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A985-AE94-43C2-882A-44F9EAAB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0E16-7C5D-48D7-915D-CE6B451C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334B-A2EE-4FE1-AB8D-E65EFDB9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37BE-D3E3-453E-980A-8EB222E6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3B0F-8C60-40A9-A501-9B72B124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635E-1BE0-473F-AF2B-9569F0D0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9F23-F26C-4F8C-941B-3DBACEED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45FB-9EEE-40C4-9CF6-7E4826F7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E6F4-65A3-4FB2-B33C-2F931C702954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2640-2F7D-43C9-9D48-78E5E26B0741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220968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02000"/>
                </a:solidFill>
                <a:latin typeface="Times New Roman"/>
              </a:rPr>
              <a:t>Правописание  гласных  в  падежных  окончаниях  существительных  в единственном  числе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68580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ТЕМА: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402000"/>
                </a:solidFill>
                <a:latin typeface="Times New Roman"/>
              </a:rPr>
              <a:t>познакомить  учащихся  с  особенностями  склонения  существительных  на  -</a:t>
            </a:r>
            <a:r>
              <a:rPr b="1" i="1" lang="ru-RU" sz="3000" spc="-1" strike="noStrike" u="sng">
                <a:solidFill>
                  <a:srgbClr val="402000"/>
                </a:solidFill>
                <a:uFillTx/>
                <a:latin typeface="Times New Roman"/>
              </a:rPr>
              <a:t>ИЯ</a:t>
            </a:r>
            <a:r>
              <a:rPr b="1" i="1" lang="ru-RU" sz="3000" spc="-1" strike="noStrike">
                <a:solidFill>
                  <a:srgbClr val="402000"/>
                </a:solidFill>
                <a:latin typeface="Times New Roman"/>
              </a:rPr>
              <a:t>,  -</a:t>
            </a:r>
            <a:r>
              <a:rPr b="1" i="1" lang="ru-RU" sz="3000" spc="-1" strike="noStrike" u="sng">
                <a:solidFill>
                  <a:srgbClr val="402000"/>
                </a:solidFill>
                <a:uFillTx/>
                <a:latin typeface="Times New Roman"/>
              </a:rPr>
              <a:t>ИЙ</a:t>
            </a:r>
            <a:r>
              <a:rPr b="1" i="1" lang="ru-RU" sz="3000" spc="-1" strike="noStrike">
                <a:solidFill>
                  <a:srgbClr val="402000"/>
                </a:solidFill>
                <a:latin typeface="Times New Roman"/>
              </a:rPr>
              <a:t>,  -</a:t>
            </a:r>
            <a:r>
              <a:rPr b="1" i="1" lang="ru-RU" sz="3000" spc="-1" strike="noStrike" u="sng">
                <a:solidFill>
                  <a:srgbClr val="402000"/>
                </a:solidFill>
                <a:uFillTx/>
                <a:latin typeface="Times New Roman"/>
              </a:rPr>
              <a:t>ИЕ</a:t>
            </a:r>
            <a:r>
              <a:rPr b="1" i="1" lang="ru-RU" sz="3000" spc="-1" strike="noStrike">
                <a:solidFill>
                  <a:srgbClr val="402000"/>
                </a:solidFill>
                <a:latin typeface="Times New Roman"/>
              </a:rPr>
              <a:t>;  раскрыть  закономерности,  включающие  правописание  подобных  существительных.;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 algn="just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402000"/>
                </a:solidFill>
                <a:latin typeface="Times New Roman"/>
              </a:rPr>
              <a:t>воспитание коммуникативности и  самостоятельности</a:t>
            </a:r>
            <a:r>
              <a:rPr b="1" lang="ru-RU" sz="3000" spc="-1" strike="noStrike">
                <a:solidFill>
                  <a:srgbClr val="402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402000"/>
                </a:solidFill>
                <a:latin typeface="Times New Roman"/>
              </a:rPr>
              <a:t>развитие  внимания,  памяти,  логики,  творческих  способностей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I. СТАДИЯ ВЫЗОВА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1. Учителем озвучивается тема урока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2. Учащимся предлагается вспомнить и обсудить то, что они знают по теме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3. Актуализация опорных знаний (словарный диктант):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1.  на  площадк…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1.  от  усталост…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2.  на  черёмух…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2.  из-за  метел…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3.  на  склон…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3.  на  скатерт…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	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4.  в  пустын…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4.  в  местност.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781680" y="380880"/>
            <a:ext cx="20653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1371600"/>
            <a:ext cx="7848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4. Вопросы учителя:</a:t>
            </a:r>
            <a:br>
              <a:rPr sz="2600"/>
            </a:b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	</a:t>
            </a:r>
            <a:br>
              <a:rPr sz="2600"/>
            </a:b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-  От  чего  зависит  безударное  окончание </a:t>
            </a: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существительных?  (от  падежа,  от  склонения)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-  Важно  знать  склонение  и  падеж  каждого  </a:t>
            </a: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существительного,  которые  мы  употребляем?  Почему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5.  Заполнение графы таблицы «Знаю»</a:t>
            </a:r>
            <a:endParaRPr b="0" lang="en-US" sz="2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352680" y="4419720"/>
            <a:ext cx="236232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4572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II. СТАДИЯ ОСМЫСЛЕНИЯ.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1752480"/>
            <a:ext cx="77724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1. Работа с таблицей (графа «Хочу узнать») (приложение 1)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2. Работа с учебником (п. 98 с. 203)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3. Учащиеся формулируют 1-2 вопроса, ответы на которые дает учебник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4. Аналитическая беседа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5.Тренировочное упражнение (упр. 536)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III. СТАДИЯ РЕФЛЕКСИИ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1. Заполнение графы «Узнал»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2. Составление кластера (приложение 2)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3. Закрепление. Самостоятельная работа (дифференцированно: 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1 группа - упр. 538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2 группа - упр. 540)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ПРИЛОЖЕНИЕ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1676520"/>
            <a:ext cx="38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Работа с таблицей: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«З-Х-У»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12760" y="2351160"/>
          <a:ext cx="7534440" cy="547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2351160"/>
                    <a:ext cx="7534440" cy="54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ПРИЛОЖЕНИЕ 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Кластер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752480" y="1523880"/>
            <a:ext cx="6900120" cy="5063760"/>
            <a:chOff x="1752480" y="1523880"/>
            <a:chExt cx="6900120" cy="5063760"/>
          </a:xfrm>
        </p:grpSpPr>
        <p:sp>
          <p:nvSpPr>
            <p:cNvPr id="108" name=""/>
            <p:cNvSpPr/>
            <p:nvPr/>
          </p:nvSpPr>
          <p:spPr>
            <a:xfrm>
              <a:off x="3672360" y="4774320"/>
              <a:ext cx="1266480" cy="45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Д.п.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1752480" y="1523880"/>
              <a:ext cx="6900120" cy="5063760"/>
              <a:chOff x="1752480" y="1523880"/>
              <a:chExt cx="6900120" cy="506376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316600" y="1523880"/>
                <a:ext cx="6336000" cy="2921040"/>
                <a:chOff x="2316600" y="1523880"/>
                <a:chExt cx="6336000" cy="29210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4428720" y="1523880"/>
                  <a:ext cx="2112120" cy="750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000000"/>
                      </a:solidFill>
                      <a:latin typeface="Times New Roman"/>
                    </a:rPr>
                    <a:t>Сущ</a:t>
                  </a:r>
                  <a:endParaRPr b="0" lang="en-US" sz="36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>
                  <a:off x="3583440" y="2124360"/>
                  <a:ext cx="1055880" cy="60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484600" y="2274480"/>
                  <a:ext cx="0" cy="45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540840" y="2049120"/>
                  <a:ext cx="1267200" cy="67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527560" y="2724840"/>
                  <a:ext cx="1478160" cy="5252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-ия</a:t>
                  </a:r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639680" y="2724840"/>
                  <a:ext cx="1478160" cy="5252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-ие</a:t>
                  </a:r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174440" y="2724840"/>
                  <a:ext cx="1478160" cy="5252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-ий</a:t>
                  </a:r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161160" y="3250440"/>
                  <a:ext cx="0" cy="57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484600" y="3220200"/>
                  <a:ext cx="1055880" cy="60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>
                  <a:off x="6540840" y="3220200"/>
                  <a:ext cx="1267200" cy="60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316600" y="3844440"/>
                  <a:ext cx="1689480" cy="6004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1 скл.</a:t>
                  </a:r>
                  <a:endParaRPr b="0" lang="en-US" sz="16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95920" y="3844440"/>
                  <a:ext cx="1689480" cy="6004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2 скл.</a:t>
                  </a:r>
                  <a:endParaRPr b="0" lang="en-US" sz="16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 flipH="1">
                <a:off x="2208960" y="4335480"/>
                <a:ext cx="317880" cy="43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398040" y="4408560"/>
                <a:ext cx="548280" cy="36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583800" y="4410360"/>
                <a:ext cx="237456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752480" y="4774320"/>
                <a:ext cx="1267200" cy="450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Р.п.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958360" y="4774320"/>
                <a:ext cx="1266480" cy="450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П.п.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575080" y="5231520"/>
                <a:ext cx="2925720" cy="64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12440" y="5231520"/>
                <a:ext cx="1279800" cy="64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40040" y="5837400"/>
                <a:ext cx="2111760" cy="75024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Окончание</a:t>
                </a:r>
                <a:endParaRPr b="0" lang="en-US" sz="1200" spc="-1" strike="noStrike">
                  <a:solidFill>
                    <a:srgbClr val="402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800000"/>
                    </a:solidFill>
                    <a:latin typeface="Times New Roman"/>
                  </a:rPr>
                  <a:t>-И</a:t>
                </a:r>
                <a:endParaRPr b="0" lang="en-US" sz="2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501160" y="5236560"/>
                <a:ext cx="1250640" cy="63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05:24:00Z</dcterms:created>
  <dc:creator>Администратор</dc:creator>
  <dc:description/>
  <dc:language>en-US</dc:language>
  <cp:lastModifiedBy>Администратор</cp:lastModifiedBy>
  <dcterms:modified xsi:type="dcterms:W3CDTF">2009-02-04T04:10:37Z</dcterms:modified>
  <cp:revision>6</cp:revision>
  <dc:subject/>
  <dc:title>Правописание  гласных  в  падежных  окончаниях  существительных  в единственном  числе</dc:title>
</cp:coreProperties>
</file>