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311A8-795E-4ECA-AED4-A3D42E7BE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496E3-19F9-4D9E-B2AC-BCD07469C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9B4E5-920C-440E-9388-14E443ECC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EB4C4-33AB-4569-81BB-34F6C15D0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E9360-0161-4D12-8530-88F623C9A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9525D-5E1E-4923-B189-B655C3646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CB697-BD53-454D-B2B5-2E6FC6162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4EE53-85E1-494B-9D38-C68E81B92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90CDC-36B0-45CC-9FE9-90E7D679E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49066-C147-417B-AD80-81D58000A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C07D0-D68F-49FC-9B93-6E3AFF9FD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7A13A-2386-4179-9C64-EA134CDBC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C758E-B4F6-4FF2-9CF5-73B943740E2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1315800"/>
            <a:ext cx="756144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b00000"/>
                </a:solidFill>
                <a:latin typeface="Times New Roman"/>
              </a:rPr>
              <a:t>Решение задач </a:t>
            </a:r>
            <a:br>
              <a:rPr sz="5400"/>
            </a:br>
            <a:r>
              <a:rPr b="1" lang="ru-RU" sz="5400" spc="-1" strike="noStrike">
                <a:solidFill>
                  <a:srgbClr val="b00000"/>
                </a:solidFill>
                <a:latin typeface="Times New Roman"/>
              </a:rPr>
              <a:t>на проценты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841400" y="3214800"/>
            <a:ext cx="523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Учитель математики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</a:rPr>
              <a:t>Полулященко Ольга Владимиров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Учитель ИКТ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</a:rPr>
              <a:t>Федорова Светлана Владимиров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250920" y="475920"/>
            <a:ext cx="835344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Чему равно произведение числа 20 на 0,1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6"/>
          <p:cNvSpPr/>
          <p:nvPr/>
        </p:nvSpPr>
        <p:spPr>
          <a:xfrm>
            <a:off x="3327480" y="46022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7"/>
          <p:cNvSpPr/>
          <p:nvPr/>
        </p:nvSpPr>
        <p:spPr>
          <a:xfrm>
            <a:off x="-94320" y="1068480"/>
            <a:ext cx="6048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Чему равна сумма чисел 0,25 и 5,75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-94680" y="1674720"/>
            <a:ext cx="5079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Чему равны 25% от числа 16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10"/>
          <p:cNvSpPr/>
          <p:nvPr/>
        </p:nvSpPr>
        <p:spPr>
          <a:xfrm>
            <a:off x="-96120" y="2251080"/>
            <a:ext cx="68439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Чему равно число, если 20%  его равны 2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-95400" y="2868480"/>
            <a:ext cx="6068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Чему равна разность чисел 8,3 и 5,3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-94680" y="3475080"/>
            <a:ext cx="5952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Чему равно частное чисел 0,5 и 0,1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-96120" y="4092480"/>
            <a:ext cx="8139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Чему равен квадрат числа, если 60% его равны 0,6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14"/>
          <p:cNvSpPr/>
          <p:nvPr/>
        </p:nvSpPr>
        <p:spPr>
          <a:xfrm>
            <a:off x="6803640" y="492120"/>
            <a:ext cx="1529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0000"/>
                </a:solidFill>
                <a:latin typeface="Times New Roman"/>
              </a:rPr>
              <a:t>Ответ: 2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20"/>
          <p:cNvSpPr/>
          <p:nvPr/>
        </p:nvSpPr>
        <p:spPr>
          <a:xfrm>
            <a:off x="6803640" y="1068480"/>
            <a:ext cx="1529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0000"/>
                </a:solidFill>
                <a:latin typeface="Times New Roman"/>
              </a:rPr>
              <a:t>Ответ: 6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21"/>
          <p:cNvSpPr/>
          <p:nvPr/>
        </p:nvSpPr>
        <p:spPr>
          <a:xfrm>
            <a:off x="6803640" y="1650960"/>
            <a:ext cx="1529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0000"/>
                </a:solidFill>
                <a:latin typeface="Times New Roman"/>
              </a:rPr>
              <a:t>Ответ: 4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22"/>
          <p:cNvSpPr/>
          <p:nvPr/>
        </p:nvSpPr>
        <p:spPr>
          <a:xfrm>
            <a:off x="6803280" y="2251080"/>
            <a:ext cx="1613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0000"/>
                </a:solidFill>
                <a:latin typeface="Times New Roman"/>
              </a:rPr>
              <a:t>Ответ: 10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23"/>
          <p:cNvSpPr/>
          <p:nvPr/>
        </p:nvSpPr>
        <p:spPr>
          <a:xfrm>
            <a:off x="6876720" y="4675320"/>
            <a:ext cx="1529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0000"/>
                </a:solidFill>
                <a:latin typeface="Times New Roman"/>
              </a:rPr>
              <a:t>Ответ: 1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24"/>
          <p:cNvSpPr/>
          <p:nvPr/>
        </p:nvSpPr>
        <p:spPr>
          <a:xfrm>
            <a:off x="6803640" y="2898720"/>
            <a:ext cx="1529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0000"/>
                </a:solidFill>
                <a:latin typeface="Times New Roman"/>
              </a:rPr>
              <a:t>Ответ: 3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25"/>
          <p:cNvSpPr/>
          <p:nvPr/>
        </p:nvSpPr>
        <p:spPr>
          <a:xfrm>
            <a:off x="6803640" y="3522600"/>
            <a:ext cx="1529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0000"/>
                </a:solidFill>
                <a:latin typeface="Times New Roman"/>
              </a:rPr>
              <a:t>Ответ: 5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00000"/>
                </a:solidFill>
                <a:latin typeface="Times New Roman"/>
              </a:rPr>
              <a:t>Игровая ситуац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Заказчики хотят сделать ремонт квартиры и решили начать с коридора и комнаты представленной конфигурации, но т.к. собственных средств у них не хватает, они будут брать кредит в банк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00000"/>
                </a:solidFill>
                <a:latin typeface="Times New Roman"/>
              </a:rPr>
              <a:t>Задача №1 </a:t>
            </a:r>
            <a:br>
              <a:rPr sz="4400"/>
            </a:br>
            <a:r>
              <a:rPr b="1" lang="ru-RU" sz="4400" spc="-1" strike="noStrike">
                <a:solidFill>
                  <a:srgbClr val="b00000"/>
                </a:solidFill>
                <a:latin typeface="Times New Roman"/>
              </a:rPr>
              <a:t>(для группы банкиров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857240"/>
            <a:ext cx="8229600" cy="42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акое количество краски потребуется на покрытие потолка, если оно составляет 85% от метража пола? (ответ округлите до десятых) Бригада ремонтников назвала заказчикам 9 кг. Верный ли это ответ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4200" y="274680"/>
            <a:ext cx="878688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00000"/>
                </a:solidFill>
                <a:latin typeface="Times New Roman"/>
              </a:rPr>
              <a:t>Задача №2 </a:t>
            </a:r>
            <a:br>
              <a:rPr sz="4400"/>
            </a:br>
            <a:r>
              <a:rPr b="1" lang="ru-RU" sz="4400" spc="-1" strike="noStrike">
                <a:solidFill>
                  <a:srgbClr val="b00000"/>
                </a:solidFill>
                <a:latin typeface="Times New Roman"/>
              </a:rPr>
              <a:t>(для группы ремонтников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6000" y="1874880"/>
            <a:ext cx="6400800" cy="43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Бригада ремонтников проработала 4 дня, что составило 10% от запланированного срока выполнения всей работы. За сколько дней выполнила бы всю работу бригада, если заказчики попросили сократить время работы на 30%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4" descr="C:\Documents and Settings\01\Рабочий стол\122441993.gif"/>
          <p:cNvPicPr/>
          <p:nvPr/>
        </p:nvPicPr>
        <p:blipFill>
          <a:blip r:embed="rId1"/>
          <a:stretch/>
        </p:blipFill>
        <p:spPr>
          <a:xfrm>
            <a:off x="571680" y="2000160"/>
            <a:ext cx="1815840" cy="20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00000"/>
                </a:solidFill>
                <a:latin typeface="Times New Roman"/>
              </a:rPr>
              <a:t>Задача №3</a:t>
            </a:r>
            <a:br>
              <a:rPr sz="4400"/>
            </a:br>
            <a:r>
              <a:rPr b="1" lang="ru-RU" sz="4400" spc="-1" strike="noStrike">
                <a:solidFill>
                  <a:srgbClr val="b00000"/>
                </a:solidFill>
                <a:latin typeface="Times New Roman"/>
              </a:rPr>
              <a:t>(для группы заказчиков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714680"/>
            <a:ext cx="8229600" cy="235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банке нашим заказчикам предложили на выбор две возможности кредитования: либо взять ссуду на 1 год и выплачивать ежемесячно по 15% от суммы заёма или за первый месяц выплатить 30% от суммы заёма, а за каждый месяц от года выплачивать по 10 % от суммы заёма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Box 5"/>
          <p:cNvSpPr/>
          <p:nvPr/>
        </p:nvSpPr>
        <p:spPr>
          <a:xfrm>
            <a:off x="2928960" y="4143240"/>
            <a:ext cx="5786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Какой вид кредита для заказчиков более выгоден, если они собрались взять ссуду в 100000 рублей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2T16:04:58Z</dcterms:created>
  <dc:creator>Елена</dc:creator>
  <dc:description/>
  <dc:language>en-US</dc:language>
  <cp:lastModifiedBy>Kommander</cp:lastModifiedBy>
  <dcterms:modified xsi:type="dcterms:W3CDTF">2013-02-08T06:21:23Z</dcterms:modified>
  <cp:revision>51</cp:revision>
  <dc:subject/>
  <dc:title>Слайд 1</dc:title>
</cp:coreProperties>
</file>