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94F-6AF8-4C00-A24E-27990B0B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5C2-F167-45F4-A7AC-34E180A7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B31-8C85-4BF9-8409-18D48CC3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791-E4BD-43FD-BF07-C64EF66F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DBF-4C2E-4586-89FF-722202D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F8E-8F31-4E93-96E8-B6128E47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FB3-EC50-4615-941B-5852CC9D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B36-EA61-4BF6-8512-F9CF1DAF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A8E-B8F1-4783-A1C7-2C245CFA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65B-AF45-4C35-A5DD-22469E6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E0F-8CAB-48C6-BE04-FD26B7DB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DD9-1C4C-4199-A2D0-FBD83812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0665-89AA-4263-9CE1-098DF7A5FB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31580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Times New Roman"/>
              </a:rPr>
              <a:t>Решение задач </a:t>
            </a:r>
            <a:br>
              <a:rPr sz="5400"/>
            </a:br>
            <a:r>
              <a:rPr b="1" lang="ru-RU" sz="5400" spc="-1" strike="noStrike">
                <a:solidFill>
                  <a:srgbClr val="b00000"/>
                </a:solidFill>
                <a:latin typeface="Times New Roman"/>
              </a:rPr>
              <a:t>на процент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1400" y="3214800"/>
            <a:ext cx="523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итель матема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олулященко Ольга Владими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итель ИК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Федор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о произведение числа 20 на 0,1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327480" y="4602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-94320" y="106848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а сумма чисел 0,25 и 5,75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-94680" y="1674720"/>
            <a:ext cx="507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ы 25% от числа 16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-96120" y="2251080"/>
            <a:ext cx="684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о число, если 20%  его равны 2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-95400" y="2868480"/>
            <a:ext cx="606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а разность чисел 8,3 и 5,3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-94680" y="3475080"/>
            <a:ext cx="595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но частное чисел 0,5 и 0,1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-96120" y="4092480"/>
            <a:ext cx="813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му равен квадрат числа, если 60% его равны 0,6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03640" y="49212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6803640" y="106848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6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6803640" y="165096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4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6803280" y="2251080"/>
            <a:ext cx="161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6876720" y="467532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6803640" y="289872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3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6803640" y="3522600"/>
            <a:ext cx="152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твет: 5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гровая ситу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азчики хотят сделать ремонт квартиры и решили начать с коридора и комнаты представленной конфигурации, но т.к. собственных средств у них не хватает, они будут брать кредит в бан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Задача №1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для группы банкир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количество краски потребуется на покрытие потолка, если оно составляет 85% от метража пола? (ответ округлите до десятых) Бригада ремонтников назвала заказчикам 9 кг. Верный ли это отве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Задача №2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для группы ремонтник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0" y="1874880"/>
            <a:ext cx="6400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игада ремонтников проработала 4 дня, что составило 10% от запланированного срока выполнения всей работы. За сколько дней выполнила бы всю работу бригада, если заказчики попросили сократить время работы на 30%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C:\Documents and Settings\01\Рабочий стол\122441993.gif"/>
          <p:cNvPicPr/>
          <p:nvPr/>
        </p:nvPicPr>
        <p:blipFill>
          <a:blip r:embed="rId1"/>
          <a:stretch/>
        </p:blipFill>
        <p:spPr>
          <a:xfrm>
            <a:off x="571680" y="2000160"/>
            <a:ext cx="18158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Задача №3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для группы заказчико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банке нашим заказчикам предложили на выбор две возможности кредитования: либо взять ссуду на 1 год и выплачивать ежемесячно по 15% от суммы заёма или за первый месяц выплатить 30% от суммы заёма, а за каждый месяц от года выплачивать по 10 % от суммы заё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928960" y="4143240"/>
            <a:ext cx="578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Какой вид кредита для заказчиков более выгоден, если они собрались взять ссуду в 100000 рубл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Kommander</cp:lastModifiedBy>
  <dcterms:modified xsi:type="dcterms:W3CDTF">2013-02-08T06:21:23Z</dcterms:modified>
  <cp:revision>51</cp:revision>
  <dc:subject/>
  <dc:title>Слайд 1</dc:title>
</cp:coreProperties>
</file>