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5BE044A-6CBD-420C-966B-473EF979CA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7ECA0855-BDA7-45EA-AD5C-AED2FFE163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97E9FF75-C50A-4B1D-A27E-A0D152FB42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92E-314C-4C8E-BE7D-E8B02208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7BB-7042-4E2C-BB25-9A168F41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36F-CA24-4779-9212-4C3CD32C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25D-77FC-4498-8D6A-F3E032F0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1EE3-6784-4BE5-92DC-895A4D0C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617B-F37A-480B-A218-129CA83D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4F97-052C-423C-BF70-9776E3BA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A7A1-2066-477B-8A52-C945B38A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883F-E04E-4D9D-A456-2777B7F0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569B-894D-4D44-8A40-480E43C4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C4D8-0CAD-4507-89DA-C67AC3A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33B-6226-48BD-8127-C95C06D0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4015-81E4-44B6-9EB2-D9C91F54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129D-E3B3-4E1A-909E-84DA1210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42C6-31A3-465D-86C5-DA6B1678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A3CA-CDBF-4494-83AE-14FD4146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AE5E-3964-482C-B2B6-FECC7EB2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5B27D-BBF7-4026-9321-75CBA36E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1D67B-FA81-4B13-AEBA-855B8B9A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414C9-1EF6-40C5-AFC8-99E3F44F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161C-91B7-428C-BAED-B3E20FE3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1E624-5491-42ED-B51B-C8CCD541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F08-AB0F-4756-B6F2-0C0FBB76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801E-5E9B-4669-A7EA-F1FB9889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B5B83-B363-4CFD-9D00-F9A994F9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5694F-9391-4015-8D9C-25C5AC33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7341D-892F-47AA-968F-84AFF8BC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9073-32DE-4466-B1A1-A02C6BCD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9AE52-27E9-4884-AA14-E6CA33A9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2C3AA-0767-4C6E-AB0B-29AFAB6A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F51F5-BAAB-4178-A1EE-478B612D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E0E01-4E76-49B6-AA52-2C5357A3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D683-080E-4270-BAE8-F8ABD979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14A-4DB5-43A6-81CC-BD2ABF14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9266E-386F-4BBF-A717-4B5158B9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C8F36-581E-4109-86BE-7AFE7D78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83576-2A81-438B-B122-FD97D2A8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1737D-347E-4484-BEDC-0D58ED09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95DAF-4EF5-4FA0-854D-3A47F13E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42237-C092-4708-8312-2CA6E00D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25DFC-D279-43D9-85D5-386B3302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23CE3-C096-4DEA-B9FF-B36497BB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0DD56-646A-4F4C-8C61-EBCAE77E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2A2-9A4B-4271-9DF6-67BECCBA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B2B-78A1-4083-ADAB-1F77AC2F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E87-078B-406B-957F-40F2C21D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9D0-529C-4CDA-8E88-6E711C61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576-C189-404F-B732-ED7CD3E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6FB4C42-125A-47C9-B47A-C0757F2F323B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CEDFF9E-E603-41DA-8388-088A5DE09EDB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3BB2281-C05F-4484-9112-4D444DF322E5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6D61562-D972-4CD7-BDEC-EDC657964193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287280" y="179280"/>
            <a:ext cx="9577440" cy="71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216000" y="231840"/>
            <a:ext cx="9647280" cy="70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287280" y="179280"/>
            <a:ext cx="957744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216000" y="179280"/>
            <a:ext cx="964872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216000" y="108000"/>
            <a:ext cx="9720000" cy="73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216000" y="179280"/>
            <a:ext cx="964872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8:28:41Z</dcterms:created>
  <dc:creator/>
  <dc:description/>
  <dc:language>en-US</dc:language>
  <cp:lastModifiedBy>USER</cp:lastModifiedBy>
  <dcterms:modified xsi:type="dcterms:W3CDTF">2013-04-04T19:03:26Z</dcterms:modified>
  <cp:revision>9</cp:revision>
  <dc:subject/>
  <dc:title>Презентация PowerPoint</dc:title>
</cp:coreProperties>
</file>