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9BDC1BA-B673-405A-8560-4A46417FF4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555E4CB-5A07-4CCF-982E-84A9E20BDA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20099F5-0759-49BD-968A-81A95C9828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E80-7E69-4687-80DA-89115B35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B49-AFA2-4014-B845-A6B5B2B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B5B-8A77-4951-9714-E9618B5B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79A-3018-418C-8B42-8BF94C5A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66AA-B1B2-4AB1-A298-50E52DC5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CDB3-5487-4981-80EE-BBB66EE6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DDCC-8ED4-4B13-B5FF-EE0B3A2A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B86-F3EA-47AA-AC01-E9B1000C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E273-EB91-479B-80E0-EE0C6188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5A1C-3939-4740-9C87-386D28D8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49FA-34E6-4435-A491-F481F20C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DCA-927A-4BE6-9742-1637D786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D27-DF8E-4716-A780-5F17137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0B04-CE50-42CF-84B3-8754673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AB9-96CD-4E05-814E-68E72129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443A-9DAF-4721-9334-668913FA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6672-32A9-466B-B442-4C98B900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C3E8-0E39-497B-BE8E-22536AA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3ADB2-88A3-4A2E-BC2E-D99320A0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2CA9-7079-4AE0-98F9-9186E45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8AA4-4021-4836-B5BB-1FF8CAC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B15D5-3A4B-4C13-BDDC-4EB5163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5B7-1D43-40DF-98F7-A4699369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185F-A2EF-417C-92BC-5684DEA2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771D-708E-4DA8-AD71-BB64FB7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028D-B41A-471C-A113-451E4BB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42A6-9096-4D9E-A02A-690C8ED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2AEC-E298-4D07-97CB-F044405D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6E41-97CF-4F7E-9EF1-22FA1521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F1EEC-5CB0-4235-BD95-029D05CA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C5B3-E997-4654-B3B3-57065BD9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 algn="ctr">
              <a:spcBef>
                <a:spcPts val="601"/>
              </a:spcBef>
              <a:spcAft>
                <a:spcPts val="326"/>
              </a:spcAft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FFC9-DDB2-4814-8813-6BCA739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B8812-6715-4321-872A-019B1FF7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92B-128B-44EF-BEB4-23674994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F732D-CA07-4B6D-9C02-77C45233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5794B-3FA3-4ACA-B49B-6F5B71E3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F0FC-E15A-4E3D-A5C1-858FD221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C829-D380-4349-8F2D-4A002E1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E2E3E-1204-4C6D-BDD6-12E8A08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2F08C-E274-4FE4-A6F7-26D686B7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B8956-7139-43B6-B8F9-75C45F16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8AB4-B329-463A-9BA8-FC67D1F8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64644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2160" y="80604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603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64644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2160" y="2806920"/>
            <a:ext cx="227196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C0C9-C1AD-4C6A-AF00-F291B9E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1D4-C137-4809-BF53-D413C9E0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6040" y="4819320"/>
            <a:ext cx="71802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algn="ctr">
              <a:spcBef>
                <a:spcPts val="601"/>
              </a:spcBef>
              <a:spcAft>
                <a:spcPts val="32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73D-13D2-4847-929F-78377B0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293-AEDC-4C48-B1D8-AE13BAB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76200" y="280692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E6C-8CBD-4D16-860E-FE53408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036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6200" y="806040"/>
            <a:ext cx="344340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60360" y="2806920"/>
            <a:ext cx="7056720" cy="18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01"/>
              </a:spcBef>
              <a:spcAft>
                <a:spcPts val="326"/>
              </a:spcAft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792-7EDD-4E84-B809-2A7AF57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8DD3CE9-1A8C-4931-B321-BC298E04BFC9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B921D05-0319-4CDE-A345-8C643F33DC7B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626080"/>
            <a:ext cx="10082160" cy="1933560"/>
            <a:chOff x="0" y="5626080"/>
            <a:chExt cx="10082160" cy="193356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626080"/>
              <a:ext cx="100821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627520"/>
              <a:ext cx="1008072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0082160" cy="5626080"/>
            <a:chOff x="0" y="0"/>
            <a:chExt cx="10082160" cy="56260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56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0080720" cy="56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415440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1AFB684-BA57-47E5-BF8D-894EC574B5BE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4260960"/>
            <a:ext cx="10082160" cy="3298680"/>
            <a:chOff x="0" y="4260960"/>
            <a:chExt cx="10082160" cy="32986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4260960"/>
              <a:ext cx="10082160" cy="32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4262400"/>
              <a:ext cx="10080720" cy="32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0082160" cy="4260960"/>
            <a:chOff x="0" y="0"/>
            <a:chExt cx="10082160" cy="426096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082160" cy="42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008072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924280"/>
            <a:ext cx="10080720" cy="2519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762200"/>
            <a:ext cx="10082160" cy="5632200"/>
            <a:chOff x="0" y="1762200"/>
            <a:chExt cx="10082160" cy="563220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762200"/>
              <a:ext cx="10082160" cy="56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76360" y="2587680"/>
              <a:ext cx="7128000" cy="39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040" y="4819320"/>
            <a:ext cx="71802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5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60360" y="806040"/>
            <a:ext cx="7056720" cy="383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25092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6033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90648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3" marL="1208160" indent="-20016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531800" indent="-199800">
              <a:spcBef>
                <a:spcPts val="601"/>
              </a:spcBef>
              <a:spcAft>
                <a:spcPts val="326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5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6" marL="1531800" indent="-199800">
              <a:spcBef>
                <a:spcPts val="601"/>
              </a:spcBef>
              <a:spcAft>
                <a:spcPts val="326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804000" y="6804000"/>
            <a:ext cx="277344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03280" y="6804000"/>
            <a:ext cx="36972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4200480" y="6804000"/>
            <a:ext cx="20160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1" lang="ru-RU" sz="13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AD08964-B27E-4B04-A4B7-E6552ABFE7D3}" type="slidenum">
              <a:rPr b="1" lang="ru-RU" sz="13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9577440" cy="71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216000" y="231840"/>
            <a:ext cx="9647280" cy="70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287280" y="179280"/>
            <a:ext cx="957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964872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216000" y="108000"/>
            <a:ext cx="9720000" cy="73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964872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8:28:41Z</dcterms:created>
  <dc:creator/>
  <dc:description/>
  <dc:language>en-US</dc:language>
  <cp:lastModifiedBy>USER</cp:lastModifiedBy>
  <dcterms:modified xsi:type="dcterms:W3CDTF">2013-04-04T19:03:26Z</dcterms:modified>
  <cp:revision>9</cp:revision>
  <dc:subject/>
  <dc:title>Презентация PowerPoint</dc:title>
</cp:coreProperties>
</file>