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4.jpeg" ContentType="image/jpeg"/>
  <Override PartName="/ppt/media/image21.jpeg" ContentType="image/jpeg"/>
  <Override PartName="/ppt/media/image19.jpeg" ContentType="image/jpeg"/>
  <Override PartName="/ppt/media/image11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26.jpeg" ContentType="image/jpeg"/>
  <Override PartName="/ppt/media/image32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media/image30.jpeg" ContentType="image/jpeg"/>
  <Override PartName="/ppt/media/image13.jpeg" ContentType="image/jpeg"/>
  <Override PartName="/ppt/media/image8.jpeg" ContentType="image/jpeg"/>
  <Override PartName="/ppt/media/image7.gif" ContentType="image/gif"/>
  <Override PartName="/ppt/media/image3.wmf" ContentType="image/x-wmf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5.jpeg" ContentType="image/jpeg"/>
  <Override PartName="/ppt/media/image15.gif" ContentType="image/gif"/>
  <Override PartName="/ppt/media/image18.wmf" ContentType="image/x-wmf"/>
  <Override PartName="/ppt/media/image2.jpeg" ContentType="image/jpeg"/>
  <Override PartName="/ppt/media/image20.png" ContentType="image/pn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0AA2-E9F7-406D-AAD6-26BD8BD5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BC49-AE15-4DDA-A16C-BB2FA861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2D12-BEFE-4F43-84E6-EB24BB68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3742-4272-457D-9760-81DBC491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5D42-2CFF-4322-9F6A-14CEE439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2DEB-E0C4-4F48-9076-4166AE21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DBB0-3A7F-46A2-8545-FCD380EB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1EE1-96BA-4CA4-95DC-8B4ED524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BC70-7DE4-4BF9-8503-AA7CA41C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29BA-3E15-4E32-AC51-766433B5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ABBD-A7CF-4D53-980A-E28779C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AAC4-3E76-4014-A464-C3692387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B177-97F2-40E2-A0D5-E760C78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7B4F-CC84-4E3C-9D28-58F8E62C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EAD1-6AA5-4C56-A488-4AFA0D68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25C1-1681-4199-ACCF-E388256F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6226-640C-4641-B457-6CE421D3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4324-101C-423E-8A7B-25FC7FBB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CDB9-E322-499E-8DFC-A74AEF38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05BD-8E7C-407B-884C-7DCA1CF3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F1A3-2F0C-49D3-86A1-E29122B6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D00A-4856-4252-BB88-651C5951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5E91-8DEF-45FE-A799-B30008DB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B3D6-1A84-4720-857E-3FCEF19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6208-4BC0-4497-9433-C353DAC54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7189-D02A-4D44-9B36-A49228254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резентация по уроку «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port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21049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y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51440" cy="288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392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gy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2000" cy="3357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67280" y="836640"/>
            <a:ext cx="2265480" cy="2554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333960" cy="230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3240000" cy="263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88000" y="3833640"/>
            <a:ext cx="37875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tr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149720" y="2997360"/>
            <a:ext cx="4994280" cy="3114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4140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600360" cy="396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2808360" cy="360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19177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tr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484720" cy="3341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348000" y="304812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3851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coo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160360" cy="2449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2158920" cy="280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156360" y="2133720"/>
            <a:ext cx="2987640" cy="3311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067280" y="3618000"/>
            <a:ext cx="17269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84720" y="4149720"/>
            <a:ext cx="1800360" cy="1954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871800" cy="352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18456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7850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d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588000" y="4005360"/>
            <a:ext cx="21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3600360" cy="388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692280"/>
            <a:ext cx="3311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xercise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025800" cy="28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36734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319640" cy="324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40000" y="4724280"/>
            <a:ext cx="4103640" cy="2133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4356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7:45:34Z</dcterms:created>
  <dc:creator>user08</dc:creator>
  <dc:description/>
  <dc:language>en-US</dc:language>
  <cp:lastModifiedBy>user08</cp:lastModifiedBy>
  <dcterms:modified xsi:type="dcterms:W3CDTF">2013-04-04T09:17:06Z</dcterms:modified>
  <cp:revision>4</cp:revision>
  <dc:subject/>
  <dc:title>Презентация по уроку «Sport»</dc:title>
</cp:coreProperties>
</file>