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1.jpeg" ContentType="image/jpeg"/>
  <Override PartName="/ppt/media/image19.jpeg" ContentType="image/jpeg"/>
  <Override PartName="/ppt/media/image11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media/image30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3.wmf" ContentType="image/x-wmf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5.jpeg" ContentType="image/jpeg"/>
  <Override PartName="/ppt/media/image15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EDEE-6F9D-4823-B3FC-10B7BBFA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7687-177C-471E-A310-81853834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C004-D022-44F6-A777-B2F03C09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C8C1-179A-4052-BBD1-21C8F4DB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0FEE-6613-4E33-BAF8-E2AF5AF6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A96-9821-470D-80DF-CD7E355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F15-13C7-4345-9C97-2F229D2A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2AAC-A937-4443-8FC9-7F697598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D385-132D-4930-BEAB-691C01D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3C2D-5979-42E0-B8BC-FA4064E2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B81A-522C-4E65-9D93-1F2E66A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2F3A-0767-4F20-9B90-C567448E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BFAE-C95C-48D4-ACC1-1E659EA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198E-D3D6-42BC-B726-023C3A0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E242-242D-4D78-BFB5-208AA43A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ACC-A563-4DCF-9851-1389B47B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D8CA-1BC0-414C-9A8A-236275B0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C724-D85F-4DEE-A773-BBCA6B09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E798-3721-44FD-B864-1E79081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0765D-0B4E-4485-B04B-EC1F8EFB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1806-6C43-49A1-AAA8-2C190BC8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D1DE-1B87-46DF-9FF7-D9F6E29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D750-455F-4C1A-9468-609E445F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1241-F78F-4FB8-92C5-D85A647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3989-7997-4D20-881D-D62EF03AD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641-DFB7-4616-A89C-F36CB506F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езентация по уроку «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port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21049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y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5144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392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gy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265480" cy="255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33396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3240000" cy="263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88000" y="3833640"/>
            <a:ext cx="3787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tr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149720" y="2997360"/>
            <a:ext cx="4994280" cy="3114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414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600360" cy="396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08360" cy="360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19177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tr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84720" cy="334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348000" y="3048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385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o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160360" cy="2449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156360" y="2133720"/>
            <a:ext cx="2987640" cy="33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067280" y="3618000"/>
            <a:ext cx="172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84720" y="4149720"/>
            <a:ext cx="1800360" cy="195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871800" cy="352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1845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85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d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3600360" cy="388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692280"/>
            <a:ext cx="3311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xercise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5800" cy="28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6734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40000" y="4724280"/>
            <a:ext cx="410364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356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45:34Z</dcterms:created>
  <dc:creator>user08</dc:creator>
  <dc:description/>
  <dc:language>en-US</dc:language>
  <cp:lastModifiedBy>user08</cp:lastModifiedBy>
  <dcterms:modified xsi:type="dcterms:W3CDTF">2013-04-04T09:17:06Z</dcterms:modified>
  <cp:revision>4</cp:revision>
  <dc:subject/>
  <dc:title>Презентация по уроку «Sport»</dc:title>
</cp:coreProperties>
</file>